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201-0889-4302-919D-0F79B94A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23E-5CBA-479E-987B-538A601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709-BF35-4970-A2AE-79359598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42B-C461-4C5F-9A48-189C64B6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B8A-F307-4B3F-8377-DF1C98FF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15C0-D1D6-4218-B500-43656C6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1BB-48AE-48C4-9ED8-648DF78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4F53-A49F-4438-97DC-D9FF5B5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519-F886-4A40-BD02-540B958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222-EC8A-4828-88F8-2E004718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4B6-B67F-4287-A469-D588944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C61-579B-4D9E-8BC5-58A06F5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B2E-8FBD-4962-8A79-F8E0849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7C0B-D528-4BCB-92D1-9C6687E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775C-B396-4410-8D37-8FAAF43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B31-A62F-47E3-BBFE-4B90BCAD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DBFC-CC14-4F9D-9D97-44EA3857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F342-257E-4266-9259-56E19A1A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014B-2612-469E-A5F9-F14A522D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6311-012E-48E0-BA05-8E0D7A3B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170B-3AF0-40F8-9993-55351248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7CF5-D0CA-4746-B57F-1190593D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FD4-8319-438E-82DB-19044D6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4A56-3211-4A14-81D9-524BD39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C166-2EED-4849-8D0E-9922ACA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30F6-A024-4EF6-953F-D50D619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EB2C-BE6B-49B7-B59D-1221841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130C-C4EB-40D3-8061-C9BAAC6E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522D-C195-4325-A892-1064CDAA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6CBA-6E3E-4695-A493-CD8C6F3A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70D-88EE-4DFB-96E8-0745DFF8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A9E-AFF9-4669-B308-C85EE56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B9C-DC85-4169-A005-FF369D70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F7C-2849-4E33-9278-F7D906F4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7AC-DDE7-4D9E-8873-C9DC346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DB1-D36A-4142-B81D-F50CD23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242E-998F-483C-B517-65753CDA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AF6-91C5-49FB-AAD1-A3A762F3641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563B-39BB-4F0D-91EB-8C103AA21BE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" Target="slide9.xml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80880" y="2057400"/>
            <a:ext cx="792504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репление звука [ж]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819520" y="3886200"/>
            <a:ext cx="60483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5638680" cy="3171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519480" y="483696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6000" cy="6945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390840" cy="2967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2827080" cy="3048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791320" y="11430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819520" cy="2535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6"/>
          <a:stretch/>
        </p:blipFill>
        <p:spPr>
          <a:xfrm>
            <a:off x="6248520" y="3836880"/>
            <a:ext cx="2895480" cy="2733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7"/>
          <a:stretch/>
        </p:blipFill>
        <p:spPr>
          <a:xfrm rot="19221000">
            <a:off x="685800" y="4200120"/>
            <a:ext cx="2021040" cy="2657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407240" y="304920"/>
            <a:ext cx="725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omic"/>
              </a:rPr>
              <a:t>Назови картин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304920"/>
            <a:ext cx="876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Назови картинк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определи место звука </a:t>
            </a: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[</a:t>
            </a: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ж</a:t>
            </a: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]</a:t>
            </a: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 в слов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495680" cy="4405320"/>
          </a:xfrm>
          <a:prstGeom prst="rect">
            <a:avLst/>
          </a:prstGeom>
          <a:ln w="0">
            <a:noFill/>
          </a:ln>
        </p:spPr>
      </p:pic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4648320" y="36576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4" action="ppaction://hlinksldjump"/>
          </p:cNvPr>
          <p:cNvSpPr/>
          <p:nvPr/>
        </p:nvSpPr>
        <p:spPr>
          <a:xfrm>
            <a:off x="5715000" y="365760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5" action="ppaction://hlinksldjump"/>
          </p:cNvPr>
          <p:cNvSpPr/>
          <p:nvPr/>
        </p:nvSpPr>
        <p:spPr>
          <a:xfrm>
            <a:off x="6858000" y="3657600"/>
            <a:ext cx="1219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95800" cy="5096160"/>
          </a:xfrm>
          <a:prstGeom prst="rect">
            <a:avLst/>
          </a:prstGeom>
          <a:ln w="0">
            <a:noFill/>
          </a:ln>
        </p:spPr>
      </p:pic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5334120" y="4419720"/>
            <a:ext cx="11430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7543800" y="4419720"/>
            <a:ext cx="12193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5" action="ppaction://hlinksldjump"/>
          </p:cNvPr>
          <p:cNvSpPr/>
          <p:nvPr/>
        </p:nvSpPr>
        <p:spPr>
          <a:xfrm>
            <a:off x="6400800" y="44197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5114880" cy="3841920"/>
          </a:xfrm>
          <a:prstGeom prst="rect">
            <a:avLst/>
          </a:prstGeom>
          <a:ln w="0">
            <a:noFill/>
          </a:ln>
        </p:spPr>
      </p:pic>
      <p:sp>
        <p:nvSpPr>
          <p:cNvPr id="423" name="">
            <a:hlinkClick r:id="rId3" action="ppaction://hlinksldjump"/>
          </p:cNvPr>
          <p:cNvSpPr/>
          <p:nvPr/>
        </p:nvSpPr>
        <p:spPr>
          <a:xfrm>
            <a:off x="3962520" y="5105520"/>
            <a:ext cx="1066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4" action="ppaction://hlinksldjump"/>
          </p:cNvPr>
          <p:cNvSpPr/>
          <p:nvPr/>
        </p:nvSpPr>
        <p:spPr>
          <a:xfrm>
            <a:off x="6248520" y="5105520"/>
            <a:ext cx="12189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5" action="ppaction://hlinksldjump"/>
          </p:cNvPr>
          <p:cNvSpPr/>
          <p:nvPr/>
        </p:nvSpPr>
        <p:spPr>
          <a:xfrm>
            <a:off x="5029200" y="5105520"/>
            <a:ext cx="12193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6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884960" y="457200"/>
            <a:ext cx="55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"/>
              </a:rPr>
              <a:t>Пройди лабири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95480" y="1447920"/>
            <a:ext cx="2743200" cy="24699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6019920" y="1622520"/>
            <a:ext cx="3124080" cy="2352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3048120" cy="19717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57200" y="3733920"/>
            <a:ext cx="2236680" cy="23144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7"/>
          <a:stretch/>
        </p:blipFill>
        <p:spPr>
          <a:xfrm>
            <a:off x="6019920" y="3962520"/>
            <a:ext cx="2743200" cy="2324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1600200"/>
            <a:ext cx="2695680" cy="2030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61760" y="380880"/>
            <a:ext cx="77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gency FB"/>
              </a:rPr>
              <a:t>Назови лишний предм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9320" y="1981080"/>
            <a:ext cx="6095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3960" cy="7124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352680" y="4495680"/>
            <a:ext cx="5791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200400" cy="2935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8080" y="476100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***</cp:lastModifiedBy>
  <dcterms:modified xsi:type="dcterms:W3CDTF">2011-12-12T19:15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