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151-A21D-42FC-A6F0-0E5DE1FD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C6F3-9831-4D24-82EE-9A980F95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A06-FDDD-47AF-B186-F5525E44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056-D9E0-4A03-AEF6-2714E15E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FE52-FE6B-47CA-B0D8-B28D3C0A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CC08-F7F8-4AAF-AE08-EF236D8D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AC47-2545-4705-AC04-F398DD1D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5C02-9BE1-49BE-B1C1-206021A7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12F3-399F-4030-A282-5CE2F7F9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DBC0-22B0-48E4-A265-D5A44E8D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2032-32F8-44DC-8278-D57EC53A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E72-0A11-4F35-84EE-D6DD027A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D5EE-FFCC-418C-823C-1CAE7975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5246-851E-4AE1-870A-569C576F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C78D-FDF4-4124-8A3E-0361431E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AF18-22E0-4307-82FD-11E89869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85F0-2A9B-4F5F-AD2A-C863E668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6D44D-6EA2-4F4B-82B6-AB5372C5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45358-81DB-4ECB-8152-5D68E263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25AA5-9457-4D07-8979-B62F1C92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AFDBE-CC62-4CAC-9415-6E253691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F2170-3126-4BA1-AE38-CEACD2FD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BC2A-8D53-44DF-8256-81119497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B432A-9412-47D0-A289-01048390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B043E-B26E-47C4-A033-3053192D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D471C-F0BE-48A9-9000-C5D17387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0AEE2-0873-447B-87EB-70E10D80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38F6A-8E33-4008-95AE-87489E8F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41F68-2B56-4C76-BA0A-F1EF0BFB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61C60-8ADF-4695-B509-4D6ECC3F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F651-F8FA-4234-86BF-E5E59453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4802-DBE5-40BC-B33B-316ADC4F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0118-AFC4-4809-B542-98C02D6A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A279-ADBF-4E8C-B615-329EAD4F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ADB-26FD-491E-A803-F8E697FF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3EC7-E9EB-48C0-A6E0-6C3871BB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65B2-6937-4BEA-A7F3-14805A32E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15EC-3ACD-45B8-BD5A-12C56511645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4271-1CA4-421E-83A8-AD9E5234F18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" Target="slide9.xml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380880" y="2057400"/>
            <a:ext cx="7925040" cy="16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репление звука [ж]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2819520" y="3886200"/>
            <a:ext cx="60483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умай!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5638680" cy="31716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519480" y="4836960"/>
            <a:ext cx="30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06000" cy="69454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3390840" cy="29671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3048120" y="1143000"/>
            <a:ext cx="2827080" cy="30481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5791320" y="114300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5"/>
          <a:stretch/>
        </p:blipFill>
        <p:spPr>
          <a:xfrm>
            <a:off x="3200400" y="3962520"/>
            <a:ext cx="2819520" cy="25351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6"/>
          <a:stretch/>
        </p:blipFill>
        <p:spPr>
          <a:xfrm>
            <a:off x="6248520" y="3836880"/>
            <a:ext cx="2895480" cy="27338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7"/>
          <a:stretch/>
        </p:blipFill>
        <p:spPr>
          <a:xfrm rot="19221000">
            <a:off x="685800" y="4200120"/>
            <a:ext cx="2021040" cy="26575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407240" y="304920"/>
            <a:ext cx="725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omic"/>
              </a:rPr>
              <a:t>Назови картин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0" y="304920"/>
            <a:ext cx="876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"/>
              </a:rPr>
              <a:t>Назови картинку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"/>
              </a:rPr>
              <a:t>определи место звука </a:t>
            </a:r>
            <a:r>
              <a:rPr b="1" lang="en-US" sz="4400" spc="-1" strike="noStrike">
                <a:solidFill>
                  <a:srgbClr val="333399"/>
                </a:solidFill>
                <a:latin typeface="comic"/>
              </a:rPr>
              <a:t>[</a:t>
            </a:r>
            <a:r>
              <a:rPr b="1" lang="ru-RU" sz="4400" spc="-1" strike="noStrike">
                <a:solidFill>
                  <a:srgbClr val="333399"/>
                </a:solidFill>
                <a:latin typeface="comic"/>
              </a:rPr>
              <a:t>ж</a:t>
            </a:r>
            <a:r>
              <a:rPr b="1" lang="en-US" sz="4400" spc="-1" strike="noStrike">
                <a:solidFill>
                  <a:srgbClr val="333399"/>
                </a:solidFill>
                <a:latin typeface="comic"/>
              </a:rPr>
              <a:t>]</a:t>
            </a:r>
            <a:r>
              <a:rPr b="1" lang="ru-RU" sz="4400" spc="-1" strike="noStrike">
                <a:solidFill>
                  <a:srgbClr val="333399"/>
                </a:solidFill>
                <a:latin typeface="comic"/>
              </a:rPr>
              <a:t> в слов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4495680" cy="4405320"/>
          </a:xfrm>
          <a:prstGeom prst="rect">
            <a:avLst/>
          </a:prstGeom>
          <a:ln w="0">
            <a:noFill/>
          </a:ln>
        </p:spPr>
      </p:pic>
      <p:sp>
        <p:nvSpPr>
          <p:cNvPr id="409" name="">
            <a:hlinkClick r:id="rId3" action="ppaction://hlinksldjump"/>
          </p:cNvPr>
          <p:cNvSpPr/>
          <p:nvPr/>
        </p:nvSpPr>
        <p:spPr>
          <a:xfrm>
            <a:off x="4648320" y="36576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>
            <a:hlinkClick r:id="rId4" action="ppaction://hlinksldjump"/>
          </p:cNvPr>
          <p:cNvSpPr/>
          <p:nvPr/>
        </p:nvSpPr>
        <p:spPr>
          <a:xfrm>
            <a:off x="5715000" y="365760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rId5" action="ppaction://hlinksldjump"/>
          </p:cNvPr>
          <p:cNvSpPr/>
          <p:nvPr/>
        </p:nvSpPr>
        <p:spPr>
          <a:xfrm>
            <a:off x="6858000" y="3657600"/>
            <a:ext cx="1219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095800" cy="5096160"/>
          </a:xfrm>
          <a:prstGeom prst="rect">
            <a:avLst/>
          </a:prstGeom>
          <a:ln w="0">
            <a:noFill/>
          </a:ln>
        </p:spPr>
      </p:pic>
      <p:sp>
        <p:nvSpPr>
          <p:cNvPr id="416" name="">
            <a:hlinkClick r:id="rId3" action="ppaction://hlinksldjump"/>
          </p:cNvPr>
          <p:cNvSpPr/>
          <p:nvPr/>
        </p:nvSpPr>
        <p:spPr>
          <a:xfrm>
            <a:off x="5334120" y="4419720"/>
            <a:ext cx="11430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rId4" action="ppaction://hlinksldjump"/>
          </p:cNvPr>
          <p:cNvSpPr/>
          <p:nvPr/>
        </p:nvSpPr>
        <p:spPr>
          <a:xfrm>
            <a:off x="7543800" y="4419720"/>
            <a:ext cx="12193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rId5" action="ppaction://hlinksldjump"/>
          </p:cNvPr>
          <p:cNvSpPr/>
          <p:nvPr/>
        </p:nvSpPr>
        <p:spPr>
          <a:xfrm>
            <a:off x="6400800" y="4419720"/>
            <a:ext cx="12952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5114880" cy="3841920"/>
          </a:xfrm>
          <a:prstGeom prst="rect">
            <a:avLst/>
          </a:prstGeom>
          <a:ln w="0">
            <a:noFill/>
          </a:ln>
        </p:spPr>
      </p:pic>
      <p:sp>
        <p:nvSpPr>
          <p:cNvPr id="423" name="">
            <a:hlinkClick r:id="rId3" action="ppaction://hlinksldjump"/>
          </p:cNvPr>
          <p:cNvSpPr/>
          <p:nvPr/>
        </p:nvSpPr>
        <p:spPr>
          <a:xfrm>
            <a:off x="3962520" y="5105520"/>
            <a:ext cx="10666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4" action="ppaction://hlinksldjump"/>
          </p:cNvPr>
          <p:cNvSpPr/>
          <p:nvPr/>
        </p:nvSpPr>
        <p:spPr>
          <a:xfrm>
            <a:off x="6248520" y="5105520"/>
            <a:ext cx="12189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rId5" action="ppaction://hlinksldjump"/>
          </p:cNvPr>
          <p:cNvSpPr/>
          <p:nvPr/>
        </p:nvSpPr>
        <p:spPr>
          <a:xfrm>
            <a:off x="5029200" y="5105520"/>
            <a:ext cx="12193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68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884960" y="457200"/>
            <a:ext cx="55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"/>
              </a:rPr>
              <a:t>Пройди лабири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1752480" y="137160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895480" y="1447920"/>
            <a:ext cx="2743200" cy="24699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6019920" y="1622520"/>
            <a:ext cx="3124080" cy="23526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5"/>
          <a:stretch/>
        </p:blipFill>
        <p:spPr>
          <a:xfrm>
            <a:off x="2971800" y="4191120"/>
            <a:ext cx="3048120" cy="19717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6"/>
          <a:stretch/>
        </p:blipFill>
        <p:spPr>
          <a:xfrm>
            <a:off x="457200" y="3733920"/>
            <a:ext cx="2236680" cy="23144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7"/>
          <a:stretch/>
        </p:blipFill>
        <p:spPr>
          <a:xfrm>
            <a:off x="6019920" y="3962520"/>
            <a:ext cx="2743200" cy="23241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0" y="1600200"/>
            <a:ext cx="2695680" cy="20304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761760" y="380880"/>
            <a:ext cx="77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gency FB"/>
              </a:rPr>
              <a:t>Назови лишний предм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19320" y="1981080"/>
            <a:ext cx="609588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3960" cy="71247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352680" y="4495680"/>
            <a:ext cx="57913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3200400" cy="293508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748080" y="4761000"/>
            <a:ext cx="30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*******</cp:lastModifiedBy>
  <dcterms:modified xsi:type="dcterms:W3CDTF">2011-12-12T19:15:5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