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27.jpeg" ContentType="image/jpeg"/>
  <Override PartName="/ppt/media/image3.gif" ContentType="image/gif"/>
  <Override PartName="/ppt/media/image6.png" ContentType="image/png"/>
  <Override PartName="/ppt/media/image18.png" ContentType="image/pn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BC2-1DE1-4D76-B268-F3DCF5A8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BDF9-C99B-40DB-810C-81009D07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88D12-61D6-4041-98F4-69736C4C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6BAD1-9E84-4D7A-9415-EAAB4A19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F6CA5-0661-42F1-B035-7BDD7B74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E2735-E348-46C2-A686-A6C123E0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F9DF0-8DDC-42B5-847D-8833432E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4D2BC-3468-445C-B710-2A53FB8D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03188-2355-4A6B-8150-76478ED7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93E9F-237D-4D81-A28F-8820EAA5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6A174-8694-463C-A952-EB2F19BC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75AF8-DFCF-4520-AA94-35E69437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DF4A-0231-49C6-BEC2-AE9EE95E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421C3-F2B0-49D2-80A9-12416EAC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91D42-23E1-4247-A9C4-A4AB3F1D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D130F-601B-4036-9707-D38A3A66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26EAC-E961-417D-AB69-273D61D6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59829-A5AE-4853-BBAB-883749CC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38D89-F667-47F6-A765-F1096CA4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C8540-143A-4FFC-AD6A-860B8D0E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65E13-A9BD-4965-BD04-594E1EF4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734FD-0152-4473-8BF8-C55BFA88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954D3-D115-44A9-8E89-F8249F28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7B0-568E-457E-9807-95974751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F3E2F-1337-4EA4-B68C-236A3F06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E61B80-F6AA-435F-947F-1FA495D5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C022E4-7B79-491E-ACEF-06A07EA4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6C097E-F74D-4BA9-865F-417A8204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D8C43B-998A-4A0C-B08E-B0B27DFE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2F4044-BCE1-4EB7-92C1-C1890C00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E81D55-BCFC-4853-8CB7-FE32AAF2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2524F4-C4E4-429F-97D2-9186D4F9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6931AF-C827-484A-A06E-C7F8AEFF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E33749-C364-41CB-BC57-CCBAC61F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8CD0-2CCC-4128-81E1-D1260190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4CB7BF-8ABE-4360-BFAA-7522EACE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4A1641-8A99-42C0-AB23-08C9A70F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5D8D55-4E87-40D0-93DB-6C512A6E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32B41-0EA1-4AB6-BF1C-A4C555C1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96B51-4A5F-420E-9636-295A9C39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28966-F0FF-42DF-96F6-7E430584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C79D5-7E7A-44EA-83E6-5FC5DB9D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89867-8861-4DE0-8BC3-AE886E8A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E9580-074E-436A-A7FE-4AC4B374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F4691-CC5B-434C-8486-D47CDDCA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B38B-19B3-487D-8137-BB963B6A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575A6-C3B9-4DEE-93A4-872740DD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8F3A6-2DD8-40E7-975C-29A8545B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0545D-4F6A-4650-919A-588F602D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E2836-43BA-41F8-96D3-8A3324F7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3E05F-BC09-4989-B075-7D8689CD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8FED13-29BE-48DA-A661-851BA616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7741D3-9D90-41C8-A3F4-0D9C0AB7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FC5FD0-BEBE-43CE-B07C-F3194C02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8385E-5FF1-46FA-B1E1-F5216321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2F3CDD-6F50-4181-A8D6-6AA9D9B4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EA41-50D4-4B5E-9DF3-9829245E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A1633D-5BFE-44DC-99DB-44B1B281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49766E-17A2-4C68-A6FE-D5EBEAAE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ECB8A-DDCF-432C-9B53-ED020BD2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6BED21-F767-42E9-9303-47495E15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02A70-9718-4A77-A0D8-8825AA0A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7BE4D1-7BC1-4A51-98F6-DAFC444D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A97573-B4D1-4B62-9DBC-B7D30539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2BF885-EB17-4DEA-A372-E1C0D829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B56392-556A-4CD3-9A5B-0353D736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F4475D-2971-454F-A1D0-8AD08B26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5E0E-7D40-4E60-9865-090BB0DE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5CC84C-4408-485A-A2B3-24ED9B20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8B106E-0A56-4657-B106-DF86C057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45ADB8-2207-4CE1-B640-385BA4CA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F21D2F-5BFB-4995-AF8B-1ABFDE52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DF5C43-D5A7-4FDA-8BC5-1A923390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95D537-478B-4F8C-AB3F-0431C284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BACF2A-CCA5-4409-955C-9FFF1599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39E2D3-8879-46BA-946D-2BBB6239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EC6AB7-0493-4409-9265-123FE301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FC6C34-A7B9-4150-99BB-9FB2E89C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0D19-233F-4845-A8B1-EB2E1B15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4A334C-9721-407B-B887-D23FD5B8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7C91C3-5B11-4C03-8FF1-219FF351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ACEAFF-89BA-49CC-8422-333DA0B7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264A87-AA8E-49E8-BBB2-2D2E0478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E2E331-3A0F-4F10-ACE5-53D7C77D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B0F5C6-CCD0-47A8-A032-443C9611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7F72CC-3F72-4557-9A62-9A4DBC2A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3F7C42-B25F-4C08-A91D-74A957A1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0680C7-6180-4FD4-B613-8350A17E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E5B5A0-24EB-4727-A31B-D1E3AD18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728A-1E56-4F25-A51E-6737910B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0D738C-EE92-40E2-A98D-2CF7FE01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237E50-F369-4385-BE3F-DD3782B2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AB7D0A-C511-44F4-B435-BC06F3B6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5373EF-E97C-4ABE-883F-5DD8CF27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23B8E6-A502-4CE4-8CA9-97E67151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E74AB4-D30B-4DCA-BE93-41C6D13B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736D1F-8637-462A-AC9D-50309958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90C9D8-CE04-4015-8921-0AF4DBCD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C3E0EE-68F6-48AD-BEA1-D26149EB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C8BACE-4A45-46D2-A873-5E1DF860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16D6-9711-41D4-A366-6A353280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9E9050-2616-4E8E-8E66-DB391C5C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C246EF-7E48-448D-ACFD-607E5364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0ACF39-B341-4F81-9615-80A3E195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02DF17-63DE-41F4-B79C-0BFF61C4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C8AD4F-C8E9-4678-B9C1-F0D65AB6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B7FEC1-ADCB-443F-9874-9AE16CC6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4FABE0-E8A3-40FF-8FFF-D934794F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09606A-C711-4B9D-AD68-9FEBDD8C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F49CA5-84B0-4573-B7A0-34CCF140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DC5326-16C6-4E27-8B12-3A9D9F2A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DC4-88BC-4C37-8286-63C266C1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5E5C-8E49-4BE6-8E70-92E779E8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1D016D-8DFA-49A8-9678-E202D352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CFD8BC-B67A-4EC8-8FA2-2ED74EF0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C20016-970E-4D2C-9795-0642D31B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12307E-AAC7-4804-A97C-09588C21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FD515B-4E85-4386-AFE0-DEBA88C4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2A13BA-35AF-4C7D-996F-0237DDC5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34935C-6D38-4047-BC2D-9B380BBB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EB76C9-F4AA-442C-8266-EA59A108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53863A-6452-493A-9E18-B04BD8BF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577247-C1E2-4B16-8BF6-161E781C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6B0D-9EFB-4BFA-9099-9D8CC419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03634B-8B92-4E1D-8133-5E90C72F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D14CC6-2EF0-49ED-B227-8040809B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733627-C63B-42E9-8C8E-4B7D33F3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8813E5-708C-4953-80ED-3B30F1BF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64CC90-4F5B-4018-857F-EFD9F07C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2329CB-DC35-492E-825E-CCE0A244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D84D38-92B9-409B-8174-B4D56768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5BAAA1-9482-4556-9074-A15ED432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196F3C-F39A-4771-8C39-D664FA2E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F36256-A6EC-4596-9067-CBE894A7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16C6-8A54-454D-BB0D-707D772B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1229FD-EF80-4DDB-B5A8-1F9EE912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9C2177-7076-4539-8BE4-701707D2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3F5922-9AFD-4718-BAFA-2A179488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806B60-0F8F-4C85-90E0-3FBE8FB8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3179B9-FB7F-4C1B-A9C2-2D3C6343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22B114-6418-43C8-AB69-E2C66395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85068C-3B28-48E1-8E9F-DE464C69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6C84AC-4133-4FF0-B147-1DA3874C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DB7079-B17D-4344-A402-3A6B7B69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60FF95-819E-49D5-A02D-E42049B3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89FA-A7A2-4145-9111-C60BEADA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3CB183-2BA6-4610-939C-1424BFF1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5E3CB5-15D4-45EF-88C9-AD7B7248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01B034-A388-4D1C-AFF3-12CE4FC1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5F165B-A938-4268-9205-572472A0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316330-26FC-4C66-8D9A-3E7EF92B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2BD794-0B44-4CA5-8E34-51873845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C744DB-10F5-42A5-84B8-39D6DA29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F9E331-E23A-4C82-A052-561B4086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12EF33-1C34-4815-AB2A-333950A3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DD4CBA-1CBB-4DC7-BE2B-B2796BB8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5987-2BE0-4437-A19C-290B3CBD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42AD6A-462A-4AFE-ACA8-86EFAE88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94059D-FD33-4E07-97D0-859DCC0D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2D1300-85CF-4B63-82B7-2FCDBE78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EEF7CB-C867-4DFA-9FFF-23A6B020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59722B-EC8B-4E76-B0D4-3F53404D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E42C08-C191-48C2-A6CD-2095EB08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4BC89D-92FA-4129-BFEC-08057C43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232BC2-AA8C-4D81-8DD2-1A5CD1CF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0C149E-903D-429E-A9F0-DB81697D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B8ADBA-FCA9-446C-8ECB-D9BAEF04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D4253-B71C-4663-804C-596E70A0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BF31DB-C5B2-40DB-86E4-E6E4E748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CCAEE7-5E4E-4238-9FEF-CBE4C3D8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BAB89C-4194-4598-A769-FA6E3CFD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6B8899-8054-4404-AED0-7730496D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E6DAAA-C2BB-418C-B572-CAF9A456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F538E4-CF42-4B98-B838-A45C5863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9F5CA0-F148-4F3D-9642-232A74E1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097D7E-43CE-4E1C-BF8A-8194606B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38AC2C-1727-4DC9-8F5B-083D1172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F84FA8-B923-426B-9068-B957279C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CBCCD-130D-4757-8992-49D2660F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88D314-5C91-469E-AA9A-259162EF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FD5BFE-2FA9-4F3C-BD5C-0EDCA7DE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7D4C08-F732-4F63-91FB-AD5BE2E6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5178F1-B96C-4C59-9C86-C1DD6EF2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45BE69-1414-4E91-A8DE-4848FD02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656C73-ECBF-47C4-9BA1-4CF343D6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95DA44-129B-4F54-B2F2-048E97A7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87FFCD-0564-466D-BD02-CC9427A7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3D6CCB-45AF-463F-B5B4-B78AC71F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E2D4D8-482C-4BD2-9619-E5B79710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02526-483C-4A25-8254-BC27BE23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884D15-B492-4E16-8983-AD529E71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7E378E-D6D0-48CA-8631-5BA0AC5F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C48B9F-A633-4DE7-AE0D-1587ADDF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D54F59-40D0-449B-9BE5-F5F064FE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43659D-B2CB-4955-9000-6D8F93DE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9179D0-8791-4196-A322-AA6D86CB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E63BFD-7180-478C-B25D-3242E51E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0F59B2-3F9B-4C0B-8030-7CB91B22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B462BD-771E-4891-9D27-5F4C0499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652A03-A655-4C6C-B023-64E704B9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79A9F-2A92-4D87-8D23-F07A8EA2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1021AD-0C68-4FBC-979E-611BC422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069C95-BDA4-43AE-AE08-38336760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EE9D7D-E48B-4BE0-BAF2-0E6B93C4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D1B708-50BA-44F3-AD22-6CE99C94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088374-37F5-4D5F-8DEC-02F13122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9F3DF5-01DD-42DB-9925-516CFB51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D1D00B-A053-46C9-A1DC-1FE3FBBA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7A66F9-B03E-4792-B8B4-D4FCD657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992C63-E40C-4146-B155-474174B5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F3CF15-568A-42EE-9F80-53B5493B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8D67B-E743-4464-8FD3-85E6A4C3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F670C7-1491-4554-989F-B5760108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86CB4A-772A-475C-8908-8DE11734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5F8F1B-29DC-4286-A573-CDB148EA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797E89-4F21-40A8-B9EE-03A7A1F6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D05E43-EDFC-47D1-AA3F-0F089997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92737E-1715-4BEC-B03B-7A3987B6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B7D800-855D-4A59-8916-90C2B60C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ABF5A5-72B1-434A-95AD-7E9F0B25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C169E6-1FD1-4DA2-8D7B-D38E5B49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262AA3-3B66-4022-9294-88596892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8777-03DD-4A64-B4BB-C8D0C87A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B9565-71E1-4786-AECB-4B9E344D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DF1222-7995-4CB5-9C14-0ED6B34E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DAF1D-B5DA-46D7-A358-80A0B2DA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7F361-3ED5-4386-99F4-0204CBDD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B5B6F-AAA2-4718-AEB9-1EF9DEAA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E6657-E91F-4134-9F7E-DA08F072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E92AB-A603-4AB5-9370-5A421CC3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74CF3-713B-426D-B9C0-7DF73AD3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6C609-B96E-4936-9092-F4F6A81D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E66BC-0DA0-46D4-BE16-68790051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2F8E7-BAA3-4206-9235-041A1938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E0F-8020-4F2F-8E56-503C7C72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C0374-FA0E-447C-9E02-988F2261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5C286-6A72-4BA4-ACB5-1C469AFB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BC0D8-1F5B-405C-B3A8-E66EFD5A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AE664-EDDF-4B4E-B253-9FD71FAB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23BDB-E87D-4177-8C59-B901151A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76955-A38D-42F6-A41E-BC3E777C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1AA0D-54A0-4F14-A85C-2A4EC540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6E1F5-29E2-4EBC-9B2D-8087F8A8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29842-4905-4B00-BEC1-FB1ADF54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53A78-9F8D-4E34-8C37-4B272833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C8E-0954-4CC2-B75C-E5953254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BCDD8-835B-4964-945E-4AB91831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5F411-EF07-4190-9248-2DB8777D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14374-F201-49BA-925B-62CAE129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CAC6F-716A-42E0-B97F-D93E1AE2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55732-3B15-4BAF-9AB2-09CBDB76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D0F7D-C879-450A-BA2E-3BC55807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33F14-B737-4D8A-A830-F457283D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B9233-43A4-44F4-946C-2FE1F64D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634FC-563C-45BB-90A3-6496F6FA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62CD1-9C38-460C-A836-6CA94C1E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C1E-3485-42F9-B950-B8EAF8CF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643A9-14D7-4DA3-991D-D8AD4698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4C711-FC07-48A9-9E63-13303A42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04B31-2632-4C81-9E3E-7E95A6D6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BCAD9-6239-41CF-AC79-85670977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F2479-CE3C-4E36-8A7C-35856EBA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C6374-70FB-4E0F-950D-7387197E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58769-9B93-417C-AE09-BC28028A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85189-9E0C-4CE1-8CAF-3862D30C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B2B5E-54FB-48CB-87F8-67D8065A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62D12-61CB-43AC-B951-45862DC4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4D39-C32C-451F-BF0C-752D3D8A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FBC38-AD6B-406C-900B-D40BD19A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0B08C-5EE4-4BDB-9B65-4A99294C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9A766-FB2B-4BF3-AA0A-12AF1078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E4F4A-87B5-44E1-8A46-2155A829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63CA2-20ED-4693-975D-D5D7763D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2BAA0-3E76-43C6-B04A-C4FAAB2E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64346-1EE8-470E-AF52-CF8440CD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CC31A-A5EA-4EF4-A105-84B27BCC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86AAA-5AB6-49A5-8CEE-C4A9344E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32ACF-7459-4F79-9E3F-4379FE04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C732-5861-4886-AA80-B4AAAF16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012E3-AC2C-4742-A24E-8747E2AB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2265B-4999-4C36-A83C-3962FAD3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E84C5-EDF8-4570-BF7E-003A264C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362E7-47AC-4B2A-A017-A24555EDD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ABDE0-CC7F-483E-B5CB-91049868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95A12-AD2B-40C0-B0D7-4959F3C6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AE893-A789-420A-AD1C-33DE3FC8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82C91-644E-4962-8775-73257289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0AD30-0507-4D3F-A8F6-024E1A34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0BAE5-3B6F-466D-A033-E1A730C4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3F5-99A1-4F42-A120-99ABF2A5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2C56C-6E52-4688-83CC-0238383C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76830-F724-4C25-8177-AB7FEE34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6A7F0-89E3-4DBF-AEE1-EAE2ACBC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F7391-16FF-4DC1-AF0F-3FDB250C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5CD0D-0AA5-45CB-96F6-0808DD4A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E4C53-D6E1-4AE7-9E7A-700FE31C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A544F-557F-4473-BB2F-1E110784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B3E0B-D4ED-46E1-8D9E-3A9F006F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252C9-FCF1-448D-BF8E-9CED2F17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89B6E-F41C-4DBD-ABEE-93C27840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BBA5-F1F6-4E2F-9140-1B4A24B39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dt" idx="28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ftr" idx="29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D91D-2D17-4F16-83C7-ED6597573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ldNum" idx="31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305F-32F6-48A8-832E-3488F1628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ftr" idx="3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dt" idx="33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502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891C-D609-456B-890B-9C2A3247E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37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575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605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607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608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3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4" name="PlaceHolder 3"/>
          <p:cNvSpPr>
            <a:spLocks noGrp="1"/>
          </p:cNvSpPr>
          <p:nvPr>
            <p:ph type="ftr" idx="3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F582-B0F5-4277-8C9D-AA5C7FC27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663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D352-AC30-401F-8578-B52BD21FC41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70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AE00-1FCA-4826-8801-244C341384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752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754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759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765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8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769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773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77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D2CC-C0C9-4FDE-9A7D-ACC6D27DCE2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6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37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851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855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859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863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867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PlaceHolder 1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FFDA-C0EE-40AE-AA5B-01AA810B1A7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dt" idx="5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ftr" idx="5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 type="sldNum" idx="5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0CF6-967E-484E-850D-9076DADDF4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6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6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7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dt" idx="5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ftr" idx="5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sldNum" idx="5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986B-4977-4E04-9E5B-8D689191E0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2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C036-A9ED-4C87-A59B-451EC0019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C432-5E80-4DAD-8C98-2FB4C0315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02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102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03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105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1114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1294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DA15-3239-452B-B677-E72ACD616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1304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0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1D9D-E33C-4A98-BD2B-30457AF078F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6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9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9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9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9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9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2379-5B1D-4E16-89E1-413FCE5E3D6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45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45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6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6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7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508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dt" idx="70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ftr" idx="71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 type="sldNum" idx="72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7A4C-6D34-4CD0-97FE-113F54FC8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9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570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1592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3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1594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5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1606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4" name="PlaceHolder 2"/>
          <p:cNvSpPr>
            <a:spLocks noGrp="1"/>
          </p:cNvSpPr>
          <p:nvPr>
            <p:ph type="dt" idx="73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 type="ftr" idx="74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 type="sldNum" idx="75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7751-1A71-46A9-8FB5-392892087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88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8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9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5FC7-5A66-42DF-8BD8-55AF5C95E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AF80-1F33-4D7D-B6EF-12ED008FEBD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791E-FD25-467B-ABED-D73E2647C4E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18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0673-F180-439D-9497-5379947175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65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A626-8DC6-43D8-B470-13EEFA1765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12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14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569B-AA12-4688-A5DC-0149046FCB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5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6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6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2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4A71-508C-4C0F-ADF6-B481C186AC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8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0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3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3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7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8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3" name="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8209080" cy="4508640"/>
          </a:xfrm>
          <a:prstGeom prst="rect">
            <a:avLst/>
          </a:prstGeom>
          <a:ln w="0">
            <a:noFill/>
          </a:ln>
        </p:spPr>
      </p:pic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656" name=""/>
          <p:cNvSpPr txBox="1"/>
          <p:nvPr/>
        </p:nvSpPr>
        <p:spPr>
          <a:xfrm>
            <a:off x="468360" y="1052640"/>
            <a:ext cx="7991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сЕ о ЗдОрОвОм ПиТаНи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6000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900000" y="188640"/>
            <a:ext cx="37432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Verdana"/>
              </a:rPr>
              <a:t>Правильное питание - здоровый позвоночн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3366ff"/>
                </a:solidFill>
                <a:latin typeface="Verdana"/>
              </a:rPr>
              <a:t>Правильное питание является залогом здорового организма. Грамотно составленный баланс полезных веществ важен для позвоночника ни чуть не меньше, чем правильная осанка или физические упражне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3366ff"/>
                </a:solidFill>
                <a:latin typeface="Verdana"/>
              </a:rPr>
              <a:t>Самым важным пунктом является снижение потребления соли, которая, откладываясь в костях и суставах, приводит к возникновению множества серьезных болезней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3366ff"/>
                </a:solidFill>
                <a:latin typeface="Verdana"/>
              </a:rPr>
              <a:t>Сахар и мука высшего сорта являются абсолютно бесполезными продуктами, так как на этапе их отчистки удаляются все минеральные вещества и витамины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5003640" y="620640"/>
            <a:ext cx="3672000" cy="5688000"/>
          </a:xfrm>
          <a:prstGeom prst="rect">
            <a:avLst/>
          </a:prstGeom>
          <a:ln w="0">
            <a:noFill/>
          </a:ln>
        </p:spPr>
      </p:pic>
    </p:spTree>
  </p:cSld>
  <p:transition advTm="22000"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566280" y="33336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99"/>
                </a:solidFill>
                <a:latin typeface="Verdana"/>
              </a:rPr>
              <a:t>Список по настоящему вредных продуктов    </a:t>
            </a:r>
            <a:r>
              <a:rPr b="0" lang="en-US" sz="1800" spc="-1" strike="noStrike">
                <a:solidFill>
                  <a:srgbClr val="cc0099"/>
                </a:solidFill>
                <a:latin typeface="Verdana"/>
              </a:rPr>
              <a:t> ( или как их назвал Поль Брэгг - мертвые продукты ) достаточно обширен и по возможности от них лучше отказаться полностью или хотя бы сократить их потребление. К таким продуктам относятся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Verdana"/>
              </a:rPr>
              <a:t>Мясные продукты промышленного производства (сосиски, колбасы, бекон)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Verdana"/>
              </a:rPr>
              <a:t>-Белый рис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Verdana"/>
              </a:rPr>
              <a:t>-Сахар и продукты на его основе (желе, мороженое, газированные напитки)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Verdana"/>
              </a:rPr>
              <a:t>-Все соленые продукты (орешки, маринованные продукты, кетчуп)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Verdana"/>
              </a:rPr>
              <a:t>-Маргарин и некоторые виды масел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Verdana"/>
              </a:rPr>
              <a:t>-Большинство мучных издели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Verdana"/>
              </a:rPr>
              <a:t>-Копченая рыб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7" name="" descr=""/>
          <p:cNvPicPr/>
          <p:nvPr/>
        </p:nvPicPr>
        <p:blipFill>
          <a:blip r:embed="rId1"/>
          <a:stretch/>
        </p:blipFill>
        <p:spPr>
          <a:xfrm rot="21147600">
            <a:off x="3635280" y="3789360"/>
            <a:ext cx="4608720" cy="2637000"/>
          </a:xfrm>
          <a:prstGeom prst="rect">
            <a:avLst/>
          </a:prstGeom>
          <a:ln w="0">
            <a:noFill/>
          </a:ln>
        </p:spPr>
      </p:pic>
      <p:pic>
        <p:nvPicPr>
          <p:cNvPr id="1688" name="" descr=""/>
          <p:cNvPicPr/>
          <p:nvPr/>
        </p:nvPicPr>
        <p:blipFill>
          <a:blip r:embed="rId2"/>
          <a:stretch/>
        </p:blipFill>
        <p:spPr>
          <a:xfrm>
            <a:off x="1187280" y="479736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6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250560" y="188640"/>
            <a:ext cx="4249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Tahoma"/>
              </a:rPr>
              <a:t>Выберите упражнения по душ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Tahoma"/>
              </a:rPr>
              <a:t>Если вам ненавистна сама мысль о посещении спортзала, используйте каждую возможность, чтобы заняться фитнесом. Поднимайтесь и спускайтесь по лестнице (забудьте о лифте!), а в обед прогуляйтесь в парке. За два часа интенсивных танцев на дискотеке вы сжигаете столько же калорий, сколько содержится в рождественском торте с двойным слоем сливок. За два часа ходьбы в умеренном темпе вы теряете столько же калорий, сколько содержится в праздничном обеде и стакане вина. Если вы долгое время не занимались спортом, прежде чем приступать к тренировкам, проконсультируйтесь у врач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1" name="" descr=""/>
          <p:cNvPicPr/>
          <p:nvPr/>
        </p:nvPicPr>
        <p:blipFill>
          <a:blip r:embed="rId1"/>
          <a:stretch/>
        </p:blipFill>
        <p:spPr>
          <a:xfrm>
            <a:off x="5076720" y="404640"/>
            <a:ext cx="3527640" cy="6096240"/>
          </a:xfrm>
          <a:prstGeom prst="rect">
            <a:avLst/>
          </a:prstGeom>
          <a:ln w="0">
            <a:noFill/>
          </a:ln>
        </p:spPr>
      </p:pic>
    </p:spTree>
  </p:cSld>
  <p:transition advTm="27000">
    <p:pull dir="r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1370160" y="475920"/>
            <a:ext cx="777240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ff"/>
                </a:solidFill>
                <a:latin typeface="Arial"/>
              </a:rPr>
              <a:t>Ешьте часто, но маленькими порциями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ff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ff"/>
                </a:solidFill>
                <a:latin typeface="Arial"/>
              </a:rPr>
              <a:t>Чтобы избежать нездоровой пищи и успешно продолжать диету, необходимо предотвращать появление чувства голода. По сути, чем чаще и сильнее это чувство, тем слабее ваша решимость соблюдать диету - голод заставляет вас постоянно думать о еде. Старайтесь чаще перекусывать углеводами и другими продуктами с высоким содержанием клетчатки, например, соленым попкорном или сухим завтраком. Пейте как можно больше воды с лаймом и льдом, чтобы наполнить желудок. Травяной чай - превосходная альтернатива капуччино и кофе-латте, которые содержат кучу калорий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94" name="" descr=""/>
          <p:cNvPicPr/>
          <p:nvPr/>
        </p:nvPicPr>
        <p:blipFill>
          <a:blip r:embed="rId1"/>
          <a:stretch/>
        </p:blipFill>
        <p:spPr>
          <a:xfrm>
            <a:off x="2771640" y="364500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p:transition advTm="20000">
    <p:wedg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250560" y="3357720"/>
            <a:ext cx="8569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О значении белков, жиров и углеводов.</a:t>
            </a: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 В основе правильного питания лежит оптимальная пропорция белков, жиров и углеводов. Сколько их должно содержаться в еде для каждого человека, узнать не сложно. Все зависит от того, каким видом деятельности занимается человек. Люди умственного труда мало двигаются, но их мозг поглощает много энергии, поэтому в их рационе должно быть 100-110 грамм белка, 80-90 грамм жиров и 300-350 грамм углеводов в день. У людей, занятых физическим трудом больше энергии затрачивают мышцы, поэтому им необходимо 115-120 грамм белка, 80-90 грамм жиров и 400 грамм углеводов. Кроме этого каждый человек должен ежедневно получать витамины и клетчатку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697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1699" name="" descr=""/>
          <p:cNvPicPr/>
          <p:nvPr/>
        </p:nvPicPr>
        <p:blipFill>
          <a:blip r:embed="rId1"/>
          <a:stretch/>
        </p:blipFill>
        <p:spPr>
          <a:xfrm>
            <a:off x="2556000" y="620640"/>
            <a:ext cx="5976720" cy="5977080"/>
          </a:xfrm>
          <a:prstGeom prst="rect">
            <a:avLst/>
          </a:prstGeom>
          <a:ln w="0">
            <a:noFill/>
          </a:ln>
        </p:spPr>
      </p:pic>
      <p:sp>
        <p:nvSpPr>
          <p:cNvPr id="1700" name=""/>
          <p:cNvSpPr txBox="1"/>
          <p:nvPr/>
        </p:nvSpPr>
        <p:spPr>
          <a:xfrm>
            <a:off x="324000" y="836640"/>
            <a:ext cx="76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"/>
              </a:rPr>
              <a:t>ПиТаЙсЯ и УлЫбАйСя!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702" name="" descr=""/>
          <p:cNvPicPr/>
          <p:nvPr/>
        </p:nvPicPr>
        <p:blipFill>
          <a:blip r:embed="rId2"/>
          <a:stretch/>
        </p:blipFill>
        <p:spPr>
          <a:xfrm rot="20455200">
            <a:off x="179280" y="2997360"/>
            <a:ext cx="1770120" cy="1769760"/>
          </a:xfrm>
          <a:prstGeom prst="rect">
            <a:avLst/>
          </a:prstGeom>
          <a:ln w="0">
            <a:noFill/>
          </a:ln>
        </p:spPr>
      </p:pic>
    </p:spTree>
  </p:cSld>
  <p:transition advTm="4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130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  Пища должна быть свежей. При хранении неизбежно ухудшаются диетические качества. Приготовленную еду нельзя оставлять надолго. В ней начинают идти процессы брожения и гниения. Лучше кушать еду сразу после приготовл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авильное питание должно быть разнообразным и сбалансированным. Если вы питаетесь на рабочем месте, лучше заказывать доставку готовых обедов в офис. Это позволит вам поддерживать разнообразный и сбалансированный рацион. Чем больше разных продуктов включено в рацион, тем больше биологически активных веществ поступает в организ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5" name="" descr=""/>
          <p:cNvPicPr/>
          <p:nvPr/>
        </p:nvPicPr>
        <p:blipFill>
          <a:blip r:embed="rId1"/>
          <a:stretch/>
        </p:blipFill>
        <p:spPr>
          <a:xfrm>
            <a:off x="2987640" y="4005360"/>
            <a:ext cx="3816360" cy="2692440"/>
          </a:xfrm>
          <a:prstGeom prst="rect">
            <a:avLst/>
          </a:prstGeom>
          <a:ln w="0">
            <a:noFill/>
          </a:ln>
        </p:spPr>
      </p:pic>
      <p:pic>
        <p:nvPicPr>
          <p:cNvPr id="1706" name="" descr=""/>
          <p:cNvPicPr/>
          <p:nvPr/>
        </p:nvPicPr>
        <p:blipFill>
          <a:blip r:embed="rId2"/>
          <a:stretch/>
        </p:blipFill>
        <p:spPr>
          <a:xfrm>
            <a:off x="0" y="4481640"/>
            <a:ext cx="217332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42847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ПИЩЕВАЯ ПИРАМ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Пищевая пирамида - наглядный набор продуктов на каждый де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-Жи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растительные мас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слад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-Белки (2-3 порци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-Молочные продукты (2-3 порци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-Фрукты (2-4 порции)         Овощи (3-5 порци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-Хлеб, каши, рис и макаронные изделия (6-11 порци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9" name="" descr=""/>
          <p:cNvPicPr/>
          <p:nvPr/>
        </p:nvPicPr>
        <p:blipFill>
          <a:blip r:embed="rId1"/>
          <a:stretch/>
        </p:blipFill>
        <p:spPr>
          <a:xfrm>
            <a:off x="4211640" y="476280"/>
            <a:ext cx="4762440" cy="619272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in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2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351640" cy="52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3419280" y="549360"/>
            <a:ext cx="5400360" cy="67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На вопрос: 'Кто здоровый человек?' американская медицина отвечает: 'У здорового человека кишечник действует столько раз, сколько раз в сутки он ест', т. е. обычно три раза. Американское 'Общество продления жизни' составило 16 правил здоровья: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1. Проветривай всякую комнату, которую занимаешь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2. Носи легкую, просторную и проницаемую для воздуха одежду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3. Ищи занятий на чистом воздухе с отдыхом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4. Высыпайся, если можешь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5. Дыши глубоко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6. Избегай переедания и переобременения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7. Избегай излишеств в мясе, яйцах, в соленой и остро приправленной пище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8. Ешь ежедневно что-нибудь из твердой, объемистой пищи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9. Ешь медленно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10. Пользуйся достаточно водой и снаружи, и внутри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11. Очищай кишечник до конца, правильно и часто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12. Стой, сиди, ходи прямо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13. Не позволяй ядам проникать в тело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14. Содержи зубы, десны и язык в чистоте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15. Работай, отдыхай, развлекайся и спи с умеренностью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 Narrow"/>
              </a:rPr>
              <a:t>16. Будь душевно ясен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1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3348000" cy="6335640"/>
          </a:xfrm>
          <a:prstGeom prst="rect">
            <a:avLst/>
          </a:prstGeom>
          <a:ln w="0">
            <a:noFill/>
          </a:ln>
        </p:spPr>
      </p:pic>
    </p:spTree>
  </p:cSld>
  <p:transition advTm="24000">
    <p:pull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7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7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7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7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7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5" dur="500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8" dur="500"/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1" dur="500"/>
                                        <p:tgtEl>
                                          <p:spTgt spid="1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4" dur="500"/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7" dur="500"/>
                                        <p:tgtEl>
                                          <p:spTgt spid="1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0" dur="500"/>
                                        <p:tgtEl>
                                          <p:spTgt spid="1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3" dur="500"/>
                                        <p:tgtEl>
                                          <p:spTgt spid="1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6" dur="500"/>
                                        <p:tgtEl>
                                          <p:spTgt spid="1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9" dur="500"/>
                                        <p:tgtEl>
                                          <p:spTgt spid="1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2" dur="500"/>
                                        <p:tgtEl>
                                          <p:spTgt spid="1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5" dur="500"/>
                                        <p:tgtEl>
                                          <p:spTgt spid="1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8" dur="500"/>
                                        <p:tgtEl>
                                          <p:spTgt spid="17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1" dur="500"/>
                                        <p:tgtEl>
                                          <p:spTgt spid="17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4" dur="500"/>
                                        <p:tgtEl>
                                          <p:spTgt spid="17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7" dur="500"/>
                                        <p:tgtEl>
                                          <p:spTgt spid="17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0" dur="500"/>
                                        <p:tgtEl>
                                          <p:spTgt spid="17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3" dur="500"/>
                                        <p:tgtEl>
                                          <p:spTgt spid="17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3563640" y="981000"/>
            <a:ext cx="47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empus Sans ITC"/>
              </a:rPr>
              <a:t>Стабильная работа всего организма, полноценное усваивание всех полезных веществ и элементов, быстрое и правильное протекание процессов обмена в системе пищеварения – залог и гарантия крепкого здоровья и высокого иммунит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9" name="" descr=""/>
          <p:cNvPicPr/>
          <p:nvPr/>
        </p:nvPicPr>
        <p:blipFill>
          <a:blip r:embed="rId1"/>
          <a:stretch/>
        </p:blipFill>
        <p:spPr>
          <a:xfrm rot="21373200">
            <a:off x="178920" y="1125360"/>
            <a:ext cx="3175200" cy="4699080"/>
          </a:xfrm>
          <a:prstGeom prst="rect">
            <a:avLst/>
          </a:prstGeom>
          <a:ln w="0">
            <a:noFill/>
          </a:ln>
        </p:spPr>
      </p:pic>
    </p:spTree>
  </p:cSld>
  <p:transition advTm="9000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8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759280" cy="4248000"/>
          </a:xfrm>
          <a:prstGeom prst="rect">
            <a:avLst/>
          </a:prstGeom>
          <a:ln w="0">
            <a:noFill/>
          </a:ln>
        </p:spPr>
      </p:pic>
      <p:sp>
        <p:nvSpPr>
          <p:cNvPr id="1719" name=""/>
          <p:cNvSpPr txBox="1"/>
          <p:nvPr/>
        </p:nvSpPr>
        <p:spPr>
          <a:xfrm>
            <a:off x="324000" y="4941720"/>
            <a:ext cx="8640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ыбирай здоровое питание и будь ЗДОРОВ!!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6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3" name=""/>
          <p:cNvSpPr/>
          <p:nvPr/>
        </p:nvSpPr>
        <p:spPr>
          <a:xfrm>
            <a:off x="395280" y="56664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Rage Italic"/>
              </a:rPr>
              <a:t>Правильное питание – определенные и постоянные часы приема еды. При этом пища распределяется в течение суток по количеству калорий, набору химических элементов содержащихся в еде. Кроме того, обязательно учитывается набор блюд и их количество. Зрелым и физически здоровым людям специалисты по правильному питанию рекомендуют кушать в течение суток три или четыре раза.</a:t>
            </a:r>
            <a:r>
              <a:rPr b="1" i="1" lang="en-US" sz="1800" spc="-1" strike="noStrike">
                <a:solidFill>
                  <a:srgbClr val="000000"/>
                </a:solidFill>
                <a:latin typeface="Rage Ital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46814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3300"/>
                </a:solidFill>
                <a:latin typeface="Arial"/>
              </a:rPr>
              <a:t>При некоторых заболеваниях, связанных в основном с пищеварительной системой стоит питаться пять, шесть раз в день. Дневная норма еды распределяется таким образом: легкий завтрак, равный примерно трети всей дневной нормы; плотный обед и ужин, составляющий четверть дневной нормы. Большинство диетологов сходятся во мнении, что 4-х разовое питание – самый правильный выбор. Такая система правильного питания позволяет организму наиболее оптимально усваивать полезные вещества и витамин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6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</p:spTree>
  </p:cSld>
  <p:transition advTm="23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7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5796000" cy="5950080"/>
          </a:xfrm>
          <a:prstGeom prst="rect">
            <a:avLst/>
          </a:prstGeom>
          <a:ln w="0">
            <a:noFill/>
          </a:ln>
        </p:spPr>
      </p:pic>
      <p:sp>
        <p:nvSpPr>
          <p:cNvPr id="1668" name=""/>
          <p:cNvSpPr txBox="1"/>
          <p:nvPr/>
        </p:nvSpPr>
        <p:spPr>
          <a:xfrm>
            <a:off x="324000" y="0"/>
            <a:ext cx="820872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чень важно распределить время приема пищи!!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69" name="" descr=""/>
          <p:cNvPicPr/>
          <p:nvPr/>
        </p:nvPicPr>
        <p:blipFill>
          <a:blip r:embed="rId2"/>
          <a:stretch/>
        </p:blipFill>
        <p:spPr>
          <a:xfrm>
            <a:off x="5867280" y="2708280"/>
            <a:ext cx="3025800" cy="345744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356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Распределение продуктов по часам приема очень сильно зависит от состава и энергетического потенциала. Например: продукты с высоким содержанием белка – мясо, рыба, бобовые стоит употреблять на завтрак или обед. Такие продукты повышают активность центральной нервной системы. Перед сном стоит кушать кисломолочные продукты, фрукты и овощи. Они не нагружают пищеварительные органы. Не стоит употреблять на ночь чай, кофе, острые приправы. Так вы можете активизировать нервную систему и нарушить со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" descr=""/>
          <p:cNvPicPr/>
          <p:nvPr/>
        </p:nvPicPr>
        <p:blipFill>
          <a:blip r:embed="rId1"/>
          <a:stretch/>
        </p:blipFill>
        <p:spPr>
          <a:xfrm>
            <a:off x="4572000" y="1484280"/>
            <a:ext cx="41036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788000" y="549000"/>
            <a:ext cx="41767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Излишнее количество еды или ее недостаток тоже ухудшают сон. Прием еды лучше всего стоит начинать с салатов или овощей. Так вы активизируете деятельность желудка и увеличите выделение желудочного сока. При этом блюда стоит подавать не горячее 50-ти градусов и не холоднее 10-ти градусов. Для хорошей усвояемости пищи, ее необходимо тщательно пережевывать. Беседы, телевизор, книги сильно отвлекают от правильного приема еды. Такое питание вредно и портит пищеварительную сис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08360" cy="6264360"/>
          </a:xfrm>
          <a:prstGeom prst="rect">
            <a:avLst/>
          </a:prstGeom>
          <a:ln w="0">
            <a:noFill/>
          </a:ln>
        </p:spPr>
      </p:pic>
    </p:spTree>
  </p:cSld>
  <p:transition advTm="20000"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1834920" y="333360"/>
            <a:ext cx="7149960" cy="27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Чего мы достигнем, питаясь правильно? Скорректировав свой рацион, мы сможем уменьшить проявление хронических болезней, которыми болеем долгие годы. Так, например, снизив количество перца в ваших любимых блюдах, вы с легкостью позабудете об изжоге и гастри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" descr=""/>
          <p:cNvPicPr/>
          <p:nvPr/>
        </p:nvPicPr>
        <p:blipFill>
          <a:blip r:embed="rId1"/>
          <a:stretch/>
        </p:blipFill>
        <p:spPr>
          <a:xfrm>
            <a:off x="1258920" y="3068640"/>
            <a:ext cx="6265800" cy="3456000"/>
          </a:xfrm>
          <a:prstGeom prst="rect">
            <a:avLst/>
          </a:prstGeom>
          <a:ln w="0">
            <a:noFill/>
          </a:ln>
        </p:spPr>
      </p:pic>
    </p:spTree>
  </p:cSld>
  <p:transition advTm="1100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500120" y="3789000"/>
            <a:ext cx="7491600" cy="28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Оптимальным можно назвать рацион, в котором присутствуют мясо, рыба, молочные продукты, овощи и фрукты. Богатая углеводами пища хорошо утоляет голод (мучное, сладости), но пользы от такой пищи очень мало. Потребление сахара и мучных изделий лучше свести к минимуму. А если уж очень хочется сладкого, лучше съесть ложку меда, чем конфету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81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64087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8:25:56Z</dcterms:created>
  <dc:creator>User</dc:creator>
  <dc:description/>
  <dc:language>en-US</dc:language>
  <cp:lastModifiedBy>User</cp:lastModifiedBy>
  <dcterms:modified xsi:type="dcterms:W3CDTF">2009-05-20T13:04:13Z</dcterms:modified>
  <cp:revision>3</cp:revision>
  <dc:subject/>
  <dc:title>Слайд 1</dc:title>
</cp:coreProperties>
</file>