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27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195-689D-4963-98C2-8B3766B4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E86-81B3-426C-8C7C-BC49C390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A5F78-674B-4A1E-86D7-B57DD348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805D6-4738-4364-A734-A1C53866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7A984-DC56-4F30-B487-C0F1EA11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43AED-FFB8-4B6E-852C-D1ED28C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20F30-A7AA-4A59-B2EE-16AE17F5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50B7F-8CB8-4A04-98C8-BDA7E361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79ECE-E15A-48D5-A68B-87DAF2B1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D7C03-E439-48E0-AF5F-6CC804BD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BBFC0-B313-4043-B735-786959F2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86479-30BC-4CD1-AB0B-1FF38E7B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6B9-8B55-445C-9B60-88DAD1B6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A9020-2D15-4258-9083-37ADD8B3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726F1-2358-45AF-95A7-82FF6791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390B1-FB6B-4F53-9A65-A8B1ECDC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85C4E-5B16-4CDA-9F09-92F4061C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58427-4330-483F-8CE8-1026C3CB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452A8-B15D-4C92-8C50-1A7827E8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360F1-6230-4594-AAA5-0A66C764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6A99A-84AF-4557-BC7B-DF630BD7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1692D-AB73-4D06-B6B8-573D418A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83EEC-7979-4D30-B7EB-52C91C83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BA9-3D56-438D-988A-55F9D3F8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95492-6746-4DE8-B917-4E6F19A8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432D92-8987-4A37-9E5C-E5662950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50EA98-A543-449B-BD2F-966A7B20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BA8A68-35F3-47F2-9314-49BFCEB3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C460DC-71EB-4F24-B15D-16A21CBE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8D0B23-886E-4261-A4A3-35AC568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F4E7C3-2646-46ED-8882-1A651076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2F2986-B324-458F-9E2D-6B18098F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C3A6FE-C096-491D-A01B-6E624054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A737FD-E8D5-4E97-8F8A-CBDA0809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1AD4-1469-4C73-A160-BCD38508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119C62-B8BA-4ACE-BDEC-046AC98A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A83BA8-B4C5-4447-B318-6ACD3E09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D1AC42-0F81-46ED-A2CC-E1658877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698D6-2D3A-4F1F-B0FD-D6660931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DA85E-8F28-4D07-B08F-467F91F3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BD92D-5BFB-46FC-942F-60803699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32405-253B-428A-8992-1BC17504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34CD6-D0F0-4505-B7CC-F927822D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1C5A8-229A-494E-9C6D-8ABF3ED4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3AAF3-B114-475C-867A-8D758826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E610-C0AF-4AC9-8289-650FA973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BAEB5-932B-4222-9357-3BB8D178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44584-5F96-4F1F-8009-1135793F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3F3ED-027B-42F7-9006-91DB0F9D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94F2C-CCC5-493E-8BF8-795C98C2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F6E72-F29E-412A-B06C-4AE84788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1EF89-8E15-40AF-BADD-F0774E17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EF155-2F30-4511-B318-500767DC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5DB20-75CF-40A1-9D50-6E87A2A4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B3EDA-8F79-4C8D-959B-3E7DA6D8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452B9-9BD3-4E0D-8F07-25A574C2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64E7-6D5A-4435-8CBD-2E918C1D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9006E-4628-40E9-B992-D5E02CF9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77CBA-6AC9-47A5-9FEA-A6998269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D249C-E88B-43E1-8055-A420FB13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13937-C1A8-49CE-ADE4-8A11D0BA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A1D3C-620A-4223-8816-1FC2069A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43676-31DE-45DF-A16A-8F194A0A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D2A31-74C8-4180-BF37-E33D28CD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7CFB4-4F60-45EC-9CA6-833B94DB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CE5D2-729D-4F87-98B3-879813BD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1C28A-C866-4156-8A5A-88347A5B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7D44-324B-434E-966C-7E6016E9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04FC3-C888-4024-BEA5-9336E8C6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1A22A-42DA-4D78-916B-3E23E2AD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346B5-4042-4D51-835D-9A1ED907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B20A2-280E-44F4-81C5-EC3A8A43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0700F-5C65-4F5C-B4B9-E03A4F79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5888F-44CF-409B-8C8A-8C29C141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D9C71-AA59-46E6-8BEA-2D3D2869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22465-2EDB-47B0-8E58-EA02F8F6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7BC31-0847-449D-8788-F6C6FC46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2D245-D0F3-42B1-AFFA-06AF6E1A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CFC1-8A28-4119-AC11-EE3E6F1C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D8719-D098-46E6-A070-53BC9F18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80A02-A799-4DFA-A56D-F5DC1315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06D1A-360D-442F-8545-FF174AD5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87B4A-AC67-49CE-8F85-8352CC3C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150B7-CB3E-4C7A-9214-2FE32BF2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E0243-B82C-45D0-9686-06FB1D8D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90042-32E0-471D-9BC3-D36C5781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AEA1C-288F-446E-B5FF-7446E46E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6EC99-313F-4DD2-88C7-9665E904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E40BD-5734-493F-9F87-4EAACD90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305A-9659-42C2-B44D-A6FCA9A4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276442-AAFA-4336-9695-3895FDA8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CC68B-C3B6-4C68-A872-223F2F25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CC4D3-5CD5-4061-889B-68F9A3EE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95620-DBB1-4DFA-BF6E-3E1CB594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FF184-977E-4FB7-B504-8F5C6C65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9D8374-4069-45A0-A551-B445A4ED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18B91-E3E4-471A-A155-9DCC7AF7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D8205-653E-4903-89EC-F9E2F54D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952C1-1A51-4528-B653-BE2EC02C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AACDE-C818-40C0-BF8D-33501844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3CAD-9B0A-4E43-AA4F-CC8F15F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9C43D1-6838-487D-AB1C-94C596EB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ADF00-4217-400C-8737-3CC8D095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77D91-7426-4F7C-B056-C92C6F95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F83F0-DD57-43C8-BF4E-722DBB7B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9EAD8-6D94-4E01-913C-C1C121A4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43DA43-4203-4DAD-9E21-C0EA23FC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8B3277-5FEC-4F2C-8B97-642A865E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6D9F2-7876-4F9A-8B39-13E29BAC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00B416-EB85-4C77-9649-810061ED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050AD-6892-4F47-A6D9-981763B2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0F1-9949-479C-9406-C5B4D2DB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582E-E623-4688-8581-E4032063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C204B-AD0C-4C5D-B6AD-8CE2C242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41C94-FA6B-4AE4-8399-8DCF90F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856A05-BED2-46EB-B078-AEEB123C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BAA9B2-5676-4310-AF18-9365FEC9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3EDB9-1A37-4088-AE77-10E9DE3C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F7F70-819A-4664-9316-D80F66E2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EF586-DB68-4F3E-B902-DFBE51D9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13699-FC7F-42CC-93CB-AAC88857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4D87F-11F4-41FC-A2B3-73DD97CE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A2F31-5591-4CF4-A458-9A0A1A36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A2E5-54C5-4B69-82C3-EFCD55E5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CEBD0E-2FDD-4659-A207-F08C5B7B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ACBCB-B788-4D6A-917B-F67AE94B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3CB48-8A3C-431A-879C-47C419F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F2E7C-4F44-4FBB-870B-54B2123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ECA9D1-1707-4CF9-A3AC-D977D1AB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0BA552-BFD9-4967-80BC-D7E8637C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5E244C-939F-4F5A-984C-E1AE802F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CDBF1D-4DB0-43A8-BBE6-37925E55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797FA-A768-48AC-A53F-3095E736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70EB7-FB36-4122-BA0C-AB940B24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0BF8-559F-4BA6-9BA1-DDC0B4B6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39060-A1C6-4D46-A224-4D249009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AC36B-A41B-49BE-8B1D-5C4FA325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12648C-2330-46FF-BB3B-09920D9A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48DC2-AFDB-4614-ABED-92B0CAC5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F8B0DB-26AF-4D04-A1AD-627212E5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D9DD6B-0943-4D89-80C8-1F2B52D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C2364F-4E8E-46F8-9955-5964ADA2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D35FEA-09D2-4B38-8523-BEDF9CEF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8839C0-FF8E-4060-BC75-688ADBF6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24927E-57D3-4592-9CEF-DAB98AAE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A8C7-CA14-4D54-BD01-18D1C196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C33617-E088-4745-B2FC-D2858C7F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0DAEE6-466C-43FC-8D32-02AC9481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2A2921-5633-4158-A8FE-F2DAA295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0C22F-2DEE-47AE-95EF-147B4CAC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DB8874-0206-4013-AE9D-D8F74C3E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E8BA60-97FC-4374-A273-86EC832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C815F-E175-449E-9AE6-AC91264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285901-0BB6-4EAE-A7B2-3E5F0C26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98E117-9889-4AAD-A923-C5DB3F0E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0700A-1CDD-45E9-9B6D-4827CEA1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D06C-F491-4093-B704-8D472908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5CF55B-AA17-42BD-B9CF-632ABDD4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08B793-CF92-4100-946D-BFBE63B9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77F8A8-7068-4009-88A8-F083823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FDB4A9-7482-4F02-8CE5-1450F148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F4FAD8-590F-4FFF-99D8-48AD2A80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BFBE27-DABD-4562-A6B6-5F9C35BE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34EB2-6AB1-4D62-9FA2-0BC1A199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689888-0841-450C-8F65-F6E193F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F26DA-3A90-49CA-AE1C-024BCB12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0B16F9-7BB5-4427-9852-82F8FA6D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BF65-A1D5-40EA-B36A-87B9E474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FB5883-9806-4590-89B1-69A7ECA5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AAAC64-BBAA-4C2C-844C-FA7E700F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D80D04-0705-4011-A2EE-D4CD4593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40B646-57AB-4219-BA3D-1709DB9D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C30DF6-3078-409F-AC02-D6840015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7DB775-5937-49C5-BC1B-94EC3CA5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CC1FDC-504C-4ECA-8B80-1BC370B8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DAE2BD-012F-48AA-82CA-5877AF1E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0EA604-2DF9-4400-8455-7B8ADA61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22183A-6F58-40A9-BFC1-95E3565B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29F2-073A-4D58-AD98-DCB5FD3E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5338A8-EEB1-4557-916B-CCA53F2E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CDEB6E-6D3A-49C2-8DAB-5ED9C00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149025-94F6-44B4-AF70-4E0A9475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762A54-FF67-44A6-946B-0F90C8AD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5244C5-C586-4042-87B2-D5182CB7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A1494D-0F8E-45A9-8EA2-57CDEB3B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4D64B6-40F6-49C6-8B39-27E1878D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C6D331-9CDA-42E0-9CF2-AA82C81B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679C09-B1A6-4F57-AB2D-2AAD0B1A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A42870-6709-4783-9021-3FA84578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8BD9D-9834-4230-8A4B-722DA2D5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E43AE2-1813-498E-94EB-66D9FF14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4976F4-B32D-4285-92C4-BFBC229B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B56F57-4CD7-45A0-9618-2FAE1CD0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619781-EC8C-48F7-B6C5-43062408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E44D8C-B084-43C8-B7C5-7A3663AB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A91A2E-7363-49B0-8EEA-99EACF3D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D6CD8C-1851-45C6-8602-3171F576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82A717-BFBC-4B87-B57F-03DC0DDA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F6BE74-AE98-4109-9493-3F500BEA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E17EEB-C947-4250-960E-2385BA99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A13F-8A69-459B-A7B0-8712FDD2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C87841-D032-47BC-BCA9-E38A9385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E82998-82F3-4F01-805B-0DC5099C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1B508E-E8F6-450D-8BC5-46933516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7E5915-CBA8-48D9-87D2-59D7EA3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5D6E75-9B16-4DA2-B8D1-A2F22389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83C3C9-7871-4E6A-97E6-E8F63CD6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1D3EC2-3F5B-4352-8C53-18761FC8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FAEE03-239F-4E6F-BD7D-8342836C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A03B31-8CFB-476C-B11A-DE850E51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C35E8F-E42C-4F75-BBF1-B59A4915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3BB5-9B98-4785-AC47-60DFDAC3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1C1D6C-B696-4A40-B131-8BC0DF19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7F99E6-004B-405A-BC2D-53F3D6F1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F31D5C-BF07-4DF7-BEB3-9A6C5244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A62953-1AAD-4F59-B0DE-CE0A9513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256ED4-8BA6-4A16-947B-FA41E4A3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0A5175-9E90-4CC9-8194-45C57149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C7246D-DFBD-4B16-9E68-066CFB42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826142-6E8B-41FD-9DFA-22B8717E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3F26DC-DEE8-43DC-B572-F8961F53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5C5E91-CA6A-464C-8CB2-E5F8E1C7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F47-2AE2-4ACD-9BB1-13210EFC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0B62-9D42-44F3-8D90-272789EB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3EC881-C15A-4F90-AF5A-CDD186D8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E7ED-12CD-45A3-9A45-3A5994D0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643A9-3045-461C-A429-BB75C0ED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508E-5BFB-4521-AA67-C16646AB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A576-3106-466D-8404-3379870F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0835-03AA-4D48-B549-39E4DAB3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F28F-A133-4759-9AC2-DC7398C0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7F8F-9084-4D22-9136-08147353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A6748-47B8-4128-B7FE-56B8F007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BDFDA-5D2F-4EA0-AB73-A3DE0019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E0E-3F2C-4AB0-9000-29FC7B02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0CC30-17E1-4904-AF83-2D4629EB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BEE5-E39D-4BB6-8283-5081ED2F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19E1-43FF-4688-A3D3-C575DBF3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F54E1-54CE-4F8D-8BBE-432D301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20397-DD32-4F43-B251-4669E107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A076C-47AA-48D4-9A09-1DAA3857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B34F3-8CC2-4FF5-B558-05FE7AED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E30D0-4A82-49DD-BDD0-E9168032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53B5-FC18-488E-AD1F-6C15AD02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29CC4-D964-4843-A53C-DADAEB38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877-384F-460A-9E39-36FC1C41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16E15-7AB6-4A9E-8717-C129B30E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DF309-E1CE-4E70-B895-163F4E63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9E161-62CE-4ADC-81A9-FF35FB5B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1B198-C4B9-4CA8-B6E3-B4525112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76484-2411-4153-AFB8-C8B0D6FE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6F53-4CB0-4BF9-9591-5B7C7390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15D56-D2F3-4A59-BF60-6E348F57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C01B2-1BA9-4594-A056-189599C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8E2FC-F8B5-40FB-B824-8BD55B85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C3854-EE29-49E2-8292-83FCE870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30B-BAF4-476D-ABA8-D718C9CA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55D57-FB75-4FEB-B1C4-0B3874D6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1F880-7BEF-4B7E-B83C-2778B5C3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C95E9-E05D-4318-B748-6BF9773B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F6CC4-DC98-45C2-AC93-2B76213A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F2F2-83D5-416E-9582-8D67CE86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5F036-BBE3-42E5-8AF3-A8FDAA72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EF8A2-EACC-404A-AFDD-AA3B16BC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D717F-EA55-4036-A3EF-04223B7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E5EB-2052-4138-8621-9F2ABC51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EE288-8C1A-4683-AF72-CB02A6C3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9BD-EB6C-4EB5-A10C-48750909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C356B-12CC-4E71-A38A-0441FCC2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79E71-6141-46DB-92C0-5CE58373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CDA3A-AFAF-485D-AAE5-DA9A6ADC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7D86C-2299-4CBB-A957-D876FAED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7351-6553-4FA9-BD42-F428BF8C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3827-7A46-4F19-991C-B2928FC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C6808-51E3-4505-A678-8B917322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9BC4A-FC09-491C-AC2B-211F9EBF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09179-6622-452D-BF5F-ECA0FB71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8F26A-E310-4037-8CF3-60DC90D8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8D5-C210-4911-9E0F-076CF741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D0CA9-AFDB-48B0-A67B-83172B16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9F77C-311F-469B-807E-C7984719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6B545-6F56-4426-9454-CC1D20C4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CF38F-87C8-4354-B782-AF889A5A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8B678-9087-4202-948F-AC96D5A5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DE671-FD79-440A-9CBD-815D36CD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6116C-CEF8-44EA-957E-BB9ECAC3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31EC4-069A-4A62-9CAC-B4F69091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54277-1BA8-45E7-8F74-9C1535B8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598AE-ED42-40F7-BB1F-14E135DC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575-C04A-47DD-A302-CB694D2D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58830-3E42-4F3B-8A3F-EB75CC37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7C701-5FDB-402B-9378-E566F4A4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97F04-D1CE-4DC5-A03B-62A56CD2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C80F2-F99A-4864-A104-13EFE467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D7E38-67BD-488E-87DE-919AE487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F22AF-A285-46A4-AA4B-9789DE51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61176-E6D8-4D78-8765-A42F5FC1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FACFC-5C8B-425B-978F-EACFAD70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09440-9E91-4FAE-A3FA-A5A93469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F539C-FC9E-4A46-A234-8511B4EC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6D0F-B3FB-4670-AF4E-4D80790D5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dt" idx="28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FD9C-2019-4340-AB99-2F3652353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ldNum" idx="31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7AB0-1DB4-4208-B2FC-10E6FE146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3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dt" idx="33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02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5847-980A-4893-94B8-23C75C8DC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7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7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60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4" name="PlaceHolder 3"/>
          <p:cNvSpPr>
            <a:spLocks noGrp="1"/>
          </p:cNvSpPr>
          <p:nvPr>
            <p:ph type="ftr" idx="3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75BC-6699-499E-A3AE-2A25C5246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63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B4F9-0DB3-40EC-9BA2-3E57494CEB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0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A750-9640-4127-9207-1452612EBC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75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5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75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76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76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7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7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85B8-C922-4AF7-BADA-A37277CD9F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3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85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85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85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86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86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PlaceHolder 1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09E1-6C9F-41FE-9609-2EC017B59D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5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5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5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3414-6F8B-4969-8F8C-198FBD4E3A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6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6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7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dt" idx="5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sldNum" idx="5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88DC-A8C0-427E-B508-30481B623D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2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D6AA-CF2E-4693-BEFC-921B64147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E5AA-7FF2-4000-B866-194C4D411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02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1114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294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9D1F-C7A2-4C63-91F5-94E2BA17E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1304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2BA3-124B-4EC8-841C-0A6DF9C2F4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6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9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9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9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9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426F-2E0B-43C1-AC4D-0C2F373FFBE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5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5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6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6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508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70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71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72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1C26-6965-4C4C-88A7-2AC380F12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9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570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1592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1594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1606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4" name="PlaceHolder 2"/>
          <p:cNvSpPr>
            <a:spLocks noGrp="1"/>
          </p:cNvSpPr>
          <p:nvPr>
            <p:ph type="dt" idx="73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ftr" idx="74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sldNum" idx="75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8ED5-356C-476D-A684-65F294971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88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48F9-FE63-43AF-81DF-ED58239D5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BF94-1FE7-48C1-A1BC-3A19413831A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18B8-4C24-4269-90E7-C048C6534E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1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2245-6257-4722-8816-F72E5BBF5E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6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136B-447B-4981-9B20-71A4BAE4C4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1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1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6F06-324A-420D-8BE6-08EFC95216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6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6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61BC-BCD4-4AD2-ADA2-C64EFD93F8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8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0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3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3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7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508640"/>
          </a:xfrm>
          <a:prstGeom prst="rect">
            <a:avLst/>
          </a:prstGeom>
          <a:ln w="0">
            <a:noFill/>
          </a:ln>
        </p:spPr>
      </p:pic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56" name=""/>
          <p:cNvSpPr txBox="1"/>
          <p:nvPr/>
        </p:nvSpPr>
        <p:spPr>
          <a:xfrm>
            <a:off x="468360" y="1052640"/>
            <a:ext cx="799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 о ЗдОрОвОм ПиТаН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6000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900000" y="188640"/>
            <a:ext cx="3743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Verdana"/>
              </a:rPr>
              <a:t>Правильное питание - здоровый позвоночн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ff"/>
                </a:solidFill>
                <a:latin typeface="Verdana"/>
              </a:rPr>
              <a:t>Правильное питание является залогом здорового организма. Грамотно составленный баланс полезных веществ важен для позвоночника ни чуть не меньше, чем правильная осанка или физические упражн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ff"/>
                </a:solidFill>
                <a:latin typeface="Verdana"/>
              </a:rPr>
              <a:t>Самым важным пунктом является снижение потребления соли, которая, откладываясь в костях и суставах, приводит к возникновению множества серьезных болезне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ff"/>
                </a:solidFill>
                <a:latin typeface="Verdana"/>
              </a:rPr>
              <a:t>Сахар и мука высшего сорта являются абсолютно бесполезными продуктами, так как на этапе их отчистки удаляются все минеральные вещества и витамин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003640" y="620640"/>
            <a:ext cx="3672000" cy="5688000"/>
          </a:xfrm>
          <a:prstGeom prst="rect">
            <a:avLst/>
          </a:prstGeom>
          <a:ln w="0">
            <a:noFill/>
          </a:ln>
        </p:spPr>
      </p:pic>
    </p:spTree>
  </p:cSld>
  <p:transition advTm="22000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566280" y="33336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Verdana"/>
              </a:rPr>
              <a:t>Список по настоящему вредных продуктов    </a:t>
            </a: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 ( или как их назвал Поль Брэгг - мертвые продукты ) достаточно обширен и по возможности от них лучше отказаться полностью или хотя бы сократить их потребление. К таким продуктам относя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Мясные продукты промышленного производства (сосиски, колбасы, бекон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Белый рис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Сахар и продукты на его основе (желе, мороженое, газированные напитки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Все соленые продукты (орешки, маринованные продукты, кетчуп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Маргарин и некоторые виды масе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Большинство мучных издел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Копченая рыб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 rot="21147600">
            <a:off x="3635280" y="3789360"/>
            <a:ext cx="4608720" cy="2637000"/>
          </a:xfrm>
          <a:prstGeom prst="rect">
            <a:avLst/>
          </a:prstGeom>
          <a:ln w="0">
            <a:noFill/>
          </a:ln>
        </p:spPr>
      </p:pic>
      <p:pic>
        <p:nvPicPr>
          <p:cNvPr id="1688" name="" descr=""/>
          <p:cNvPicPr/>
          <p:nvPr/>
        </p:nvPicPr>
        <p:blipFill>
          <a:blip r:embed="rId2"/>
          <a:stretch/>
        </p:blipFill>
        <p:spPr>
          <a:xfrm>
            <a:off x="1187280" y="479736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4249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Выберите упражнения по душ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Если вам ненавистна сама мысль о посещении спортзала, используйте каждую возможность, чтобы заняться фитнесом. Поднимайтесь и спускайтесь по лестнице (забудьте о лифте!), а в обед прогуляйтесь в парке. За два часа интенсивных танцев на дискотеке вы сжигаете столько же калорий, сколько содержится в рождественском торте с двойным слоем сливок. За два часа ходьбы в умеренном темпе вы теряете столько же калорий, сколько содержится в праздничном обеде и стакане вина. Если вы долгое время не занимались спортом, прежде чем приступать к тренировкам, проконсультируйтесь у врач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5076720" y="404640"/>
            <a:ext cx="3527640" cy="6096240"/>
          </a:xfrm>
          <a:prstGeom prst="rect">
            <a:avLst/>
          </a:prstGeom>
          <a:ln w="0">
            <a:noFill/>
          </a:ln>
        </p:spPr>
      </p:pic>
    </p:spTree>
  </p:cSld>
  <p:transition advTm="27000">
    <p:pull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370160" y="47592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Arial"/>
              </a:rPr>
              <a:t>Ешьте часто, но маленькими порциями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Arial"/>
              </a:rPr>
              <a:t>Чтобы избежать нездоровой пищи и успешно продолжать диету, необходимо предотвращать появление чувства голода. По сути, чем чаще и сильнее это чувство, тем слабее ваша решимость соблюдать диету - голод заставляет вас постоянно думать о еде. Старайтесь чаще перекусывать углеводами и другими продуктами с высоким содержанием клетчатки, например, соленым попкорном или сухим завтраком. Пейте как можно больше воды с лаймом и льдом, чтобы наполнить желудок. Травяной чай - превосходная альтернатива капуччино и кофе-латте, которые содержат кучу калорий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056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О значении белков, жиров и углеводов.</a:t>
            </a: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 В основе правильного питания лежит оптимальная пропорция белков, жиров и углеводов. Сколько их должно содержаться в еде для каждого человека, узнать не сложно. Все зависит от того, каким видом деятельности занимается человек. Люди умственного труда мало двигаются, но их мозг поглощает много энергии, поэтому в их рационе должно быть 100-110 грамм белка, 80-90 грамм жиров и 300-350 грамм углеводов в день. У людей, занятых физическим трудом больше энергии затрачивают мышцы, поэтому им необходимо 115-120 грамм белка, 80-90 грамм жиров и 400 грамм углеводов. Кроме этого каждый человек должен ежедневно получать витамины и клетчатку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697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699" name="" descr=""/>
          <p:cNvPicPr/>
          <p:nvPr/>
        </p:nvPicPr>
        <p:blipFill>
          <a:blip r:embed="rId1"/>
          <a:stretch/>
        </p:blipFill>
        <p:spPr>
          <a:xfrm>
            <a:off x="2556000" y="620640"/>
            <a:ext cx="5976720" cy="5977080"/>
          </a:xfrm>
          <a:prstGeom prst="rect">
            <a:avLst/>
          </a:prstGeom>
          <a:ln w="0">
            <a:noFill/>
          </a:ln>
        </p:spPr>
      </p:pic>
      <p:sp>
        <p:nvSpPr>
          <p:cNvPr id="1700" name=""/>
          <p:cNvSpPr txBox="1"/>
          <p:nvPr/>
        </p:nvSpPr>
        <p:spPr>
          <a:xfrm>
            <a:off x="324000" y="83664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"/>
              </a:rPr>
              <a:t>ПиТаЙсЯ и УлЫбАйСя!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2"/>
          <a:stretch/>
        </p:blipFill>
        <p:spPr>
          <a:xfrm rot="20455200">
            <a:off x="179280" y="2997360"/>
            <a:ext cx="1770120" cy="176976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130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  Пища должна быть свежей. При хранении неизбежно ухудшаются диетические качества. Приготовленную еду нельзя оставлять надолго. В ней начинают идти процессы брожения и гниения. Лучше кушать еду сразу после приготов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авильное питание должно быть разнообразным и сбалансированным. Если вы питаетесь на рабочем месте, лучше заказывать доставку готовых обедов в офис. Это позволит вам поддерживать разнообразный и сбалансированный рацион. Чем больше разных продуктов включено в рацион, тем больше биологически активных веществ поступает в организ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816360" cy="2692440"/>
          </a:xfrm>
          <a:prstGeom prst="rect">
            <a:avLst/>
          </a:prstGeom>
          <a:ln w="0">
            <a:noFill/>
          </a:ln>
        </p:spPr>
      </p:pic>
      <p:pic>
        <p:nvPicPr>
          <p:cNvPr id="1706" name="" descr=""/>
          <p:cNvPicPr/>
          <p:nvPr/>
        </p:nvPicPr>
        <p:blipFill>
          <a:blip r:embed="rId2"/>
          <a:stretch/>
        </p:blipFill>
        <p:spPr>
          <a:xfrm>
            <a:off x="0" y="4481640"/>
            <a:ext cx="217332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4284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ПИЩЕВАЯ 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ищевая пирамида - наглядный набор продуктов на каждый д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-Жи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растительные мас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слад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-Белки (2-3 пор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-Молочные продукты (2-3 пор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-Фрукты (2-4 порции)         Овощи (3-5 порц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-Хлеб, каши, рис и макаронные изделия (6-11 порц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9" name="" descr=""/>
          <p:cNvPicPr/>
          <p:nvPr/>
        </p:nvPicPr>
        <p:blipFill>
          <a:blip r:embed="rId1"/>
          <a:stretch/>
        </p:blipFill>
        <p:spPr>
          <a:xfrm>
            <a:off x="4211640" y="476280"/>
            <a:ext cx="4762440" cy="619272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35164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3419280" y="549360"/>
            <a:ext cx="5400360" cy="67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На вопрос: 'Кто здоровый человек?' американская медицина отвечает: 'У здорового человека кишечник действует столько раз, сколько раз в сутки он ест', т. е. обычно три раза. Американское 'Общество продления жизни' составило 16 правил здоровья: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. Проветривай всякую комнату, которую занимаешь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2. Носи легкую, просторную и проницаемую для воздуха одежду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3. Ищи занятий на чистом воздухе с отдыхом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4. Высыпайся, если можешь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5. Дыши глубок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6. Избегай переедания и переобременения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7. Избегай излишеств в мясе, яйцах, в соленой и остро приправленной пище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8. Ешь ежедневно что-нибудь из твердой, объемистой пищи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9. Ешь медленн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0. Пользуйся достаточно водой и снаружи, и внутри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1. Очищай кишечник до конца, правильно и част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2. Стой, сиди, ходи прям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3. Не позволяй ядам проникать в тел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4. Содержи зубы, десны и язык в чистоте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5. Работай, отдыхай, развлекайся и спи с умеренностью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6. Будь душевно ясен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3348000" cy="6335640"/>
          </a:xfrm>
          <a:prstGeom prst="rect">
            <a:avLst/>
          </a:prstGeom>
          <a:ln w="0">
            <a:noFill/>
          </a:ln>
        </p:spPr>
      </p:pic>
    </p:spTree>
  </p:cSld>
  <p:transition advTm="24000">
    <p:pull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500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4" dur="500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500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500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500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500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500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500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4" dur="500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500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3" dur="500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3563640" y="981000"/>
            <a:ext cx="47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empus Sans ITC"/>
              </a:rPr>
              <a:t>Стабильная работа всего организма, полноценное усваивание всех полезных веществ и элементов, быстрое и правильное протекание процессов обмена в системе пищеварения – залог и гарантия крепкого здоровья и высокого иммун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" descr=""/>
          <p:cNvPicPr/>
          <p:nvPr/>
        </p:nvPicPr>
        <p:blipFill>
          <a:blip r:embed="rId1"/>
          <a:stretch/>
        </p:blipFill>
        <p:spPr>
          <a:xfrm rot="21373200">
            <a:off x="178920" y="1125360"/>
            <a:ext cx="3175200" cy="469908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59280" cy="424800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 txBox="1"/>
          <p:nvPr/>
        </p:nvSpPr>
        <p:spPr>
          <a:xfrm>
            <a:off x="324000" y="4941720"/>
            <a:ext cx="864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ыбирай здоровое питание и будь ЗДОРОВ!!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>
            <a:off x="395280" y="566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Rage Italic"/>
              </a:rPr>
              <a:t>Правильное питание – определенные и постоянные часы приема еды. При этом пища распределяется в течение суток по количеству калорий, набору химических элементов содержащихся в еде. Кроме того, обязательно учитывается набор блюд и их количество. Зрелым и физически здоровым людям специалисты по правильному питанию рекомендуют кушать в течение суток три или четыре раза.</a:t>
            </a:r>
            <a:r>
              <a:rPr b="1" i="1" lang="en-US" sz="1800" spc="-1" strike="noStrike">
                <a:solidFill>
                  <a:srgbClr val="000000"/>
                </a:solidFill>
                <a:latin typeface="Rage 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46814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00"/>
                </a:solidFill>
                <a:latin typeface="Arial"/>
              </a:rPr>
              <a:t>При некоторых заболеваниях, связанных в основном с пищеварительной системой стоит питаться пять, шесть раз в день. Дневная норма еды распределяется таким образом: легкий завтрак, равный примерно трети всей дневной нормы; плотный обед и ужин, составляющий четверть дневной нормы. Большинство диетологов сходятся во мнении, что 4-х разовое питание – самый правильный выбор. Такая система правильного питания позволяет организму наиболее оптимально усваивать полезные вещества и витами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6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796000" cy="5950080"/>
          </a:xfrm>
          <a:prstGeom prst="rect">
            <a:avLst/>
          </a:prstGeom>
          <a:ln w="0">
            <a:noFill/>
          </a:ln>
        </p:spPr>
      </p:pic>
      <p:sp>
        <p:nvSpPr>
          <p:cNvPr id="1668" name=""/>
          <p:cNvSpPr txBox="1"/>
          <p:nvPr/>
        </p:nvSpPr>
        <p:spPr>
          <a:xfrm>
            <a:off x="324000" y="0"/>
            <a:ext cx="8208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чень важно распределить время приема пищи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9" name="" descr=""/>
          <p:cNvPicPr/>
          <p:nvPr/>
        </p:nvPicPr>
        <p:blipFill>
          <a:blip r:embed="rId2"/>
          <a:stretch/>
        </p:blipFill>
        <p:spPr>
          <a:xfrm>
            <a:off x="5867280" y="2708280"/>
            <a:ext cx="3025800" cy="345744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35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Распределение продуктов по часам приема очень сильно зависит от состава и энергетического потенциала. Например: продукты с высоким содержанием белка – мясо, рыба, бобовые стоит употреблять на завтрак или обед. Такие продукты повышают активность центральной нервной системы. Перед сном стоит кушать кисломолочные продукты, фрукты и овощи. Они не нагружают пищеварительные органы. Не стоит употреблять на ночь чай, кофе, острые приправы. Так вы можете активизировать нервную систему и нарушить с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1036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788000" y="549000"/>
            <a:ext cx="4176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Излишнее количество еды или ее недостаток тоже ухудшают сон. Прием еды лучше всего стоит начинать с салатов или овощей. Так вы активизируете деятельность желудка и увеличите выделение желудочного сока. При этом блюда стоит подавать не горячее 50-ти градусов и не холоднее 10-ти градусов. Для хорошей усвояемости пищи, ее необходимо тщательно пережевывать. Беседы, телевизор, книги сильно отвлекают от правильного приема еды. Такое питание вредно и портит пищеваритель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08360" cy="626436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834920" y="333360"/>
            <a:ext cx="714996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Чего мы достигнем, питаясь правильно? Скорректировав свой рацион, мы сможем уменьшить проявление хронических болезней, которыми болеем долгие годы. Так, например, снизив количество перца в ваших любимых блюдах, вы с легкостью позабудете об изжоге и гастр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265800" cy="3456000"/>
          </a:xfrm>
          <a:prstGeom prst="rect">
            <a:avLst/>
          </a:prstGeom>
          <a:ln w="0">
            <a:noFill/>
          </a:ln>
        </p:spPr>
      </p:pic>
    </p:spTree>
  </p:cSld>
  <p:transition advTm="11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500120" y="3789000"/>
            <a:ext cx="749160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Оптимальным можно назвать рацион, в котором присутствуют мясо, рыба, молочные продукты, овощи и фрукты. Богатая углеводами пища хорошо утоляет голод (мучное, сладости), но пользы от такой пищи очень мало. Потребление сахара и мучных изделий лучше свести к минимуму. А если уж очень хочется сладкого, лучше съесть ложку меда, чем конфету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6408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8:25:56Z</dcterms:created>
  <dc:creator>User</dc:creator>
  <dc:description/>
  <dc:language>en-US</dc:language>
  <cp:lastModifiedBy>User</cp:lastModifiedBy>
  <dcterms:modified xsi:type="dcterms:W3CDTF">2009-05-20T13:04:13Z</dcterms:modified>
  <cp:revision>3</cp:revision>
  <dc:subject/>
  <dc:title>Слайд 1</dc:title>
</cp:coreProperties>
</file>