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6E3-96B3-4DA8-8E56-1B0EBAF7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36C-95D4-41B7-BC44-712015C8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ADE-7FC5-4A63-A1F4-18DBAE32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4E2-323B-4B0D-9677-377430B3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FA747-880E-410D-BDE6-63E0BD1C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87614-FAF6-493E-92A2-81215FEC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BCE68-F619-4DE0-B073-EC38F009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49DAB-5B3E-4DBA-9530-E575042E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FB481-89E3-46EF-8DC5-27E9B6B2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F0ABA-06E0-49E2-A488-9CF3C0F7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7E8A8-CC4F-4FEA-B64E-68E0CA22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729-B7EC-4483-8E1E-03DB9F8B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6C7A6-B400-429C-B07E-D7D2C786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FA785-5055-4D80-A915-03F606F5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9339C-A67C-4AB0-8AC2-B97461B0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2D551-2E3C-4EB3-905F-6E4197AB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B5676-8351-4DCA-9DD5-1CFF911F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CF2-BD20-4422-B449-AA8CDAEF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EE0-2A6C-44EE-B6EE-FE70D8BF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BB9-D5A4-4C0F-BB26-BD308F95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8D3-E916-44EB-B891-FC145646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260-A1A7-453A-9A1E-B0E28FD7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146-1DDC-4D5C-ABBE-9A9A226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4B5-5E91-46FC-BC04-DF90B653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41C3-BCA5-4781-9AE7-4F6842DE3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3C4E-8336-471E-912C-343CAA98D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Газовые закон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читель физи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ыромятникова Е. 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Закон Бойля-Мариот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оберт Бойль (англ.) – 1662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Э. Мариотт (франц.)  – 1676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газа данной массы произведение давления газа на его объем постоянно, если температура газа не 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V = const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4358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термический проце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con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=con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исимост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вления газа от объема при постоянной температуре называется изотерм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76360" y="907920"/>
                <a:ext cx="1008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43280" y="8366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907920"/>
            <a:ext cx="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643280" y="1700280"/>
            <a:ext cx="165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43280" y="83664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47640" y="2421000"/>
            <a:ext cx="0" cy="194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4365720"/>
            <a:ext cx="230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16000" y="2273400"/>
                <a:ext cx="2588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635280" y="4508640"/>
                <a:ext cx="3715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692360" y="2565360"/>
            <a:ext cx="1960560" cy="1684440"/>
          </a:xfrm>
          <a:custGeom>
            <a:avLst/>
            <a:gdLst/>
            <a:ahLst/>
            <a:rect l="l" t="t" r="r" b="b"/>
            <a:pathLst>
              <a:path w="1235" h="1061">
                <a:moveTo>
                  <a:pt x="0" y="0"/>
                </a:moveTo>
                <a:cubicBezTo>
                  <a:pt x="13" y="153"/>
                  <a:pt x="29" y="373"/>
                  <a:pt x="100" y="510"/>
                </a:cubicBezTo>
                <a:cubicBezTo>
                  <a:pt x="115" y="539"/>
                  <a:pt x="123" y="571"/>
                  <a:pt x="133" y="602"/>
                </a:cubicBezTo>
                <a:cubicBezTo>
                  <a:pt x="136" y="611"/>
                  <a:pt x="190" y="675"/>
                  <a:pt x="200" y="685"/>
                </a:cubicBezTo>
                <a:cubicBezTo>
                  <a:pt x="220" y="742"/>
                  <a:pt x="300" y="780"/>
                  <a:pt x="350" y="810"/>
                </a:cubicBezTo>
                <a:cubicBezTo>
                  <a:pt x="423" y="854"/>
                  <a:pt x="375" y="836"/>
                  <a:pt x="426" y="852"/>
                </a:cubicBezTo>
                <a:cubicBezTo>
                  <a:pt x="444" y="864"/>
                  <a:pt x="457" y="883"/>
                  <a:pt x="476" y="894"/>
                </a:cubicBezTo>
                <a:cubicBezTo>
                  <a:pt x="523" y="921"/>
                  <a:pt x="600" y="929"/>
                  <a:pt x="651" y="944"/>
                </a:cubicBezTo>
                <a:cubicBezTo>
                  <a:pt x="845" y="1002"/>
                  <a:pt x="1028" y="1061"/>
                  <a:pt x="1235" y="1061"/>
                </a:cubicBezTo>
              </a:path>
            </a:pathLst>
          </a:custGeom>
          <a:noFill/>
          <a:ln w="28440">
            <a:solidFill>
              <a:srgbClr val="ad2f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кон справедлив для любых газов и их смес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клонения от этого закона становятся существенными при давлениях очень высоких (в несколько сот раз больше атмосферного) и при очень низких температу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4358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термический проц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V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const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ледовательно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84360" y="765000"/>
                <a:ext cx="365040" cy="3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V="1">
            <a:off x="1187280" y="69192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328464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924360" y="3352680"/>
                <a:ext cx="338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763640" y="907920"/>
            <a:ext cx="1960560" cy="1684440"/>
          </a:xfrm>
          <a:custGeom>
            <a:avLst/>
            <a:gdLst/>
            <a:ahLst/>
            <a:rect l="l" t="t" r="r" b="b"/>
            <a:pathLst>
              <a:path w="1235" h="1061">
                <a:moveTo>
                  <a:pt x="0" y="0"/>
                </a:moveTo>
                <a:cubicBezTo>
                  <a:pt x="13" y="153"/>
                  <a:pt x="29" y="373"/>
                  <a:pt x="100" y="510"/>
                </a:cubicBezTo>
                <a:cubicBezTo>
                  <a:pt x="115" y="539"/>
                  <a:pt x="123" y="571"/>
                  <a:pt x="133" y="602"/>
                </a:cubicBezTo>
                <a:cubicBezTo>
                  <a:pt x="136" y="611"/>
                  <a:pt x="190" y="675"/>
                  <a:pt x="200" y="685"/>
                </a:cubicBezTo>
                <a:cubicBezTo>
                  <a:pt x="220" y="742"/>
                  <a:pt x="300" y="780"/>
                  <a:pt x="350" y="810"/>
                </a:cubicBezTo>
                <a:cubicBezTo>
                  <a:pt x="423" y="854"/>
                  <a:pt x="375" y="836"/>
                  <a:pt x="426" y="852"/>
                </a:cubicBezTo>
                <a:cubicBezTo>
                  <a:pt x="444" y="864"/>
                  <a:pt x="457" y="883"/>
                  <a:pt x="476" y="894"/>
                </a:cubicBezTo>
                <a:cubicBezTo>
                  <a:pt x="523" y="921"/>
                  <a:pt x="600" y="929"/>
                  <a:pt x="651" y="944"/>
                </a:cubicBezTo>
                <a:cubicBezTo>
                  <a:pt x="845" y="1002"/>
                  <a:pt x="1028" y="1061"/>
                  <a:pt x="1235" y="1061"/>
                </a:cubicBezTo>
              </a:path>
            </a:pathLst>
          </a:custGeom>
          <a:noFill/>
          <a:ln w="28440">
            <a:solidFill>
              <a:srgbClr val="ad2f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197000"/>
            <a:ext cx="1960560" cy="1684440"/>
          </a:xfrm>
          <a:custGeom>
            <a:avLst/>
            <a:gdLst/>
            <a:ahLst/>
            <a:rect l="l" t="t" r="r" b="b"/>
            <a:pathLst>
              <a:path w="1235" h="1061">
                <a:moveTo>
                  <a:pt x="0" y="0"/>
                </a:moveTo>
                <a:cubicBezTo>
                  <a:pt x="13" y="153"/>
                  <a:pt x="29" y="373"/>
                  <a:pt x="100" y="510"/>
                </a:cubicBezTo>
                <a:cubicBezTo>
                  <a:pt x="115" y="539"/>
                  <a:pt x="123" y="571"/>
                  <a:pt x="133" y="602"/>
                </a:cubicBezTo>
                <a:cubicBezTo>
                  <a:pt x="136" y="611"/>
                  <a:pt x="190" y="675"/>
                  <a:pt x="200" y="685"/>
                </a:cubicBezTo>
                <a:cubicBezTo>
                  <a:pt x="220" y="742"/>
                  <a:pt x="300" y="780"/>
                  <a:pt x="350" y="810"/>
                </a:cubicBezTo>
                <a:cubicBezTo>
                  <a:pt x="423" y="854"/>
                  <a:pt x="375" y="836"/>
                  <a:pt x="426" y="852"/>
                </a:cubicBezTo>
                <a:cubicBezTo>
                  <a:pt x="444" y="864"/>
                  <a:pt x="457" y="883"/>
                  <a:pt x="476" y="894"/>
                </a:cubicBezTo>
                <a:cubicBezTo>
                  <a:pt x="523" y="921"/>
                  <a:pt x="600" y="929"/>
                  <a:pt x="651" y="944"/>
                </a:cubicBezTo>
                <a:cubicBezTo>
                  <a:pt x="845" y="1002"/>
                  <a:pt x="1028" y="1061"/>
                  <a:pt x="1235" y="1061"/>
                </a:cubicBezTo>
              </a:path>
            </a:pathLst>
          </a:custGeom>
          <a:noFill/>
          <a:ln w="28440">
            <a:solidFill>
              <a:srgbClr val="ad2f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1484280"/>
            <a:ext cx="1960560" cy="1684440"/>
          </a:xfrm>
          <a:custGeom>
            <a:avLst/>
            <a:gdLst/>
            <a:ahLst/>
            <a:rect l="l" t="t" r="r" b="b"/>
            <a:pathLst>
              <a:path w="1235" h="1061">
                <a:moveTo>
                  <a:pt x="0" y="0"/>
                </a:moveTo>
                <a:cubicBezTo>
                  <a:pt x="13" y="153"/>
                  <a:pt x="29" y="373"/>
                  <a:pt x="100" y="510"/>
                </a:cubicBezTo>
                <a:cubicBezTo>
                  <a:pt x="115" y="539"/>
                  <a:pt x="123" y="571"/>
                  <a:pt x="133" y="602"/>
                </a:cubicBezTo>
                <a:cubicBezTo>
                  <a:pt x="136" y="611"/>
                  <a:pt x="190" y="675"/>
                  <a:pt x="200" y="685"/>
                </a:cubicBezTo>
                <a:cubicBezTo>
                  <a:pt x="220" y="742"/>
                  <a:pt x="300" y="780"/>
                  <a:pt x="350" y="810"/>
                </a:cubicBezTo>
                <a:cubicBezTo>
                  <a:pt x="423" y="854"/>
                  <a:pt x="375" y="836"/>
                  <a:pt x="426" y="852"/>
                </a:cubicBezTo>
                <a:cubicBezTo>
                  <a:pt x="444" y="864"/>
                  <a:pt x="457" y="883"/>
                  <a:pt x="476" y="894"/>
                </a:cubicBezTo>
                <a:cubicBezTo>
                  <a:pt x="523" y="921"/>
                  <a:pt x="600" y="929"/>
                  <a:pt x="651" y="944"/>
                </a:cubicBezTo>
                <a:cubicBezTo>
                  <a:pt x="845" y="1002"/>
                  <a:pt x="1028" y="1061"/>
                  <a:pt x="1235" y="1061"/>
                </a:cubicBezTo>
              </a:path>
            </a:pathLst>
          </a:custGeom>
          <a:noFill/>
          <a:ln w="28440">
            <a:solidFill>
              <a:srgbClr val="ad2f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484360" y="2349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2997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270828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115640" y="227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4360" y="2852640"/>
                <a:ext cx="415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84360" y="2492280"/>
                <a:ext cx="349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55640" y="2133720"/>
                <a:ext cx="3348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64000" y="2924280"/>
                <a:ext cx="301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708360" y="2637000"/>
                <a:ext cx="3571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780000" y="2276640"/>
                <a:ext cx="3124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403280" y="3789360"/>
                <a:ext cx="865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71640" y="4508640"/>
                <a:ext cx="1079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24240" y="342900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авление газа зависит от числа ударов молекул о стенки сосуда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сжатии газа объем уменьшается,    число ударов увеличивается  и, следовательно, давление газа увеличив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расширении газа объем увеличивается, число ударов молекул о стенки сосуда уменьшается и, следовательно, давление газа уменьш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охорный проц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 изменения состояния термодинамической системы макроскопических тел при постоянном объеме называют изотермическим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еч.) - объ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2273400"/>
            <a:ext cx="244800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Шарль, Жак Александр Сез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1557360"/>
            <a:ext cx="43210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ШАРЛЬ Жак Александр Сеза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1746-1823), французский физик. Труды связаны с изучением расширения газов. Установил (1787) зависимость давления идеального газа от температуры (Шарля закон). Сразу же после братьев Ж. и Э. Монгольфье построил воздушный шар из прорезиненной ткани и для его наполнения впервые использовал водород. В 1783 совершил полет на этом шаре. Изобрел ряд приб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Закон Шарл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данной массы газа отношение давления к температуре постоянно, если объем не меня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con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87280" y="3497400"/>
                <a:ext cx="27370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Т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87280" y="3573360"/>
            <a:ext cx="2737080" cy="0"/>
          </a:xfrm>
          <a:prstGeom prst="line">
            <a:avLst/>
          </a:prstGeom>
          <a:ln w="28440">
            <a:solidFill>
              <a:srgbClr val="ad2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3573360"/>
            <a:ext cx="0" cy="1584360"/>
          </a:xfrm>
          <a:prstGeom prst="line">
            <a:avLst/>
          </a:prstGeom>
          <a:ln w="28440">
            <a:solidFill>
              <a:srgbClr val="ad2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573360"/>
            <a:ext cx="0" cy="1584360"/>
          </a:xfrm>
          <a:prstGeom prst="line">
            <a:avLst/>
          </a:prstGeom>
          <a:ln w="28440">
            <a:solidFill>
              <a:srgbClr val="ad2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157720"/>
            <a:ext cx="2737080" cy="0"/>
          </a:xfrm>
          <a:prstGeom prst="line">
            <a:avLst/>
          </a:prstGeom>
          <a:ln w="28440">
            <a:solidFill>
              <a:srgbClr val="ad2f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915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Изохорный проце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76360" y="1052640"/>
                <a:ext cx="93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916360" y="1031760"/>
                <a:ext cx="2087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80000" y="1125360"/>
                <a:ext cx="1152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164360" y="981000"/>
                <a:ext cx="1295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flipV="1">
            <a:off x="1116000" y="2492280"/>
            <a:ext cx="0" cy="2449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941720"/>
            <a:ext cx="273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116000" y="4508280"/>
            <a:ext cx="647640" cy="43308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63640" y="3068640"/>
            <a:ext cx="208764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84360" y="2349360"/>
                <a:ext cx="3412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92360" y="5013360"/>
                <a:ext cx="374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вление газа зависит от числа ударов молекул о стенки сосу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овышении температуры скор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жения молекул увеличивается, число ударов молекул о стенки сосуда увеличивается,  и, следовательно, давление повыш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онижении температуры скор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жения молекул уменьшается, число ударов молекул о стенки сосуда уменьшается,  и, следовательно, давление пониж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83534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воение и понимание учащимися поняти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зопроцесс, изотермический, изобарный, изохорный, закон Бойля-Мариотта, Гей-Люссака, Шарля, изотерма, изохора, изобар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Развитие умений анализировать, выделять главное, сравнивать, строить анало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спитание умения самоорганизации, самоанализа, чувства коллектив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424720" cy="59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охорный проце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Т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овательно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620640"/>
                <a:ext cx="398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V="1">
            <a:off x="1403280" y="76464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2781360"/>
            <a:ext cx="266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403280" y="2420640"/>
            <a:ext cx="792360" cy="36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195640" y="1628280"/>
            <a:ext cx="172872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03280" y="2205000"/>
            <a:ext cx="576360" cy="503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79640" y="907560"/>
            <a:ext cx="172872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1557000"/>
            <a:ext cx="0" cy="11509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02920" y="2133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331640" y="1557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55640" y="1916280"/>
                <a:ext cx="520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55640" y="1341360"/>
                <a:ext cx="442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51280" y="2924280"/>
                <a:ext cx="304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700360" y="28526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67280" y="148428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780000" y="765000"/>
                <a:ext cx="384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547640" y="4076640"/>
                <a:ext cx="86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635280" y="4076640"/>
                <a:ext cx="12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Изобарный проце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зобарный процесс – процесс изменения состояния определенной массы газа при постоянном давлени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аро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греч.) - д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й –Люсак Жозеф Луи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03280" y="1125360"/>
            <a:ext cx="5761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ранцузский химик и физик, член Парижской академии наук (с 1806), её президент в 1822 и 1834. родился в Сен-Леонаре. Окончил Политехническую школу в Париже (1800), где учился К.Л. Бертолле. Работал там же (в 1800-1802 ассистент Бертолле). В 1805-1806 совершал путешествие по Европе вместе со знаменитым немецким естествоиспытателем А. Гумбольдтом. С 1809 проф. химии в Политехнической школе и физики в Сорбонне. С 1832 проф. химии в Ботаническом саду в Париже. Работы относятся к различным областям химии. Изобрёл (1816) термограф и ртутный сифонный переносной барометр. Совместно с Т.Ж. Пелузом получил (1833) нагреванием молочной кислоты лактид. Иностранный почетный чл. Петербургской академии наук (с 1829)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28480" y="92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1916280"/>
            <a:ext cx="5472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Картинка 5 из 6"/>
          <p:cNvPicPr/>
          <p:nvPr/>
        </p:nvPicPr>
        <p:blipFill>
          <a:blip r:embed="rId2"/>
          <a:stretch/>
        </p:blipFill>
        <p:spPr>
          <a:xfrm>
            <a:off x="395280" y="2060640"/>
            <a:ext cx="2519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Закон Гей – Люссака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. Гей – Люссак (франц.) 180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Для данной массы газа при постоянном давлении отношение объема газа к его температуре постоянн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8000" y="3860640"/>
                <a:ext cx="36007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95280" y="836640"/>
                <a:ext cx="19447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19640" y="836640"/>
                <a:ext cx="2808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877080" y="836640"/>
                <a:ext cx="20160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9640" y="2349360"/>
                <a:ext cx="15843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 flipV="1">
            <a:off x="3995640" y="2276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486900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995640" y="4149720"/>
            <a:ext cx="1081080" cy="719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076720" y="2781000"/>
            <a:ext cx="194328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73280" y="2130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60920" y="4962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4358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обарный проц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610320" y="2787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 flipV="1">
            <a:off x="2124000" y="1483920"/>
            <a:ext cx="0" cy="23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3860640"/>
            <a:ext cx="3095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24000" y="3499920"/>
            <a:ext cx="792360" cy="36036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916360" y="2565000"/>
            <a:ext cx="2087280" cy="93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24000" y="3357360"/>
            <a:ext cx="576360" cy="50292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700360" y="1916280"/>
            <a:ext cx="1727280" cy="144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79480" y="1474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18000" y="1290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28920" y="3882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564000" y="256536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124000" y="321300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050560" y="2637000"/>
            <a:ext cx="15130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49600" y="388296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2421000"/>
            <a:ext cx="42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7960" y="301788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64200" y="2554200"/>
            <a:ext cx="183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2421000"/>
            <a:ext cx="41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87840" y="1762200"/>
            <a:ext cx="63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11280" y="4292640"/>
                <a:ext cx="18381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348000" y="4508640"/>
                <a:ext cx="15843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826920" y="5373720"/>
            <a:ext cx="712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Т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едовательно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Обобщающая таблиц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052640"/>
          <a:ext cx="8229600" cy="5145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140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це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кон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аф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термичес-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V=c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хо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p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 baseline="50000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 baseline="100000">
                          <a:solidFill>
                            <a:srgbClr val="ffffff"/>
                          </a:solidFill>
                          <a:latin typeface="Tahoma"/>
                        </a:rPr>
                        <a:t>=co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а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=con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 baseline="100000">
                          <a:solidFill>
                            <a:srgbClr val="ffffff"/>
                          </a:solidFill>
                          <a:latin typeface="Tahoma"/>
                        </a:rPr>
                        <a:t>=co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8" name=""/>
          <p:cNvGrpSpPr/>
          <p:nvPr/>
        </p:nvGrpSpPr>
        <p:grpSpPr>
          <a:xfrm>
            <a:off x="3635280" y="2492280"/>
            <a:ext cx="5075280" cy="1251360"/>
            <a:chOff x="3635280" y="2492280"/>
            <a:chExt cx="5075280" cy="1251360"/>
          </a:xfrm>
        </p:grpSpPr>
        <p:grpSp>
          <p:nvGrpSpPr>
            <p:cNvPr id="229" name=""/>
            <p:cNvGrpSpPr/>
            <p:nvPr/>
          </p:nvGrpSpPr>
          <p:grpSpPr>
            <a:xfrm>
              <a:off x="3635280" y="2492280"/>
              <a:ext cx="1655640" cy="1251360"/>
              <a:chOff x="3635280" y="2492280"/>
              <a:chExt cx="1655640" cy="1251360"/>
            </a:xfrm>
          </p:grpSpPr>
          <p:sp>
            <p:nvSpPr>
              <p:cNvPr id="230" name=""/>
              <p:cNvSpPr/>
              <p:nvPr/>
            </p:nvSpPr>
            <p:spPr>
              <a:xfrm>
                <a:off x="3851280" y="2568600"/>
                <a:ext cx="1224000" cy="9284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851280" y="2492280"/>
                <a:ext cx="0" cy="1005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51280" y="34974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635280" y="249228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03640" y="34668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06920" y="34974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400720" y="2492280"/>
              <a:ext cx="1655640" cy="1251360"/>
              <a:chOff x="5400720" y="2492280"/>
              <a:chExt cx="1655640" cy="125136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6720" y="2568600"/>
                <a:ext cx="1224000" cy="9284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616720" y="2492280"/>
                <a:ext cx="0" cy="1005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6720" y="34974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00720" y="249228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69080" y="34668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72360" y="34974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7054920" y="2492280"/>
              <a:ext cx="1655640" cy="1251360"/>
              <a:chOff x="7054920" y="2492280"/>
              <a:chExt cx="1655640" cy="1251360"/>
            </a:xfrm>
          </p:grpSpPr>
          <p:sp>
            <p:nvSpPr>
              <p:cNvPr id="244" name=""/>
              <p:cNvSpPr/>
              <p:nvPr/>
            </p:nvSpPr>
            <p:spPr>
              <a:xfrm>
                <a:off x="7270920" y="2568600"/>
                <a:ext cx="1224000" cy="92844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7270920" y="2492280"/>
                <a:ext cx="0" cy="1005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70920" y="34974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054920" y="249228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423280" y="34668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26560" y="34974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048360" y="2800440"/>
              <a:ext cx="0" cy="463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4000" y="2647080"/>
              <a:ext cx="0" cy="6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11400" y="2708640"/>
              <a:ext cx="984240" cy="681480"/>
            </a:xfrm>
            <a:custGeom>
              <a:avLst/>
              <a:gdLst/>
              <a:ahLst/>
              <a:rect l="l" t="t" r="r" b="b"/>
              <a:pathLst>
                <a:path w="620" h="400">
                  <a:moveTo>
                    <a:pt x="0" y="0"/>
                  </a:moveTo>
                  <a:cubicBezTo>
                    <a:pt x="12" y="37"/>
                    <a:pt x="24" y="159"/>
                    <a:pt x="76" y="220"/>
                  </a:cubicBezTo>
                  <a:cubicBezTo>
                    <a:pt x="128" y="281"/>
                    <a:pt x="221" y="338"/>
                    <a:pt x="312" y="368"/>
                  </a:cubicBezTo>
                  <a:cubicBezTo>
                    <a:pt x="403" y="398"/>
                    <a:pt x="556" y="393"/>
                    <a:pt x="620" y="400"/>
                  </a:cubicBezTo>
                </a:path>
              </a:pathLst>
            </a:custGeom>
            <a:noFill/>
            <a:ln w="316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780000" y="3645000"/>
            <a:ext cx="5074200" cy="1396800"/>
            <a:chOff x="3780000" y="3645000"/>
            <a:chExt cx="5074200" cy="1396800"/>
          </a:xfrm>
        </p:grpSpPr>
        <p:grpSp>
          <p:nvGrpSpPr>
            <p:cNvPr id="254" name=""/>
            <p:cNvGrpSpPr/>
            <p:nvPr/>
          </p:nvGrpSpPr>
          <p:grpSpPr>
            <a:xfrm>
              <a:off x="3780000" y="3645000"/>
              <a:ext cx="1654920" cy="1396800"/>
              <a:chOff x="3780000" y="3645000"/>
              <a:chExt cx="1654920" cy="1396800"/>
            </a:xfrm>
          </p:grpSpPr>
          <p:sp>
            <p:nvSpPr>
              <p:cNvPr id="255" name=""/>
              <p:cNvSpPr/>
              <p:nvPr/>
            </p:nvSpPr>
            <p:spPr>
              <a:xfrm>
                <a:off x="3995640" y="3732480"/>
                <a:ext cx="1223640" cy="1063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3995640" y="3645000"/>
                <a:ext cx="0" cy="1150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995640" y="4795560"/>
                <a:ext cx="129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80000" y="3645000"/>
                <a:ext cx="286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48000" y="4762440"/>
                <a:ext cx="286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851280" y="4795560"/>
                <a:ext cx="286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543280" y="3645000"/>
              <a:ext cx="1655640" cy="1396800"/>
              <a:chOff x="5543280" y="3645000"/>
              <a:chExt cx="1655640" cy="1396800"/>
            </a:xfrm>
          </p:grpSpPr>
          <p:sp>
            <p:nvSpPr>
              <p:cNvPr id="262" name=""/>
              <p:cNvSpPr/>
              <p:nvPr/>
            </p:nvSpPr>
            <p:spPr>
              <a:xfrm>
                <a:off x="5759280" y="3732480"/>
                <a:ext cx="1224000" cy="1063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759280" y="3645000"/>
                <a:ext cx="0" cy="1150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59280" y="479556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43280" y="364500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911640" y="476244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14920" y="479556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199280" y="3645000"/>
              <a:ext cx="1654920" cy="1396800"/>
              <a:chOff x="7199280" y="3645000"/>
              <a:chExt cx="1654920" cy="1396800"/>
            </a:xfrm>
          </p:grpSpPr>
          <p:sp>
            <p:nvSpPr>
              <p:cNvPr id="269" name=""/>
              <p:cNvSpPr/>
              <p:nvPr/>
            </p:nvSpPr>
            <p:spPr>
              <a:xfrm>
                <a:off x="7414920" y="3732480"/>
                <a:ext cx="1223640" cy="1063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7414920" y="3645000"/>
                <a:ext cx="0" cy="1150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14920" y="4795560"/>
                <a:ext cx="129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99280" y="3645000"/>
                <a:ext cx="2869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567280" y="4762440"/>
                <a:ext cx="286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70560" y="4795560"/>
                <a:ext cx="286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V="1">
              <a:off x="3984480" y="4087440"/>
              <a:ext cx="910800" cy="718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465440" y="4087800"/>
              <a:ext cx="429840" cy="337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976360" y="426564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633800" y="4263480"/>
              <a:ext cx="5742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708360" y="5084280"/>
            <a:ext cx="5074920" cy="1182960"/>
            <a:chOff x="3708360" y="5084280"/>
            <a:chExt cx="5074920" cy="1182960"/>
          </a:xfrm>
        </p:grpSpPr>
        <p:grpSp>
          <p:nvGrpSpPr>
            <p:cNvPr id="280" name=""/>
            <p:cNvGrpSpPr/>
            <p:nvPr/>
          </p:nvGrpSpPr>
          <p:grpSpPr>
            <a:xfrm>
              <a:off x="3708360" y="5084280"/>
              <a:ext cx="1655640" cy="1182960"/>
              <a:chOff x="3708360" y="5084280"/>
              <a:chExt cx="1655640" cy="1182960"/>
            </a:xfrm>
          </p:grpSpPr>
          <p:sp>
            <p:nvSpPr>
              <p:cNvPr id="281" name=""/>
              <p:cNvSpPr/>
              <p:nvPr/>
            </p:nvSpPr>
            <p:spPr>
              <a:xfrm>
                <a:off x="3924360" y="5155920"/>
                <a:ext cx="1224000" cy="865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924360" y="5084280"/>
                <a:ext cx="0" cy="9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24360" y="60210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08360" y="508464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76720" y="599256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80000" y="60210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5472000" y="5084280"/>
              <a:ext cx="1655640" cy="1182960"/>
              <a:chOff x="5472000" y="5084280"/>
              <a:chExt cx="1655640" cy="1182960"/>
            </a:xfrm>
          </p:grpSpPr>
          <p:sp>
            <p:nvSpPr>
              <p:cNvPr id="288" name=""/>
              <p:cNvSpPr/>
              <p:nvPr/>
            </p:nvSpPr>
            <p:spPr>
              <a:xfrm>
                <a:off x="5688000" y="5155920"/>
                <a:ext cx="1224000" cy="865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5688000" y="5084280"/>
                <a:ext cx="0" cy="9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88000" y="60210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72000" y="508464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40360" y="599256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60210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127640" y="5084280"/>
              <a:ext cx="1655640" cy="1182960"/>
              <a:chOff x="7127640" y="5084280"/>
              <a:chExt cx="1655640" cy="1182960"/>
            </a:xfrm>
          </p:grpSpPr>
          <p:sp>
            <p:nvSpPr>
              <p:cNvPr id="295" name=""/>
              <p:cNvSpPr/>
              <p:nvPr/>
            </p:nvSpPr>
            <p:spPr>
              <a:xfrm>
                <a:off x="7343640" y="5155920"/>
                <a:ext cx="1224000" cy="865080"/>
              </a:xfrm>
              <a:prstGeom prst="rect">
                <a:avLst/>
              </a:prstGeom>
              <a:solidFill>
                <a:srgbClr val="ffffff">
                  <a:alpha val="2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343640" y="5084280"/>
                <a:ext cx="0" cy="9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43640" y="6021000"/>
                <a:ext cx="1295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27640" y="5084640"/>
                <a:ext cx="287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496000" y="599256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99280" y="6021000"/>
                <a:ext cx="28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H="1">
              <a:off x="3916080" y="5373720"/>
              <a:ext cx="619200" cy="655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147920" y="5373720"/>
              <a:ext cx="387360" cy="4125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903280" y="5587920"/>
              <a:ext cx="57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360" y="5230800"/>
              <a:ext cx="0" cy="574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рь полученные знания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360" y="4076280"/>
            <a:ext cx="450684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отермическом процесс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4076640"/>
            <a:ext cx="450072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барном процес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72000" y="1197000"/>
            <a:ext cx="7345080" cy="1760400"/>
            <a:chOff x="972000" y="1197000"/>
            <a:chExt cx="7345080" cy="1760400"/>
          </a:xfrm>
        </p:grpSpPr>
        <p:sp>
          <p:nvSpPr>
            <p:cNvPr id="310" name=""/>
            <p:cNvSpPr/>
            <p:nvPr/>
          </p:nvSpPr>
          <p:spPr>
            <a:xfrm>
              <a:off x="972000" y="119700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18880" y="120060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Б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72760" y="120060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39600" y="1200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Г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3640" y="2046600"/>
              <a:ext cx="57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Т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80360" y="204660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V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19640" y="2046600"/>
              <a:ext cx="100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40720" y="213228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500720" y="414972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2852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й из макроскопических параметров остается постоянным пр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381720"/>
            <a:ext cx="15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3645000"/>
            <a:ext cx="403848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24000" y="907920"/>
            <a:ext cx="8135640" cy="1878840"/>
            <a:chOff x="324000" y="907920"/>
            <a:chExt cx="8135640" cy="1878840"/>
          </a:xfrm>
        </p:grpSpPr>
        <p:sp>
          <p:nvSpPr>
            <p:cNvPr id="324" name=""/>
            <p:cNvSpPr/>
            <p:nvPr/>
          </p:nvSpPr>
          <p:spPr>
            <a:xfrm>
              <a:off x="324000" y="90792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.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P V = con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24000" y="1628640"/>
              <a:ext cx="3022560" cy="1086480"/>
              <a:chOff x="324000" y="1628640"/>
              <a:chExt cx="3022560" cy="1086480"/>
            </a:xfrm>
          </p:grpSpPr>
          <p:sp>
            <p:nvSpPr>
              <p:cNvPr id="326" name=""/>
              <p:cNvSpPr/>
              <p:nvPr/>
            </p:nvSpPr>
            <p:spPr>
              <a:xfrm>
                <a:off x="324000" y="1628640"/>
                <a:ext cx="1236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Tahoma"/>
                  </a:rPr>
                  <a:t>Б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.  </a:t>
                </a:r>
                <a:r>
                  <a:rPr b="0" lang="ru-RU" sz="32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42920" y="2133720"/>
                <a:ext cx="504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42920" y="213372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47640" y="1844640"/>
                <a:ext cx="179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= cons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003640" y="907920"/>
              <a:ext cx="3456000" cy="581400"/>
              <a:chOff x="5003640" y="907920"/>
              <a:chExt cx="3456000" cy="581400"/>
            </a:xfrm>
          </p:grpSpPr>
          <p:sp>
            <p:nvSpPr>
              <p:cNvPr id="331" name=""/>
              <p:cNvSpPr/>
              <p:nvPr/>
            </p:nvSpPr>
            <p:spPr>
              <a:xfrm>
                <a:off x="5003640" y="907920"/>
                <a:ext cx="295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Tahoma"/>
                  </a:rPr>
                  <a:t>В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. </a:t>
                </a:r>
                <a:r>
                  <a:rPr b="0" lang="ru-RU" sz="32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 Т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43640" y="907920"/>
                <a:ext cx="201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= cons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003640" y="1700280"/>
              <a:ext cx="3022560" cy="1086480"/>
              <a:chOff x="5003640" y="1700280"/>
              <a:chExt cx="3022560" cy="1086480"/>
            </a:xfrm>
          </p:grpSpPr>
          <p:sp>
            <p:nvSpPr>
              <p:cNvPr id="334" name=""/>
              <p:cNvSpPr/>
              <p:nvPr/>
            </p:nvSpPr>
            <p:spPr>
              <a:xfrm>
                <a:off x="5003640" y="1700280"/>
                <a:ext cx="1236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ffff"/>
                    </a:solidFill>
                    <a:latin typeface="Tahoma"/>
                  </a:rPr>
                  <a:t>Г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Tahoma"/>
                  </a:rPr>
                  <a:t>.  </a:t>
                </a:r>
                <a:r>
                  <a:rPr b="0" lang="ru-RU" sz="32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22560" y="2205360"/>
                <a:ext cx="504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22560" y="220536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27280" y="1916280"/>
                <a:ext cx="179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ahoma"/>
                  </a:rPr>
                  <a:t>= cons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179280" y="285264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9280" y="2708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ая из формул описывает зак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00720" y="371628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9280" y="3716280"/>
            <a:ext cx="34560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47242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йля-Мариот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76720" y="4797360"/>
            <a:ext cx="3527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ей-Люсса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зопроцес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Изопроцессы–процессы, протекающие при неизменном значении одного из параметров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зо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постоян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-87480" y="-66600"/>
          <a:ext cx="9318960" cy="69912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7480" y="-66600"/>
                    <a:ext cx="9318960" cy="69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0960" y="396360"/>
            <a:ext cx="7794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9280" y="4149360"/>
            <a:ext cx="42544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хорному процесс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932360" y="4149720"/>
            <a:ext cx="42116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отермическому процесс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8360" y="968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0000" y="350028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9280" y="196560"/>
            <a:ext cx="9137880" cy="3228840"/>
            <a:chOff x="179280" y="196560"/>
            <a:chExt cx="9137880" cy="3228840"/>
          </a:xfrm>
        </p:grpSpPr>
        <p:grpSp>
          <p:nvGrpSpPr>
            <p:cNvPr id="352" name=""/>
            <p:cNvGrpSpPr/>
            <p:nvPr/>
          </p:nvGrpSpPr>
          <p:grpSpPr>
            <a:xfrm>
              <a:off x="684360" y="196560"/>
              <a:ext cx="8632800" cy="3228840"/>
              <a:chOff x="684360" y="196560"/>
              <a:chExt cx="8632800" cy="3228840"/>
            </a:xfrm>
          </p:grpSpPr>
          <p:sp>
            <p:nvSpPr>
              <p:cNvPr id="353" name=""/>
              <p:cNvSpPr/>
              <p:nvPr/>
            </p:nvSpPr>
            <p:spPr>
              <a:xfrm>
                <a:off x="684360" y="2852280"/>
                <a:ext cx="1048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684360" y="1509480"/>
                <a:ext cx="821880" cy="1342080"/>
                <a:chOff x="684360" y="1509480"/>
                <a:chExt cx="821880" cy="1342080"/>
              </a:xfrm>
            </p:grpSpPr>
            <p:sp>
              <p:nvSpPr>
                <p:cNvPr id="355" name=""/>
                <p:cNvSpPr/>
                <p:nvPr/>
              </p:nvSpPr>
              <p:spPr>
                <a:xfrm flipV="1">
                  <a:off x="684360" y="1509480"/>
                  <a:ext cx="0" cy="134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684360" y="2468520"/>
                  <a:ext cx="299520" cy="3826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983880" y="1796760"/>
                  <a:ext cx="522360" cy="6717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871880" y="1413000"/>
                <a:ext cx="1122120" cy="1436760"/>
                <a:chOff x="4871880" y="1413000"/>
                <a:chExt cx="1122120" cy="1436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871880" y="2849760"/>
                  <a:ext cx="11221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4871880" y="1413000"/>
                  <a:ext cx="747720" cy="1436400"/>
                  <a:chOff x="4871880" y="1413000"/>
                  <a:chExt cx="747720" cy="14364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V="1">
                    <a:off x="4871880" y="1413000"/>
                    <a:ext cx="0" cy="14364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871880" y="1700280"/>
                    <a:ext cx="747720" cy="8614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7265520" y="196560"/>
                <a:ext cx="2051640" cy="2653200"/>
                <a:chOff x="7265520" y="196560"/>
                <a:chExt cx="2051640" cy="265320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7265520" y="1507680"/>
                  <a:ext cx="0" cy="134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65520" y="2849760"/>
                  <a:ext cx="11221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10800000">
                  <a:off x="7418880" y="196560"/>
                  <a:ext cx="1898280" cy="243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3160" y="261"/>
                      </a:moveTo>
                      <a:arcTo wR="10800" hR="10800" stAng="-4642696" swAng="40637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3160" y="261"/>
                      </a:moveTo>
                      <a:arcTo wR="10800" hR="10800" stAng="-4642696" swAng="4063739"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254680" y="1509480"/>
                <a:ext cx="1794240" cy="1915920"/>
                <a:chOff x="2254680" y="1509480"/>
                <a:chExt cx="1794240" cy="1915920"/>
              </a:xfrm>
            </p:grpSpPr>
            <p:sp>
              <p:nvSpPr>
                <p:cNvPr id="368" name=""/>
                <p:cNvSpPr/>
                <p:nvPr/>
              </p:nvSpPr>
              <p:spPr>
                <a:xfrm flipV="1">
                  <a:off x="2852280" y="1509480"/>
                  <a:ext cx="0" cy="134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852280" y="2851560"/>
                  <a:ext cx="119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254680" y="1702080"/>
                  <a:ext cx="1643760" cy="172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1" name=""/>
            <p:cNvSpPr/>
            <p:nvPr/>
          </p:nvSpPr>
          <p:spPr>
            <a:xfrm>
              <a:off x="324000" y="7650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11280" y="76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6000" y="76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43640" y="836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Г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9280" y="141300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04000" y="141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92360" y="24922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0360" y="24922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17080" y="256392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4922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42160" y="13604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27640" y="1413000"/>
              <a:ext cx="29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4572000" y="429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3213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ой график соответств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181440" y="4149720"/>
            <a:ext cx="46767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4643280" y="4076640"/>
            <a:ext cx="43214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3280" y="404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1636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133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83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50920" y="170640"/>
            <a:ext cx="8483400" cy="2770920"/>
            <a:chOff x="250920" y="170640"/>
            <a:chExt cx="8483400" cy="2770920"/>
          </a:xfrm>
        </p:grpSpPr>
        <p:grpSp>
          <p:nvGrpSpPr>
            <p:cNvPr id="393" name=""/>
            <p:cNvGrpSpPr/>
            <p:nvPr/>
          </p:nvGrpSpPr>
          <p:grpSpPr>
            <a:xfrm>
              <a:off x="250920" y="170640"/>
              <a:ext cx="2756880" cy="2770920"/>
              <a:chOff x="250920" y="170640"/>
              <a:chExt cx="2756880" cy="2770920"/>
            </a:xfrm>
          </p:grpSpPr>
          <p:sp>
            <p:nvSpPr>
              <p:cNvPr id="394" name=""/>
              <p:cNvSpPr/>
              <p:nvPr/>
            </p:nvSpPr>
            <p:spPr>
              <a:xfrm>
                <a:off x="250920" y="40464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А.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826920" y="170640"/>
                <a:ext cx="2180880" cy="2250360"/>
                <a:chOff x="826920" y="170640"/>
                <a:chExt cx="2180880" cy="225036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826920" y="981000"/>
                  <a:ext cx="1368720" cy="1440000"/>
                  <a:chOff x="826920" y="981000"/>
                  <a:chExt cx="1368720" cy="144000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flipV="1">
                    <a:off x="826920" y="981000"/>
                    <a:ext cx="0" cy="144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26920" y="2421000"/>
                    <a:ext cx="13687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 rot="11160600">
                  <a:off x="1086480" y="261000"/>
                  <a:ext cx="1830240" cy="182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16" y="166"/>
                      </a:moveTo>
                      <a:arcTo wR="10800" hR="10800" stAng="-6002717" swAng="554000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16" y="166"/>
                      </a:moveTo>
                      <a:arcTo wR="10800" hR="10800" stAng="-6002717" swAng="5540002"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68360" y="83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08000" y="242100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588000" y="404640"/>
              <a:ext cx="2146320" cy="2536920"/>
              <a:chOff x="6588000" y="404640"/>
              <a:chExt cx="2146320" cy="2536920"/>
            </a:xfrm>
          </p:grpSpPr>
          <p:sp>
            <p:nvSpPr>
              <p:cNvPr id="403" name=""/>
              <p:cNvSpPr/>
              <p:nvPr/>
            </p:nvSpPr>
            <p:spPr>
              <a:xfrm>
                <a:off x="6588000" y="404640"/>
                <a:ext cx="64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Г.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7308720" y="981000"/>
                <a:ext cx="1368720" cy="1440000"/>
                <a:chOff x="7308720" y="981000"/>
                <a:chExt cx="1368720" cy="144000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7308720" y="981000"/>
                  <a:ext cx="1368720" cy="1440000"/>
                  <a:chOff x="7308720" y="981000"/>
                  <a:chExt cx="1368720" cy="14400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V="1">
                    <a:off x="7308720" y="981000"/>
                    <a:ext cx="0" cy="144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308720" y="2421000"/>
                    <a:ext cx="13687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>
                  <a:off x="8028000" y="1197000"/>
                  <a:ext cx="0" cy="863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8323560" y="2421000"/>
                <a:ext cx="41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4932360" y="836640"/>
              <a:ext cx="1857240" cy="2104920"/>
              <a:chOff x="4932360" y="836640"/>
              <a:chExt cx="1857240" cy="210492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292720" y="981000"/>
                <a:ext cx="1368360" cy="1440000"/>
                <a:chOff x="5292720" y="981000"/>
                <a:chExt cx="1368360" cy="144000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5292720" y="981000"/>
                  <a:ext cx="1368360" cy="1440000"/>
                  <a:chOff x="5292720" y="981000"/>
                  <a:chExt cx="1368360" cy="144000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>
                    <a:off x="5292720" y="981000"/>
                    <a:ext cx="0" cy="144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292720" y="2421000"/>
                    <a:ext cx="13683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5435640" y="1557360"/>
                  <a:ext cx="10080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"/>
              <p:cNvSpPr/>
              <p:nvPr/>
            </p:nvSpPr>
            <p:spPr>
              <a:xfrm>
                <a:off x="4932360" y="83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78840" y="2421000"/>
                <a:ext cx="41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411280" y="404640"/>
              <a:ext cx="2361960" cy="2536920"/>
              <a:chOff x="2411280" y="404640"/>
              <a:chExt cx="2361960" cy="2536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411280" y="404640"/>
                <a:ext cx="64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Б.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203640" y="981000"/>
                <a:ext cx="1368360" cy="1449360"/>
                <a:chOff x="3203640" y="981000"/>
                <a:chExt cx="1368360" cy="144936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3203640" y="981000"/>
                  <a:ext cx="1368360" cy="1440000"/>
                  <a:chOff x="3203640" y="981000"/>
                  <a:chExt cx="1368360" cy="144000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V="1">
                    <a:off x="3203640" y="981000"/>
                    <a:ext cx="0" cy="144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203640" y="2421000"/>
                    <a:ext cx="13683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204360" y="1330920"/>
                  <a:ext cx="1079280" cy="1099440"/>
                  <a:chOff x="3204360" y="1330920"/>
                  <a:chExt cx="1079280" cy="10994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V="1">
                    <a:off x="3204360" y="2095560"/>
                    <a:ext cx="316080" cy="3348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V="1">
                    <a:off x="3520440" y="1330920"/>
                    <a:ext cx="763200" cy="7646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>
                <a:off x="2843280" y="83664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62480" y="2421000"/>
                <a:ext cx="41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572000" y="4076640"/>
            <a:ext cx="0" cy="278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8360" y="2997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каком из рисунков А, Б, В, Г изображен  процесс, соответствующий данному графи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724360" y="4653000"/>
            <a:ext cx="2376360" cy="2032200"/>
            <a:chOff x="5724360" y="4653000"/>
            <a:chExt cx="2376360" cy="2032200"/>
          </a:xfrm>
        </p:grpSpPr>
        <p:sp>
          <p:nvSpPr>
            <p:cNvPr id="432" name=""/>
            <p:cNvSpPr/>
            <p:nvPr/>
          </p:nvSpPr>
          <p:spPr>
            <a:xfrm>
              <a:off x="5724360" y="4653000"/>
              <a:ext cx="5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6217200" y="4724280"/>
              <a:ext cx="1591920" cy="1440000"/>
              <a:chOff x="6217200" y="4724280"/>
              <a:chExt cx="1591920" cy="14400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6224040" y="4724280"/>
                <a:ext cx="1585080" cy="1440000"/>
                <a:chOff x="6224040" y="4724280"/>
                <a:chExt cx="1585080" cy="1440000"/>
              </a:xfrm>
            </p:grpSpPr>
            <p:sp>
              <p:nvSpPr>
                <p:cNvPr id="435" name=""/>
                <p:cNvSpPr/>
                <p:nvPr/>
              </p:nvSpPr>
              <p:spPr>
                <a:xfrm flipV="1">
                  <a:off x="6224040" y="4724280"/>
                  <a:ext cx="0" cy="1439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224040" y="6164280"/>
                  <a:ext cx="15850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217200" y="4963320"/>
                <a:ext cx="1346760" cy="1177920"/>
                <a:chOff x="6217200" y="4963320"/>
                <a:chExt cx="1346760" cy="1177920"/>
              </a:xfrm>
            </p:grpSpPr>
            <p:sp>
              <p:nvSpPr>
                <p:cNvPr id="438" name=""/>
                <p:cNvSpPr/>
                <p:nvPr/>
              </p:nvSpPr>
              <p:spPr>
                <a:xfrm flipV="1">
                  <a:off x="6217200" y="5787000"/>
                  <a:ext cx="393480" cy="354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6611040" y="4963320"/>
                  <a:ext cx="952920" cy="8240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25600" y="6164640"/>
              <a:ext cx="37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61760" y="4723920"/>
            <a:ext cx="2399760" cy="1960920"/>
            <a:chOff x="761760" y="4723920"/>
            <a:chExt cx="2399760" cy="1960920"/>
          </a:xfrm>
        </p:grpSpPr>
        <p:sp>
          <p:nvSpPr>
            <p:cNvPr id="442" name=""/>
            <p:cNvSpPr/>
            <p:nvPr/>
          </p:nvSpPr>
          <p:spPr>
            <a:xfrm>
              <a:off x="2774880" y="6164280"/>
              <a:ext cx="38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250280" y="4723920"/>
              <a:ext cx="1599120" cy="1440000"/>
              <a:chOff x="1250280" y="4723920"/>
              <a:chExt cx="1599120" cy="14400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1257480" y="4723920"/>
                <a:ext cx="1591920" cy="1440000"/>
                <a:chOff x="1257480" y="4723920"/>
                <a:chExt cx="1591920" cy="1440000"/>
              </a:xfrm>
            </p:grpSpPr>
            <p:sp>
              <p:nvSpPr>
                <p:cNvPr id="445" name=""/>
                <p:cNvSpPr/>
                <p:nvPr/>
              </p:nvSpPr>
              <p:spPr>
                <a:xfrm flipV="1">
                  <a:off x="1257480" y="4723920"/>
                  <a:ext cx="0" cy="1439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257480" y="6163920"/>
                  <a:ext cx="1591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250280" y="4961880"/>
                <a:ext cx="1353240" cy="1180080"/>
                <a:chOff x="1250280" y="4961880"/>
                <a:chExt cx="1353240" cy="1180080"/>
              </a:xfrm>
            </p:grpSpPr>
            <p:sp>
              <p:nvSpPr>
                <p:cNvPr id="448" name=""/>
                <p:cNvSpPr/>
                <p:nvPr/>
              </p:nvSpPr>
              <p:spPr>
                <a:xfrm flipV="1">
                  <a:off x="1250280" y="5787000"/>
                  <a:ext cx="395640" cy="354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1645920" y="4961880"/>
                  <a:ext cx="957600" cy="8254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0" name=""/>
            <p:cNvSpPr/>
            <p:nvPr/>
          </p:nvSpPr>
          <p:spPr>
            <a:xfrm>
              <a:off x="761760" y="472428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роверь правильность своих ответ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116000" y="1916280"/>
          <a:ext cx="6095880" cy="4119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цени свои результат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547640" y="1413000"/>
          <a:ext cx="6096240" cy="4757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правильных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авнение Менделеев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пей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68360" y="1484280"/>
                <a:ext cx="30240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16360" y="1628640"/>
                <a:ext cx="2160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00000" y="3860640"/>
                <a:ext cx="266400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51280" y="3998880"/>
                <a:ext cx="41054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Газовые зако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Изотермический проце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Изобарный проце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Изохорный проце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Изотермический проце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 изменения состояния термодинамической системы макроскопических тел при постоянной температуре называют изотермическ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термо» - (греч.) темп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ля поддержания температуры газа постоянной необходимо, чтобы он мог обмениваться теплотой с большой системой – термостатом. Иначе температура газа будет меняться. Термостатом может служить атмосферный воздух, если температура его заметно не меняется на протяжении всего процесса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Для поддержания теплообмена процесс должен протекать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медле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987280" y="333000"/>
            <a:ext cx="56991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оберт БОЙЛ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1627-1691), английский химик и физик, один из учредителей Лондонского королевского общества. Сформулировал (1661) первое научное определение химического элемента, ввел в химию экспериментальный метод, положил начало химическому анализу. Способствовал становлению химии как науки. Установил (1662) один из газовых законов (закон Бойля — Мариот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Р. Бойль."/>
          <p:cNvPicPr/>
          <p:nvPr/>
        </p:nvPicPr>
        <p:blipFill>
          <a:blip r:embed="rId2"/>
          <a:stretch/>
        </p:blipFill>
        <p:spPr>
          <a:xfrm>
            <a:off x="324000" y="189000"/>
            <a:ext cx="2663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067280" y="476280"/>
            <a:ext cx="4619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дм Мариот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620-1684) Французский физик, член Парижской академии наук со дня ее основания (1666). Был настоятелем монастыря в окрестностях Дижона. Впервые описал слепое пятно в глазу (1668), в 1676 – опыты о зависимости упругости воздуха от давления, вторично дал формулировку закона, открытого и опубликованного Р. Бойлем в 1662 (закон Бойля–Мариотта). Впервые использовал этот закон для определения высоты места по показаниям барометра. Описал многочисленные опыты о течении жидкостей по трубам и действие фонтанов (1686). Изучал также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явление удара тел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095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9:24:56Z</dcterms:created>
  <dc:creator>Елена С</dc:creator>
  <dc:description/>
  <dc:language>en-US</dc:language>
  <cp:lastModifiedBy>Пользователь</cp:lastModifiedBy>
  <dcterms:modified xsi:type="dcterms:W3CDTF">2010-02-08T20:15:25Z</dcterms:modified>
  <cp:revision>19</cp:revision>
  <dc:subject/>
  <dc:title> </dc:title>
</cp:coreProperties>
</file>