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gif" ContentType="image/gif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99D1-9C5C-4F19-8D9D-7CB039201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6F53-1B9C-40B6-96D2-05BA60254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C79A-D4B1-4BEA-849A-1F0FC3608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90F2-A499-4072-B3F3-8668395C4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3AD4-0993-40ED-9311-BFFA90710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442E-34F6-4798-9387-27B0E7071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88F9-A249-49B5-AE98-B4E6BED95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E67B-D71D-4962-B33D-F89C4200B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57CE-ADA4-4BF7-AD10-F52707151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EABC-30E5-4D9E-BEA9-70CE71306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9D9D-2252-4788-8CAD-0561835D7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58BF-6D9B-4C23-9BE0-A56B519E6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CBC6F-8F42-442D-99B1-559D2B5BDE4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635280" y="620280"/>
            <a:ext cx="4897440" cy="501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Что нужно знать ученикам и их родителям, чтобы успешно сдать ЕГЭ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324000" y="1773360"/>
            <a:ext cx="3346200" cy="28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оветы родителям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-360" y="1125360"/>
            <a:ext cx="869796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икогда не сравнивайте своих детей с други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мните, ваш ребен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 должен выступать 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оли способа утвер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иться перед други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чень часто старясь активизировать ребенка к подготовке к экзамену, вы  можете только увеличить беспокойство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Рисунок 14" descr="antn027.gif"/>
          <p:cNvPicPr/>
          <p:nvPr/>
        </p:nvPicPr>
        <p:blipFill>
          <a:blip r:embed="rId1"/>
          <a:srcRect l="0" t="0" r="-1240" b="50362"/>
          <a:stretch/>
        </p:blipFill>
        <p:spPr>
          <a:xfrm>
            <a:off x="5580000" y="1700280"/>
            <a:ext cx="331308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 следует оказывать на ребенка давлени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здайте спокойную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становку дл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дготовки 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кзамен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ажны интересы и способности вашего ребенка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Рисунок 13" descr="d1ddc3289885.jpg"/>
          <p:cNvPicPr/>
          <p:nvPr/>
        </p:nvPicPr>
        <p:blipFill>
          <a:blip r:embed="rId1"/>
          <a:srcRect l="0" t="0" r="-597" b="49235"/>
          <a:stretch/>
        </p:blipFill>
        <p:spPr>
          <a:xfrm>
            <a:off x="5219640" y="1197000"/>
            <a:ext cx="364500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оветы ученикам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868680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 думайте об экзаменах в негативном направлени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мните, что экзамен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то проверка ваших знаний, 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 личных качеств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 делай предположения по отношению к результатам экзамена. Не переживай заранее плохие результат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2" descr="Рисунок1123"/>
          <p:cNvPicPr/>
          <p:nvPr/>
        </p:nvPicPr>
        <p:blipFill>
          <a:blip r:embed="rId1"/>
          <a:stretch/>
        </p:blipFill>
        <p:spPr>
          <a:xfrm>
            <a:off x="6300720" y="1268280"/>
            <a:ext cx="284328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0" y="620280"/>
            <a:ext cx="86868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збегайте мысли «ой, я волнуюсь, я все забуду, я умру от волнения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 нужно делать из экзамена вопрос жизни и смерти, есть и другие жизненные перспективы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о время экзаме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збегайте мыслей внутреннего голо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E:\Другое\моя\Смешные\66.jpg"/>
          <p:cNvPicPr/>
          <p:nvPr/>
        </p:nvPicPr>
        <p:blipFill>
          <a:blip r:embed="rId1"/>
          <a:srcRect l="0" t="0" r="-1070" b="50232"/>
          <a:stretch/>
        </p:blipFill>
        <p:spPr>
          <a:xfrm>
            <a:off x="6084720" y="3068640"/>
            <a:ext cx="261648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Универсальные рецепты для более успешной тактики выполнения тестирования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95280" y="2133360"/>
            <a:ext cx="8229600" cy="41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средоточься!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оропись не спеша!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чни с легкого!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пускай!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Рисунок1ВАР"/>
          <p:cNvPicPr/>
          <p:nvPr/>
        </p:nvPicPr>
        <p:blipFill>
          <a:blip r:embed="rId1"/>
          <a:stretch/>
        </p:blipFill>
        <p:spPr>
          <a:xfrm>
            <a:off x="5038560" y="2492280"/>
            <a:ext cx="410544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итай задание до конца!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умай только о текущем задании!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верь!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 огорчайся!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1"/>
          <a:srcRect l="73063" t="-410" r="0" b="0"/>
          <a:stretch/>
        </p:blipFill>
        <p:spPr>
          <a:xfrm>
            <a:off x="4572000" y="2492280"/>
            <a:ext cx="360036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31T14:26:17Z</dcterms:created>
  <dc:creator>alex</dc:creator>
  <dc:description/>
  <dc:language>en-US</dc:language>
  <cp:lastModifiedBy>Рустам</cp:lastModifiedBy>
  <dcterms:modified xsi:type="dcterms:W3CDTF">2011-12-12T20:15:19Z</dcterms:modified>
  <cp:revision>7</cp:revision>
  <dc:subject/>
  <dc:title>Слайд 1</dc:title>
</cp:coreProperties>
</file>