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853-C4BD-43B7-8CA7-A328A7DF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B4E-0899-49F6-A436-DE907F17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46F-39CB-4C2E-8A57-5AD0115B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03A-8C05-4353-B243-E5254434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371-A535-4750-9794-CC5B5B7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94F-053B-44BE-8A38-F882F09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631-C860-46A1-B552-78A7E0C1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0C7-F834-4D29-9720-A1071E67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A2E-9C58-4B7A-A397-AC52FD7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6E8-AEF1-4AB9-8FC7-AF52A1C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6FC-DE26-424B-A4D1-2C26BBB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491-3787-43EE-A1EE-AFAD6DD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981-9B46-48BD-AA46-8721FA56A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635280" y="620280"/>
            <a:ext cx="48974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Что нужно знать ученикам и их родителям, чтобы успешно сдать ЕГ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3462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сравнивайте своих детей с друг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те, ваш 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лжен выступать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и способа утвер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ться перед друг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часто старясь активизировать ребенка к подготовке к экзамену, вы  можете только увеличить беспокой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4" descr="antn027.gif"/>
          <p:cNvPicPr/>
          <p:nvPr/>
        </p:nvPicPr>
        <p:blipFill>
          <a:blip r:embed="rId1"/>
          <a:srcRect l="0" t="0" r="-1240" b="50362"/>
          <a:stretch/>
        </p:blipFill>
        <p:spPr>
          <a:xfrm>
            <a:off x="5580000" y="1700280"/>
            <a:ext cx="331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оказывать на ребенка д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йте спокой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тановку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готовк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аме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ы интересы и способности вашего ребен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3" descr="d1ddc3289885.jpg"/>
          <p:cNvPicPr/>
          <p:nvPr/>
        </p:nvPicPr>
        <p:blipFill>
          <a:blip r:embed="rId1"/>
          <a:srcRect l="0" t="0" r="-597" b="49235"/>
          <a:stretch/>
        </p:blipFill>
        <p:spPr>
          <a:xfrm>
            <a:off x="5219640" y="1197000"/>
            <a:ext cx="3645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веты ученик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умайте об экзаменах в негативном направл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ните, что экзам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роверка ваших знаний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личных качест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елай предположения по отношению к результатам экзамена. Не переживай заранее плохие результ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Рисунок1123"/>
          <p:cNvPicPr/>
          <p:nvPr/>
        </p:nvPicPr>
        <p:blipFill>
          <a:blip r:embed="rId1"/>
          <a:stretch/>
        </p:blipFill>
        <p:spPr>
          <a:xfrm>
            <a:off x="6300720" y="1268280"/>
            <a:ext cx="28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егайте мысли «ой, я волнуюсь, я все забуду, я умру от волнени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нужно делать из экзамена вопрос жизни и смерти, есть и другие жизненные перспектив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экза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егайте мыслей внутреннего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Другое\моя\Смешные\66.jpg"/>
          <p:cNvPicPr/>
          <p:nvPr/>
        </p:nvPicPr>
        <p:blipFill>
          <a:blip r:embed="rId1"/>
          <a:srcRect l="0" t="0" r="-1070" b="50232"/>
          <a:stretch/>
        </p:blipFill>
        <p:spPr>
          <a:xfrm>
            <a:off x="6084720" y="3068640"/>
            <a:ext cx="26164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ниверсальные рецепты для более успешной тактики выполнения тестиров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редоточься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ропись не спеш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ни с легког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пускай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Рисунок1ВАР"/>
          <p:cNvPicPr/>
          <p:nvPr/>
        </p:nvPicPr>
        <p:blipFill>
          <a:blip r:embed="rId1"/>
          <a:stretch/>
        </p:blipFill>
        <p:spPr>
          <a:xfrm>
            <a:off x="5038560" y="249228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й задание до конц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горчайся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73063" t="-410" r="0" b="0"/>
          <a:stretch/>
        </p:blipFill>
        <p:spPr>
          <a:xfrm>
            <a:off x="4572000" y="249228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4:26:17Z</dcterms:created>
  <dc:creator>alex</dc:creator>
  <dc:description/>
  <dc:language>en-US</dc:language>
  <cp:lastModifiedBy>Рустам</cp:lastModifiedBy>
  <dcterms:modified xsi:type="dcterms:W3CDTF">2011-12-12T20:15:19Z</dcterms:modified>
  <cp:revision>7</cp:revision>
  <dc:subject/>
  <dc:title>Слайд 1</dc:title>
</cp:coreProperties>
</file>