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5CDF-588F-47C4-929E-15D95F93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FE6-200D-40A4-B4A5-E9EF8BF8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09E9-7FA2-4499-99C7-65E1DA6F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D4D-7EBC-4935-A765-098A8F79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21ED-3C49-4FAB-B8F4-02EAF8C5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481-F8F0-4D4A-8DF9-C9332E65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D53F-E5BD-4196-AAA0-12BBD127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161-6ACB-4CA6-B172-2CD09491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C19-BA79-4CF2-B06F-B571C3F8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FC4-F0A5-4614-A28B-09452A33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46EB-3697-47D3-A712-090BA018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086-84E7-42A0-8694-405D1E67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D1DD-9982-445F-8126-2F9827D840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3D-graphics_Geometry_006945_"/>
          <p:cNvPicPr/>
          <p:nvPr/>
        </p:nvPicPr>
        <p:blipFill>
          <a:blip r:embed="rId1"/>
          <a:stretch/>
        </p:blipFill>
        <p:spPr>
          <a:xfrm>
            <a:off x="-35712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0" y="0"/>
            <a:ext cx="9144000" cy="70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У Гимназия №498 Невского рай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Segoe UI"/>
              </a:rPr>
              <a:t>Геометри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Segoe UI"/>
              </a:rPr>
              <a:t>для начинающи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10 «А»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шкова Анастас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динов Фед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еометрия в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642960" y="1500120"/>
            <a:ext cx="757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– удивительный творец и мастер. Многие объекты в  природе обладают свойством сим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б.jpg"/>
          <p:cNvPicPr/>
          <p:nvPr/>
        </p:nvPicPr>
        <p:blipFill>
          <a:blip r:embed="rId1"/>
          <a:stretch/>
        </p:blipFill>
        <p:spPr>
          <a:xfrm>
            <a:off x="285840" y="2786040"/>
            <a:ext cx="4214880" cy="34196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снеж.jpg"/>
          <p:cNvPicPr/>
          <p:nvPr/>
        </p:nvPicPr>
        <p:blipFill>
          <a:blip r:embed="rId2"/>
          <a:stretch/>
        </p:blipFill>
        <p:spPr>
          <a:xfrm>
            <a:off x="4929120" y="2786040"/>
            <a:ext cx="37339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Геометрия в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fig_1-1"/>
          <p:cNvPicPr/>
          <p:nvPr/>
        </p:nvPicPr>
        <p:blipFill>
          <a:blip r:embed="rId1"/>
          <a:stretch/>
        </p:blipFill>
        <p:spPr>
          <a:xfrm>
            <a:off x="468360" y="1773360"/>
            <a:ext cx="3422520" cy="4608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глово"/>
          <p:cNvPicPr/>
          <p:nvPr/>
        </p:nvPicPr>
        <p:blipFill>
          <a:blip r:embed="rId2"/>
          <a:stretch/>
        </p:blipFill>
        <p:spPr>
          <a:xfrm>
            <a:off x="4211640" y="2637000"/>
            <a:ext cx="4716360" cy="231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еометрия </a:t>
            </a:r>
            <a:br>
              <a:rPr sz="4400"/>
            </a:b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прикладном искус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2" descr="ваза.jpg"/>
          <p:cNvPicPr/>
          <p:nvPr/>
        </p:nvPicPr>
        <p:blipFill>
          <a:blip r:embed="rId1"/>
          <a:stretch/>
        </p:blipFill>
        <p:spPr>
          <a:xfrm>
            <a:off x="4859280" y="1557360"/>
            <a:ext cx="3753000" cy="50245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428760" y="2000160"/>
            <a:ext cx="4071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ий стиль - одна из ранних стадий развития искусства Греции Древней (IX-VIII вв. до н. э.). Вазописи геометрического стиля свойственны плотность и чёткость, даже известная жёсткость узоров, сплошь покрывающих поверхность сосудов и подчёркивающих их тектонику. Орнамент располагается полосами и складывается из меандров, крестов, окружностей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Геометрия</a:t>
            </a:r>
            <a:br>
              <a:rPr sz="4400"/>
            </a:b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в прикладном искус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Вааааза"/>
          <p:cNvPicPr/>
          <p:nvPr/>
        </p:nvPicPr>
        <p:blipFill>
          <a:blip r:embed="rId1"/>
          <a:stretch/>
        </p:blipFill>
        <p:spPr>
          <a:xfrm>
            <a:off x="768240" y="2349360"/>
            <a:ext cx="3489480" cy="4221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ренеро"/>
          <p:cNvPicPr/>
          <p:nvPr/>
        </p:nvPicPr>
        <p:blipFill>
          <a:blip r:embed="rId2"/>
          <a:stretch/>
        </p:blipFill>
        <p:spPr>
          <a:xfrm>
            <a:off x="5241960" y="2349360"/>
            <a:ext cx="3024000" cy="4318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468360" y="162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рнамент составляет 80 % росписи геометрического стиля.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Геометрия в архитек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zs_gold26"/>
          <p:cNvPicPr/>
          <p:nvPr/>
        </p:nvPicPr>
        <p:blipFill>
          <a:blip r:embed="rId1"/>
          <a:stretch/>
        </p:blipFill>
        <p:spPr>
          <a:xfrm>
            <a:off x="1042920" y="3500280"/>
            <a:ext cx="6913800" cy="2973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95280" y="119700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е всегда состоит из частей, части разной величины находятся в определенном отношении друг к другу и к целому. Принцип золотого сечения – высшее проявление структурного и функционального совершенства целого и его частей в искусстве, науке, технике и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95280" y="24922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рисунке виден целый ряд закономерностей, связанных с золотым сечение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539640" y="234936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428760" y="31431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евняя Греция - Парфенон (V в. до н. э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Геометрия в архитек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84360" y="321300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00040" y="1285920"/>
            <a:ext cx="828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хитектура собора Василия Блаженного несет в себе множество золотых пропор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zs_image077"/>
          <p:cNvPicPr/>
          <p:nvPr/>
        </p:nvPicPr>
        <p:blipFill>
          <a:blip r:embed="rId1"/>
          <a:stretch/>
        </p:blipFill>
        <p:spPr>
          <a:xfrm>
            <a:off x="4183200" y="2286000"/>
            <a:ext cx="4781520" cy="4321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вас"/>
          <p:cNvPicPr/>
          <p:nvPr/>
        </p:nvPicPr>
        <p:blipFill>
          <a:blip r:embed="rId2"/>
          <a:stretch/>
        </p:blipFill>
        <p:spPr>
          <a:xfrm>
            <a:off x="571680" y="2286000"/>
            <a:ext cx="345420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Геометрия в бал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39640" y="1341360"/>
            <a:ext cx="7993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 разделяет прямую на две части, каждая из которых называется луч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ящим из точки. Точка называется началом каждого из луч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тт"/>
          <p:cNvPicPr/>
          <p:nvPr/>
        </p:nvPicPr>
        <p:blipFill>
          <a:blip r:embed="rId1"/>
          <a:stretch/>
        </p:blipFill>
        <p:spPr>
          <a:xfrm>
            <a:off x="2346480" y="2276640"/>
            <a:ext cx="979200" cy="4317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ббббб"/>
          <p:cNvPicPr/>
          <p:nvPr/>
        </p:nvPicPr>
        <p:blipFill>
          <a:blip r:embed="rId2"/>
          <a:stretch/>
        </p:blipFill>
        <p:spPr>
          <a:xfrm>
            <a:off x="4140360" y="2133720"/>
            <a:ext cx="2577960" cy="442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Геометрия в бал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68360" y="141300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ва угла называются вертикальными, если стороны одного угла являются продолжениями сторон друг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веп"/>
          <p:cNvPicPr/>
          <p:nvPr/>
        </p:nvPicPr>
        <p:blipFill>
          <a:blip r:embed="rId1"/>
          <a:stretch/>
        </p:blipFill>
        <p:spPr>
          <a:xfrm>
            <a:off x="4500720" y="2349360"/>
            <a:ext cx="4095720" cy="410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вер"/>
          <p:cNvPicPr/>
          <p:nvPr/>
        </p:nvPicPr>
        <p:blipFill>
          <a:blip r:embed="rId2"/>
          <a:stretch/>
        </p:blipFill>
        <p:spPr>
          <a:xfrm>
            <a:off x="755640" y="3213000"/>
            <a:ext cx="3252960" cy="23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Геометрия в поэ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39640" y="1484280"/>
            <a:ext cx="81360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Гаврила Романович Держав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Пирами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р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рю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учам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к свещам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 мраке блестящ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восторг все души приводящ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о что? — от солнца ль в ней толь милое блистань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т! — Пирамида — дел благих воспоминань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Геометрия в поэ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68360" y="155736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24000" y="1268280"/>
            <a:ext cx="842472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алерий Яковлевич Брюс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«Треугольник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Я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ел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ача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ерёвки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 синел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не различа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иних тон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и милой головки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летаю в простор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рылатый как птица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еж лиловых кустов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Но в заманчивом взоре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наю, блещет, алея, зарница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и я счастлив ею без слов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684360" y="1413000"/>
            <a:ext cx="777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39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395280" y="1268280"/>
            <a:ext cx="835344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Console"/>
              </a:rPr>
              <a:t>"Геометрия является самым могущественным средством для изощрения наших умственных способностей и дает нам возможность правильн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Lucida Console"/>
              </a:rPr>
              <a:t>мыслить и рассуждать"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Console"/>
              </a:rPr>
              <a:t>Г. Галил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И это тоже геометр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Фильм (1).wmv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561440" cy="554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9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250920" y="836640"/>
            <a:ext cx="85690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Вдохновение нужно в геометрии не меньше, чем в поэзии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А. С. Пу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-42264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4"/>
          <p:cNvSpPr/>
          <p:nvPr/>
        </p:nvSpPr>
        <p:spPr>
          <a:xfrm>
            <a:off x="324000" y="105264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5"/>
          <p:cNvSpPr/>
          <p:nvPr/>
        </p:nvSpPr>
        <p:spPr>
          <a:xfrm>
            <a:off x="250920" y="90792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Гео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7"/>
          <p:cNvSpPr/>
          <p:nvPr/>
        </p:nvSpPr>
        <p:spPr>
          <a:xfrm>
            <a:off x="611280" y="2349360"/>
            <a:ext cx="79214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 греческого "гео" - земля, а "метрио" - мерить — раздел математики, изучающий пространственные отношения и их об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История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возникнов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11280" y="1700280"/>
            <a:ext cx="69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900000" y="155736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28760" y="1143000"/>
            <a:ext cx="850104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Console"/>
              </a:rPr>
              <a:t>Традиционно считается, что родоначальниками геометрии как систематической науки являются древние греки, перенявшие у египтян ремесло землемерия и измерения объёмов тел и превратившие его в строгую научную дисциплину. При этом античные геометры от набора рецептов перешли к установлению общих закономерностей, составили первые систематические и доказательные труды по геометрии. Центральное место среди них занимают составленные около 300 до н.э. «Начала» Евкл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800px-Euclid_Vat_ms_no_190_XI_prop_31"/>
          <p:cNvPicPr/>
          <p:nvPr/>
        </p:nvPicPr>
        <p:blipFill>
          <a:blip r:embed="rId1"/>
          <a:stretch/>
        </p:blipFill>
        <p:spPr>
          <a:xfrm>
            <a:off x="1187280" y="3429000"/>
            <a:ext cx="6551640" cy="32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Евкл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92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Евкли́д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  (др. греч. Εὐκλείδης, ок. 300 г. до н. э.) — древнегреческий математ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ое сочинение Евклида называется «Начала». В создании и развитии науки Новог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емени «Начала» также сыграли важную идейную роль. Они оставались образцом математического трактата, строго и систематически излагающего основные положения той или иной математической на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50920" y="155736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Euklid-von-Alexandria_1"/>
          <p:cNvPicPr/>
          <p:nvPr/>
        </p:nvPicPr>
        <p:blipFill>
          <a:blip r:embed="rId1"/>
          <a:stretch/>
        </p:blipFill>
        <p:spPr>
          <a:xfrm>
            <a:off x="4932360" y="1700280"/>
            <a:ext cx="3579840" cy="42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Евклидова  гео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ланиметрия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учает пространственные свойства предметов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а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58920" y="1773360"/>
            <a:ext cx="4148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тереометрия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учает пространственные свойства предметов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простран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H="1">
            <a:off x="3276720" y="1268280"/>
            <a:ext cx="5745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5219640" y="1268280"/>
            <a:ext cx="504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C:\Users\Федя\Desktop\план.jpg"/>
          <p:cNvPicPr/>
          <p:nvPr/>
        </p:nvPicPr>
        <p:blipFill>
          <a:blip r:embed="rId1"/>
          <a:stretch/>
        </p:blipFill>
        <p:spPr>
          <a:xfrm>
            <a:off x="928800" y="4143240"/>
            <a:ext cx="2357280" cy="2530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Федя\Desktop\стер.jpg"/>
          <p:cNvPicPr/>
          <p:nvPr/>
        </p:nvPicPr>
        <p:blipFill>
          <a:blip r:embed="rId2"/>
          <a:stretch/>
        </p:blipFill>
        <p:spPr>
          <a:xfrm>
            <a:off x="5286240" y="4143240"/>
            <a:ext cx="2428920" cy="253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Начальные 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68360" y="1484280"/>
            <a:ext cx="6532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очк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68360" y="2781360"/>
            <a:ext cx="62658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) Прям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28760" y="4500720"/>
            <a:ext cx="568800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ая безгранична; на рисунке изображается только часть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7308720" y="191628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7667640" y="191628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>
            <a:off x="6300360" y="4076640"/>
            <a:ext cx="1871640" cy="11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7572240" y="4500720"/>
            <a:ext cx="88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6588000" y="501336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2"/>
          <p:cNvSpPr/>
          <p:nvPr/>
        </p:nvSpPr>
        <p:spPr>
          <a:xfrm>
            <a:off x="7812000" y="422100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6588000" y="5013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781200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6227640" y="429264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7453080" y="33526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Геометрические фак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68360" y="177336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539640" y="1773360"/>
            <a:ext cx="80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39640" y="1341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ксиом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–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верждение, устанавливающее некоторое свойство и принимаемое без доказа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00040" y="342900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оре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– утверждение, устанавливающее некоторое свойство и требующее доказа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84360" y="2133720"/>
            <a:ext cx="7580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71680" y="521496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мм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нное утверждение, полезное не само по себе, а для доказательства других утвер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туда"/>
          <p:cNvPicPr/>
          <p:nvPr/>
        </p:nvPicPr>
        <p:blipFill>
          <a:blip r:embed="rId1"/>
          <a:stretch/>
        </p:blipFill>
        <p:spPr>
          <a:xfrm>
            <a:off x="7380360" y="5877000"/>
            <a:ext cx="936720" cy="654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3"/>
          <p:cNvSpPr/>
          <p:nvPr/>
        </p:nvSpPr>
        <p:spPr>
          <a:xfrm>
            <a:off x="785880" y="4214880"/>
            <a:ext cx="777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ертикальные углы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642960" y="21430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Через любые две точки можно провести единственную пряму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обр"/>
          <p:cNvPicPr/>
          <p:nvPr/>
        </p:nvPicPr>
        <p:blipFill>
          <a:blip r:embed="rId1"/>
          <a:stretch/>
        </p:blipFill>
        <p:spPr>
          <a:xfrm>
            <a:off x="826920" y="5877000"/>
            <a:ext cx="1008360" cy="5745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Доказа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3628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ссуждение, устанавливающее какое-либо свой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туда"/>
          <p:cNvPicPr/>
          <p:nvPr/>
        </p:nvPicPr>
        <p:blipFill>
          <a:blip r:embed="rId2"/>
          <a:stretch/>
        </p:blipFill>
        <p:spPr>
          <a:xfrm>
            <a:off x="7380360" y="5877000"/>
            <a:ext cx="936720" cy="65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16:18:33Z</dcterms:created>
  <dc:creator>WiZaRd</dc:creator>
  <dc:description/>
  <dc:language>en-US</dc:language>
  <cp:lastModifiedBy>Даша</cp:lastModifiedBy>
  <dcterms:modified xsi:type="dcterms:W3CDTF">2011-10-21T15:11:18Z</dcterms:modified>
  <cp:revision>55</cp:revision>
  <dc:subject/>
  <dc:title>Слайд 1</dc:title>
</cp:coreProperties>
</file>