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CD19-4199-4620-9A64-9E7586E5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1EB0-2882-49AE-BD85-75ED3C0F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68A0-2C72-437D-BB83-70A97F01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DF4D-9FF2-490D-8D34-89AA0505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0F32-073C-470A-A3A5-B3BAAE71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5842-3BB7-4B01-8078-333A27F8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307B-C0FD-4C7A-A2F8-31105D5F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907F-6417-4EDA-A3A4-7EC758B9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AE55-D9B2-4670-869D-692476A4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B4F2-0F6C-4FDA-890C-6B015D06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698C-EB1C-460A-A6E7-996FD867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9FAC-F44B-4FE7-8349-12DADD97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4BF8-65F5-4BE0-8137-6218BA64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52E9-76B1-40CC-B68E-8E9F103D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2F34-CE9A-4E65-B26D-238117A7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2E49-853A-4A09-9DE2-C3909207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FF04-D774-4260-905B-5F42C004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9059-FE77-435C-B947-C7626448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E0AC-FAF1-443A-A3AE-F278D6B8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A5F1-FDFE-4C41-A303-31AB5690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2692-9F48-45CF-959C-65B1C5E6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11C-BB57-4F6F-920F-40223835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F763-E6B8-4586-9CCA-81FDD6D2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F05B-1465-4700-9959-2B54FE3C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8A0B-9193-4881-9388-A4979212DE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1D84-3965-47CA-8E39-50B4C71CF54D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olik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764640"/>
            <a:ext cx="7772400" cy="223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ГОСУДАРСТВЕННЫЕ СИМВОЛЫ РОССИЙСКОЙ ФЕДЕРАЦ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26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5" descr="гимн"/>
          <p:cNvPicPr/>
          <p:nvPr/>
        </p:nvPicPr>
        <p:blipFill>
          <a:blip r:embed="rId1"/>
          <a:stretch/>
        </p:blipFill>
        <p:spPr>
          <a:xfrm>
            <a:off x="1835280" y="3284640"/>
            <a:ext cx="5616360" cy="34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201780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ОБЩНОСТЬ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ЕДИНСТВ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их национальностей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 отражае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флаг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7" descr="флаг и герб"/>
          <p:cNvPicPr/>
          <p:nvPr/>
        </p:nvPicPr>
        <p:blipFill>
          <a:blip r:embed="rId1"/>
          <a:stretch/>
        </p:blipFill>
        <p:spPr>
          <a:xfrm>
            <a:off x="4500720" y="2637000"/>
            <a:ext cx="4464000" cy="31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stellar"/>
              </a:rPr>
              <a:t>По – иному объясняют расцветку Российского флага</a:t>
            </a:r>
            <a:r>
              <a:rPr b="1" i="1" lang="ru-RU" sz="4400" spc="-1" strike="noStrike">
                <a:solidFill>
                  <a:srgbClr val="0000ff"/>
                </a:solidFill>
                <a:latin typeface="Castellar"/>
              </a:rPr>
              <a:t> </a:t>
            </a:r>
            <a:r>
              <a:rPr b="1" i="1" lang="ru-RU" sz="4400" spc="-1" strike="noStrike">
                <a:solidFill>
                  <a:srgbClr val="008000"/>
                </a:solidFill>
                <a:latin typeface="Castellar"/>
              </a:rPr>
              <a:t>геральдис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9647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( учёные, которые изучают символы государства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Они полагают, что белый и синий цвета издревле считались цветами Русской православной церкв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Castellar"/>
              </a:rPr>
              <a:t>БЕЛЫЙ </a:t>
            </a: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– </a:t>
            </a:r>
            <a:r>
              <a:rPr b="1" i="1" lang="ru-RU" sz="2800" spc="-1" strike="noStrike">
                <a:solidFill>
                  <a:srgbClr val="000000"/>
                </a:solidFill>
                <a:latin typeface="Bodoni MT"/>
              </a:rPr>
              <a:t>ОЗНАЧАЕТ </a:t>
            </a:r>
            <a:r>
              <a:rPr b="1" i="1" lang="ru-RU" sz="2800" spc="-1" strike="noStrike">
                <a:solidFill>
                  <a:srgbClr val="ff3300"/>
                </a:solidFill>
                <a:latin typeface="Bodoni MT"/>
              </a:rPr>
              <a:t>ОТКРОВЕННОСТЬ, БЛАГОРОДСТВО, СОВЕРШЕНСТВ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stellar"/>
              </a:rPr>
              <a:t>СИНИЙ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– </a:t>
            </a:r>
            <a:r>
              <a:rPr b="1" i="1" lang="ru-RU" sz="2800" spc="-1" strike="noStrike">
                <a:solidFill>
                  <a:srgbClr val="336600"/>
                </a:solidFill>
                <a:latin typeface="Castellar"/>
              </a:rPr>
              <a:t>ВЕРНОСТЬ И ЧЕСТНОС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stellar"/>
              </a:rPr>
              <a:t>КРАСНЫЙ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– </a:t>
            </a:r>
            <a:r>
              <a:rPr b="1" i="1" lang="ru-RU" sz="2800" spc="-1" strike="noStrike">
                <a:solidFill>
                  <a:srgbClr val="800080"/>
                </a:solidFill>
                <a:latin typeface="Castellar"/>
              </a:rPr>
              <a:t>МУЖЕСТВО, ОТВАГУ, ГЕРОИЗ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5292720" y="1413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cc"/>
                </a:solidFill>
                <a:latin typeface="Castellar"/>
              </a:rPr>
              <a:t>Нашему флагу 300 ЛЕТ, </a:t>
            </a:r>
            <a:br>
              <a:rPr sz="4000"/>
            </a:br>
            <a:r>
              <a:rPr b="1" i="1" lang="ru-RU" sz="4000" spc="-1" strike="noStrike">
                <a:solidFill>
                  <a:srgbClr val="9900cc"/>
                </a:solidFill>
                <a:latin typeface="Castellar"/>
              </a:rPr>
              <a:t>его утвердил царь Пётр </a:t>
            </a:r>
            <a:r>
              <a:rPr b="1" i="1" lang="en-US" sz="4000" spc="-1" strike="noStrike">
                <a:solidFill>
                  <a:srgbClr val="9900cc"/>
                </a:solidFill>
                <a:latin typeface="Castellar"/>
              </a:rPr>
              <a:t>I</a:t>
            </a:r>
            <a:r>
              <a:rPr b="1" i="1" lang="ru-RU" sz="4000" spc="-1" strike="noStrike">
                <a:solidFill>
                  <a:srgbClr val="9900cc"/>
                </a:solidFill>
                <a:latin typeface="Castellar"/>
              </a:rPr>
              <a:t> 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421000"/>
            <a:ext cx="7772400" cy="37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В России существует праздник, который торжественно отмечаетс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3300"/>
                </a:solidFill>
                <a:latin typeface="Copperplate Gothic Bold"/>
              </a:rPr>
              <a:t>22 АВГУСТА –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Rockwell Extra Bold"/>
              </a:rPr>
              <a:t>ДЕНЬ ГОСУДАРСТВЕННОГО ФЛАГ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Rockwell Extra Bold"/>
              </a:rPr>
              <a:t>РОССИЙСКОЙ ФЕДЕРА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Verdana"/>
              </a:rPr>
              <a:t>ГОСУДАРСТВЕННЫЙ ГИМ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24360" y="2133360"/>
            <a:ext cx="4968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Rockwell Extra Bold"/>
              </a:rPr>
              <a:t>Гимн</a:t>
            </a:r>
            <a:r>
              <a:rPr b="0" lang="ru-RU" sz="3200" spc="-1" strike="noStrike">
                <a:solidFill>
                  <a:srgbClr val="000000"/>
                </a:solidFill>
                <a:latin typeface="Rockwell Extra Bold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Rockwell Extra Bold"/>
              </a:rPr>
              <a:t>это главная песня стран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Rockwell Extra Bold"/>
              </a:rPr>
              <a:t>Слово гимн греческое и означает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Rockwell Extra Bold"/>
              </a:rPr>
              <a:t>ВОСХВАЛЕНИЕ</a:t>
            </a:r>
            <a:r>
              <a:rPr b="1" i="1" lang="ru-RU" sz="2400" spc="-1" strike="noStrike">
                <a:solidFill>
                  <a:srgbClr val="000000"/>
                </a:solidFill>
                <a:latin typeface="Rockwell Extra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Rockwell Extra Bold"/>
              </a:rPr>
              <a:t>Слова гимна написал Сергей Михалков, а слова Александр Александр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Rockwell Extra Bold"/>
              </a:rPr>
              <a:t>Гимн России был приня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Rockwell Extra Bold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Rockwell Extra Bold"/>
              </a:rPr>
              <a:t>в 2000 год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7" descr="гимн1"/>
          <p:cNvPicPr/>
          <p:nvPr/>
        </p:nvPicPr>
        <p:blipFill>
          <a:blip r:embed="rId1"/>
          <a:stretch/>
        </p:blipFill>
        <p:spPr>
          <a:xfrm>
            <a:off x="324000" y="2060640"/>
            <a:ext cx="35258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гимн2"/>
          <p:cNvPicPr/>
          <p:nvPr/>
        </p:nvPicPr>
        <p:blipFill>
          <a:blip r:embed="rId1"/>
          <a:stretch/>
        </p:blipFill>
        <p:spPr>
          <a:xfrm>
            <a:off x="1258920" y="189000"/>
            <a:ext cx="756108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Rockwell Extra Bold"/>
              </a:rPr>
              <a:t>СИМВОЛЫ РО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5" name="Picture 24" descr="символы2"/>
          <p:cNvPicPr/>
          <p:nvPr/>
        </p:nvPicPr>
        <p:blipFill>
          <a:blip r:embed="rId1"/>
          <a:stretch/>
        </p:blipFill>
        <p:spPr>
          <a:xfrm>
            <a:off x="539640" y="2017800"/>
            <a:ext cx="3988080" cy="4435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5" descr="кремль"/>
          <p:cNvPicPr/>
          <p:nvPr/>
        </p:nvPicPr>
        <p:blipFill>
          <a:blip r:embed="rId2"/>
          <a:stretch/>
        </p:blipFill>
        <p:spPr>
          <a:xfrm>
            <a:off x="4643280" y="1989000"/>
            <a:ext cx="417672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14240" y="5643360"/>
            <a:ext cx="778032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ЕЗЕНТАЦИЯ ОПУБЛИКОВАНА НА САЙТЕ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VIK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DF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U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42600" y="-785880"/>
            <a:ext cx="9929880" cy="871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тернет-ресурс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lik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s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rod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vas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okle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gu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читель начальных классов ГОУ ЦО № 1467 города Москв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укина Любовь Виктор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740720" cy="206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ак у каждого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государства, </a:t>
            </a:r>
            <a:br>
              <a:rPr sz="3200"/>
            </a:b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у России есть свои государственные символы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439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" name="Organization Chart 10"/>
          <p:cNvGrpSpPr/>
          <p:nvPr/>
        </p:nvGrpSpPr>
        <p:grpSpPr>
          <a:xfrm>
            <a:off x="969840" y="1989000"/>
            <a:ext cx="7704000" cy="4565880"/>
            <a:chOff x="969840" y="1989000"/>
            <a:chExt cx="7704000" cy="4565880"/>
          </a:xfrm>
        </p:grpSpPr>
        <p:cxnSp>
          <p:nvCxnSpPr>
            <p:cNvPr id="105" name="_s1028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5713560" y="2923200"/>
              <a:ext cx="913680" cy="2696760"/>
            </a:xfrm>
            <a:prstGeom prst="bentConnector3">
              <a:avLst>
                <a:gd name="adj1" fmla="val 139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29"/>
            <p:cNvCxnSpPr>
              <a:stCxn id="109" idx="0"/>
              <a:endCxn id="107" idx="2"/>
            </p:cNvCxnSpPr>
            <p:nvPr/>
          </p:nvCxnSpPr>
          <p:spPr>
            <a:xfrm flipV="1">
              <a:off x="4821840" y="3814920"/>
              <a:ext cx="3600" cy="913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030"/>
            <p:cNvCxnSpPr>
              <a:stCxn id="111" idx="0"/>
              <a:endCxn id="107" idx="2"/>
            </p:cNvCxnSpPr>
            <p:nvPr/>
          </p:nvCxnSpPr>
          <p:spPr>
            <a:xfrm flipH="1" flipV="1" rot="5400000">
              <a:off x="3016800" y="2923200"/>
              <a:ext cx="913680" cy="2696760"/>
            </a:xfrm>
            <a:prstGeom prst="bentConnector3">
              <a:avLst>
                <a:gd name="adj1" fmla="val 139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1031"/>
            <p:cNvSpPr/>
            <p:nvPr/>
          </p:nvSpPr>
          <p:spPr>
            <a:xfrm>
              <a:off x="3666240" y="1989000"/>
              <a:ext cx="2311200" cy="182628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ff0000"/>
                  </a:solidFill>
                  <a:latin typeface="Tahoma"/>
                </a:rPr>
                <a:t>РОССИЯ</a:t>
              </a:r>
              <a:endParaRPr b="0" lang="en-US" sz="3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_s1032"/>
            <p:cNvSpPr/>
            <p:nvPr/>
          </p:nvSpPr>
          <p:spPr>
            <a:xfrm>
              <a:off x="969840" y="4728600"/>
              <a:ext cx="2311200" cy="182628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ff0000"/>
                  </a:solidFill>
                  <a:latin typeface="Tahoma"/>
                </a:rPr>
                <a:t>ГЕРБ</a:t>
              </a:r>
              <a:endParaRPr b="0" lang="en-US" sz="3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_s1033"/>
            <p:cNvSpPr/>
            <p:nvPr/>
          </p:nvSpPr>
          <p:spPr>
            <a:xfrm>
              <a:off x="3666240" y="4728600"/>
              <a:ext cx="2311200" cy="182628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ff0000"/>
                  </a:solidFill>
                  <a:latin typeface="Tahoma"/>
                </a:rPr>
                <a:t>ФЛАГ</a:t>
              </a:r>
              <a:endParaRPr b="0" lang="en-US" sz="3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_s1034"/>
            <p:cNvSpPr/>
            <p:nvPr/>
          </p:nvSpPr>
          <p:spPr>
            <a:xfrm>
              <a:off x="6362640" y="4728600"/>
              <a:ext cx="2311200" cy="182628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ff0000"/>
                  </a:solidFill>
                  <a:latin typeface="Tahoma"/>
                </a:rPr>
                <a:t>ГИМН</a:t>
              </a:r>
              <a:endParaRPr b="0" lang="en-US" sz="3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769080" cy="21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333399"/>
                </a:solidFill>
                <a:latin typeface="Castellar"/>
              </a:rPr>
              <a:t>Гербы появились очень давно,</a:t>
            </a:r>
            <a:br>
              <a:rPr sz="3200"/>
            </a:br>
            <a:r>
              <a:rPr b="1" i="1" lang="ru-RU" sz="3200" spc="-1" strike="noStrike">
                <a:solidFill>
                  <a:srgbClr val="333399"/>
                </a:solidFill>
                <a:latin typeface="Castellar"/>
              </a:rPr>
              <a:t>около 4 тысяч лет назад.</a:t>
            </a:r>
            <a:br>
              <a:rPr sz="3200"/>
            </a:br>
            <a:r>
              <a:rPr b="1" i="1" lang="ru-RU" sz="3200" spc="-1" strike="noStrike">
                <a:solidFill>
                  <a:srgbClr val="333399"/>
                </a:solidFill>
                <a:latin typeface="Castellar"/>
              </a:rPr>
              <a:t>Слово </a:t>
            </a:r>
            <a:r>
              <a:rPr b="1" i="1" lang="ru-RU" sz="3200" spc="-1" strike="noStrike">
                <a:solidFill>
                  <a:srgbClr val="ff0000"/>
                </a:solidFill>
                <a:latin typeface="Castellar"/>
              </a:rPr>
              <a:t>« ГЕРБ »</a:t>
            </a:r>
            <a:r>
              <a:rPr b="1" i="1" lang="ru-RU" sz="3200" spc="-1" strike="noStrike">
                <a:solidFill>
                  <a:srgbClr val="333399"/>
                </a:solidFill>
                <a:latin typeface="Castellar"/>
              </a:rPr>
              <a:t> немецкое  </a:t>
            </a:r>
            <a:r>
              <a:rPr b="1" i="1" lang="ru-RU" sz="3200" spc="-1" strike="noStrike">
                <a:solidFill>
                  <a:srgbClr val="ff0000"/>
                </a:solidFill>
                <a:latin typeface="Castellar"/>
              </a:rPr>
              <a:t>ЭРБЕ </a:t>
            </a:r>
            <a:r>
              <a:rPr b="1" i="1" lang="ru-RU" sz="3200" spc="-1" strike="noStrike">
                <a:solidFill>
                  <a:srgbClr val="333399"/>
                </a:solidFill>
                <a:latin typeface="Castellar"/>
              </a:rPr>
              <a:t>и 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Arial Unicode MS"/>
              </a:rPr>
              <a:t>обозначает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Castellar"/>
              </a:rPr>
              <a:t>НАСЛЕДСТВО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stellar"/>
              </a:rPr>
              <a:t>Герб показывает исторические традиции страны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074160" y="5784480"/>
            <a:ext cx="6984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Rockwell Extra Bold"/>
              </a:rPr>
              <a:t>ГЕРБ </a:t>
            </a:r>
            <a:br>
              <a:rPr sz="4000"/>
            </a:br>
            <a:r>
              <a:rPr b="1" i="1" lang="ru-RU" sz="4000" spc="-1" strike="noStrike">
                <a:solidFill>
                  <a:srgbClr val="333399"/>
                </a:solidFill>
                <a:latin typeface="Rockwell Extra Bold"/>
              </a:rPr>
              <a:t>РОССИЙСКОЙ ФЕДЕРАЦ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Picture 7" descr="герб"/>
          <p:cNvPicPr/>
          <p:nvPr/>
        </p:nvPicPr>
        <p:blipFill>
          <a:blip r:embed="rId1"/>
          <a:stretch/>
        </p:blipFill>
        <p:spPr>
          <a:xfrm>
            <a:off x="324000" y="2133720"/>
            <a:ext cx="3527280" cy="424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24360" y="1844640"/>
            <a:ext cx="49593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stellar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На гербе изображён двуглавый орёл с распростёртыми крыльями, с тремя коронами. Это обозначает единство царств: Казанского, Астраханского и Сибирского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49016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Castellar"/>
              </a:rPr>
              <a:t>Изображены на гербе символы власти: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43862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stellar"/>
              </a:rPr>
              <a:t>Скипетр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stellar"/>
              </a:rPr>
              <a:t>Держава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А на груди орла 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Rockwell Extra Bold"/>
              </a:rPr>
              <a:t>ГЕРБ МОСКВ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7" descr="флаг и герб"/>
          <p:cNvPicPr/>
          <p:nvPr/>
        </p:nvPicPr>
        <p:blipFill>
          <a:blip r:embed="rId1"/>
          <a:stretch/>
        </p:blipFill>
        <p:spPr>
          <a:xfrm>
            <a:off x="5145120" y="1916280"/>
            <a:ext cx="3809880" cy="43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ahoma"/>
              </a:rPr>
              <a:t>Государственный флаг-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Castellar"/>
              </a:rPr>
              <a:t>важный символ страны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8064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Он подлежит защите как внутри страны, так за её предел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Его оскорбление рассматривается как оскорбление чести народа и государст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stellar"/>
              </a:rPr>
              <a:t>ФЛАГ-</a:t>
            </a:r>
            <a:r>
              <a:rPr b="1" i="1" lang="ru-RU" sz="6000" spc="-1" strike="noStrike">
                <a:solidFill>
                  <a:srgbClr val="000000"/>
                </a:solidFill>
                <a:latin typeface="Castellar"/>
              </a:rPr>
              <a:t> это СВЯТЫНЯ.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 rot="10800000">
            <a:off x="1371600" y="6742080"/>
            <a:ext cx="7772400" cy="1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Rockwell Extra Bold"/>
              </a:rPr>
              <a:t>ФЛАГ </a:t>
            </a:r>
            <a:br>
              <a:rPr sz="4000"/>
            </a:br>
            <a:r>
              <a:rPr b="1" i="1" lang="ru-RU" sz="4000" spc="-1" strike="noStrike">
                <a:solidFill>
                  <a:srgbClr val="333399"/>
                </a:solidFill>
                <a:latin typeface="Rockwell Extra Bold"/>
              </a:rPr>
              <a:t>РОССИЙСКОЙ ФЕДЕРАЦ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На нашем флаг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три цвет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Castellar"/>
              </a:rPr>
              <a:t>Белы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Castellar"/>
              </a:rPr>
              <a:t>Син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stellar"/>
              </a:rPr>
              <a:t>Красны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Флаг - триколо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4" descr="флаг"/>
          <p:cNvPicPr/>
          <p:nvPr/>
        </p:nvPicPr>
        <p:blipFill>
          <a:blip r:embed="rId1"/>
          <a:stretch/>
        </p:blipFill>
        <p:spPr>
          <a:xfrm>
            <a:off x="250920" y="2205000"/>
            <a:ext cx="4681440" cy="33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Castellar"/>
              </a:rPr>
              <a:t>История происхождения триколо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877572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У историков существует несколько версий происхождения цветов в Государственном флаг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ервая версия относится к временам правления Петра </a:t>
            </a:r>
            <a:r>
              <a:rPr b="1" i="1" lang="en-US" sz="2800" spc="-1" strike="noStrike">
                <a:solidFill>
                  <a:srgbClr val="000000"/>
                </a:solidFill>
                <a:latin typeface="Castellar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, который взял эти цвета у герба Москв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Castellar"/>
              </a:rPr>
              <a:t>Белый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- это белый</a:t>
            </a:r>
            <a:r>
              <a:rPr b="1" i="1" lang="ru-RU" sz="2800" spc="-1" strike="noStrike">
                <a:solidFill>
                  <a:srgbClr val="ffff99"/>
                </a:solidFill>
                <a:latin typeface="Castellar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кон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Castellar"/>
              </a:rPr>
              <a:t>Синий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– это синий плащ на Георгии Победоносц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stellar"/>
              </a:rPr>
              <a:t>Красный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– это красный щит герб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8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Вторая точка зрения утверждает, что появление триколора имеет историческое значение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877572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Чередующиеся белая, синяя и красная полосы появились во времена правления отца Петра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 I</a:t>
            </a: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 – царя Алексея Михайлович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В те времена Россия была многонациональным государством, и основными народами считались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Белорусы ( </a:t>
            </a:r>
            <a:r>
              <a:rPr b="1" i="1" lang="ru-RU" sz="3200" spc="-1" strike="noStrike">
                <a:solidFill>
                  <a:srgbClr val="ffcc66"/>
                </a:solidFill>
                <a:latin typeface="Castellar"/>
              </a:rPr>
              <a:t>белый цвет</a:t>
            </a: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 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Украинцы ( </a:t>
            </a:r>
            <a:r>
              <a:rPr b="1" i="1" lang="ru-RU" sz="3200" spc="-1" strike="noStrike">
                <a:solidFill>
                  <a:srgbClr val="000099"/>
                </a:solidFill>
                <a:latin typeface="Castellar"/>
              </a:rPr>
              <a:t>синий цвет</a:t>
            </a: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 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Русские ( </a:t>
            </a:r>
            <a:r>
              <a:rPr b="1" i="1" lang="ru-RU" sz="3200" spc="-1" strike="noStrike">
                <a:solidFill>
                  <a:srgbClr val="cc0000"/>
                </a:solidFill>
                <a:latin typeface="Castellar"/>
              </a:rPr>
              <a:t>красный цвет</a:t>
            </a: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 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4:19:58Z</dcterms:created>
  <dc:creator>Никита Лукин</dc:creator>
  <dc:description/>
  <dc:language>en-US</dc:language>
  <cp:lastModifiedBy>Лукина Любовь</cp:lastModifiedBy>
  <dcterms:modified xsi:type="dcterms:W3CDTF">2011-11-15T20:16:00Z</dcterms:modified>
  <cp:revision>60</cp:revision>
  <dc:subject/>
  <dc:title>СИМВОЛЫ И ПРАЗДНИКИ РОССИИ</dc:title>
</cp:coreProperties>
</file>