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6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0275-D713-477B-98DA-C02B390D3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2C32-49D9-425F-A94B-059C066B0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AC4B-6418-4CCB-92F8-7F8F3CC09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F366-0062-46FC-A60F-DBC87063A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2A8BD-EC5C-4BA1-BD1B-AB4D55A6E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E4EAD-4BBC-4CDD-B837-EBB60FE68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2002E-141C-4137-9EA8-01E8B5501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D4332-6FD8-4C33-ACD9-21409F7CB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EDDD1-571B-43DD-876A-32AA4EBF3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D80B0-759B-49AB-AE39-1B8AAB882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2C0FD-5B89-48C7-B950-C9CEB4D9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D9D1-5DE1-45FA-8E6E-811E23D75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FC229-2AE6-4783-842B-A090B27B9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D2EDD-B683-4F88-B935-AA13B05CE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32406-FDC2-48E3-B18F-EC85050EB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554A6-6971-4F3D-A09F-9A078ADB5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0FAAC-9A4B-454F-A3A7-C1D2061C9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7EC3-54AB-4215-B232-67F0ABE27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5875-E191-4EA3-8FE5-7FB38DB61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85A2-53D2-4C24-93C0-EEEA19EB0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BC46-7492-4336-AE65-42E479DF4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12CF-30CA-47AA-89B1-DA926AA82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A78A-9EAE-4A2D-9271-4A4574AE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F0B9-23C4-415D-BA78-F1A50646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E0CC2-3CF8-40A6-A15D-FAE6A65D4D5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FCF53-7195-4F20-A51C-51B535028345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olik.ru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764640"/>
            <a:ext cx="7772400" cy="223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i="1" lang="ru-RU" sz="4000" spc="-1" strike="noStrike">
                <a:solidFill>
                  <a:srgbClr val="333399"/>
                </a:solidFill>
                <a:latin typeface="Times New Roman"/>
              </a:rPr>
              <a:t>ГОСУДАРСТВЕННЫЕ СИМВОЛЫ РОССИЙСКОЙ ФЕДЕРАЦИИ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2997000"/>
            <a:ext cx="6400800" cy="26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Picture 5" descr="гимн"/>
          <p:cNvPicPr/>
          <p:nvPr/>
        </p:nvPicPr>
        <p:blipFill>
          <a:blip r:embed="rId1"/>
          <a:stretch/>
        </p:blipFill>
        <p:spPr>
          <a:xfrm>
            <a:off x="1835280" y="3284640"/>
            <a:ext cx="5616360" cy="343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560" y="2017800"/>
            <a:ext cx="460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Tahoma"/>
              </a:rPr>
              <a:t>ОБЩНОСТЬ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ЕДИНСТВО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этих национальностей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и отражает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флаг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Picture 7" descr="флаг и герб"/>
          <p:cNvPicPr/>
          <p:nvPr/>
        </p:nvPicPr>
        <p:blipFill>
          <a:blip r:embed="rId1"/>
          <a:stretch/>
        </p:blipFill>
        <p:spPr>
          <a:xfrm>
            <a:off x="4500720" y="2637000"/>
            <a:ext cx="4464000" cy="31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Castellar"/>
              </a:rPr>
              <a:t>По – иному объясняют расцветку Российского флага</a:t>
            </a:r>
            <a:r>
              <a:rPr b="1" i="1" lang="ru-RU" sz="4400" spc="-1" strike="noStrike">
                <a:solidFill>
                  <a:srgbClr val="0000ff"/>
                </a:solidFill>
                <a:latin typeface="Castellar"/>
              </a:rPr>
              <a:t> </a:t>
            </a:r>
            <a:r>
              <a:rPr b="1" i="1" lang="ru-RU" sz="4400" spc="-1" strike="noStrike">
                <a:solidFill>
                  <a:srgbClr val="008000"/>
                </a:solidFill>
                <a:latin typeface="Castellar"/>
              </a:rPr>
              <a:t>геральдист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9280" y="1915920"/>
            <a:ext cx="896472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stellar"/>
              </a:rPr>
              <a:t>( учёные, которые изучают символы государства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stellar"/>
              </a:rPr>
              <a:t>Они полагают, что белый и синий цвета издревле считались цветами Русской православной церкв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66"/>
                </a:solidFill>
                <a:latin typeface="Castellar"/>
              </a:rPr>
              <a:t>БЕЛЫЙ </a:t>
            </a:r>
            <a:r>
              <a:rPr b="1" i="1" lang="ru-RU" sz="3200" spc="-1" strike="noStrike">
                <a:solidFill>
                  <a:srgbClr val="000000"/>
                </a:solidFill>
                <a:latin typeface="Castellar"/>
              </a:rPr>
              <a:t>– </a:t>
            </a:r>
            <a:r>
              <a:rPr b="1" i="1" lang="ru-RU" sz="2800" spc="-1" strike="noStrike">
                <a:solidFill>
                  <a:srgbClr val="000000"/>
                </a:solidFill>
                <a:latin typeface="Bodoni MT"/>
              </a:rPr>
              <a:t>ОЗНАЧАЕТ </a:t>
            </a:r>
            <a:r>
              <a:rPr b="1" i="1" lang="ru-RU" sz="2800" spc="-1" strike="noStrike">
                <a:solidFill>
                  <a:srgbClr val="ff3300"/>
                </a:solidFill>
                <a:latin typeface="Bodoni MT"/>
              </a:rPr>
              <a:t>ОТКРОВЕННОСТЬ, БЛАГОРОДСТВО, СОВЕРШЕНСТВО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Castellar"/>
              </a:rPr>
              <a:t>СИНИЙ </a:t>
            </a: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– </a:t>
            </a:r>
            <a:r>
              <a:rPr b="1" i="1" lang="ru-RU" sz="2800" spc="-1" strike="noStrike">
                <a:solidFill>
                  <a:srgbClr val="336600"/>
                </a:solidFill>
                <a:latin typeface="Castellar"/>
              </a:rPr>
              <a:t>ВЕРНОСТЬ И ЧЕСТНОСТЬ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stellar"/>
              </a:rPr>
              <a:t>КРАСНЫЙ </a:t>
            </a: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– </a:t>
            </a:r>
            <a:r>
              <a:rPr b="1" i="1" lang="ru-RU" sz="2800" spc="-1" strike="noStrike">
                <a:solidFill>
                  <a:srgbClr val="800080"/>
                </a:solidFill>
                <a:latin typeface="Castellar"/>
              </a:rPr>
              <a:t>МУЖЕСТВО, ОТВАГУ, ГЕРОИЗМ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4"/>
          <p:cNvSpPr/>
          <p:nvPr/>
        </p:nvSpPr>
        <p:spPr>
          <a:xfrm>
            <a:off x="5292720" y="141300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00cc"/>
                </a:solidFill>
                <a:latin typeface="Castellar"/>
              </a:rPr>
              <a:t>Нашему флагу 300 ЛЕТ, </a:t>
            </a:r>
            <a:br>
              <a:rPr sz="4000"/>
            </a:br>
            <a:r>
              <a:rPr b="1" i="1" lang="ru-RU" sz="4000" spc="-1" strike="noStrike">
                <a:solidFill>
                  <a:srgbClr val="9900cc"/>
                </a:solidFill>
                <a:latin typeface="Castellar"/>
              </a:rPr>
              <a:t>его утвердил царь Пётр </a:t>
            </a:r>
            <a:r>
              <a:rPr b="1" i="1" lang="en-US" sz="4000" spc="-1" strike="noStrike">
                <a:solidFill>
                  <a:srgbClr val="9900cc"/>
                </a:solidFill>
                <a:latin typeface="Castellar"/>
              </a:rPr>
              <a:t>I</a:t>
            </a:r>
            <a:r>
              <a:rPr b="1" i="1" lang="ru-RU" sz="4000" spc="-1" strike="noStrike">
                <a:solidFill>
                  <a:srgbClr val="9900cc"/>
                </a:solidFill>
                <a:latin typeface="Castellar"/>
              </a:rPr>
              <a:t> 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421000"/>
            <a:ext cx="7772400" cy="37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stellar"/>
              </a:rPr>
              <a:t>В России существует праздник, который торжественно отмечаетс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3200" spc="-1" strike="noStrike">
                <a:solidFill>
                  <a:srgbClr val="ff3300"/>
                </a:solidFill>
                <a:latin typeface="Copperplate Gothic Bold"/>
              </a:rPr>
              <a:t>22 АВГУСТА –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Rockwell Extra Bold"/>
              </a:rPr>
              <a:t>ДЕНЬ ГОСУДАРСТВЕННОГО ФЛАГ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Rockwell Extra Bold"/>
              </a:rPr>
              <a:t>РОССИЙСКОЙ ФЕДЕРАЦИ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Verdana"/>
              </a:rPr>
              <a:t>ГОСУДАРСТВЕННЫЙ ГИМН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24360" y="2133360"/>
            <a:ext cx="496872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Rockwell Extra Bold"/>
              </a:rPr>
              <a:t>Гимн</a:t>
            </a:r>
            <a:r>
              <a:rPr b="0" lang="ru-RU" sz="3200" spc="-1" strike="noStrike">
                <a:solidFill>
                  <a:srgbClr val="000000"/>
                </a:solidFill>
                <a:latin typeface="Rockwell Extra Bold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1" i="1" lang="ru-RU" sz="2400" spc="-1" strike="noStrike">
                <a:solidFill>
                  <a:srgbClr val="000000"/>
                </a:solidFill>
                <a:latin typeface="Rockwell Extra Bold"/>
              </a:rPr>
              <a:t>это главная песня стран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Rockwell Extra Bold"/>
              </a:rPr>
              <a:t>Слово гимн греческое и означает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Rockwell Extra Bold"/>
              </a:rPr>
              <a:t>ВОСХВАЛЕНИЕ</a:t>
            </a:r>
            <a:r>
              <a:rPr b="1" i="1" lang="ru-RU" sz="2400" spc="-1" strike="noStrike">
                <a:solidFill>
                  <a:srgbClr val="000000"/>
                </a:solidFill>
                <a:latin typeface="Rockwell Extra Bol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Rockwell Extra Bold"/>
              </a:rPr>
              <a:t>Слова гимна написал Сергей Михалков, а слова Александр Александр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Rockwell Extra Bold"/>
              </a:rPr>
              <a:t>Гимн России был приня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Rockwell Extra Bold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Rockwell Extra Bold"/>
              </a:rPr>
              <a:t>в 2000 году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Picture 7" descr="гимн1"/>
          <p:cNvPicPr/>
          <p:nvPr/>
        </p:nvPicPr>
        <p:blipFill>
          <a:blip r:embed="rId1"/>
          <a:stretch/>
        </p:blipFill>
        <p:spPr>
          <a:xfrm>
            <a:off x="324000" y="2060640"/>
            <a:ext cx="352584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гимн2"/>
          <p:cNvPicPr/>
          <p:nvPr/>
        </p:nvPicPr>
        <p:blipFill>
          <a:blip r:embed="rId1"/>
          <a:stretch/>
        </p:blipFill>
        <p:spPr>
          <a:xfrm>
            <a:off x="1258920" y="189000"/>
            <a:ext cx="7561080" cy="64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Rockwell Extra Bold"/>
              </a:rPr>
              <a:t>СИМВОЛЫ РОССИ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5" name="Picture 24" descr="символы2"/>
          <p:cNvPicPr/>
          <p:nvPr/>
        </p:nvPicPr>
        <p:blipFill>
          <a:blip r:embed="rId1"/>
          <a:stretch/>
        </p:blipFill>
        <p:spPr>
          <a:xfrm>
            <a:off x="539640" y="2017800"/>
            <a:ext cx="3988080" cy="44355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5" descr="кремль"/>
          <p:cNvPicPr/>
          <p:nvPr/>
        </p:nvPicPr>
        <p:blipFill>
          <a:blip r:embed="rId2"/>
          <a:stretch/>
        </p:blipFill>
        <p:spPr>
          <a:xfrm>
            <a:off x="4643280" y="1989000"/>
            <a:ext cx="4176720" cy="453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14240" y="5643360"/>
            <a:ext cx="778032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ЕЗЕНТАЦИЯ ОПУБЛИКОВАНА НА САЙТЕ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VIKI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.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RDF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.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RU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42600" y="-785880"/>
            <a:ext cx="9929880" cy="871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нтернет-ресурсы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lik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us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rod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ww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vas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ww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okle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gu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читель начальных классов ГОУ ЦО № 1467 города Москвы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Лукина Любовь Викторовн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03280" y="0"/>
            <a:ext cx="7740720" cy="206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Как у каждого 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государства, </a:t>
            </a:r>
            <a:br>
              <a:rPr sz="3200"/>
            </a:b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у России есть свои государственные символы: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-360" y="1700280"/>
            <a:ext cx="439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4" name="Organization Chart 10"/>
          <p:cNvGrpSpPr/>
          <p:nvPr/>
        </p:nvGrpSpPr>
        <p:grpSpPr>
          <a:xfrm>
            <a:off x="969840" y="1989000"/>
            <a:ext cx="7704000" cy="4565880"/>
            <a:chOff x="969840" y="1989000"/>
            <a:chExt cx="7704000" cy="4565880"/>
          </a:xfrm>
        </p:grpSpPr>
        <p:cxnSp>
          <p:nvCxnSpPr>
            <p:cNvPr id="105" name="_s1028"/>
            <p:cNvCxnSpPr>
              <a:stCxn id="106" idx="0"/>
              <a:endCxn id="107" idx="2"/>
            </p:cNvCxnSpPr>
            <p:nvPr/>
          </p:nvCxnSpPr>
          <p:spPr>
            <a:xfrm flipV="1" rot="16200000">
              <a:off x="5713560" y="2923200"/>
              <a:ext cx="913680" cy="2696760"/>
            </a:xfrm>
            <a:prstGeom prst="bentConnector3">
              <a:avLst>
                <a:gd name="adj1" fmla="val 1391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8" name="_s1029"/>
            <p:cNvCxnSpPr>
              <a:stCxn id="109" idx="0"/>
              <a:endCxn id="107" idx="2"/>
            </p:cNvCxnSpPr>
            <p:nvPr/>
          </p:nvCxnSpPr>
          <p:spPr>
            <a:xfrm flipV="1">
              <a:off x="4821840" y="3814920"/>
              <a:ext cx="3600" cy="913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0" name="_s1030"/>
            <p:cNvCxnSpPr>
              <a:stCxn id="111" idx="0"/>
              <a:endCxn id="107" idx="2"/>
            </p:cNvCxnSpPr>
            <p:nvPr/>
          </p:nvCxnSpPr>
          <p:spPr>
            <a:xfrm flipH="1" flipV="1" rot="5400000">
              <a:off x="3016800" y="2923200"/>
              <a:ext cx="913680" cy="2696760"/>
            </a:xfrm>
            <a:prstGeom prst="bentConnector3">
              <a:avLst>
                <a:gd name="adj1" fmla="val 1391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7" name="_s1031"/>
            <p:cNvSpPr/>
            <p:nvPr/>
          </p:nvSpPr>
          <p:spPr>
            <a:xfrm>
              <a:off x="3666240" y="1989000"/>
              <a:ext cx="2311200" cy="182628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500" spc="-1" strike="noStrike">
                  <a:solidFill>
                    <a:srgbClr val="ff0000"/>
                  </a:solidFill>
                  <a:latin typeface="Tahoma"/>
                </a:rPr>
                <a:t>РОССИЯ</a:t>
              </a:r>
              <a:endParaRPr b="0" lang="en-US" sz="3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" name="_s1032"/>
            <p:cNvSpPr/>
            <p:nvPr/>
          </p:nvSpPr>
          <p:spPr>
            <a:xfrm>
              <a:off x="969840" y="4728600"/>
              <a:ext cx="2311200" cy="182628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500" spc="-1" strike="noStrike">
                  <a:solidFill>
                    <a:srgbClr val="ff0000"/>
                  </a:solidFill>
                  <a:latin typeface="Tahoma"/>
                </a:rPr>
                <a:t>ГЕРБ</a:t>
              </a:r>
              <a:endParaRPr b="0" lang="en-US" sz="3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" name="_s1033"/>
            <p:cNvSpPr/>
            <p:nvPr/>
          </p:nvSpPr>
          <p:spPr>
            <a:xfrm>
              <a:off x="3666240" y="4728600"/>
              <a:ext cx="2311200" cy="182628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500" spc="-1" strike="noStrike">
                  <a:solidFill>
                    <a:srgbClr val="ff0000"/>
                  </a:solidFill>
                  <a:latin typeface="Tahoma"/>
                </a:rPr>
                <a:t>ФЛАГ</a:t>
              </a:r>
              <a:endParaRPr b="0" lang="en-US" sz="3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_s1034"/>
            <p:cNvSpPr/>
            <p:nvPr/>
          </p:nvSpPr>
          <p:spPr>
            <a:xfrm>
              <a:off x="6362640" y="4728600"/>
              <a:ext cx="2311200" cy="182628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500" spc="-1" strike="noStrike">
                  <a:solidFill>
                    <a:srgbClr val="ff0000"/>
                  </a:solidFill>
                  <a:latin typeface="Tahoma"/>
                </a:rPr>
                <a:t>ГИМН</a:t>
              </a:r>
              <a:endParaRPr b="0" lang="en-US" sz="3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6769080" cy="21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333399"/>
                </a:solidFill>
                <a:latin typeface="Castellar"/>
              </a:rPr>
              <a:t>Гербы появились очень давно,</a:t>
            </a:r>
            <a:br>
              <a:rPr sz="3200"/>
            </a:br>
            <a:r>
              <a:rPr b="1" i="1" lang="ru-RU" sz="3200" spc="-1" strike="noStrike">
                <a:solidFill>
                  <a:srgbClr val="333399"/>
                </a:solidFill>
                <a:latin typeface="Castellar"/>
              </a:rPr>
              <a:t>около 4 тысяч лет назад.</a:t>
            </a:r>
            <a:br>
              <a:rPr sz="3200"/>
            </a:br>
            <a:r>
              <a:rPr b="1" i="1" lang="ru-RU" sz="3200" spc="-1" strike="noStrike">
                <a:solidFill>
                  <a:srgbClr val="333399"/>
                </a:solidFill>
                <a:latin typeface="Castellar"/>
              </a:rPr>
              <a:t>Слово </a:t>
            </a:r>
            <a:r>
              <a:rPr b="1" i="1" lang="ru-RU" sz="3200" spc="-1" strike="noStrike">
                <a:solidFill>
                  <a:srgbClr val="ff0000"/>
                </a:solidFill>
                <a:latin typeface="Castellar"/>
              </a:rPr>
              <a:t>« ГЕРБ »</a:t>
            </a:r>
            <a:r>
              <a:rPr b="1" i="1" lang="ru-RU" sz="3200" spc="-1" strike="noStrike">
                <a:solidFill>
                  <a:srgbClr val="333399"/>
                </a:solidFill>
                <a:latin typeface="Castellar"/>
              </a:rPr>
              <a:t> немецкое  </a:t>
            </a:r>
            <a:r>
              <a:rPr b="1" i="1" lang="ru-RU" sz="3200" spc="-1" strike="noStrike">
                <a:solidFill>
                  <a:srgbClr val="ff0000"/>
                </a:solidFill>
                <a:latin typeface="Castellar"/>
              </a:rPr>
              <a:t>ЭРБЕ </a:t>
            </a:r>
            <a:r>
              <a:rPr b="1" i="1" lang="ru-RU" sz="3200" spc="-1" strike="noStrike">
                <a:solidFill>
                  <a:srgbClr val="333399"/>
                </a:solidFill>
                <a:latin typeface="Castellar"/>
              </a:rPr>
              <a:t>и 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cc"/>
                </a:solidFill>
                <a:latin typeface="Arial Unicode MS"/>
              </a:rPr>
              <a:t>обозначает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d60093"/>
                </a:solidFill>
                <a:latin typeface="Castellar"/>
              </a:rPr>
              <a:t>НАСЛЕДСТВО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astellar"/>
              </a:rPr>
              <a:t>Герб показывает исторические традиции страны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9074160" y="5784480"/>
            <a:ext cx="69840" cy="10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Rockwell Extra Bold"/>
              </a:rPr>
              <a:t>ГЕРБ </a:t>
            </a:r>
            <a:br>
              <a:rPr sz="4000"/>
            </a:br>
            <a:r>
              <a:rPr b="1" i="1" lang="ru-RU" sz="4000" spc="-1" strike="noStrike">
                <a:solidFill>
                  <a:srgbClr val="333399"/>
                </a:solidFill>
                <a:latin typeface="Rockwell Extra Bold"/>
              </a:rPr>
              <a:t>РОССИЙСКОЙ ФЕДЕРАЦИИ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6" name="Picture 7" descr="герб"/>
          <p:cNvPicPr/>
          <p:nvPr/>
        </p:nvPicPr>
        <p:blipFill>
          <a:blip r:embed="rId1"/>
          <a:stretch/>
        </p:blipFill>
        <p:spPr>
          <a:xfrm>
            <a:off x="324000" y="2133720"/>
            <a:ext cx="3527280" cy="4248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24360" y="1844640"/>
            <a:ext cx="495936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stellar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Castellar"/>
              </a:rPr>
              <a:t>На гербе изображён двуглавый орёл с распростёртыми крыльями, с тремя коронами. Это обозначает единство царств: Казанского, Астраханского и Сибирского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87280" y="189000"/>
            <a:ext cx="7490160" cy="20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Castellar"/>
              </a:rPr>
              <a:t>Изображены на гербе символы власти: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9640" y="2204640"/>
            <a:ext cx="43862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stellar"/>
              </a:rPr>
              <a:t>Скипетр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stellar"/>
              </a:rPr>
              <a:t>Держава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stellar"/>
              </a:rPr>
              <a:t>А на груди орла –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Rockwell Extra Bold"/>
              </a:rPr>
              <a:t>ГЕРБ МОСКВ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7" descr="флаг и герб"/>
          <p:cNvPicPr/>
          <p:nvPr/>
        </p:nvPicPr>
        <p:blipFill>
          <a:blip r:embed="rId1"/>
          <a:stretch/>
        </p:blipFill>
        <p:spPr>
          <a:xfrm>
            <a:off x="5145120" y="1916280"/>
            <a:ext cx="3809880" cy="43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00"/>
                </a:solidFill>
                <a:latin typeface="Tahoma"/>
              </a:rPr>
              <a:t>Государственный флаг-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ru-RU" sz="4400" spc="-1" strike="noStrike">
                <a:solidFill>
                  <a:srgbClr val="000000"/>
                </a:solidFill>
                <a:latin typeface="Castellar"/>
              </a:rPr>
              <a:t>важный символ страны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8064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Он подлежит защите как внутри страны, так за её пределам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Его оскорбление рассматривается как оскорбление чести народа и государств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Castellar"/>
              </a:rPr>
              <a:t>ФЛАГ-</a:t>
            </a:r>
            <a:r>
              <a:rPr b="1" i="1" lang="ru-RU" sz="6000" spc="-1" strike="noStrike">
                <a:solidFill>
                  <a:srgbClr val="000000"/>
                </a:solidFill>
                <a:latin typeface="Castellar"/>
              </a:rPr>
              <a:t> это СВЯТЫНЯ.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 rot="10800000">
            <a:off x="1371600" y="6742080"/>
            <a:ext cx="7772400" cy="11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Rockwell Extra Bold"/>
              </a:rPr>
              <a:t>ФЛАГ </a:t>
            </a:r>
            <a:br>
              <a:rPr sz="4000"/>
            </a:br>
            <a:r>
              <a:rPr b="1" i="1" lang="ru-RU" sz="4000" spc="-1" strike="noStrike">
                <a:solidFill>
                  <a:srgbClr val="333399"/>
                </a:solidFill>
                <a:latin typeface="Rockwell Extra Bold"/>
              </a:rPr>
              <a:t>РОССИЙСКОЙ ФЕДЕРАЦИИ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stellar"/>
              </a:rPr>
              <a:t>На нашем флаг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stellar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astellar"/>
              </a:rPr>
              <a:t>три цвета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66"/>
                </a:solidFill>
                <a:latin typeface="Castellar"/>
              </a:rPr>
              <a:t>Белы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Castellar"/>
              </a:rPr>
              <a:t>Сини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stellar"/>
              </a:rPr>
              <a:t>Красны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Флаг - триколор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Picture 4" descr="флаг"/>
          <p:cNvPicPr/>
          <p:nvPr/>
        </p:nvPicPr>
        <p:blipFill>
          <a:blip r:embed="rId1"/>
          <a:stretch/>
        </p:blipFill>
        <p:spPr>
          <a:xfrm>
            <a:off x="250920" y="2205000"/>
            <a:ext cx="4681440" cy="331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60093"/>
                </a:solidFill>
                <a:latin typeface="Castellar"/>
              </a:rPr>
              <a:t>История происхождения триколор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8920" y="1988640"/>
            <a:ext cx="877572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У историков существует несколько версий происхождения цветов в Государственном флаг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Первая версия относится к временам правления Петра </a:t>
            </a:r>
            <a:r>
              <a:rPr b="1" i="1" lang="en-US" sz="2800" spc="-1" strike="noStrike">
                <a:solidFill>
                  <a:srgbClr val="000000"/>
                </a:solidFill>
                <a:latin typeface="Castellar"/>
              </a:rPr>
              <a:t>I</a:t>
            </a: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, который взял эти цвета у герба Москвы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66"/>
                </a:solidFill>
                <a:latin typeface="Castellar"/>
              </a:rPr>
              <a:t>Белый</a:t>
            </a: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 - это белый</a:t>
            </a:r>
            <a:r>
              <a:rPr b="1" i="1" lang="ru-RU" sz="2800" spc="-1" strike="noStrike">
                <a:solidFill>
                  <a:srgbClr val="ffff99"/>
                </a:solidFill>
                <a:latin typeface="Castellar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конь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Castellar"/>
              </a:rPr>
              <a:t>Синий</a:t>
            </a: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 – это синий плащ на Георгии Победоносц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stellar"/>
              </a:rPr>
              <a:t>Красный</a:t>
            </a: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 – это красный щит герб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8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stellar"/>
              </a:rPr>
              <a:t>Вторая точка зрения утверждает, что появление триколора имеет историческое значение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8920" y="1988640"/>
            <a:ext cx="877572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stellar"/>
              </a:rPr>
              <a:t>Чередующиеся белая, синяя и красная полосы появились во времена правления отца Петра</a:t>
            </a:r>
            <a:r>
              <a:rPr b="1" i="1" lang="en-US" sz="3200" spc="-1" strike="noStrike">
                <a:solidFill>
                  <a:srgbClr val="000000"/>
                </a:solidFill>
                <a:latin typeface="Castellar"/>
              </a:rPr>
              <a:t> I</a:t>
            </a:r>
            <a:r>
              <a:rPr b="1" i="1" lang="ru-RU" sz="3200" spc="-1" strike="noStrike">
                <a:solidFill>
                  <a:srgbClr val="000000"/>
                </a:solidFill>
                <a:latin typeface="Castellar"/>
              </a:rPr>
              <a:t> – царя Алексея Михайлович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stellar"/>
              </a:rPr>
              <a:t>В те времена Россия была многонациональным государством, и основными народами считались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stellar"/>
              </a:rPr>
              <a:t>Белорусы ( </a:t>
            </a:r>
            <a:r>
              <a:rPr b="1" i="1" lang="ru-RU" sz="3200" spc="-1" strike="noStrike">
                <a:solidFill>
                  <a:srgbClr val="ffcc66"/>
                </a:solidFill>
                <a:latin typeface="Castellar"/>
              </a:rPr>
              <a:t>белый цвет</a:t>
            </a:r>
            <a:r>
              <a:rPr b="1" i="1" lang="ru-RU" sz="3200" spc="-1" strike="noStrike">
                <a:solidFill>
                  <a:srgbClr val="000000"/>
                </a:solidFill>
                <a:latin typeface="Castellar"/>
              </a:rPr>
              <a:t> 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stellar"/>
              </a:rPr>
              <a:t>Украинцы ( </a:t>
            </a:r>
            <a:r>
              <a:rPr b="1" i="1" lang="ru-RU" sz="3200" spc="-1" strike="noStrike">
                <a:solidFill>
                  <a:srgbClr val="000099"/>
                </a:solidFill>
                <a:latin typeface="Castellar"/>
              </a:rPr>
              <a:t>синий цвет</a:t>
            </a:r>
            <a:r>
              <a:rPr b="1" i="1" lang="ru-RU" sz="3200" spc="-1" strike="noStrike">
                <a:solidFill>
                  <a:srgbClr val="000000"/>
                </a:solidFill>
                <a:latin typeface="Castellar"/>
              </a:rPr>
              <a:t> 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stellar"/>
              </a:rPr>
              <a:t>Русские ( </a:t>
            </a:r>
            <a:r>
              <a:rPr b="1" i="1" lang="ru-RU" sz="3200" spc="-1" strike="noStrike">
                <a:solidFill>
                  <a:srgbClr val="cc0000"/>
                </a:solidFill>
                <a:latin typeface="Castellar"/>
              </a:rPr>
              <a:t>красный цвет</a:t>
            </a:r>
            <a:r>
              <a:rPr b="1" i="1" lang="ru-RU" sz="3200" spc="-1" strike="noStrike">
                <a:solidFill>
                  <a:srgbClr val="000000"/>
                </a:solidFill>
                <a:latin typeface="Castellar"/>
              </a:rPr>
              <a:t> 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5T14:19:58Z</dcterms:created>
  <dc:creator>Никита Лукин</dc:creator>
  <dc:description/>
  <dc:language>en-US</dc:language>
  <cp:lastModifiedBy>Лукина Любовь</cp:lastModifiedBy>
  <dcterms:modified xsi:type="dcterms:W3CDTF">2011-11-15T20:16:00Z</dcterms:modified>
  <cp:revision>60</cp:revision>
  <dc:subject/>
  <dc:title>СИМВОЛЫ И ПРАЗДНИКИ РОССИИ</dc:title>
</cp:coreProperties>
</file>