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31EE-9FED-4425-A4E0-3D72A817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B7FA-9280-4AF0-8A62-9954C00A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5948-0D16-493E-8534-69F21E90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A5BD-55B3-4E6B-98E4-14D1726F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EFB2-F387-493F-B740-C81F48AC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6FB0-5CE1-4810-9E5E-36CCEF4B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6377-C714-498E-908B-7230AF43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4FD-0687-42E5-858C-15A029E2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D5C-751E-40CE-A495-C566D2A1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43E-E9B2-472B-A63C-15980BEA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C4F-DD7E-4D5E-AB2E-219F45B7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9B0-4001-4AB5-8BB5-1DCAB56D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1A25-1F5B-457F-A2FB-3198706216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удожественное 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мышление в  авангарде  нау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43040" y="3714480"/>
            <a:ext cx="641520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ласс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Сомко е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5632560" y="330516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85480" y="713880"/>
            <a:ext cx="87152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ранцузский  писатель  Оноре  де Бальзак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1799—1850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Человеческая  комедия»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ранцузский  писатель  Жюль  Вер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28—1905)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20  тысяч  лье  под водой», «Гиперболоид  инженера  Гарина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усский писатель, граф Алексей Николаевич  Толст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1882-1945)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Гиперболоид инженера Гари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усский  инженер  Лев  Сергеевич Терме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(1896—1993) изобретен  терменвокс —  электромузыкальный инстру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http://www.peremeny.ru/UserFiles/Image/Vokzal/theremin/Leon.jpg"/>
          <p:cNvPicPr/>
          <p:nvPr/>
        </p:nvPicPr>
        <p:blipFill>
          <a:blip r:embed="rId1"/>
          <a:stretch/>
        </p:blipFill>
        <p:spPr>
          <a:xfrm>
            <a:off x="5214960" y="3857760"/>
            <a:ext cx="34290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571680" y="1337400"/>
            <a:ext cx="8072280" cy="344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 чём заключается одна из многочисленных функций искусства, дающая понимание значимости художественно-образного мышления в культурном развитии человечеств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ведите примеры предсказания в произведениях искусства будущих открытий и достижений на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ите  другие  примеры  научного  значения  художественного  знания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14200" y="765000"/>
            <a:ext cx="86788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Искусство не достигает своего значения, когда ограничивается тем, что чарует людей, не вызывая в них в то же время воодушевления ко всем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что составляет величие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                                             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Ж. Р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акие знания даёт искусств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642960" y="164304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Художник  XVIII  в.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Жан Этьен Лиотар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  картине«Шоколадница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ложил  свет  по  законам,  в  то  время  еще  неизвестным физ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571680" y="250020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ранцузский писатель-фантаст XIX в. Жюль  Вер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20  тысяч  лье  под водой»  предсказал  появление  подводной  ло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571680" y="3786120"/>
            <a:ext cx="84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Художник  Винсент  Ван  Гог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ают, что  он  обладал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кальным  даром  видеть  то,  что  простым смертным  не  дано,  —  воздушные  потоки. 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428760" y="4929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Художник  В.  Кандинск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  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зработав  теорию  влияния  цвета  на эмоции человека, приблизился к  решению  задач  современной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логии и  артерапии  (исцеления  искусство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Художник  XVIII  в. 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Жан Этьен Лиотар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  в  картине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«Шоколадница»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3857760" y="1631160"/>
            <a:ext cx="5143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 истории  человечества  искусство не  раз  открывало  знания,  имеющие научное  значение.  Например,  художник  XVIII  в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- Этьен Лиотар  в  картин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Шоколадница»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жил  свет  по  законам,  в  то  время  еще  неизвестным физи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http://nearyou.ru/100kartin/img/100_36.jpg"/>
          <p:cNvPicPr/>
          <p:nvPr/>
        </p:nvPicPr>
        <p:blipFill>
          <a:blip r:embed="rId1"/>
          <a:stretch/>
        </p:blipFill>
        <p:spPr>
          <a:xfrm>
            <a:off x="571680" y="1714680"/>
            <a:ext cx="3000240" cy="47764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6"/>
          <p:cNvSpPr/>
          <p:nvPr/>
        </p:nvSpPr>
        <p:spPr>
          <a:xfrm>
            <a:off x="3786120" y="3143160"/>
            <a:ext cx="50007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а "Шоколадница" отличается законченностью в каждой детали, к которой постоянно стремился Ж.-Э. Лиотар. Искусствовед М. Алпатов считает, что "в силу всех этих особенностей "Шоколадница" может быть отнесена к чудесам обмана зрения в искусстве, вроде тех гроздей винограда в картине знаменитого древнегреческого художника, который пытались клевать воробьи". После условности и манерности некоторых мастеров XVIII века почти фотографическая точность картины Ж.-Э. Лиотара производила впечатление откров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ранцузский писатель-фантаст XIX в. Жюль  Верн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18.05-4.jpg"/>
          <p:cNvPicPr/>
          <p:nvPr/>
        </p:nvPicPr>
        <p:blipFill>
          <a:blip r:embed="rId1"/>
          <a:stretch/>
        </p:blipFill>
        <p:spPr>
          <a:xfrm>
            <a:off x="428760" y="1500120"/>
            <a:ext cx="5572080" cy="450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" name="Рисунок 5" descr="17.05-41.jpg"/>
          <p:cNvPicPr/>
          <p:nvPr/>
        </p:nvPicPr>
        <p:blipFill>
          <a:blip r:embed="rId2"/>
          <a:stretch/>
        </p:blipFill>
        <p:spPr>
          <a:xfrm>
            <a:off x="4572000" y="4214880"/>
            <a:ext cx="4357800" cy="239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Художник  Винсент  Ван  Гог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художник"/>
          <p:cNvPicPr/>
          <p:nvPr/>
        </p:nvPicPr>
        <p:blipFill>
          <a:blip r:embed="rId1"/>
          <a:stretch/>
        </p:blipFill>
        <p:spPr>
          <a:xfrm>
            <a:off x="428760" y="1285920"/>
            <a:ext cx="3429000" cy="428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Рисунок 4" descr="17.05-40.jpg"/>
          <p:cNvPicPr/>
          <p:nvPr/>
        </p:nvPicPr>
        <p:blipFill>
          <a:blip r:embed="rId2"/>
          <a:stretch/>
        </p:blipFill>
        <p:spPr>
          <a:xfrm>
            <a:off x="4143240" y="2000160"/>
            <a:ext cx="4648320" cy="229068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1" descr="Василий Кандинский"/>
          <p:cNvPicPr/>
          <p:nvPr/>
        </p:nvPicPr>
        <p:blipFill>
          <a:blip r:embed="rId1"/>
          <a:stretch/>
        </p:blipFill>
        <p:spPr>
          <a:xfrm>
            <a:off x="353880" y="781200"/>
            <a:ext cx="1913040" cy="2412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асилий Канд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99840" y="2786040"/>
            <a:ext cx="15433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43360" y="4285800"/>
            <a:ext cx="2855880" cy="38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лыв импров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Файл:Moscow I..JPG"/>
          <p:cNvPicPr/>
          <p:nvPr/>
        </p:nvPicPr>
        <p:blipFill>
          <a:blip r:embed="rId2"/>
          <a:stretch/>
        </p:blipFill>
        <p:spPr>
          <a:xfrm>
            <a:off x="1000080" y="3286080"/>
            <a:ext cx="3143160" cy="3262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smallbay.ru/images2/kandinsky8.jpg"/>
          <p:cNvPicPr/>
          <p:nvPr/>
        </p:nvPicPr>
        <p:blipFill>
          <a:blip r:embed="rId3"/>
          <a:stretch/>
        </p:blipFill>
        <p:spPr>
          <a:xfrm>
            <a:off x="4357800" y="1214280"/>
            <a:ext cx="44211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Функции искус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14240" y="107172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кусство выполняет фун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стетическу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щественного преобразов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знания действи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восхищения событ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спитания лич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нушения ценнос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ужит средством социальной коммуникаци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ставляет наслажде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0200" y="1999800"/>
            <a:ext cx="64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Препятствие не сгибает меня. Всякое препятствие разрушается упорством. Не оборачивается тот, кто устремлен к звезде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220px-Possible_Self-Portrait_of_Leonardo_da_Vinci"/>
          <p:cNvPicPr/>
          <p:nvPr/>
        </p:nvPicPr>
        <p:blipFill>
          <a:blip r:embed="rId1"/>
          <a:stretch/>
        </p:blipFill>
        <p:spPr>
          <a:xfrm>
            <a:off x="353880" y="2139840"/>
            <a:ext cx="2382840" cy="35416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142920" y="86148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ука и искусство — это две области деятельности, которые сопровождают развитие человечества на всем протяжении его суще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5942880" y="3643200"/>
            <a:ext cx="26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ель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ательного  аппар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8" descr="18.05-2.jpg"/>
          <p:cNvPicPr/>
          <p:nvPr/>
        </p:nvPicPr>
        <p:blipFill>
          <a:blip r:embed="rId2"/>
          <a:stretch/>
        </p:blipFill>
        <p:spPr>
          <a:xfrm>
            <a:off x="5278320" y="4280040"/>
            <a:ext cx="3444840" cy="2157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9" descr=""/>
          <p:cNvPicPr/>
          <p:nvPr/>
        </p:nvPicPr>
        <p:blipFill>
          <a:blip r:embed="rId3"/>
          <a:stretch/>
        </p:blipFill>
        <p:spPr>
          <a:xfrm>
            <a:off x="2852640" y="3067200"/>
            <a:ext cx="2084400" cy="30096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0"/>
          <p:cNvSpPr/>
          <p:nvPr/>
        </p:nvSpPr>
        <p:spPr>
          <a:xfrm>
            <a:off x="1933920" y="6000840"/>
            <a:ext cx="251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Витрувианский челове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8:41:40Z</dcterms:created>
  <dc:creator>Артем</dc:creator>
  <dc:description/>
  <dc:language>en-US</dc:language>
  <cp:lastModifiedBy>Lena</cp:lastModifiedBy>
  <dcterms:modified xsi:type="dcterms:W3CDTF">2011-12-13T07:46:31Z</dcterms:modified>
  <cp:revision>46</cp:revision>
  <dc:subject/>
  <dc:title>Слайд 1</dc:title>
</cp:coreProperties>
</file>