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6CF-32BC-4BA8-81A3-57ABD3DA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D19-0F6D-4DB4-A50C-9C9A8434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5C8-F45D-4FCB-8525-DE39472C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10B-7509-41E7-AFB2-E85F3077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7C5-A2B4-42DC-9F83-3B8452A7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F61-65EA-4B78-9E7E-859D0F34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F50-5BF5-4797-AA5E-435995A4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9B6-2BE5-4522-8548-776B4C47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E94-C75B-4C41-947D-D1ACC2D5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F1A-CACF-4562-A03F-AB788A1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FAD-75E3-47AD-89C7-74721226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2FB-3C1B-495B-AD49-921E2129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925F-E486-4340-956E-897EA3586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удожественное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ышление в  авангарде 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43040" y="3714480"/>
            <a:ext cx="64152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Сомко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632560" y="330516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85480" y="713880"/>
            <a:ext cx="8715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ранцузский  писатель  Оноре  де Бальзак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1799—1850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еловеческая  комедия»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ранцузский  писатель  Жюль  Вер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8—1905)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20  тысяч  лье  под водой», «Гиперболоид  инженера  Гарина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сский писатель, граф Алексей Николаевич  Толст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1882-1945)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иперболоид инженера Гар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сский  инженер  Лев  Сергеевич Терм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(1896—1993) изобретен  терменвокс —  электромузыкальный инстру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http://www.peremeny.ru/UserFiles/Image/Vokzal/theremin/Leon.jpg"/>
          <p:cNvPicPr/>
          <p:nvPr/>
        </p:nvPicPr>
        <p:blipFill>
          <a:blip r:embed="rId1"/>
          <a:stretch/>
        </p:blipFill>
        <p:spPr>
          <a:xfrm>
            <a:off x="5214960" y="3857760"/>
            <a:ext cx="3429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571680" y="1337400"/>
            <a:ext cx="807228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 чём заключается одна из многочисленных функций искусства, дающая понимание значимости художественно-образного мышления в культурном развитии человечес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ведите примеры предсказания в произведениях искусства будущих открытий и достижений на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  другие  примеры  научного  значения  художественного  зна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4200" y="765000"/>
            <a:ext cx="8678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скусство не достигает своего значения, когда ограничивается тем, что чарует людей, не вызывая в них в то же время воодушевления ко все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что составляет величие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Ж. 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кие знания даёт искус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642960" y="16430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удожник  XVIII  в.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Жан Этьен Лиотар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  картине«Шоколадница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ожил  свет  по  законам,  в  то  время  еще  неизвестным физ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71680" y="2500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ранцузский писатель-фантаст XIX в. Жюль  Вер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20  тысяч  лье  под водой»  предсказал  появление  подводной  ло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571680" y="378612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Художник  Винсент  Ван  Гог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ют, что  он  обладал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кальным  даром  видеть  то,  что  простым смертным  не  дано,  —  воздушные  потоки. 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28760" y="4929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удожник  В.  Кандинск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  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зработав  теорию  влияния  цвета  на эмоции человека, приблизился к  решению  задач  современной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ии и  артерапии  (исцеления  искусств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Художник  XVIII  в. 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Жан Этьен Лиотар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  в  картин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«Шоколадница»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3857760" y="1631160"/>
            <a:ext cx="5143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 истории  человечества  искусство не  раз  открывало  знания,  имеющие научное  значение.  Например,  художник  XVIII  в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- Этьен Лиотар  в  картин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Шоколадница»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ил  свет  по  законам,  в  то  время  еще  неизвестным физи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ttp://nearyou.ru/100kartin/img/100_36.jpg"/>
          <p:cNvPicPr/>
          <p:nvPr/>
        </p:nvPicPr>
        <p:blipFill>
          <a:blip r:embed="rId1"/>
          <a:stretch/>
        </p:blipFill>
        <p:spPr>
          <a:xfrm>
            <a:off x="571680" y="1714680"/>
            <a:ext cx="3000240" cy="4776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3786120" y="3143160"/>
            <a:ext cx="5000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"Шоколадница" отличается законченностью в каждой детали, к которой постоянно стремился Ж.-Э. Лиотар. Искусствовед М. Алпатов считает, что "в силу всех этих особенностей "Шоколадница" может быть отнесена к чудесам обмана зрения в искусстве, вроде тех гроздей винограда в картине знаменитого древнегреческого художника, который пытались клевать воробьи". После условности и манерности некоторых мастеров XVIII века почти фотографическая точность картины Ж.-Э. Лиотара производила впечатление откров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ранцузский писатель-фантаст XIX в. Жюль  Верн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18.05-4.jpg"/>
          <p:cNvPicPr/>
          <p:nvPr/>
        </p:nvPicPr>
        <p:blipFill>
          <a:blip r:embed="rId1"/>
          <a:stretch/>
        </p:blipFill>
        <p:spPr>
          <a:xfrm>
            <a:off x="428760" y="1500120"/>
            <a:ext cx="5572080" cy="45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Рисунок 5" descr="17.05-41.jpg"/>
          <p:cNvPicPr/>
          <p:nvPr/>
        </p:nvPicPr>
        <p:blipFill>
          <a:blip r:embed="rId2"/>
          <a:stretch/>
        </p:blipFill>
        <p:spPr>
          <a:xfrm>
            <a:off x="4572000" y="4214880"/>
            <a:ext cx="4357800" cy="23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Художник  Винсент  Ван  Гог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художник"/>
          <p:cNvPicPr/>
          <p:nvPr/>
        </p:nvPicPr>
        <p:blipFill>
          <a:blip r:embed="rId1"/>
          <a:stretch/>
        </p:blipFill>
        <p:spPr>
          <a:xfrm>
            <a:off x="428760" y="1285920"/>
            <a:ext cx="342900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4" descr="17.05-40.jpg"/>
          <p:cNvPicPr/>
          <p:nvPr/>
        </p:nvPicPr>
        <p:blipFill>
          <a:blip r:embed="rId2"/>
          <a:stretch/>
        </p:blipFill>
        <p:spPr>
          <a:xfrm>
            <a:off x="4143240" y="2000160"/>
            <a:ext cx="4648320" cy="22906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Василий Кандинский"/>
          <p:cNvPicPr/>
          <p:nvPr/>
        </p:nvPicPr>
        <p:blipFill>
          <a:blip r:embed="rId1"/>
          <a:stretch/>
        </p:blipFill>
        <p:spPr>
          <a:xfrm>
            <a:off x="353880" y="781200"/>
            <a:ext cx="1913040" cy="2412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асилий Канд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99840" y="2786040"/>
            <a:ext cx="15433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43360" y="4285800"/>
            <a:ext cx="2855880" cy="3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лыв импров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Файл:Moscow I..JPG"/>
          <p:cNvPicPr/>
          <p:nvPr/>
        </p:nvPicPr>
        <p:blipFill>
          <a:blip r:embed="rId2"/>
          <a:stretch/>
        </p:blipFill>
        <p:spPr>
          <a:xfrm>
            <a:off x="1000080" y="3286080"/>
            <a:ext cx="3143160" cy="326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smallbay.ru/images2/kandinsky8.jpg"/>
          <p:cNvPicPr/>
          <p:nvPr/>
        </p:nvPicPr>
        <p:blipFill>
          <a:blip r:embed="rId3"/>
          <a:stretch/>
        </p:blipFill>
        <p:spPr>
          <a:xfrm>
            <a:off x="4357800" y="1214280"/>
            <a:ext cx="4421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Функции искус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4240" y="107172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кусство выполняет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стетическ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ственного преобраз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знания действи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восхищения событ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итания лич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ушения ценнос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жит средством социальной коммуникац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ставляет наслажд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0200" y="1999800"/>
            <a:ext cx="64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репятствие не сгибает меня. Всякое препятствие разрушается упорством. Не оборачивается тот, кто устремлен к звезде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220px-Possible_Self-Portrait_of_Leonardo_da_Vinci"/>
          <p:cNvPicPr/>
          <p:nvPr/>
        </p:nvPicPr>
        <p:blipFill>
          <a:blip r:embed="rId1"/>
          <a:stretch/>
        </p:blipFill>
        <p:spPr>
          <a:xfrm>
            <a:off x="353880" y="2139840"/>
            <a:ext cx="2382840" cy="3541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142920" y="8614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ка и искусство — это две области деятельности, которые сопровождают развитие человечества на всем протяжении 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942880" y="3643200"/>
            <a:ext cx="26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ель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ательного  аппар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8" descr="18.05-2.jpg"/>
          <p:cNvPicPr/>
          <p:nvPr/>
        </p:nvPicPr>
        <p:blipFill>
          <a:blip r:embed="rId2"/>
          <a:stretch/>
        </p:blipFill>
        <p:spPr>
          <a:xfrm>
            <a:off x="5278320" y="4280040"/>
            <a:ext cx="3444840" cy="2157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"/>
          <p:cNvPicPr/>
          <p:nvPr/>
        </p:nvPicPr>
        <p:blipFill>
          <a:blip r:embed="rId3"/>
          <a:stretch/>
        </p:blipFill>
        <p:spPr>
          <a:xfrm>
            <a:off x="2852640" y="3067200"/>
            <a:ext cx="2084400" cy="30096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0"/>
          <p:cNvSpPr/>
          <p:nvPr/>
        </p:nvSpPr>
        <p:spPr>
          <a:xfrm>
            <a:off x="1933920" y="6000840"/>
            <a:ext cx="25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Витрувианский челове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8:41:40Z</dcterms:created>
  <dc:creator>Артем</dc:creator>
  <dc:description/>
  <dc:language>en-US</dc:language>
  <cp:lastModifiedBy>Lena</cp:lastModifiedBy>
  <dcterms:modified xsi:type="dcterms:W3CDTF">2011-12-13T07:46:31Z</dcterms:modified>
  <cp:revision>46</cp:revision>
  <dc:subject/>
  <dc:title>Слайд 1</dc:title>
</cp:coreProperties>
</file>