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713-5A28-4B1E-821C-34C5424E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707-C7CB-4BC9-97D3-4BE3CC7C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8DB-D8C9-4157-9A58-C7A2FC4F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46C-B285-4DB4-8600-072AB2AE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0AA-73E4-42C8-96DB-4C0DED3A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CD6-3D8B-4962-99E5-3EA8EE4F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0FA-8D71-4075-948E-0E6823B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A54-7DA9-4320-95D3-20F8213C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BF3-4016-4801-85DF-EC671C1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E6E-A8C8-4866-A3BF-B99A78E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F75-111D-4022-9408-367EEC5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5D4-2FFD-42E7-B1A1-1B3B824C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4A52-FEF7-4987-8907-8681ACAB0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g.encyc.yandex.net/illustrations/vlasov/pictures/08/627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g.encyc.yandex.net/illustrations/vlasov/pictures/08/628.jpg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g.encyc.yandex.net/illustrations/vlasov/pictures/08/626.jpg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удожник и учё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3714480"/>
            <a:ext cx="41292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Сомко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632560" y="330516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6760" y="785880"/>
            <a:ext cx="818676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учение проблем оптического восприятия натолкнуло французского живописца  Робера  Делоне  (1885—1941) в  начале  ХХ  в.  на  идею  образования характерных  кругообразных  поверхностей  и  плоскостей,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торые,  создавая  разноцветную  бурю,  динамично овладевали  пространством 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6" descr="18.05-8.jpg"/>
          <p:cNvPicPr/>
          <p:nvPr/>
        </p:nvPicPr>
        <p:blipFill>
          <a:blip r:embed="rId1"/>
          <a:stretch/>
        </p:blipFill>
        <p:spPr>
          <a:xfrm>
            <a:off x="1143000" y="2714760"/>
            <a:ext cx="2698920" cy="3633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49" descr="18.05-11.jpg"/>
          <p:cNvPicPr/>
          <p:nvPr/>
        </p:nvPicPr>
        <p:blipFill>
          <a:blip r:embed="rId2"/>
          <a:stretch/>
        </p:blipFill>
        <p:spPr>
          <a:xfrm>
            <a:off x="4214880" y="2857680"/>
            <a:ext cx="3230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429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  влиянием  открытий  радиоактивности  и  ультрафиолетовых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учей  в науке  русский  художник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Михаил  Федорович  Ларионов  (1881—1964)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  1912  г. основал  одно  из  первых  в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России  абстрактных  течений  —  лучизм. 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Он  считал, что изображать надо не  сами предметы,  а  идущие  от  них  энергетические потоки,  представляемые  в  виде  луче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50" descr="18.05-12.jpg"/>
          <p:cNvPicPr/>
          <p:nvPr/>
        </p:nvPicPr>
        <p:blipFill>
          <a:blip r:embed="rId1"/>
          <a:srcRect l="3167" t="3711" r="50934" b="3620"/>
          <a:stretch/>
        </p:blipFill>
        <p:spPr>
          <a:xfrm>
            <a:off x="5857920" y="2928960"/>
            <a:ext cx="271476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7" descr="18.05-9.jpg"/>
          <p:cNvPicPr/>
          <p:nvPr/>
        </p:nvPicPr>
        <p:blipFill>
          <a:blip r:embed="rId2"/>
          <a:srcRect l="4832" t="4449" r="0" b="0"/>
          <a:stretch/>
        </p:blipFill>
        <p:spPr>
          <a:xfrm>
            <a:off x="714240" y="3071880"/>
            <a:ext cx="3143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856800"/>
            <a:ext cx="85723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усский  художник  Павел  Николаевич  Филонов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(1882—1941)  выполнил в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20-е  гг.  ХХ  в.  графическую  композицию  —  одну  из  «формул  Вселенной». В  ней  он  предугадал  движение  субатомных  частиц,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с  помощью  которых современные  физики  пытаются  найти формулу  мироздания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50" descr="18.05-12.jpg"/>
          <p:cNvPicPr/>
          <p:nvPr/>
        </p:nvPicPr>
        <p:blipFill>
          <a:blip r:embed="rId1"/>
          <a:srcRect l="51724" t="3905" r="2421" b="3973"/>
          <a:stretch/>
        </p:blipFill>
        <p:spPr>
          <a:xfrm>
            <a:off x="6000840" y="2714760"/>
            <a:ext cx="29462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85840" y="85716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ногие  выдающиеся  ученые  ценили  искусство  и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знавались,  что  без занятий музыкой, живопис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тературным  творчеством  они  не  совершили  б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их  открытий  в  науке.  Возможно, именно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моциональный подъем в  художественн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ятельности подготовил  и  подтолкнул их  к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ворческому  прорыву  в  нау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Пифагор Самосский"/>
          <p:cNvPicPr/>
          <p:nvPr/>
        </p:nvPicPr>
        <p:blipFill>
          <a:blip r:embed="rId1"/>
          <a:stretch/>
        </p:blipFill>
        <p:spPr>
          <a:xfrm>
            <a:off x="357120" y="1071720"/>
            <a:ext cx="314316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6" name="Прямоугольник 4"/>
          <p:cNvSpPr/>
          <p:nvPr/>
        </p:nvSpPr>
        <p:spPr>
          <a:xfrm>
            <a:off x="3571920" y="1357200"/>
            <a:ext cx="5286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ифагора музыка была произ­водной от божественной науки мате­матики, и ее гармонии жестко конт­ролировались математическими про­порциями. Пифагорейцы утвержда­ли, что математика демонстрирует точный метод, которым Бог устано­вил и утвердил Вселенную, Числа, следовательно, предшествуют гармо­нии, так как их неизменные законы управляют всеми гармоническими пропорциями. После открытия этих гармонических соотношений Пифа­гор постепенно посвятил своих по­следователей в это учение, как в вы­сшую тайну своих Мистерий. Он раз­делил множественные части творения на большое число плоскостей или сфер, каждой из которых он приписал тон, гармонический интервал, число, имя, цвет и форму. Затем он перешел к доказательству точности его дедукций, демонстрируя их на различных плоскостях разума и суб­станций, начиная с самых абстракт­ных логических посылок и кончая наиболее конкретными геометриче­скими телами. Из общего факта со­гласованности всех этих различных методов доказательства он установил безусловное существование опреде­ленных естественных законов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йнштейн страстно любил музыку, особенно сочинени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XVIII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Эйнштейн Альберт"/>
          <p:cNvPicPr/>
          <p:nvPr/>
        </p:nvPicPr>
        <p:blipFill>
          <a:blip r:embed="rId1"/>
          <a:stretch/>
        </p:blipFill>
        <p:spPr>
          <a:xfrm>
            <a:off x="857160" y="1928880"/>
            <a:ext cx="31435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4" descr="http://upload.wikimedia.org/wikipedia/commons/thumb/1/13/Albert_Einstein_violin.jpg/220px-Albert_Einstein_violin.jpg"/>
          <p:cNvPicPr/>
          <p:nvPr/>
        </p:nvPicPr>
        <p:blipFill>
          <a:blip r:embed="rId2"/>
          <a:stretch/>
        </p:blipFill>
        <p:spPr>
          <a:xfrm>
            <a:off x="4906800" y="1852560"/>
            <a:ext cx="3189600" cy="84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ранцузский  физик  XIX  в.  Пьер Кюри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57120" y="85716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узский  физик  XIX  в.  Пьер Кю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провел  исследования  по  симметрии  кристаллов.  Он  обнаружил интересную и  важную  для науки и искусства  вещь: частичное  отсутстви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и порождает  развитие  предмета,  в  то  время  как полная  симметрия  стабилизирует  его  вид  и  состоя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  явление  было  названо  диссимметрией  (не  симметрия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  Кюри  гласит: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симметрия  творит  явление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Файл:Mandel zoom 11 satellite double spiral.jpg"/>
          <p:cNvPicPr/>
          <p:nvPr/>
        </p:nvPicPr>
        <p:blipFill>
          <a:blip r:embed="rId1"/>
          <a:stretch/>
        </p:blipFill>
        <p:spPr>
          <a:xfrm>
            <a:off x="714240" y="3286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Файл:Mandel zoom 04 seehorse tail.jpg"/>
          <p:cNvPicPr/>
          <p:nvPr/>
        </p:nvPicPr>
        <p:blipFill>
          <a:blip r:embed="rId2"/>
          <a:stretch/>
        </p:blipFill>
        <p:spPr>
          <a:xfrm>
            <a:off x="4834080" y="328608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кта́л (лат. </a:t>
            </a:r>
            <a:r>
              <a:rPr b="1" i="1" lang="la-VA" sz="1800" spc="-1" strike="noStrike">
                <a:solidFill>
                  <a:srgbClr val="000000"/>
                </a:solidFill>
                <a:latin typeface="Arial"/>
              </a:rPr>
              <a:t>fractu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— дроблёный, сломанный, разбитый) — сложная геометрическая фигура, обладающая свойством самоподобия, то есть составленная из нескольких частей, каждая из которых подобна всей фигуре целиком. В более широком смысле под фракталами понимают множества точек в евклидовом пространстве, имеющие дробную метрическую размерност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либо метрическую размерность, отличную от топологической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Файл:KochFlake.svg"/>
          <p:cNvPicPr/>
          <p:nvPr/>
        </p:nvPicPr>
        <p:blipFill>
          <a:blip r:embed="rId1"/>
          <a:stretch/>
        </p:blipFill>
        <p:spPr>
          <a:xfrm>
            <a:off x="4572000" y="321480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upload.wikimedia.org/wikipedia/commons/thumb/6/6d/The_circular_fractal_after_the_fourth_iteration.png/220px-The_circular_fractal_after_the_fourth_iteration.png"/>
          <p:cNvPicPr/>
          <p:nvPr/>
        </p:nvPicPr>
        <p:blipFill>
          <a:blip r:embed="rId2"/>
          <a:stretch/>
        </p:blipFill>
        <p:spPr>
          <a:xfrm>
            <a:off x="857160" y="3214800"/>
            <a:ext cx="30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лландский  художник  и  геометр 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Мауриц Эшер  (1898—1972)  на  основе  антисимметрии строил  свои  декоративные 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44" descr="18.05-6.jpg"/>
          <p:cNvPicPr/>
          <p:nvPr/>
        </p:nvPicPr>
        <p:blipFill>
          <a:blip r:embed="rId1"/>
          <a:srcRect l="4215" t="13330" r="7188" b="8886"/>
          <a:stretch/>
        </p:blipFill>
        <p:spPr>
          <a:xfrm>
            <a:off x="642960" y="2071800"/>
            <a:ext cx="7396200" cy="4500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4865760" y="1714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нь  и  ночь»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43" descr="18.05-5.jpg"/>
          <p:cNvPicPr/>
          <p:nvPr/>
        </p:nvPicPr>
        <p:blipFill>
          <a:blip r:embed="rId1"/>
          <a:stretch/>
        </p:blipFill>
        <p:spPr>
          <a:xfrm>
            <a:off x="4429080" y="1209600"/>
            <a:ext cx="4492800" cy="5219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5" descr="18.05-7.jpg"/>
          <p:cNvPicPr/>
          <p:nvPr/>
        </p:nvPicPr>
        <p:blipFill>
          <a:blip r:embed="rId2"/>
          <a:srcRect l="2902" t="6009" r="6948" b="0"/>
          <a:stretch/>
        </p:blipFill>
        <p:spPr>
          <a:xfrm>
            <a:off x="571680" y="1214280"/>
            <a:ext cx="3500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ИММЕ́ТРИ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1071720"/>
            <a:ext cx="84722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ММЕ́ТРИЯ (греч. symmetria — "соразмерность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 syn — "вместе" и metreo — "измеряю") — основополагающий принцип самоорганизации материальных форм в природе и формообразования в искусстве. Закономерное расположение частей формы относительно центра или главной оси.Уравновешенность, правильность, согласованность частей, объединенных в цел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http://img0.liveinternet.ru/images/attach/c/2/65/744/65744424_1287994186_01.jpg"/>
          <p:cNvPicPr/>
          <p:nvPr/>
        </p:nvPicPr>
        <p:blipFill>
          <a:blip r:embed="rId1"/>
          <a:stretch/>
        </p:blipFill>
        <p:spPr>
          <a:xfrm>
            <a:off x="428760" y="3429000"/>
            <a:ext cx="3276360" cy="2505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img0.liveinternet.ru/images/attach/c/2/65/744/65744444_1287995214_11.jpg"/>
          <p:cNvPicPr/>
          <p:nvPr/>
        </p:nvPicPr>
        <p:blipFill>
          <a:blip r:embed="rId2"/>
          <a:stretch/>
        </p:blipFill>
        <p:spPr>
          <a:xfrm>
            <a:off x="6572160" y="36432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Симметр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3500280"/>
            <a:ext cx="1143000" cy="6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Симметр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28616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Симметри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4960" y="4286160"/>
            <a:ext cx="1285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8:41:40Z</dcterms:created>
  <dc:creator>Артем</dc:creator>
  <dc:description/>
  <dc:language>en-US</dc:language>
  <cp:lastModifiedBy>Lena</cp:lastModifiedBy>
  <dcterms:modified xsi:type="dcterms:W3CDTF">2011-12-13T07:38:14Z</dcterms:modified>
  <cp:revision>69</cp:revision>
  <dc:subject/>
  <dc:title>Слайд 1</dc:title>
</cp:coreProperties>
</file>