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7AD-5A31-4610-91B6-EB37A1FA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418-172A-4B04-805F-748D423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EE4-78CE-4DBF-9A0D-23A0E319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0BA-F97A-4C58-A413-01C49857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DF3-E862-48D3-B235-1233F1B7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ADB-E980-40C1-A1AF-30D4ED94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A1B-C119-4871-BB7D-8FE43D83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0A7-3E5B-4146-AE10-80AAE8E7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1BC-4A1F-4338-9AA3-C3C5D91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85F-684E-4056-98E9-3E07A99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FAD-045E-4042-9544-D8AE3B7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750-1B4E-4668-AFDF-640BA92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4F1-5D74-4AF1-999F-6442D97713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-304920"/>
            <a:ext cx="794412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onfused 1"/>
          <p:cNvPicPr/>
          <p:nvPr/>
        </p:nvPicPr>
        <p:blipFill>
          <a:blip r:embed="rId2"/>
          <a:stretch/>
        </p:blipFill>
        <p:spPr>
          <a:xfrm>
            <a:off x="2639880" y="1420920"/>
            <a:ext cx="30117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 В автобусе бабушке не хватило места, т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) сделаешь вид, что не замети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) притворишься, что спи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271476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) уступишь бабушке ме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5. Ты поймал “золотую рыбку”, но она выполнит  только одно желание, что ты выбер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) купить компьют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) чтобы друг научился решать задачи и был отличн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872640" y="3786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помочь бездомной соб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9" descr="C41-33 копия"/>
          <p:cNvPicPr/>
          <p:nvPr/>
        </p:nvPicPr>
        <p:blipFill>
          <a:blip r:embed="rId2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42960" y="1571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к вы понимаете слов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“Я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00040" y="21430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человек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– это мой внутренний мир, мои мысли, мои поступки, то, как я стараюсь жить, общаться с друг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42960" y="3571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это индивидуальное лиц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 это человек, который работает над собой, воспитывает в себе хорошие черты характера, старается быть полезным обще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000160"/>
            <a:ext cx="66722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чем человеку терпимос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1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олько ли лицом отличаются люди?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9" descr="C41-33 копия"/>
          <p:cNvPicPr/>
          <p:nvPr/>
        </p:nvPicPr>
        <p:blipFill>
          <a:blip r:embed="rId1"/>
          <a:stretch/>
        </p:blipFill>
        <p:spPr>
          <a:xfrm>
            <a:off x="714240" y="285840"/>
            <a:ext cx="135756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357720" y="0"/>
            <a:ext cx="607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то означает слово     терпим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00040" y="2643120"/>
            <a:ext cx="1857240" cy="13575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8015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 постоянные свойства человека, которые проявляются в его отношении к людям, к вещам, к себе. 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Кирилл\Рабочий стол\МАМА\анимация\vse_takoe_krugloe3 копия.png"/>
          <p:cNvPicPr/>
          <p:nvPr/>
        </p:nvPicPr>
        <p:blipFill>
          <a:blip r:embed="rId1"/>
          <a:stretch/>
        </p:blipFill>
        <p:spPr>
          <a:xfrm>
            <a:off x="6286680" y="3286080"/>
            <a:ext cx="242856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011960" y="57168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600200"/>
          <a:ext cx="832968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9" descr="C41-33 копия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64200" y="452880"/>
            <a:ext cx="13438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079160" y="271476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90840" y="335772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005360" y="4214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797280" y="50007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о ю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80200" y="600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67052E-007 L 0.25 -8.67052E-007 E">
                                      <p:cBhvr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0509 L -0.30104 0.00509 E">
                                      <p:cBhvr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8 1.50289E-006 L -0.33438 1.50289E-006 E">
                                      <p:cBhvr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22 0.00116 L -0.32622 0.00116 E">
                                      <p:cBhvr>
                                        <p:cTn id="8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14200"/>
          <a:ext cx="8229600" cy="6426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4"/>
          <p:cNvSpPr/>
          <p:nvPr/>
        </p:nvSpPr>
        <p:spPr>
          <a:xfrm>
            <a:off x="3443400" y="11430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опря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513240" y="2071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кура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367080" y="285768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006080" y="371484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079880" y="4429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б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074480" y="52149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09280" y="60721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0116 L 0.28229 0.00116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00232 L -0.27031 0.00232 E">
                                      <p:cBhvr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7 -0.0074 L -0.28107 -0.0074 E">
                                      <p:cBhvr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7 0.00416 L -0.27657 0.00416 E">
                                      <p:cBhvr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037 L 0.28264 -0.0037 E">
                                      <p:cBhvr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очем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9" descr="C41-33 копия"/>
          <p:cNvPicPr/>
          <p:nvPr/>
        </p:nvPicPr>
        <p:blipFill>
          <a:blip r:embed="rId2"/>
          <a:stretch/>
        </p:blipFill>
        <p:spPr>
          <a:xfrm>
            <a:off x="214308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942600" y="441720"/>
            <a:ext cx="14446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66000" y="20001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ешний вид человека –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69600" y="2500200"/>
            <a:ext cx="78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утренний  мир человека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это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71424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 как вы считаете, что важнее внешний или  внутренний мир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14240" y="5214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стречают по одежке, а провожают по уму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Игра “Как поступлю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. Ты играешь во дворе с ребятами, но мама зовет тебя домой. Как ты поступи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пойде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сделаешь вид, что не услышал ма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начнешь просить маму погулять ещ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9" descr="C41-33 копия"/>
          <p:cNvPicPr/>
          <p:nvPr/>
        </p:nvPicPr>
        <p:blipFill>
          <a:blip r:embed="rId1"/>
          <a:stretch/>
        </p:blipFill>
        <p:spPr>
          <a:xfrm>
            <a:off x="6715080" y="21420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42960" y="4643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) договоришься с друзьями встретиться зав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. Твоего друга вызвали к доске решать задачу, а у него не получаетс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будешь ему подсказы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будешь смеяться и подшучи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) ничего не предприме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885240" y="278604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можешь разобраться после уро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3. Ты нашел бездомного щенка, но у тебя уже есть собак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начнешь с ним играть, а потом бросишь его и побежи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пройдешь мим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880920" y="38577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стараешься найти хозяи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58:27Z</dcterms:created>
  <dc:creator>Наташа</dc:creator>
  <dc:description/>
  <dc:language>en-US</dc:language>
  <cp:lastModifiedBy>Наташа</cp:lastModifiedBy>
  <dcterms:modified xsi:type="dcterms:W3CDTF">2001-01-01T00:43:49Z</dcterms:modified>
  <cp:revision>40</cp:revision>
  <dc:subject/>
  <dc:title>  – Зачем человеку терпимость?</dc:title>
</cp:coreProperties>
</file>