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8AC6-C4D4-4D11-A34B-90318577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CEB-D869-4AA2-93F8-FE038C30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2A0-1AC1-4420-B76A-182B3CF8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985-2F1C-4A7D-9E90-E46E6A17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53C-3E0B-4BA8-97B4-50C3AA5C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9B1-76DB-48A6-91E2-532E9385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41F-1136-4DF7-A452-A17E11F2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63D-ED2B-4A2E-9609-B126D841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13E-F373-4A2E-9FC7-F1678869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27F-1F20-4424-B6F9-7F308445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281E-3FA3-4FF7-A3A1-B713D808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5B1-FE81-4248-9E2C-773A0F30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976D-F221-4C6D-9EF4-55CF10A455B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-304920"/>
            <a:ext cx="7944120" cy="1719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onfused 1"/>
          <p:cNvPicPr/>
          <p:nvPr/>
        </p:nvPicPr>
        <p:blipFill>
          <a:blip r:embed="rId2"/>
          <a:stretch/>
        </p:blipFill>
        <p:spPr>
          <a:xfrm>
            <a:off x="2639880" y="1420920"/>
            <a:ext cx="3011760" cy="50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4. В автобусе бабушке не хватило места, ты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) сделаешь вид, что не замети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) притворишься, что спиш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9" descr="C41-33 копия"/>
          <p:cNvPicPr/>
          <p:nvPr/>
        </p:nvPicPr>
        <p:blipFill>
          <a:blip r:embed="rId1"/>
          <a:stretch/>
        </p:blipFill>
        <p:spPr>
          <a:xfrm>
            <a:off x="342900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571680" y="2714760"/>
            <a:ext cx="58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) уступишь бабушке мест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5. Ты поймал “золотую рыбку”, но она выполнит  только одно желание, что ты выберешь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а) купить компьютер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) чтобы друг научился решать задачи и был отличнико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9" descr="C41-33 копия"/>
          <p:cNvPicPr/>
          <p:nvPr/>
        </p:nvPicPr>
        <p:blipFill>
          <a:blip r:embed="rId1"/>
          <a:stretch/>
        </p:blipFill>
        <p:spPr>
          <a:xfrm>
            <a:off x="342900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872640" y="3786120"/>
            <a:ext cx="50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) помочь бездомной соба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9" descr="C41-33 копия"/>
          <p:cNvPicPr/>
          <p:nvPr/>
        </p:nvPicPr>
        <p:blipFill>
          <a:blip r:embed="rId2"/>
          <a:stretch/>
        </p:blipFill>
        <p:spPr>
          <a:xfrm>
            <a:off x="342900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642960" y="157176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ак вы понимаете слов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“Я”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500040" y="214308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человек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– это мой внутренний мир, мои мысли, мои поступки, то, как я стараюсь жить, общаться с друг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642960" y="357192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ичность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это индивидуальное лицо челов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500040" y="48578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– это человек, который работает над собой, воспитывает в себе хорошие черты характера, старается быть полезным обществ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71800" y="2000160"/>
            <a:ext cx="66722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Зачем человеку терпимость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15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3700" spc="-1" strike="noStrike">
                <a:solidFill>
                  <a:srgbClr val="ffffff"/>
                </a:solidFill>
                <a:latin typeface="Calibri"/>
              </a:rPr>
              <a:t>Только ли лицом отличаются люди?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9" descr="C41-33 копия"/>
          <p:cNvPicPr/>
          <p:nvPr/>
        </p:nvPicPr>
        <p:blipFill>
          <a:blip r:embed="rId1"/>
          <a:stretch/>
        </p:blipFill>
        <p:spPr>
          <a:xfrm>
            <a:off x="714240" y="285840"/>
            <a:ext cx="1357560" cy="19429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3357720" y="0"/>
            <a:ext cx="607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Что означает слово     терпимост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500040" y="2643120"/>
            <a:ext cx="1857240" cy="1357560"/>
          </a:xfrm>
          <a:prstGeom prst="ellips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80154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это постоянные свойства человека, которые проявляются в его отношении к людям, к вещам, к себе. </a:t>
            </a:r>
            <a:br>
              <a:rPr sz="48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3" descr="C:\Documents and Settings\Кирилл\Рабочий стол\МАМА\анимация\vse_takoe_krugloe3 копия.png"/>
          <p:cNvPicPr/>
          <p:nvPr/>
        </p:nvPicPr>
        <p:blipFill>
          <a:blip r:embed="rId1"/>
          <a:stretch/>
        </p:blipFill>
        <p:spPr>
          <a:xfrm>
            <a:off x="6286680" y="3286080"/>
            <a:ext cx="2428560" cy="3807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1011960" y="571680"/>
            <a:ext cx="294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Характ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1600200"/>
          <a:ext cx="8329680" cy="4905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843280"/>
              </a:tblGrid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Положи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Черты характе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трица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3" name="Picture 9" descr="C41-33 копия"/>
          <p:cNvPicPr/>
          <p:nvPr/>
        </p:nvPicPr>
        <p:blipFill>
          <a:blip r:embed="rId1"/>
          <a:stretch/>
        </p:blipFill>
        <p:spPr>
          <a:xfrm>
            <a:off x="371484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6064200" y="452880"/>
            <a:ext cx="1343880" cy="8082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9933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?</a:t>
            </a:r>
            <a:endParaRPr b="0" lang="en-US" sz="8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4079160" y="2714760"/>
            <a:ext cx="13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ан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4290840" y="3357720"/>
            <a:ext cx="11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л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4005360" y="42148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3797280" y="500076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увство юм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3580200" y="6000840"/>
            <a:ext cx="22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има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8.67052E-007 L 0.25 -8.67052E-007 E">
                                      <p:cBhvr>
                                        <p:cTn id="65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9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04 0.00509 L -0.30104 0.00509 E">
                                      <p:cBhvr>
                                        <p:cTn id="7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438 1.50289E-006 L -0.33438 1.50289E-006 E">
                                      <p:cBhvr>
                                        <p:cTn id="7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622 0.00116 L -0.32622 0.00116 E">
                                      <p:cBhvr>
                                        <p:cTn id="81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214200"/>
          <a:ext cx="8229600" cy="6426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2d050"/>
                          </a:solidFill>
                          <a:latin typeface="Calibri"/>
                        </a:rPr>
                        <a:t>Положи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Черты характе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трица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2" name="Прямоугольник 4"/>
          <p:cNvSpPr/>
          <p:nvPr/>
        </p:nvSpPr>
        <p:spPr>
          <a:xfrm>
            <a:off x="3443400" y="1143000"/>
            <a:ext cx="22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опрят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3513240" y="207180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курат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3367080" y="2857680"/>
            <a:ext cx="25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щи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4006080" y="3714840"/>
            <a:ext cx="14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бр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4079880" y="44290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уб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4074480" y="5214960"/>
            <a:ext cx="10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а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3509280" y="607212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сокомер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0116 L 0.28229 0.00116 E">
                                      <p:cBhvr>
                                        <p:cTn id="8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31 0.00232 L -0.27031 0.00232 E">
                                      <p:cBhvr>
                                        <p:cTn id="9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07 -0.0074 L -0.28107 -0.0074 E">
                                      <p:cBhvr>
                                        <p:cTn id="9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7 0.00416 L -0.27657 0.00416 E">
                                      <p:cBhvr>
                                        <p:cTn id="9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7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-0.0037 L 0.28264 -0.0037 E">
                                      <p:cBhvr>
                                        <p:cTn id="11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Почему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9" descr="C41-33 копия"/>
          <p:cNvPicPr/>
          <p:nvPr/>
        </p:nvPicPr>
        <p:blipFill>
          <a:blip r:embed="rId2"/>
          <a:stretch/>
        </p:blipFill>
        <p:spPr>
          <a:xfrm>
            <a:off x="214308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6942600" y="441720"/>
            <a:ext cx="1444680" cy="8082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9933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?</a:t>
            </a:r>
            <a:endParaRPr b="0" lang="en-US" sz="8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666000" y="2000160"/>
            <a:ext cx="68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–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Внешний вид человека –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это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669600" y="2500200"/>
            <a:ext cx="78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–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Внутренний  мир человека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– это 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714240" y="3000240"/>
            <a:ext cx="75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А как вы считаете, что важнее внешний или  внутренний мир челове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714240" y="52149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стречают по одежке, а провожают по уму”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Calibri"/>
              </a:rPr>
              <a:t>Игра “Как поступлю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1. Ты играешь во дворе с ребятами, но мама зовет тебя домой. Как ты поступишь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) пойдешь домо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б) сделаешь вид, что не услышал мам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) начнешь просить маму погулять ещ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9" descr="C41-33 копия"/>
          <p:cNvPicPr/>
          <p:nvPr/>
        </p:nvPicPr>
        <p:blipFill>
          <a:blip r:embed="rId1"/>
          <a:stretch/>
        </p:blipFill>
        <p:spPr>
          <a:xfrm>
            <a:off x="6715080" y="21420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642960" y="464328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г) договоришься с друзьями встретиться зав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2. Твоего друга вызвали к доске решать задачу, а у него не получается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) ты будешь ему подсказыва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) будешь смеяться и подшучива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г) ничего не предпримеш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9" descr="C41-33 копия"/>
          <p:cNvPicPr/>
          <p:nvPr/>
        </p:nvPicPr>
        <p:blipFill>
          <a:blip r:embed="rId1"/>
          <a:stretch/>
        </p:blipFill>
        <p:spPr>
          <a:xfrm>
            <a:off x="342900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885240" y="2786040"/>
            <a:ext cx="69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б) поможешь разобраться после уро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3. Ты нашел бездомного щенка, но у тебя уже есть собака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) ты начнешь с ним играть, а потом бросишь его и побежишь домо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) пройдешь мим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9" descr="C41-33 копия"/>
          <p:cNvPicPr/>
          <p:nvPr/>
        </p:nvPicPr>
        <p:blipFill>
          <a:blip r:embed="rId1"/>
          <a:stretch/>
        </p:blipFill>
        <p:spPr>
          <a:xfrm>
            <a:off x="3429000" y="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880920" y="3857760"/>
            <a:ext cx="55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б) постараешься найти хозяин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1:58:27Z</dcterms:created>
  <dc:creator>Наташа</dc:creator>
  <dc:description/>
  <dc:language>en-US</dc:language>
  <cp:lastModifiedBy>Наташа</cp:lastModifiedBy>
  <dcterms:modified xsi:type="dcterms:W3CDTF">2001-01-01T00:43:49Z</dcterms:modified>
  <cp:revision>40</cp:revision>
  <dc:subject/>
  <dc:title>  – Зачем человеку терпимость?</dc:title>
</cp:coreProperties>
</file>