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9F3-3448-458D-8C58-C5423165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4C6-BC89-4B99-BEC5-0EBBF6A7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AC1-5C9E-4DC2-9656-64A7154E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630-B9B8-42E3-9427-55F030D1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469A9-A396-4FB2-93CA-4FB120C9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3B4CF-B536-4696-B4F0-CE306375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C59CB-86EF-468E-B763-577D64B8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3A6E3-1DE2-4229-925A-D2BDB870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08B5A-C822-40C4-B010-9BDE0FC2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052EC-F83B-43AE-8269-A4F90F15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20F34-4F54-437C-BDC8-868F4DB4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23E-79B9-4C38-8EF7-E70C72FD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E4C73-8280-4670-80E6-789A1716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645FE-1420-41B2-B110-BC0BDCE4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9108B-A997-42D6-88E3-292DA42C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D4342-AB33-41A8-9DE0-EF5BF8A8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057F8-6FE0-4CA5-803A-4FDB750C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6F6-F4D6-45B4-AB9B-10141D9E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9BA-DF9A-43CE-8081-A9AE1718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748-9EBE-45E4-A25D-E33DABFC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CAA-2C93-4148-BB25-CD046CEE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DBD-1D4B-445D-B147-25BCEAD5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E6D-5C36-4573-8769-3B24A15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F02-3950-4987-A2E9-76B053A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BC2A-F7CB-477D-BC2B-7415BFC1D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6D14-6AE4-4DC2-8C86-A30BC271A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КОНТУРНАЯ   РЕЗЬБ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ла: учитель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мельянова Еле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кто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НАМЕНТ   ЖАР-ПТИЦ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К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МЫШ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СПАСИБО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ЗА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ВНИМАНИ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ТЕХНИКА  ВЫПОЛНЕ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турная резьба по технике выполнения является самой простой. Линейный, несколько углубленный рисунок из прямых, извилистых или ломанных линий в виде двугранной или полукруглой выемки на ровной поверхности древесины, четко очерчивающий контур изображения, выглядит резким и жестковат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ПРИМЕНЕН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а техника широко применяется в русской народной резьбе: различные орнаменты на деревянных резных элементах дома, при изготовлении панно, мебели посуды, сувениров. Контуром режут всевозможные прожилки, сетки, детали крупных элементов компози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ИНСТРУМЕНТ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турная резьба, несмотря на простоту рисунка, требует навыков свободного владения резчицким инструментов, аккуратности и внимания. Для выполнения контурного рисунка, в зависимости от его сложности, применяют ножи-косяки, различных углов заточки, резаки, стамески-уголки, полукруглые стамески, клюкарзы, отлогие стамески. В отдельных операциях используют прямые стамес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МАТЕРИАЛЫ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турную резьбу лучше выполнять на древесине мягких пород - липе, осине, фанере, а затем, после приобретения навыков - на более твердых породах древеси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БА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ИН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НАМЕ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ТУ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9:20:04Z</dcterms:created>
  <dc:creator>www.PHILka.RU</dc:creator>
  <dc:description/>
  <dc:language>en-US</dc:language>
  <cp:lastModifiedBy>www.PHILka.RU</cp:lastModifiedBy>
  <dcterms:modified xsi:type="dcterms:W3CDTF">2011-12-13T18:00:12Z</dcterms:modified>
  <cp:revision>5</cp:revision>
  <dc:subject/>
  <dc:title>КОНТУРНАЯ   РЕЗЬБА</dc:title>
</cp:coreProperties>
</file>