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531-4BDE-4C33-A8D1-0DE24594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D89-ABEA-4032-BA2F-05066FB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9B4-DF3C-44AA-9E93-FB252337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A84-862E-4246-B684-E7853A33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6313C-0A1A-4139-A591-DE7AFC68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67685-6AB5-45B1-82F5-C849DBB2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2B2E2-E82B-4834-A420-FAC4B823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9D3CA-9570-492C-A743-9095DE0C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89245-9AC6-4FF7-9C22-0C76B98C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952EB-3DE3-4CAC-9365-020ACC52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0BDE7-DBFF-46E9-9943-712BA84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770-CEC7-4316-840F-DA4E0F4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6F1D9-6C79-42CE-9778-324A114E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04880-02FC-401F-AF95-1481A0D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B9B02-0B57-4EFC-97A2-CC6F7526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30769-8ADA-49EB-9FB9-F8C7B29E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BBC7-079A-4800-851A-1F135245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CCA-ED54-4A9A-90AB-C94DAA1A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4F5-182D-43F5-8A3E-4EE28DFD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0FA-F916-49DA-946B-235F54B8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0CB-E182-4864-AF50-73E65530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7B4-CC9A-4DB7-A4D0-14333B1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DBA-5E52-4898-9D30-F7249C82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7F5-E717-4F68-A490-D7539A4D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E09E-004A-4EC6-97EF-05FC05052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D112-D7DE-4B12-83B7-4D627E985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КОНТУРНАЯ   РЕЗЬБ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ла: учитель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мельянова Еле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кто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НАМЕНТ   ЖАР-ПТИЦ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К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МЫШ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СПАСИБО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ЗА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ВНИМАНИ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ТЕХНИКА  ВЫПОЛНЕН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турная резьба по технике выполнения является самой простой. Линейный, несколько углубленный рисунок из прямых, извилистых или ломанных линий в виде двугранной или полукруглой выемки на ровной поверхности древесины, четко очерчивающий контур изображения, выглядит резким и жестковат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ПРИМЕНЕН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а техника широко применяется в русской народной резьбе: различные орнаменты на деревянных резных элементах дома, при изготовлении панно, мебели посуды, сувениров. Контуром режут всевозможные прожилки, сетки, детали крупных элементов компози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ИНСТРУМЕНТ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турная резьба, несмотря на простоту рисунка, требует навыков свободного владения резчицким инструментов, аккуратности и внимания. Для выполнения контурного рисунка, в зависимости от его сложности, применяют ножи-косяки, различных углов заточки, резаки, стамески-уголки, полукруглые стамески, клюкарзы, отлогие стамески. В отдельных операциях используют прямые стамес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МАТЕРИАЛЫ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турную резьбу лучше выполнять на древесине мягких пород - липе, осине, фанере, а затем, после приобретения навыков - на более твердых породах древеси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ОБА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ИН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НАМЕ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ТУ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9:20:04Z</dcterms:created>
  <dc:creator>www.PHILka.RU</dc:creator>
  <dc:description/>
  <dc:language>en-US</dc:language>
  <cp:lastModifiedBy>www.PHILka.RU</cp:lastModifiedBy>
  <dcterms:modified xsi:type="dcterms:W3CDTF">2011-12-13T18:00:12Z</dcterms:modified>
  <cp:revision>5</cp:revision>
  <dc:subject/>
  <dc:title>КОНТУРНАЯ   РЕЗЬБА</dc:title>
</cp:coreProperties>
</file>