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8C2-482B-4C13-88E8-ED2C782D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0DF-7D74-4EB3-9740-2A88B61B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00E-73A8-4A98-A51F-DA7A33AF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B4A-FB69-41B6-A868-2C3F86FF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174-7450-4896-A670-F2DE3741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1E7-FE43-4915-BE76-476E69C4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3D41-B80A-4C77-ADE4-709598D0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662-DC1F-4727-956B-912115D0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AD9-88D5-4087-A36D-600F29BC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A02-18BC-431E-8F51-C352E49D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718-602C-4AB5-B181-29F8F134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470-D4B7-4B01-932E-AEC7F35B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4516-82AA-4A71-9EFE-AB35080BE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12.nnm.ru/7/a/0/5/5/74812f07fa7651eb591ae98c552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radikal.ru/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Зима в картинах художни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6237360"/>
            <a:ext cx="64008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ила:Ваган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503244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920" y="5157360"/>
            <a:ext cx="381636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жицкий                               Константин Яковлеви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Лес зим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7280" y="231840"/>
            <a:ext cx="470700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6021000"/>
            <a:ext cx="82296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левин Иван Андреевич. Дети в санях 18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260280"/>
            <a:ext cx="719928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273528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голюбов Алексей Петрович  Зима в Борисоглебс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189000"/>
            <a:ext cx="38242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60210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лай Крымов. Розовая зима, 19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зима"/>
          <p:cNvPicPr/>
          <p:nvPr/>
        </p:nvPicPr>
        <p:blipFill>
          <a:blip r:embed="rId2"/>
          <a:stretch/>
        </p:blipFill>
        <p:spPr>
          <a:xfrm>
            <a:off x="1187280" y="260280"/>
            <a:ext cx="698508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6237000"/>
            <a:ext cx="83628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орь Михай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Картинка 40 из 5684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15920"/>
            <a:ext cx="751212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58920" y="5516280"/>
            <a:ext cx="39099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митриенкова Гал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дреевна.  Зимний ле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Картинка 42 из 56849"/>
          <p:cNvPicPr/>
          <p:nvPr/>
        </p:nvPicPr>
        <p:blipFill>
          <a:blip r:embed="rId2"/>
          <a:stretch/>
        </p:blipFill>
        <p:spPr>
          <a:xfrm>
            <a:off x="250920" y="333360"/>
            <a:ext cx="4448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8920" y="3933360"/>
            <a:ext cx="273672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манов Ро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5113440" cy="3541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40360" y="3500280"/>
            <a:ext cx="484812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708280"/>
            <a:ext cx="76899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ФИЗ</a:t>
            </a: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КУЛЬТ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МИНУТ</a:t>
            </a: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6021000"/>
            <a:ext cx="712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Ю. Мартю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Очень хорошая идея, красиво и интересно Посмотрите какая интересная зима у художника Дмитрия Кустан... - 4"/>
          <p:cNvPicPr/>
          <p:nvPr/>
        </p:nvPicPr>
        <p:blipFill>
          <a:blip r:embed="rId2"/>
          <a:stretch/>
        </p:blipFill>
        <p:spPr>
          <a:xfrm>
            <a:off x="539640" y="333360"/>
            <a:ext cx="828036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60930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лай Дубов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Изображение"/>
          <p:cNvPicPr/>
          <p:nvPr/>
        </p:nvPicPr>
        <p:blipFill>
          <a:blip r:embed="rId2"/>
          <a:stretch/>
        </p:blipFill>
        <p:spPr>
          <a:xfrm>
            <a:off x="684360" y="260280"/>
            <a:ext cx="763272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3860280"/>
            <a:ext cx="37447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́н Ива́нович Ши́шк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101520"/>
            <a:ext cx="5327640" cy="3257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708360" y="3381480"/>
            <a:ext cx="5327640" cy="3373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6920" y="6308640"/>
            <a:ext cx="16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вый сн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580000" y="259920"/>
            <a:ext cx="32623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кадий Плас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Изображение"/>
          <p:cNvPicPr/>
          <p:nvPr/>
        </p:nvPicPr>
        <p:blipFill>
          <a:blip r:embed="rId2"/>
          <a:stretch/>
        </p:blipFill>
        <p:spPr>
          <a:xfrm>
            <a:off x="395280" y="260280"/>
            <a:ext cx="5057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602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ктория Харчен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Изображение"/>
          <p:cNvPicPr/>
          <p:nvPr/>
        </p:nvPicPr>
        <p:blipFill>
          <a:blip r:embed="rId2"/>
          <a:stretch/>
        </p:blipFill>
        <p:spPr>
          <a:xfrm>
            <a:off x="971640" y="260280"/>
            <a:ext cx="719928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609264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орь Грабар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Изображение"/>
          <p:cNvPicPr/>
          <p:nvPr/>
        </p:nvPicPr>
        <p:blipFill>
          <a:blip r:embed="rId2"/>
          <a:stretch/>
        </p:blipFill>
        <p:spPr>
          <a:xfrm>
            <a:off x="1258920" y="189000"/>
            <a:ext cx="640872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5589720"/>
            <a:ext cx="32400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витан</a:t>
            </a:r>
            <a:br>
              <a:rPr sz="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аак Иль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Изображение"/>
          <p:cNvPicPr/>
          <p:nvPr/>
        </p:nvPicPr>
        <p:blipFill>
          <a:blip r:embed="rId2"/>
          <a:stretch/>
        </p:blipFill>
        <p:spPr>
          <a:xfrm>
            <a:off x="3708360" y="189000"/>
            <a:ext cx="5238720" cy="64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саткин Николай Алексееви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Соперницы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http://photo1.fotodia.ru/2007/03/28/67497_ZGQyqhhlBS.jpg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602100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адимир Марков, "Лунная ночь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79930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51640" y="4797000"/>
            <a:ext cx="304632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игорий Аванесов, "Хрустальный ручей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5395680" cy="64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61657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митрий Кустан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Изображение"/>
          <p:cNvPicPr/>
          <p:nvPr/>
        </p:nvPicPr>
        <p:blipFill>
          <a:blip r:embed="rId2"/>
          <a:stretch/>
        </p:blipFill>
        <p:spPr>
          <a:xfrm>
            <a:off x="971640" y="476280"/>
            <a:ext cx="75596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6021000"/>
            <a:ext cx="82915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ан Иванович Аг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Изображение"/>
          <p:cNvPicPr/>
          <p:nvPr/>
        </p:nvPicPr>
        <p:blipFill>
          <a:blip r:embed="rId2"/>
          <a:stretch/>
        </p:blipFill>
        <p:spPr>
          <a:xfrm>
            <a:off x="755640" y="189000"/>
            <a:ext cx="748836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7440" y="1411560"/>
            <a:ext cx="28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стоди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и́с Миха́йл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Изображение"/>
          <p:cNvPicPr/>
          <p:nvPr/>
        </p:nvPicPr>
        <p:blipFill>
          <a:blip r:embed="rId2"/>
          <a:stretch/>
        </p:blipFill>
        <p:spPr>
          <a:xfrm>
            <a:off x="3924360" y="2919240"/>
            <a:ext cx="5138640" cy="3802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4033800" cy="352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68000" y="6308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сле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9080" y="38368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и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16572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одский Исаак Израильевич. Зимний пейза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89000"/>
            <a:ext cx="87663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6093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лентин Белых Катание на Масленицу.19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Изображение"/>
          <p:cNvPicPr/>
          <p:nvPr/>
        </p:nvPicPr>
        <p:blipFill>
          <a:blip r:embed="rId2"/>
          <a:stretch/>
        </p:blipFill>
        <p:spPr>
          <a:xfrm>
            <a:off x="684360" y="189000"/>
            <a:ext cx="748800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623700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силий Нестеренко. Масле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Изображение"/>
          <p:cNvPicPr/>
          <p:nvPr/>
        </p:nvPicPr>
        <p:blipFill>
          <a:blip r:embed="rId2"/>
          <a:stretch/>
        </p:blipFill>
        <p:spPr>
          <a:xfrm>
            <a:off x="900000" y="260280"/>
            <a:ext cx="756144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609300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он Константи́н Фёдо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Изображение"/>
          <p:cNvPicPr/>
          <p:nvPr/>
        </p:nvPicPr>
        <p:blipFill>
          <a:blip r:embed="rId2"/>
          <a:stretch/>
        </p:blipFill>
        <p:spPr>
          <a:xfrm>
            <a:off x="324000" y="404640"/>
            <a:ext cx="8569080" cy="50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609300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ed Blay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8208720" cy="56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4723920"/>
            <a:ext cx="39592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obert Dunca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Художник Robert Duncan | Зимний день"/>
          <p:cNvPicPr/>
          <p:nvPr/>
        </p:nvPicPr>
        <p:blipFill>
          <a:blip r:embed="rId2"/>
          <a:stretch/>
        </p:blipFill>
        <p:spPr>
          <a:xfrm>
            <a:off x="179280" y="115920"/>
            <a:ext cx="4824360" cy="362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Художник Robert Duncan | Зимний день"/>
          <p:cNvPicPr/>
          <p:nvPr/>
        </p:nvPicPr>
        <p:blipFill>
          <a:blip r:embed="rId3"/>
          <a:stretch/>
        </p:blipFill>
        <p:spPr>
          <a:xfrm>
            <a:off x="4427640" y="3141720"/>
            <a:ext cx="456084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623700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есников Степан Фёдорович. Зимний пейза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89000"/>
            <a:ext cx="813600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6237000"/>
            <a:ext cx="8229600" cy="3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дратенко Гавриил Павлович. Зимний веч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60280"/>
            <a:ext cx="820908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5949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юшкин-Сорокопудов Иван Силы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-на лето, зима-на мороз. 19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84978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4437000"/>
            <a:ext cx="44640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вр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ексей Кондрат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4465440" cy="3408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788000" y="836640"/>
            <a:ext cx="4187880" cy="5572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6000" y="376380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2200" y="616572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имний пейзаж 18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92360" y="333360"/>
            <a:ext cx="3476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Юлий Юльевич Клеве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имний закат в еловом лесу 1889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4663800" cy="63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594972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щерский Арсений Иванович. Зима. Ледокол 187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862164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8:21:46Z</dcterms:created>
  <dc:creator>User</dc:creator>
  <dc:description/>
  <dc:language>en-US</dc:language>
  <cp:lastModifiedBy>User</cp:lastModifiedBy>
  <dcterms:modified xsi:type="dcterms:W3CDTF">2011-12-13T16:33:47Z</dcterms:modified>
  <cp:revision>30</cp:revision>
  <dc:subject/>
  <dc:title>Зима в картинах художников</dc:title>
</cp:coreProperties>
</file>