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B4C-4279-43C4-A84C-EE8A3369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943-72E5-4527-BBE4-5F03A20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2B3-8ADD-4304-9AED-04A0ECF4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FE4-9BE0-4F6D-A67C-DB57324E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638-0996-4F27-9051-6B5AFAB6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864-5594-42EA-B145-23F28AFC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583-8C82-428A-BB77-E25B2119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A5E-4D3D-47AA-A200-2EC5377C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2F6-076B-4E80-97BA-327F88F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755-AD44-47F9-90BC-28EF12C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F83-37CD-40D5-9DD7-9E96FCE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705-FF81-426A-981C-2C361EA8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562-1094-42C9-9E5D-8842EBC8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2.nnm.ru/7/a/0/5/5/74812f07fa7651eb591ae98c552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Зима в картинах 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а:Ваган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0324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5157360"/>
            <a:ext cx="3816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жицкий                               Константин Яковлеви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Лес зи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231840"/>
            <a:ext cx="4707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6021000"/>
            <a:ext cx="82296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левин Иван Андреевич. Дети в санях 18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60280"/>
            <a:ext cx="71992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27352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олюбов Алексей Петрович  Зима в Борисоглебс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89000"/>
            <a:ext cx="38242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Крымов. Розовая зима, 1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зима"/>
          <p:cNvPicPr/>
          <p:nvPr/>
        </p:nvPicPr>
        <p:blipFill>
          <a:blip r:embed="rId2"/>
          <a:stretch/>
        </p:blipFill>
        <p:spPr>
          <a:xfrm>
            <a:off x="1187280" y="260280"/>
            <a:ext cx="69850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6237000"/>
            <a:ext cx="83628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орь Михай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40 из 568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15920"/>
            <a:ext cx="75121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8920" y="5516280"/>
            <a:ext cx="39099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енкова Га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еевна.  Зимний ле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42 из 56849"/>
          <p:cNvPicPr/>
          <p:nvPr/>
        </p:nvPicPr>
        <p:blipFill>
          <a:blip r:embed="rId2"/>
          <a:stretch/>
        </p:blipFill>
        <p:spPr>
          <a:xfrm>
            <a:off x="250920" y="33336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3933360"/>
            <a:ext cx="273672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манов Ро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5113440" cy="354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3500280"/>
            <a:ext cx="48481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708280"/>
            <a:ext cx="76899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ФИЗ</a:t>
            </a: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КУЛЬТ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МИНУТ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. Мартю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Очень хорошая идея, красиво и интересно Посмотрите какая интересная зима у художника Дмитрия Кустан... - 4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лай Дубов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Изображение"/>
          <p:cNvPicPr/>
          <p:nvPr/>
        </p:nvPicPr>
        <p:blipFill>
          <a:blip r:embed="rId2"/>
          <a:stretch/>
        </p:blipFill>
        <p:spPr>
          <a:xfrm>
            <a:off x="684360" y="260280"/>
            <a:ext cx="76327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3860280"/>
            <a:ext cx="37447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́н Ива́нович Ши́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01520"/>
            <a:ext cx="5327640" cy="325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08360" y="3381480"/>
            <a:ext cx="5327640" cy="337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6920" y="630864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ый с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80000" y="259920"/>
            <a:ext cx="32623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кадий Пла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Изображение"/>
          <p:cNvPicPr/>
          <p:nvPr/>
        </p:nvPicPr>
        <p:blipFill>
          <a:blip r:embed="rId2"/>
          <a:stretch/>
        </p:blipFill>
        <p:spPr>
          <a:xfrm>
            <a:off x="395280" y="260280"/>
            <a:ext cx="5057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ктория Харчен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Изображение"/>
          <p:cNvPicPr/>
          <p:nvPr/>
        </p:nvPicPr>
        <p:blipFill>
          <a:blip r:embed="rId2"/>
          <a:stretch/>
        </p:blipFill>
        <p:spPr>
          <a:xfrm>
            <a:off x="971640" y="260280"/>
            <a:ext cx="719928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орь Граба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Изображение"/>
          <p:cNvPicPr/>
          <p:nvPr/>
        </p:nvPicPr>
        <p:blipFill>
          <a:blip r:embed="rId2"/>
          <a:stretch/>
        </p:blipFill>
        <p:spPr>
          <a:xfrm>
            <a:off x="1258920" y="189000"/>
            <a:ext cx="6408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5589720"/>
            <a:ext cx="32400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витан</a:t>
            </a: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аак Иль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Изображение"/>
          <p:cNvPicPr/>
          <p:nvPr/>
        </p:nvPicPr>
        <p:blipFill>
          <a:blip r:embed="rId2"/>
          <a:stretch/>
        </p:blipFill>
        <p:spPr>
          <a:xfrm>
            <a:off x="3708360" y="189000"/>
            <a:ext cx="523872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аткин Николай Алексееви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Соперницы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http://photo1.fotodia.ru/2007/03/28/67497_ZGQyqhhlBS.jpg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имир Марков, "Лунная ночь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79930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51640" y="4797000"/>
            <a:ext cx="30463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горий Аванесов, "Хрустальный ручей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39568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61657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митрий Куста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Изображение"/>
          <p:cNvPicPr/>
          <p:nvPr/>
        </p:nvPicPr>
        <p:blipFill>
          <a:blip r:embed="rId2"/>
          <a:stretch/>
        </p:blipFill>
        <p:spPr>
          <a:xfrm>
            <a:off x="971640" y="476280"/>
            <a:ext cx="75596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91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 Иванович Аг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Изображение"/>
          <p:cNvPicPr/>
          <p:nvPr/>
        </p:nvPicPr>
        <p:blipFill>
          <a:blip r:embed="rId2"/>
          <a:stretch/>
        </p:blipFill>
        <p:spPr>
          <a:xfrm>
            <a:off x="755640" y="189000"/>
            <a:ext cx="7488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7440" y="1411560"/>
            <a:ext cx="28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стод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и́с Миха́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Изображение"/>
          <p:cNvPicPr/>
          <p:nvPr/>
        </p:nvPicPr>
        <p:blipFill>
          <a:blip r:embed="rId2"/>
          <a:stretch/>
        </p:blipFill>
        <p:spPr>
          <a:xfrm>
            <a:off x="3924360" y="2919240"/>
            <a:ext cx="5138640" cy="380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4033800" cy="352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68000" y="6308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л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080" y="38368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1657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дский Исаак Израильевич. Зимний пейза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8766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лентин Белых Катание на Масленицу.1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Изображение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силий Нестеренко. Масл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Изображение"/>
          <p:cNvPicPr/>
          <p:nvPr/>
        </p:nvPicPr>
        <p:blipFill>
          <a:blip r:embed="rId2"/>
          <a:stretch/>
        </p:blipFill>
        <p:spPr>
          <a:xfrm>
            <a:off x="900000" y="260280"/>
            <a:ext cx="75614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он Константи́н Фёдо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Изображение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ed Blay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8208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4723920"/>
            <a:ext cx="39592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obert Dunc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Художник Robert Duncan | Зимний день"/>
          <p:cNvPicPr/>
          <p:nvPr/>
        </p:nvPicPr>
        <p:blipFill>
          <a:blip r:embed="rId2"/>
          <a:stretch/>
        </p:blipFill>
        <p:spPr>
          <a:xfrm>
            <a:off x="179280" y="115920"/>
            <a:ext cx="4824360" cy="362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Художник Robert Duncan | Зимний день"/>
          <p:cNvPicPr/>
          <p:nvPr/>
        </p:nvPicPr>
        <p:blipFill>
          <a:blip r:embed="rId3"/>
          <a:stretch/>
        </p:blipFill>
        <p:spPr>
          <a:xfrm>
            <a:off x="4427640" y="3141720"/>
            <a:ext cx="45608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есников Степан Фёдорович. Зимний пейза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89000"/>
            <a:ext cx="8136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6237000"/>
            <a:ext cx="82296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дратенко Гавриил Павлович. Зимний веч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8209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5949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юшкин-Сорокопудов Иван Силы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-на лето, зима-на мороз. 19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497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4437000"/>
            <a:ext cx="446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1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ексей Кондрат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4465440" cy="340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836640"/>
            <a:ext cx="418788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6000" y="37638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2200" y="616572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имний пейзаж 18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92360" y="333360"/>
            <a:ext cx="3476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Юлий Юльевич Клеве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имний закат в еловом лесу 1889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33360"/>
            <a:ext cx="466380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594972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щерский Арсений Иванович. Зима. Ледокол 187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216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8:21:46Z</dcterms:created>
  <dc:creator>User</dc:creator>
  <dc:description/>
  <dc:language>en-US</dc:language>
  <cp:lastModifiedBy>User</cp:lastModifiedBy>
  <dcterms:modified xsi:type="dcterms:W3CDTF">2011-12-13T16:33:47Z</dcterms:modified>
  <cp:revision>30</cp:revision>
  <dc:subject/>
  <dc:title>Зима в картинах художников</dc:title>
</cp:coreProperties>
</file>