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7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7B0-5C7A-44C1-ADE3-FBEA9156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6E9-88D9-46AD-A07F-FEEB5F4E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DF0ED-2D35-4287-971E-42AD7126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5D0F6-8580-4596-84FF-1D93D77A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C65E2-A539-4B43-A21D-0AFEB92D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4FA9E-75B6-4147-92F1-4BD5D84C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53580-7F36-4A8C-ACCB-90C44E94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E749A-6A7C-4EF6-9D4F-1F1CF1F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33A80-2418-4823-BD2F-43DFB310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BF0BD-0721-4852-874F-AD0D1E0D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81732-1BBB-44D9-8A24-04C7437C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459F4-9E68-40D0-B465-31680966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EA2-3D49-4BAE-8996-0E1AAE16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A214E-1498-41CB-B0E0-713E35E3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FC32C-C520-4E2D-9117-A4CC9806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E820D-DC26-4AE3-9A87-5046A9E0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B054E-0A5C-47C4-8FCA-EA3DF6CD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6AC39-6F86-4351-A638-33497844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180C6-AAB4-45B2-A77C-615B6EDE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B344A-E7A3-45C7-A05E-FB8C621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92E25-694B-471F-BF9E-6B102441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82E00-4954-4457-AE3B-31784828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520BA-B450-459B-9067-03844ED4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07A-83E0-4A0B-8F16-3AE54C21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C6373-F2EC-4973-874E-CCF43D30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21B88-1023-4192-973E-96829B68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D5BC0-8B58-4E74-A3F6-DD3DABD0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135D9-11D9-4EBD-AAB8-D36B4A11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249B5-1D3D-40CF-8D36-CA8E607C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62B94-06B7-4E58-9931-6B2F6BBC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99D23-4C42-413A-B6A8-D1475F59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417A5-414E-4059-9B7E-6F03DF0C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05A59-8AEE-4999-95D7-210C84A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81D4C-CDD7-4593-B450-782FD25E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06E8-87BF-47E5-8332-B069942F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76AD8-E30C-44BF-A4FA-1E1A0A1D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1BAEF-F4A5-4F7C-9CAA-650A9AAB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F9629-9371-48A7-91FA-4C121A42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10CC7-51D1-4A8A-A071-39AC1E32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B8615-4C59-48AB-B836-4882B3C1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1CAD4-27A5-4EDF-962D-BDCDF923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95368-4D13-4452-B194-B57014E4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9B800-FD26-4149-8FD6-A74CA266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2691B-AF56-48F8-A206-043BCDF8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92D38-D4D0-4A3E-9EBE-50E61B4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71D6-3EA4-4DFC-8726-10C0FC4E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608BC-4132-4E8B-9502-468FD8BA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B32DB-4AD4-4C2C-B6D3-1AF00016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FB99F-7C4C-478B-9A90-8425A293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F1433-6B53-457E-B156-1B0A80EF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A49CF-C9DA-47D9-9DE0-89B35391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86CE-79E0-4554-B16C-E9945953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C64E-E422-4E3E-A70D-A5400567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1EF0-C6C2-42DE-B0B8-16D947AD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2A02-9C4F-4251-AEFD-2DB535BF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7FD4-874E-43C6-A742-D8076C1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4A4-EA12-40D1-AF73-230EBC21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CE3E-2632-4C8F-915D-F4B62450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C208-090A-4917-AB03-BCCC094E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ED15-DF5C-489B-9446-C866E5B9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C116-458C-4ACE-B629-B182DBAF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D909-A4E3-4810-ACC4-45DB5D03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57DC-6736-4BA0-A915-E8ED9521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929B-19DF-4D87-A008-A97BBB09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06F2F-70D9-42F9-8023-DA9B038E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C26AB-F12A-4C6F-B95B-D9BE1D4A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98E3-C6B4-42A4-91ED-EF608C09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6F8-3D97-4BD9-B974-3567D49F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7733-75E0-482F-822A-B87A83B9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321C2-BF75-4FFC-A056-7FD47CB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FBE4-E571-458C-8515-33437690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F035-6E9A-4E0F-893A-F2A440A1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857E-91B5-48F7-BA6A-FBB12245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11DD-1046-4C69-988A-9BCC6C8C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8683-2A9A-4362-BEB2-B6CB0429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E8776-8F6D-4FB6-9779-29E794E8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1CE08-C1D6-40A2-BBE2-A9E52141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E4721-CEF0-4BC5-B1CA-28653C51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75F-334D-4704-BC04-ECE490A7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34D34-4B7A-4B17-A175-3B8DF890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52370-1598-4441-ABF4-0BD9DF22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80CA-8E13-4872-BB55-ABCA7322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F8C8-A6BE-4AAB-ABCE-4060752D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8833-7B9F-4293-8FC2-BFF9CCF4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CFB92-2DEC-45D5-9346-10B99181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08F1B-3D68-4CFA-A9C7-8D162332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C7B6-A5AF-44B0-98A4-101DE48D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9BDDD-68C9-4E21-BD00-7AFA0C78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4EF2-2A89-46D2-9C31-4D60BA9B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D71-AE1F-4CCB-B1CB-73D22E46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A6B3-1960-415E-AC9A-CB46F50D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A54CD-8F77-47F6-B40D-52770501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846B9-71AD-4CEB-AFAF-0E030022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26308-BC5D-4EE5-87BD-AA65B186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5962B-B867-4A14-AD2A-342C09B3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1EE95-444F-43E3-9C99-9EC98B3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EB69F-CAF1-490D-9B8B-BDDB3A96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6F978-7E74-4183-A7EC-A5AB7B0E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EC212-C523-4249-ADAA-F673D6A9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938A0-C94C-4458-8068-B995790A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950-725B-4CB4-9CA4-F558BD98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516A-5D81-4014-A0C4-53700F44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640EB-5570-4E38-85F8-5869402C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10F7B-2B83-4C6E-BAF2-4A42661B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E8957-AA36-43DC-8DA1-C5E4A664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FD720-C52E-4A7A-8A21-DDF14431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0FF8-9AFA-462F-8B61-9CFC12D0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A96E9-F2B2-46B0-9EC1-815BC6C2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308E4-6C69-4A73-9CE8-53BB423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2895C-45F1-4AE7-AAA0-59F5D20B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379A-A80A-470A-83A3-4D1572A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E16-C5D5-4357-A0B2-2A4D442A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9210B-6ECF-4E8D-A210-66B608AB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E11FA-36AD-4A4C-8DD7-6DCEA608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8755B-D89E-4847-AC77-6E9B1A22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16085-C301-44E3-A4C3-867BBDE4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2916F-B92F-481A-9609-8F0752B9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6D897-BB77-4273-AFF4-63BD39B8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E2F8A-EAA5-471F-AD71-6BFA9D07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8AAEE-A687-4B8F-9FF7-3C6E0C57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4AF0-6DCA-4AD1-B7B1-F636D8D2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18039-CA33-4D6E-AE4B-E9BFF38A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C5A-E735-4DEA-A949-0C46734E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951C6-69CE-43BB-9918-884CD89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E98D9-A010-44EB-945A-EB0FF1E0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FB905-A8E6-4962-B55E-1F066B11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22DC9-CEA3-41E5-A665-50E20376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8D281-2745-4DE0-B102-679524DF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51061-BFEF-4575-A31D-DA7A1A14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A7268-2EDA-4EC8-B01F-421E0426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62BFD-5E29-45FA-A6AF-BB9E2FAC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BEAB8-7B1B-4F43-94F9-DFE89673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11BD0-46E5-4CAC-A2F9-CD0DC04E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23B-9859-4B0B-A30C-A1F70BD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359B8-769C-4F94-A81C-2F587C6E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5CDDB-9DFE-4965-ABC9-51BCFC3A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C3303-EC3F-474A-B06E-5E2286A5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82790-8278-4282-B361-B40DEDF6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396B-E672-4911-911A-1EE38342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A12F8-7519-4197-AF51-DE087A65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171B5-0727-4C16-B420-A76BDA9D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AD769-BDDC-48F0-B1FD-9F34B38B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DFDC4-AB59-4DBA-ACCB-9ED3E2B0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842C2-D35D-4F2B-B96D-C3D78FDC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C39C-E970-4208-BF4F-07C56346FD6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8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0B33-8D7F-4BB1-AF29-69BB5812DA1A}" type="slidenum"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3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CF9B-BD91-4722-9E67-A96F6AD86A57}" type="slidenum"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52F9-E2C3-43A8-9063-18340512310A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BB87-DD9D-4458-A08B-7FE714AF6CE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8FA2-A635-47D3-BBB4-4F086B1B4A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A8E1-19B0-4B46-92D7-846A99A8E72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18FF-02C6-48B8-9089-D528D64EBA07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7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2580-119F-4EE9-A344-5C95FD88EC2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058D-AA3F-46D9-AA0B-1DF54383621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2E65-A146-435B-B59A-A93BF48817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DDC8-C37F-4671-8EA4-C712A74BF1C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TextBox 6"/>
          <p:cNvGrpSpPr/>
          <p:nvPr/>
        </p:nvGrpSpPr>
        <p:grpSpPr>
          <a:xfrm>
            <a:off x="2889360" y="2066760"/>
            <a:ext cx="5632200" cy="2806920"/>
            <a:chOff x="2889360" y="2066760"/>
            <a:chExt cx="5632200" cy="2806920"/>
          </a:xfrm>
        </p:grpSpPr>
        <p:pic>
          <p:nvPicPr>
            <p:cNvPr id="524" name="TextBox 6" descr=""/>
            <p:cNvPicPr/>
            <p:nvPr/>
          </p:nvPicPr>
          <p:blipFill>
            <a:blip r:embed="rId2"/>
            <a:stretch/>
          </p:blipFill>
          <p:spPr>
            <a:xfrm>
              <a:off x="2889360" y="2066760"/>
              <a:ext cx="56322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 rot="427800">
              <a:off x="3157920" y="2515680"/>
              <a:ext cx="51894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Monotype Corsiva"/>
                </a:rPr>
                <a:t>«Неусыпный труд вс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Monotype Corsiva"/>
                </a:rPr>
                <a:t>препятствия преодолевает»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Monotype Corsiva"/>
                </a:rPr>
                <a:t>М.В. Ломонос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10" descr="MCj04046430000[1]"/>
          <p:cNvPicPr/>
          <p:nvPr/>
        </p:nvPicPr>
        <p:blipFill>
          <a:blip r:embed="rId3"/>
          <a:stretch/>
        </p:blipFill>
        <p:spPr>
          <a:xfrm flipH="1" rot="343800">
            <a:off x="5679720" y="4055760"/>
            <a:ext cx="3340080" cy="264168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5"/>
          <p:cNvSpPr/>
          <p:nvPr/>
        </p:nvSpPr>
        <p:spPr>
          <a:xfrm>
            <a:off x="214200" y="5500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Презентацию 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Бульба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ученица 11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МБОУ «ТЭ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TextBox 11"/>
          <p:cNvGrpSpPr/>
          <p:nvPr/>
        </p:nvGrpSpPr>
        <p:grpSpPr>
          <a:xfrm>
            <a:off x="4498920" y="133200"/>
            <a:ext cx="4029120" cy="1440000"/>
            <a:chOff x="4498920" y="133200"/>
            <a:chExt cx="4029120" cy="1440000"/>
          </a:xfrm>
        </p:grpSpPr>
        <p:pic>
          <p:nvPicPr>
            <p:cNvPr id="537" name="TextBox 11" descr=""/>
            <p:cNvPicPr/>
            <p:nvPr/>
          </p:nvPicPr>
          <p:blipFill>
            <a:blip r:embed="rId1"/>
            <a:stretch/>
          </p:blipFill>
          <p:spPr>
            <a:xfrm>
              <a:off x="4498920" y="133200"/>
              <a:ext cx="40291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4572000" y="260280"/>
              <a:ext cx="388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90101"/>
                  </a:solidFill>
                  <a:latin typeface="Constantia"/>
                </a:rPr>
                <a:t>Великие открыт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Прямоугольник 1"/>
          <p:cNvSpPr/>
          <p:nvPr/>
        </p:nvSpPr>
        <p:spPr>
          <a:xfrm>
            <a:off x="4408560" y="18111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работ Ломоносова - работы по </a:t>
            </a:r>
            <a:r>
              <a:rPr b="0" lang="ru-RU" sz="1800" spc="-1" strike="noStrike">
                <a:solidFill>
                  <a:srgbClr val="6b1301"/>
                </a:solidFill>
                <a:latin typeface="Arial"/>
              </a:rPr>
              <a:t>филологии, истории, химии, физике, астрономии, геофизики, геологии и минералогии, разработка технологии получения цветного стек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моносов прославился открытиями в разных областях науки и изобретательства, он, как и Леонардо, был еще и художником и поэтом. Но у него есть еще одно достоинство – он был необыкновенным патриотом – боролся за 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йской молодежи и развитие российской на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C:\Documents and Settings\Администратор\Рабочий стол\ИРИНА\Ломоносов\pic1.jpg"/>
          <p:cNvPicPr/>
          <p:nvPr/>
        </p:nvPicPr>
        <p:blipFill>
          <a:blip r:embed="rId2"/>
          <a:stretch/>
        </p:blipFill>
        <p:spPr>
          <a:xfrm>
            <a:off x="142920" y="571680"/>
            <a:ext cx="4248000" cy="52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TextBox 5"/>
          <p:cNvGrpSpPr/>
          <p:nvPr/>
        </p:nvGrpSpPr>
        <p:grpSpPr>
          <a:xfrm>
            <a:off x="4711680" y="225360"/>
            <a:ext cx="4030560" cy="792360"/>
            <a:chOff x="4711680" y="225360"/>
            <a:chExt cx="4030560" cy="792360"/>
          </a:xfrm>
        </p:grpSpPr>
        <p:pic>
          <p:nvPicPr>
            <p:cNvPr id="542" name="TextBox 5" descr=""/>
            <p:cNvPicPr/>
            <p:nvPr/>
          </p:nvPicPr>
          <p:blipFill>
            <a:blip r:embed="rId1"/>
            <a:stretch/>
          </p:blipFill>
          <p:spPr>
            <a:xfrm>
              <a:off x="4711680" y="225360"/>
              <a:ext cx="40305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4788000" y="260280"/>
              <a:ext cx="38876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Прямоугольник 6"/>
          <p:cNvSpPr/>
          <p:nvPr/>
        </p:nvSpPr>
        <p:spPr>
          <a:xfrm>
            <a:off x="5582880" y="35244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1301"/>
                </a:solidFill>
                <a:latin typeface="Constantia"/>
              </a:rPr>
              <a:t>АСТРО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7"/>
          <p:cNvSpPr/>
          <p:nvPr/>
        </p:nvSpPr>
        <p:spPr>
          <a:xfrm>
            <a:off x="4245120" y="10098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красивейших научных статей Ломоносова наз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1301"/>
                </a:solidFill>
                <a:latin typeface="Arial"/>
              </a:rPr>
              <a:t>«Явление Венеры на Солнце…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снова статьи – открытие, сделанное учёным в </a:t>
            </a:r>
            <a:r>
              <a:rPr b="0" lang="ru-RU" sz="1800" spc="-1" strike="noStrike">
                <a:solidFill>
                  <a:srgbClr val="790101"/>
                </a:solidFill>
                <a:latin typeface="Arial"/>
              </a:rPr>
              <a:t>176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: </a:t>
            </a:r>
            <a:r>
              <a:rPr b="1" lang="ru-RU" sz="1800" spc="-1" strike="noStrike">
                <a:solidFill>
                  <a:srgbClr val="6b1301"/>
                </a:solidFill>
                <a:latin typeface="Arial"/>
              </a:rPr>
              <a:t>на планете Венера есть атмосфера!</a:t>
            </a:r>
            <a:r>
              <a:rPr b="0" lang="ru-RU" sz="1800" spc="-1" strike="noStrike">
                <a:solidFill>
                  <a:srgbClr val="6b130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моносов опубликовал свой труд на русском и немецком языках (учёный свободно владел </a:t>
            </a:r>
            <a:r>
              <a:rPr b="0" lang="ru-RU" sz="1800" spc="-1" strike="noStrike">
                <a:solidFill>
                  <a:srgbClr val="6b1301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зыками), но идея была настолько неожиданной для астрономов, физиков и всего об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-за чего Ломоносов вводит в научную статью часть объяснительную, просветительскую. Ведь говоря об атмосфере, он «замахивается» на предположение о множественности миров. В статье проведена «разъяснительная работа» для тех, кто живёт страхами и суевер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C:\Documents and Settings\Администратор\Рабочий стол\ИРИНА\Ломоносов\0a25b70323052b1b5dc4ace4f99d6108.jpeg"/>
          <p:cNvPicPr/>
          <p:nvPr/>
        </p:nvPicPr>
        <p:blipFill>
          <a:blip r:embed="rId2"/>
          <a:stretch/>
        </p:blipFill>
        <p:spPr>
          <a:xfrm>
            <a:off x="828720" y="255600"/>
            <a:ext cx="3163680" cy="4170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"/>
          <p:cNvPicPr/>
          <p:nvPr/>
        </p:nvPicPr>
        <p:blipFill>
          <a:blip r:embed="rId3"/>
          <a:stretch/>
        </p:blipFill>
        <p:spPr>
          <a:xfrm>
            <a:off x="219240" y="3303720"/>
            <a:ext cx="2822400" cy="368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TextBox 3"/>
          <p:cNvGrpSpPr/>
          <p:nvPr/>
        </p:nvGrpSpPr>
        <p:grpSpPr>
          <a:xfrm>
            <a:off x="4711680" y="225360"/>
            <a:ext cx="4030560" cy="792360"/>
            <a:chOff x="4711680" y="225360"/>
            <a:chExt cx="4030560" cy="792360"/>
          </a:xfrm>
        </p:grpSpPr>
        <p:pic>
          <p:nvPicPr>
            <p:cNvPr id="549" name="TextBox 3" descr=""/>
            <p:cNvPicPr/>
            <p:nvPr/>
          </p:nvPicPr>
          <p:blipFill>
            <a:blip r:embed="rId1"/>
            <a:stretch/>
          </p:blipFill>
          <p:spPr>
            <a:xfrm>
              <a:off x="4711680" y="225360"/>
              <a:ext cx="40305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4788000" y="260280"/>
              <a:ext cx="38876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Прямоугольник 4"/>
          <p:cNvSpPr/>
          <p:nvPr/>
        </p:nvSpPr>
        <p:spPr>
          <a:xfrm>
            <a:off x="4734360" y="35244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1301"/>
                </a:solidFill>
                <a:latin typeface="Constantia"/>
              </a:rPr>
              <a:t>ХИМИЯ. ЛАБОРА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5"/>
          <p:cNvSpPr/>
          <p:nvPr/>
        </p:nvSpPr>
        <p:spPr>
          <a:xfrm>
            <a:off x="4094280" y="1069920"/>
            <a:ext cx="5021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ой комнате с тяжёлыми столбами, поддерживавшими свод «очага», в три ряда расположились </a:t>
            </a:r>
            <a:r>
              <a:rPr b="1" lang="ru-RU" sz="1600" spc="-1" strike="noStrike">
                <a:solidFill>
                  <a:srgbClr val="6b1301"/>
                </a:solidFill>
                <a:latin typeface="Arial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чей, приспособленных для выполнения разнообразных химических и технических работ. Узкие проходы очага были заставлены столами с образцами руд, красящих веществ, фарфоровых и стеклянных масс, тиглями для выплав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 можно было увидеть непривычные для тогдашней химической лаборатории </a:t>
            </a:r>
            <a:r>
              <a:rPr b="1" lang="ru-RU" sz="1600" spc="-1" strike="noStrike">
                <a:solidFill>
                  <a:srgbClr val="6b1301"/>
                </a:solidFill>
                <a:latin typeface="Arial"/>
              </a:rPr>
              <a:t>воздуш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b1301"/>
                </a:solidFill>
                <a:latin typeface="Arial"/>
              </a:rPr>
              <a:t>насос и микроско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екоторые приборы были изобретены самим Ломоносовым. В соседних каморках читались лекции студентам, и хранилась химическая посуда и реакт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была научно-исследовательская, учебная и производственная лаборатория в одно и тоже время. По своему оборудованию и, в особенности по той работе, которая в ней велась, </a:t>
            </a:r>
            <a:r>
              <a:rPr b="1" lang="ru-RU" sz="1600" spc="-1" strike="noStrike">
                <a:solidFill>
                  <a:srgbClr val="6b1301"/>
                </a:solidFill>
                <a:latin typeface="Arial"/>
              </a:rPr>
              <a:t>подобной лаборатории не только никогда не было в России, но и в Евро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571680" y="1571760"/>
            <a:ext cx="321120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TextBox 3"/>
          <p:cNvGrpSpPr/>
          <p:nvPr/>
        </p:nvGrpSpPr>
        <p:grpSpPr>
          <a:xfrm>
            <a:off x="4711680" y="225360"/>
            <a:ext cx="4030560" cy="792360"/>
            <a:chOff x="4711680" y="225360"/>
            <a:chExt cx="4030560" cy="792360"/>
          </a:xfrm>
        </p:grpSpPr>
        <p:pic>
          <p:nvPicPr>
            <p:cNvPr id="555" name="TextBox 3" descr=""/>
            <p:cNvPicPr/>
            <p:nvPr/>
          </p:nvPicPr>
          <p:blipFill>
            <a:blip r:embed="rId1"/>
            <a:stretch/>
          </p:blipFill>
          <p:spPr>
            <a:xfrm>
              <a:off x="4711680" y="225360"/>
              <a:ext cx="40305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4788000" y="260280"/>
              <a:ext cx="38876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Прямоугольник 4"/>
          <p:cNvSpPr/>
          <p:nvPr/>
        </p:nvSpPr>
        <p:spPr>
          <a:xfrm>
            <a:off x="5076720" y="3222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1301"/>
                </a:solidFill>
                <a:latin typeface="Constantia"/>
              </a:rPr>
              <a:t>ХИМИЯ. ОТКРЫ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4572000" y="12114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Васильевич Ломоносов считал химию одной из главных областей своего научного творчества. Первый научный труд Ломонос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0101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790101"/>
                </a:solidFill>
                <a:latin typeface="Arial"/>
              </a:rPr>
              <a:t>О превращении твердого тела в жидкое, в зависимости от движения предсуществующей жидкости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сан в </a:t>
            </a:r>
            <a:r>
              <a:rPr b="1" lang="ru-RU" sz="1800" spc="-1" strike="noStrike">
                <a:solidFill>
                  <a:srgbClr val="790101"/>
                </a:solidFill>
                <a:latin typeface="Arial"/>
              </a:rPr>
              <a:t>1738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торая работа «</a:t>
            </a:r>
            <a:r>
              <a:rPr b="1" lang="ru-RU" sz="1800" spc="-1" strike="noStrike">
                <a:solidFill>
                  <a:srgbClr val="790101"/>
                </a:solidFill>
                <a:latin typeface="Arial"/>
              </a:rPr>
              <a:t>О различии смешанных тел, состоящем в сцеплении корпускул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ла завершена год спус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работы будущего ученого явились началом изучения мельчайших частичек материи, из которых состоит вся природа. Через два десятилетия эти работы оформились в стройную атомно-молекулярную концепцию, обессмертившую имя ее ав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241200" y="1143000"/>
            <a:ext cx="414648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3"/>
          <p:cNvSpPr/>
          <p:nvPr/>
        </p:nvSpPr>
        <p:spPr>
          <a:xfrm>
            <a:off x="4071960" y="3071880"/>
            <a:ext cx="486108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сной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1743 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омоносов написал первый вариант своей известной рабо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«О действии химических растворителей вообщ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174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, получив необходимые химические препараты, Ломоносов осуществил большую серию экспериментов по </a:t>
            </a:r>
            <a:r>
              <a:rPr b="0" lang="ru-RU" sz="1400" spc="-1" strike="noStrike">
                <a:solidFill>
                  <a:srgbClr val="790101"/>
                </a:solidFill>
                <a:latin typeface="Arial"/>
              </a:rPr>
              <a:t>растворению металлов в кислотах и солей в вод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 опыты подробно изложены в окончательном варианте работы, представленном в Академию наук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7 декабря 1744 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и прочитанном в Академическом собрании в марте следующе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1745 год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моносов пишет рабо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«О металлическом блеске»,</a:t>
            </a:r>
            <a:r>
              <a:rPr b="0" lang="ru-RU" sz="1400" spc="-1" strike="noStrike">
                <a:solidFill>
                  <a:srgbClr val="79010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ть позже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«О рождении и природе селитры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последней, учёный высказал взгляды о приложении физических законов к хим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3211560" cy="27478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4"/>
          <p:cNvSpPr/>
          <p:nvPr/>
        </p:nvSpPr>
        <p:spPr>
          <a:xfrm>
            <a:off x="142920" y="4929120"/>
            <a:ext cx="4000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1751 го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.В. Ломоносов выступил с речью, названной им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«Слово о пользе хими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ей говорилось о единстве принципов теории и практики, науки и производства. В одной из своих ранних работ, «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Элементы математической химии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Ломоносов предложил краткое определение хи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5"/>
          <p:cNvSpPr/>
          <p:nvPr/>
        </p:nvSpPr>
        <p:spPr>
          <a:xfrm>
            <a:off x="857160" y="714240"/>
            <a:ext cx="764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0101"/>
                </a:solidFill>
                <a:latin typeface="Arial"/>
              </a:rPr>
              <a:t>Химия</a:t>
            </a:r>
            <a:r>
              <a:rPr b="0" lang="ru-RU" sz="1600" spc="-1" strike="noStrike">
                <a:solidFill>
                  <a:srgbClr val="790101"/>
                </a:solidFill>
                <a:latin typeface="Arial"/>
              </a:rPr>
              <a:t> - наука об изменениях, происходящих в смешанном теле. Таким образом, в этой формулировке предмета химии Ломоносов впервые представляет её в виде нау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010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90101"/>
                </a:solidFill>
                <a:latin typeface="Arial"/>
              </a:rPr>
              <a:t>а не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3"/>
          <p:cNvSpPr/>
          <p:nvPr/>
        </p:nvSpPr>
        <p:spPr>
          <a:xfrm>
            <a:off x="5143680" y="928800"/>
            <a:ext cx="37922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сравнительно короткое время в основа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 химической лаборатории были заложены научные </a:t>
            </a:r>
            <a:r>
              <a:rPr b="0" lang="ru-RU" sz="1400" spc="-1" strike="noStrike">
                <a:solidFill>
                  <a:srgbClr val="790101"/>
                </a:solidFill>
                <a:latin typeface="Arial"/>
              </a:rPr>
              <a:t>основы русской промышленности по производству цветного стек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ны приемы и методы аналитических </a:t>
            </a:r>
            <a:r>
              <a:rPr b="0" lang="ru-RU" sz="1400" spc="-1" strike="noStrike">
                <a:solidFill>
                  <a:srgbClr val="790101"/>
                </a:solidFill>
                <a:latin typeface="Arial"/>
              </a:rPr>
              <a:t>исследований руд и сырья из различных месторождений Росс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боты Ломоносова в области физической химии заложили основы развития этой науки в нашей стра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, пожалуй, самое важное в его трудах - это </a:t>
            </a:r>
            <a:r>
              <a:rPr b="0" lang="ru-RU" sz="1400" spc="-1" strike="noStrike">
                <a:solidFill>
                  <a:srgbClr val="790101"/>
                </a:solidFill>
                <a:latin typeface="Arial"/>
              </a:rPr>
              <a:t>пропаганда химических знани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превзойденным образцом такого р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ается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«Слово о пользе химии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танное в Академическом собра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1751 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сих пор живут сказ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слова: «Широко распростирает химия руки свои в дела человеческие... Куда ни посмотрим, куда ни оглянемся, везде обращаются пре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ами нашими успехи ея прилежания 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4"/>
          <p:cNvSpPr/>
          <p:nvPr/>
        </p:nvSpPr>
        <p:spPr>
          <a:xfrm>
            <a:off x="2357280" y="928800"/>
            <a:ext cx="29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90101"/>
                </a:solidFill>
                <a:latin typeface="Arial"/>
              </a:rPr>
              <a:t>Рисунок из книги Ломонос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90101"/>
                </a:solidFill>
                <a:latin typeface="Arial"/>
              </a:rPr>
              <a:t>"Первые осн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90101"/>
                </a:solidFill>
                <a:latin typeface="Arial"/>
              </a:rPr>
              <a:t>металлургии, или рудных дел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2090880" cy="280512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5"/>
          <p:cNvSpPr/>
          <p:nvPr/>
        </p:nvSpPr>
        <p:spPr>
          <a:xfrm>
            <a:off x="142920" y="3214800"/>
            <a:ext cx="4572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шло время, прежде чем учёный получил в своё распоряжение прекрасную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химическую лаборатори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лаборатории производилась экспертная оценка различных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красо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ечественного производства с красками, ввозимыми из-за рубежа. Создавались и собственные краски. Известно, что удалось получить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краску «наподобие берлинской лазури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дя по отчетам, такие же работы велись в лаборатории в течение ряда лет, и в результате удалось найти хорошие красящие вещества не только для прозрачных, но и для непрозрачных цветных стекол —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смаль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4:24:24Z</dcterms:created>
  <dc:creator>Лена</dc:creator>
  <dc:description/>
  <dc:language>en-US</dc:language>
  <cp:lastModifiedBy>Lena</cp:lastModifiedBy>
  <dcterms:modified xsi:type="dcterms:W3CDTF">2011-12-13T17:54:40Z</dcterms:modified>
  <cp:revision>163</cp:revision>
  <dc:subject/>
  <dc:title>Воспитательные и организационные возможности урока при  работе с родителями учащихся класса</dc:title>
</cp:coreProperties>
</file>