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7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171-9102-4132-B133-5DD694F8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13F-0A21-4253-B902-978E451B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F5ED5-F0A5-4CF9-9B65-6269C6A4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C24A5-CE06-44C3-9A75-FBF3F2CE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21471-DB7D-4196-BDA0-CD5A0CE9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9E5E1-D8B8-48AC-99B8-CC2344DA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F0A6C-FA04-4B64-9FA8-7C941E5D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EE774-7681-4B6C-A193-E1CB7555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C07DF-566F-4C62-81B4-64A7B4F2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7103F-21A2-441B-BC90-D774717C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C7ED3-B847-4A89-A10E-A7885D78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AF59E-529C-402E-B1EE-78F9618B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AD9-28CF-4F88-B19E-29012746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5FF01-A346-4423-9AAB-4F6AAEE8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AC731-F113-41D8-AA96-36D40D4F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626DD-B981-4195-8A7A-CA2E4399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42EEC-A1C3-444C-9FE8-EFA1F2B8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322BB-20B3-4110-AD7A-D5D24194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8E0AE-E434-4246-91C8-CB85B58C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7AFD6-3D4D-404F-BFD5-AE9787A6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4C9BC-CC23-4FBB-AECD-F1624352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91719-AEA8-4722-AF98-61A8395F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87017-664D-4B5E-8D9F-5A7FA26C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73B-D7D4-4B2C-854A-8A918A38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DB5B4-8388-4082-8977-F171CE23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994B9-4BBC-4FA9-A7B7-83FE1D09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37820-BE9C-459F-B6DE-2050B1D2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21409-0F6C-443C-93FF-7AD74176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38281-82BE-4865-9642-ED76A931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38B8E-9AE2-4602-AF94-210E6727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C12ED-085B-4287-BCA2-F237F612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D1CEF-78AA-4313-AEE9-C01BA91B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E848A-36E1-4318-BDE8-AE0ACF82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BD00A-A930-442B-9F52-32372F58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7CB4-75A8-4656-8F35-77D0CB78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6A6CB-9BB8-4277-AB25-FEF34909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073B5-9303-496B-B389-50A204E4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80549-9FF0-4C26-B0BC-59A9166D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76920-6DC3-4EC5-9E96-B71524C4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DC77A-820E-4003-89D1-85D5A78A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302C8-E438-4231-AF3C-DE90A0E2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DCF75-DD79-430D-9930-D38B128D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2A073-6C3D-4744-AA22-A733615D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56705-230B-4C8A-A422-89F5A42F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BC64B-EFCB-491A-B744-F8DEBE5A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4C38-B572-4126-B0B5-2577B592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BE801-DC96-4DB1-912E-714C7661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63D76-4F5F-4107-B9B3-62B2B813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238BE-1CFE-48D9-98CF-46A96541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A0C68-9717-46E5-BE94-A306655E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3C7E8-A345-4B8A-B176-CC9CF0CA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38E8-196C-4659-82B2-DE5E9622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CFF2-06E2-426C-B6DF-3247BDF4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ABC3-3F99-4417-97D8-D54468F5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8067-C05F-4307-9C77-A60670D6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CF86-29B2-4BF8-BDD4-07CC9593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653-20AF-4853-9764-4722CD5C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FD39-1D18-4F39-89E7-F04A4347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6C56-91E5-47AB-9794-B98813E5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6B01-7CBF-433A-9DEB-7645474B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81FE-E47D-4271-8E51-D0D89DE5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8F6B-E9BE-4885-A8BF-8A5CA39B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1D074-B535-4ECA-B124-1AB41460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F9BB-C2CA-4C88-B3F1-965CDF9D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8AABE-0BB0-4563-B41B-62DF8C73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E155F-BE63-438E-8017-7A997743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50F2F-3F82-4F3B-998C-BA801174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98A-1583-476F-A3BB-13D80F0A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B369-6807-4D01-AEB3-B8C1BDD1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02FFA-6653-4AAD-9004-93FFFC6E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D4BA3-835E-41CB-B1B4-51FF56BE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6DE84-8458-4139-9FF9-DF52D7C5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862B9-D79F-432B-91BB-A4A7464A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D054A-74E2-48B7-9D57-BE26C818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300F2-96DD-4C2F-8C84-60523ED1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FD855-58BF-4B70-8D74-AA628D29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5D452-5567-4A78-A1DE-BA95D6FE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49AD2-B0AA-4C45-AB11-7D57C702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D13-7FE4-4205-A2C6-B589FD0A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6FF2E-9BBA-4DFF-87F5-1520984E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D11C2-3F48-4ADA-BE66-031572C6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3CB15-9755-470C-8080-25D4CC5D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37855-D74A-4355-BAA8-CC04D044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89495-4956-4B5C-AD92-37E34ECE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E3735-67E3-47B9-9F30-80515D04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4ABDB-3EAD-4874-B3A6-C83DF88E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D2FE8-9C45-4E6F-B7E4-AD336C02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E66D6-2911-4A1C-917B-5AEAFF1D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A7AD7-2CD0-496C-98EB-B8A2A5B0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62C-08BE-4ACB-9FEC-71BC007C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790A9-1232-4823-8BE7-6D00ED2E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2D7DB-ADE8-4C3E-9257-B109E57C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3836C-2076-4547-88F8-7B2425FD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69F36-3411-4C90-AC2B-90456878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5A570-4975-4A50-A18A-864AE94D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498BE-C254-40D7-8C38-5C68358A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8FD10-A90E-4844-9126-68B36133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06D9B-D437-402E-816F-1EBF2D79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AEDBB-7E05-4279-B692-92D408CB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0D5A8-B21C-47FB-8568-AC2C6FF2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2C7-9C5F-4D1D-8A91-0A701F09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11B0D-60C4-4C1F-9A74-B3E5613B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1734F-C611-4FE6-88A3-C163D5FB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944B1-CBDB-4A86-A844-E08D4DBF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C3DC2-A97A-4C64-AF08-B9198944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6BF66-F507-40BC-9E59-B1F2F430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34A06-C199-4E47-AF52-8200AC16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C5CF7-4FD0-499E-A82D-13327EAB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6EF25-EF63-4229-94FA-F80BBC81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21CF0-E540-485E-BE22-CA9E6503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BDF72-02BD-4E6C-8D02-9E234B91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10D-FAF0-493F-BE8E-42D60613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249FD-3541-405F-8120-9AF71390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45169-81D3-4179-8A61-31E32CB7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2B330-1E2F-421F-AC43-2853A2A9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554BF-F76B-42C1-920D-E9F46BBA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70841-29CD-4E4E-9A24-47DBAA67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F6D48-560B-45CC-9BFD-02E1FD1D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D80F6-D317-4603-B597-0EAE008D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D4CCD-E6C7-4432-8CA9-5D22FF27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8F180-52E6-4A4C-8733-73410802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98BDE-4297-4F5A-B407-1A8A6D06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772-FB02-4170-A549-C590A7FC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C3C94-1481-4AE5-9E4E-DAF38778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24AA3-69C1-45A6-8C09-A9F09CF0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CF096-7209-4896-BE92-65A4BD1C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70EF5-0E9C-4C8C-BFAB-2DC04490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58061-9C12-4F93-B91A-2E4A0A52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A9B87-2F90-4DEC-8436-358BAC2A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8930E-7E94-4303-8280-D06A442E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89477-0846-4A3C-97E0-89D17706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0E497-DBE0-456F-B9D6-A7A64374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30ADB-5175-4497-A2CC-85605B39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9A5-C7B5-4626-87A8-9FAE2A79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6077D-4355-41F3-A8B1-6B3A302A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0AEA8-9F61-4945-B1A8-EC82416E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8283A-49F3-428D-BC59-6D3ED0F0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E5FF9-AD13-47AE-B8DF-42396ADA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0E27A-D625-40E0-AEAA-7EC21CC1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E3BF4-6C5E-4F1F-B3C8-7B4A94EB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CC925-1BBF-4251-A580-F70A4942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F28E6-A9C7-4DDC-88D2-0C7D1E43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7C26B-7BF3-43A7-8E54-F3D32DB5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F59D2-ECCC-49FF-9AE5-FCDB7DC5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41D3-39B8-400E-8D6A-467160A770E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8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8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8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B82B-6E9A-461B-A201-775D6BD6D6C1}" type="slidenum"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3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3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4C38-83AD-4BF8-AD39-FC16D37C3883}" type="slidenum"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2595-9949-41EE-B1B5-7E5FAAD6AA8B}" type="slidenum"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D180-22CB-430E-A57C-2B8BBC18B8D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7334-18B9-4D34-ADF3-612CB8DBFE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CFD2-9627-4F5B-AA87-91EB48BA935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35CA-743C-46D7-B26F-76C771289B31}" type="slidenum"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7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0BB1-4B68-488A-992B-5DBD8B0A67C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399B-1A5F-4E31-A4D6-C22ECCDD52C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CC12-5EC4-4448-81A7-1D2934E8A4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07FF-7AEA-4ED1-8499-DDE44E4E430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TextBox 6"/>
          <p:cNvGrpSpPr/>
          <p:nvPr/>
        </p:nvGrpSpPr>
        <p:grpSpPr>
          <a:xfrm>
            <a:off x="2889360" y="2066760"/>
            <a:ext cx="5632200" cy="2806920"/>
            <a:chOff x="2889360" y="2066760"/>
            <a:chExt cx="5632200" cy="2806920"/>
          </a:xfrm>
        </p:grpSpPr>
        <p:pic>
          <p:nvPicPr>
            <p:cNvPr id="524" name="TextBox 6" descr=""/>
            <p:cNvPicPr/>
            <p:nvPr/>
          </p:nvPicPr>
          <p:blipFill>
            <a:blip r:embed="rId2"/>
            <a:stretch/>
          </p:blipFill>
          <p:spPr>
            <a:xfrm>
              <a:off x="2889360" y="2066760"/>
              <a:ext cx="563220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 rot="427800">
              <a:off x="3157920" y="2515680"/>
              <a:ext cx="51894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00"/>
                  </a:solidFill>
                  <a:latin typeface="Monotype Corsiva"/>
                </a:rPr>
                <a:t>«Неусыпный труд вс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00"/>
                  </a:solidFill>
                  <a:latin typeface="Monotype Corsiva"/>
                </a:rPr>
                <a:t>препятствия преодолевает»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00"/>
                  </a:solidFill>
                  <a:latin typeface="Monotype Corsiva"/>
                </a:rPr>
                <a:t>М.В. Ломонос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Picture 10" descr="MCj04046430000[1]"/>
          <p:cNvPicPr/>
          <p:nvPr/>
        </p:nvPicPr>
        <p:blipFill>
          <a:blip r:embed="rId3"/>
          <a:stretch/>
        </p:blipFill>
        <p:spPr>
          <a:xfrm flipH="1" rot="343800">
            <a:off x="5679720" y="4055760"/>
            <a:ext cx="3340080" cy="264168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5"/>
          <p:cNvSpPr/>
          <p:nvPr/>
        </p:nvSpPr>
        <p:spPr>
          <a:xfrm>
            <a:off x="214200" y="55008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Monotype Corsiva"/>
              </a:rPr>
              <a:t>Презентацию 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Monotype Corsiva"/>
              </a:rPr>
              <a:t>Бульба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Monotype Corsiva"/>
              </a:rPr>
              <a:t>ученица 11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Monotype Corsiva"/>
              </a:rPr>
              <a:t>МБОУ «ТЭ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TextBox 11"/>
          <p:cNvGrpSpPr/>
          <p:nvPr/>
        </p:nvGrpSpPr>
        <p:grpSpPr>
          <a:xfrm>
            <a:off x="4498920" y="133200"/>
            <a:ext cx="4029120" cy="1440000"/>
            <a:chOff x="4498920" y="133200"/>
            <a:chExt cx="4029120" cy="1440000"/>
          </a:xfrm>
        </p:grpSpPr>
        <p:pic>
          <p:nvPicPr>
            <p:cNvPr id="537" name="TextBox 11" descr=""/>
            <p:cNvPicPr/>
            <p:nvPr/>
          </p:nvPicPr>
          <p:blipFill>
            <a:blip r:embed="rId1"/>
            <a:stretch/>
          </p:blipFill>
          <p:spPr>
            <a:xfrm>
              <a:off x="4498920" y="133200"/>
              <a:ext cx="40291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4572000" y="260280"/>
              <a:ext cx="388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90101"/>
                  </a:solidFill>
                  <a:latin typeface="Constantia"/>
                </a:rPr>
                <a:t>Великие открыт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Прямоугольник 1"/>
          <p:cNvSpPr/>
          <p:nvPr/>
        </p:nvSpPr>
        <p:spPr>
          <a:xfrm>
            <a:off x="4408560" y="181116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работ Ломоносова - работы по </a:t>
            </a:r>
            <a:r>
              <a:rPr b="0" lang="ru-RU" sz="1800" spc="-1" strike="noStrike">
                <a:solidFill>
                  <a:srgbClr val="6b1301"/>
                </a:solidFill>
                <a:latin typeface="Arial"/>
              </a:rPr>
              <a:t>филологии, истории, химии, физике, астрономии, геофизики, геологии и минералогии, разработка технологии получения цветного стек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моносов прославился открытиями в разных областях науки и изобретательства, он, как и Леонардо, был еще и художником и поэтом. Но у него есть еще одно достоинство – он был необыкновенным патриотом – боролся за обра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йской молодежи и развитие российской на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C:\Documents and Settings\Администратор\Рабочий стол\ИРИНА\Ломоносов\pic1.jpg"/>
          <p:cNvPicPr/>
          <p:nvPr/>
        </p:nvPicPr>
        <p:blipFill>
          <a:blip r:embed="rId2"/>
          <a:stretch/>
        </p:blipFill>
        <p:spPr>
          <a:xfrm>
            <a:off x="142920" y="571680"/>
            <a:ext cx="4248000" cy="529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TextBox 5"/>
          <p:cNvGrpSpPr/>
          <p:nvPr/>
        </p:nvGrpSpPr>
        <p:grpSpPr>
          <a:xfrm>
            <a:off x="4711680" y="225360"/>
            <a:ext cx="4030560" cy="792360"/>
            <a:chOff x="4711680" y="225360"/>
            <a:chExt cx="4030560" cy="792360"/>
          </a:xfrm>
        </p:grpSpPr>
        <p:pic>
          <p:nvPicPr>
            <p:cNvPr id="542" name="TextBox 5" descr=""/>
            <p:cNvPicPr/>
            <p:nvPr/>
          </p:nvPicPr>
          <p:blipFill>
            <a:blip r:embed="rId1"/>
            <a:stretch/>
          </p:blipFill>
          <p:spPr>
            <a:xfrm>
              <a:off x="4711680" y="225360"/>
              <a:ext cx="40305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4788000" y="260280"/>
              <a:ext cx="38876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Прямоугольник 6"/>
          <p:cNvSpPr/>
          <p:nvPr/>
        </p:nvSpPr>
        <p:spPr>
          <a:xfrm>
            <a:off x="5582880" y="35244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1301"/>
                </a:solidFill>
                <a:latin typeface="Constantia"/>
              </a:rPr>
              <a:t>АСТРО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7"/>
          <p:cNvSpPr/>
          <p:nvPr/>
        </p:nvSpPr>
        <p:spPr>
          <a:xfrm>
            <a:off x="4245120" y="1009800"/>
            <a:ext cx="48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из красивейших научных статей Ломоносова наз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1301"/>
                </a:solidFill>
                <a:latin typeface="Arial"/>
              </a:rPr>
              <a:t>«Явление Венеры на Солнце…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снова статьи – открытие, сделанное учёным в </a:t>
            </a:r>
            <a:r>
              <a:rPr b="0" lang="ru-RU" sz="1800" spc="-1" strike="noStrike">
                <a:solidFill>
                  <a:srgbClr val="790101"/>
                </a:solidFill>
                <a:latin typeface="Arial"/>
              </a:rPr>
              <a:t>176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у: </a:t>
            </a:r>
            <a:r>
              <a:rPr b="1" lang="ru-RU" sz="1800" spc="-1" strike="noStrike">
                <a:solidFill>
                  <a:srgbClr val="6b1301"/>
                </a:solidFill>
                <a:latin typeface="Arial"/>
              </a:rPr>
              <a:t>на планете Венера есть атмосфера!</a:t>
            </a:r>
            <a:r>
              <a:rPr b="0" lang="ru-RU" sz="1800" spc="-1" strike="noStrike">
                <a:solidFill>
                  <a:srgbClr val="6b130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моносов опубликовал свой труд на русском и немецком языках (учёный свободно владел </a:t>
            </a:r>
            <a:r>
              <a:rPr b="0" lang="ru-RU" sz="1800" spc="-1" strike="noStrike">
                <a:solidFill>
                  <a:srgbClr val="6b1301"/>
                </a:solidFill>
                <a:latin typeface="Arial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зыками), но идея была настолько неожиданной для астрономов, физиков и всего общ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-за чего Ломоносов вводит в научную статью часть объяснительную, просветительскую. Ведь говоря об атмосфере, он «замахивается» на предположение о множественности миров. В статье проведена «разъяснительная работа» для тех, кто живёт страхами и суевер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C:\Documents and Settings\Администратор\Рабочий стол\ИРИНА\Ломоносов\0a25b70323052b1b5dc4ace4f99d6108.jpeg"/>
          <p:cNvPicPr/>
          <p:nvPr/>
        </p:nvPicPr>
        <p:blipFill>
          <a:blip r:embed="rId2"/>
          <a:stretch/>
        </p:blipFill>
        <p:spPr>
          <a:xfrm>
            <a:off x="828720" y="255600"/>
            <a:ext cx="3163680" cy="4170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"/>
          <p:cNvPicPr/>
          <p:nvPr/>
        </p:nvPicPr>
        <p:blipFill>
          <a:blip r:embed="rId3"/>
          <a:stretch/>
        </p:blipFill>
        <p:spPr>
          <a:xfrm>
            <a:off x="219240" y="3303720"/>
            <a:ext cx="2822400" cy="3687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TextBox 3"/>
          <p:cNvGrpSpPr/>
          <p:nvPr/>
        </p:nvGrpSpPr>
        <p:grpSpPr>
          <a:xfrm>
            <a:off x="4711680" y="225360"/>
            <a:ext cx="4030560" cy="792360"/>
            <a:chOff x="4711680" y="225360"/>
            <a:chExt cx="4030560" cy="792360"/>
          </a:xfrm>
        </p:grpSpPr>
        <p:pic>
          <p:nvPicPr>
            <p:cNvPr id="549" name="TextBox 3" descr=""/>
            <p:cNvPicPr/>
            <p:nvPr/>
          </p:nvPicPr>
          <p:blipFill>
            <a:blip r:embed="rId1"/>
            <a:stretch/>
          </p:blipFill>
          <p:spPr>
            <a:xfrm>
              <a:off x="4711680" y="225360"/>
              <a:ext cx="40305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4788000" y="260280"/>
              <a:ext cx="38876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Прямоугольник 4"/>
          <p:cNvSpPr/>
          <p:nvPr/>
        </p:nvSpPr>
        <p:spPr>
          <a:xfrm>
            <a:off x="4734360" y="35244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1301"/>
                </a:solidFill>
                <a:latin typeface="Constantia"/>
              </a:rPr>
              <a:t>ХИМИЯ. ЛАБОРАТ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5"/>
          <p:cNvSpPr/>
          <p:nvPr/>
        </p:nvSpPr>
        <p:spPr>
          <a:xfrm>
            <a:off x="4094280" y="1069920"/>
            <a:ext cx="5021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ольшой комнате с тяжёлыми столбами, поддерживавшими свод «очага», в три ряда расположились </a:t>
            </a:r>
            <a:r>
              <a:rPr b="1" lang="ru-RU" sz="1600" spc="-1" strike="noStrike">
                <a:solidFill>
                  <a:srgbClr val="6b1301"/>
                </a:solidFill>
                <a:latin typeface="Arial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чей, приспособленных для выполнения разнообразных химических и технических работ. Узкие проходы очага были заставлены столами с образцами руд, красящих веществ, фарфоровых и стеклянных масс, тиглями для выплав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 можно было увидеть непривычные для тогдашней химической лаборатории </a:t>
            </a:r>
            <a:r>
              <a:rPr b="1" lang="ru-RU" sz="1600" spc="-1" strike="noStrike">
                <a:solidFill>
                  <a:srgbClr val="6b1301"/>
                </a:solidFill>
                <a:latin typeface="Arial"/>
              </a:rPr>
              <a:t>воздуш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b1301"/>
                </a:solidFill>
                <a:latin typeface="Arial"/>
              </a:rPr>
              <a:t>насос и микроскоп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Некоторые приборы были изобретены самим Ломоносовым. В соседних каморках читались лекции студентам, и хранилась химическая посуда и реакт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была научно-исследовательская, учебная и производственная лаборатория в одно и тоже время. По своему оборудованию и, в особенности по той работе, которая в ней велась, </a:t>
            </a:r>
            <a:r>
              <a:rPr b="1" lang="ru-RU" sz="1600" spc="-1" strike="noStrike">
                <a:solidFill>
                  <a:srgbClr val="6b1301"/>
                </a:solidFill>
                <a:latin typeface="Arial"/>
              </a:rPr>
              <a:t>подобной лаборатории не только никогда не было в России, но и в Европ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tretch/>
        </p:blipFill>
        <p:spPr>
          <a:xfrm>
            <a:off x="571680" y="1571760"/>
            <a:ext cx="321120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TextBox 3"/>
          <p:cNvGrpSpPr/>
          <p:nvPr/>
        </p:nvGrpSpPr>
        <p:grpSpPr>
          <a:xfrm>
            <a:off x="4711680" y="225360"/>
            <a:ext cx="4030560" cy="792360"/>
            <a:chOff x="4711680" y="225360"/>
            <a:chExt cx="4030560" cy="792360"/>
          </a:xfrm>
        </p:grpSpPr>
        <p:pic>
          <p:nvPicPr>
            <p:cNvPr id="555" name="TextBox 3" descr=""/>
            <p:cNvPicPr/>
            <p:nvPr/>
          </p:nvPicPr>
          <p:blipFill>
            <a:blip r:embed="rId1"/>
            <a:stretch/>
          </p:blipFill>
          <p:spPr>
            <a:xfrm>
              <a:off x="4711680" y="225360"/>
              <a:ext cx="40305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4788000" y="260280"/>
              <a:ext cx="38876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Прямоугольник 4"/>
          <p:cNvSpPr/>
          <p:nvPr/>
        </p:nvSpPr>
        <p:spPr>
          <a:xfrm>
            <a:off x="5076720" y="3222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1301"/>
                </a:solidFill>
                <a:latin typeface="Constantia"/>
              </a:rPr>
              <a:t>ХИМИЯ. ОТКРЫ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5"/>
          <p:cNvSpPr/>
          <p:nvPr/>
        </p:nvSpPr>
        <p:spPr>
          <a:xfrm>
            <a:off x="4572000" y="12114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 Васильевич Ломоносов считал химию одной из главных областей своего научного творчества. Первый научный труд Ломонос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0101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790101"/>
                </a:solidFill>
                <a:latin typeface="Arial"/>
              </a:rPr>
              <a:t>О превращении твердого тела в жидкое, в зависимости от движения предсуществующей жидкости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сан в </a:t>
            </a:r>
            <a:r>
              <a:rPr b="1" lang="ru-RU" sz="1800" spc="-1" strike="noStrike">
                <a:solidFill>
                  <a:srgbClr val="790101"/>
                </a:solidFill>
                <a:latin typeface="Arial"/>
              </a:rPr>
              <a:t>1738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торая работа «</a:t>
            </a:r>
            <a:r>
              <a:rPr b="1" lang="ru-RU" sz="1800" spc="-1" strike="noStrike">
                <a:solidFill>
                  <a:srgbClr val="790101"/>
                </a:solidFill>
                <a:latin typeface="Arial"/>
              </a:rPr>
              <a:t>О различии смешанных тел, состоящем в сцеплении корпускул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ла завершена год спуст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работы будущего ученого явились началом изучения мельчайших частичек материи, из которых состоит вся природа. Через два десятилетия эти работы оформились в стройную атомно-молекулярную концепцию, обессмертившую имя ее авт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2"/>
          <a:stretch/>
        </p:blipFill>
        <p:spPr>
          <a:xfrm>
            <a:off x="241200" y="1143000"/>
            <a:ext cx="414648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3"/>
          <p:cNvSpPr/>
          <p:nvPr/>
        </p:nvSpPr>
        <p:spPr>
          <a:xfrm>
            <a:off x="4071960" y="3071880"/>
            <a:ext cx="486108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сной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1743 г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омоносов написал первый вариант своей известной рабо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«О действии химических растворителей вообщ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174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од, получив необходимые химические препараты, Ломоносов осуществил большую серию экспериментов по </a:t>
            </a:r>
            <a:r>
              <a:rPr b="0" lang="ru-RU" sz="1400" spc="-1" strike="noStrike">
                <a:solidFill>
                  <a:srgbClr val="790101"/>
                </a:solidFill>
                <a:latin typeface="Arial"/>
              </a:rPr>
              <a:t>растворению металлов в кислотах и солей в вод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 опыты подробно изложены в окончательном варианте работы, представленном в Академию наук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7 декабря 1744 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и прочитанном в Академическом собрании в марте следующе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1745 год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моносов пишет рабо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«О металлическом блеске»,</a:t>
            </a:r>
            <a:r>
              <a:rPr b="0" lang="ru-RU" sz="1400" spc="-1" strike="noStrike">
                <a:solidFill>
                  <a:srgbClr val="79010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ть позже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«О рождении и природе селитры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последней, учёный высказал взгляды о приложении физических законов к хим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tretch/>
        </p:blipFill>
        <p:spPr>
          <a:xfrm>
            <a:off x="285840" y="2071800"/>
            <a:ext cx="3211560" cy="274788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4"/>
          <p:cNvSpPr/>
          <p:nvPr/>
        </p:nvSpPr>
        <p:spPr>
          <a:xfrm>
            <a:off x="142920" y="4929120"/>
            <a:ext cx="4000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1751 го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.В. Ломоносов выступил с речью, названной им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«Слово о пользе химии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ней говорилось о единстве принципов теории и практики, науки и производства. В одной из своих ранних работ, «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Элементы математической химии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Ломоносов предложил краткое определение хим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5"/>
          <p:cNvSpPr/>
          <p:nvPr/>
        </p:nvSpPr>
        <p:spPr>
          <a:xfrm>
            <a:off x="857160" y="714240"/>
            <a:ext cx="764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0101"/>
                </a:solidFill>
                <a:latin typeface="Arial"/>
              </a:rPr>
              <a:t>Химия</a:t>
            </a:r>
            <a:r>
              <a:rPr b="0" lang="ru-RU" sz="1600" spc="-1" strike="noStrike">
                <a:solidFill>
                  <a:srgbClr val="790101"/>
                </a:solidFill>
                <a:latin typeface="Arial"/>
              </a:rPr>
              <a:t> - наука об изменениях, происходящих в смешанном теле. Таким образом, в этой формулировке предмета химии Ломоносов впервые представляет её в виде нау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9010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90101"/>
                </a:solidFill>
                <a:latin typeface="Arial"/>
              </a:rPr>
              <a:t>а не искус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Прямоугольник 3"/>
          <p:cNvSpPr/>
          <p:nvPr/>
        </p:nvSpPr>
        <p:spPr>
          <a:xfrm>
            <a:off x="5143680" y="928800"/>
            <a:ext cx="37922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сравнительно короткое время в основа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 химической лаборатории были заложены научные </a:t>
            </a:r>
            <a:r>
              <a:rPr b="0" lang="ru-RU" sz="1400" spc="-1" strike="noStrike">
                <a:solidFill>
                  <a:srgbClr val="790101"/>
                </a:solidFill>
                <a:latin typeface="Arial"/>
              </a:rPr>
              <a:t>основы русской промышленности по производству цветного стекл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аны приемы и методы аналитических </a:t>
            </a:r>
            <a:r>
              <a:rPr b="0" lang="ru-RU" sz="1400" spc="-1" strike="noStrike">
                <a:solidFill>
                  <a:srgbClr val="790101"/>
                </a:solidFill>
                <a:latin typeface="Arial"/>
              </a:rPr>
              <a:t>исследований руд и сырья из различных месторождений Росс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боты Ломоносова в области физической химии заложили основы развития этой науки в нашей стра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, пожалуй, самое важное в его трудах - это </a:t>
            </a:r>
            <a:r>
              <a:rPr b="0" lang="ru-RU" sz="1400" spc="-1" strike="noStrike">
                <a:solidFill>
                  <a:srgbClr val="790101"/>
                </a:solidFill>
                <a:latin typeface="Arial"/>
              </a:rPr>
              <a:t>пропаганда химических знаний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превзойденным образцом такого р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ается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«Слово о пользе химии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читанное в Академическом собра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1751 г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 сих пор живут сказа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гда слова: «Широко распростирает химия руки свои в дела человеческие... Куда ни посмотрим, куда ни оглянемся, везде обращаются пре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ами нашими успехи ея прилежания 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4"/>
          <p:cNvSpPr/>
          <p:nvPr/>
        </p:nvSpPr>
        <p:spPr>
          <a:xfrm>
            <a:off x="2357280" y="928800"/>
            <a:ext cx="29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90101"/>
                </a:solidFill>
                <a:latin typeface="Arial"/>
              </a:rPr>
              <a:t>Рисунок из книги Ломоносо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90101"/>
                </a:solidFill>
                <a:latin typeface="Arial"/>
              </a:rPr>
              <a:t>"Первые осн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90101"/>
                </a:solidFill>
                <a:latin typeface="Arial"/>
              </a:rPr>
              <a:t>металлургии, или рудных дел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2090880" cy="2805120"/>
          </a:xfrm>
          <a:prstGeom prst="rect">
            <a:avLst/>
          </a:prstGeom>
          <a:ln w="0">
            <a:noFill/>
          </a:ln>
        </p:spPr>
      </p:pic>
      <p:sp>
        <p:nvSpPr>
          <p:cNvPr id="567" name="Прямоугольник 5"/>
          <p:cNvSpPr/>
          <p:nvPr/>
        </p:nvSpPr>
        <p:spPr>
          <a:xfrm>
            <a:off x="142920" y="3214800"/>
            <a:ext cx="4572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шло время, прежде чем учёный получил в своё распоряжение прекрасную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химическую лабораторию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лаборатории производилась экспертная оценка различных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красо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течественного производства с красками, ввозимыми из-за рубежа. Создавались и собственные краски. Известно, что удалось получить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краску «наподобие берлинской лазури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дя по отчетам, такие же работы велись в лаборатории в течение ряда лет, и в результате удалось найти хорошие красящие вещества не только для прозрачных, но и для непрозрачных цветных стекол — </a:t>
            </a:r>
            <a:r>
              <a:rPr b="1" lang="ru-RU" sz="1400" spc="-1" strike="noStrike">
                <a:solidFill>
                  <a:srgbClr val="790101"/>
                </a:solidFill>
                <a:latin typeface="Arial"/>
              </a:rPr>
              <a:t>смаль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4:24:24Z</dcterms:created>
  <dc:creator>Лена</dc:creator>
  <dc:description/>
  <dc:language>en-US</dc:language>
  <cp:lastModifiedBy>Lena</cp:lastModifiedBy>
  <dcterms:modified xsi:type="dcterms:W3CDTF">2011-12-13T17:54:40Z</dcterms:modified>
  <cp:revision>163</cp:revision>
  <dc:subject/>
  <dc:title>Воспитательные и организационные возможности урока при  работе с родителями учащихся класса</dc:title>
</cp:coreProperties>
</file>