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F0A-B13E-45E7-AC79-08A183A3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F05-3C8C-4078-8EA8-2791444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457-1F3D-474D-87B1-F6177DB7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E71-088E-4EE6-A43E-80F95F24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FEB8-7236-43B8-B2FF-DC7B4D2B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8851-F5F6-419E-8404-1788F9AF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022D-947D-487E-B4E2-F577A819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0D9B-E76D-487A-BD64-715E8618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E8B8-C0D6-48B4-95B0-B3DE98A3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F997-D063-4B47-93A8-9E46568C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AF27-7780-4597-9AAD-4B49D318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0A3-9366-4254-9E86-366A4FB9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DAD3-A0C5-485B-A8B2-E65C0CF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CEDA-D2F9-45B8-8859-5958711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9828-44BC-4644-9D24-8ECACF17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497C-EED6-435A-B068-2492F9B6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EDA5-0284-4865-913E-93A453C4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07A-1247-4CB0-8591-29D8C1D5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029-D712-4A76-B241-D94E7053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5C4-E5CF-4BA6-A6BD-5446E062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AFE-8D91-4EC6-857D-19332F2A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697-A125-44D0-B725-B855D1E1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B24-B62C-46C9-9A8D-E02C65F5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9B2-2161-4D94-BC7D-BDECA555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292B-FC2D-4CCB-847D-7E3C848D15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1877-7FAF-4046-9001-16CF90B13D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772400" cy="34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Линейные уравнения с параметрами</a:t>
            </a:r>
            <a:br>
              <a:rPr sz="4600"/>
            </a:br>
            <a:br>
              <a:rPr sz="4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ающая интерактивная презентация</a:t>
            </a:r>
            <a:br>
              <a:rPr sz="4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Линейная функция. Понятие пара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3068640"/>
            <a:ext cx="2881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отрим линейную функцию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kx+b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де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льное числ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принимающе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значения,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фиксированное чи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708360" y="2637000"/>
            <a:ext cx="4103640" cy="3239640"/>
            <a:chOff x="3708360" y="2637000"/>
            <a:chExt cx="4103640" cy="3239640"/>
          </a:xfrm>
        </p:grpSpPr>
        <p:sp>
          <p:nvSpPr>
            <p:cNvPr id="100" name=""/>
            <p:cNvSpPr/>
            <p:nvPr/>
          </p:nvSpPr>
          <p:spPr>
            <a:xfrm flipV="1">
              <a:off x="5435640" y="278100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458136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6720" y="4653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35640" y="2637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45813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11640" y="2528280"/>
            <a:ext cx="2592360" cy="2702520"/>
            <a:chOff x="4211640" y="2528280"/>
            <a:chExt cx="2592360" cy="2702520"/>
          </a:xfrm>
        </p:grpSpPr>
        <p:sp>
          <p:nvSpPr>
            <p:cNvPr id="106" name=""/>
            <p:cNvSpPr/>
            <p:nvPr/>
          </p:nvSpPr>
          <p:spPr>
            <a:xfrm flipV="1">
              <a:off x="4211640" y="2781360"/>
              <a:ext cx="2592360" cy="2449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025400">
              <a:off x="5869440" y="2781000"/>
              <a:ext cx="86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=kx+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mph" presetID="8" repeatCount="10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ая функция. Понятие парамет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3068640"/>
            <a:ext cx="2953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отрим линейную функцию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kx+b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льное числ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принимающе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н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чения,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фиксированное чи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067280" y="2637000"/>
            <a:ext cx="4103640" cy="3239640"/>
            <a:chOff x="4067280" y="2637000"/>
            <a:chExt cx="4103640" cy="3239640"/>
          </a:xfrm>
        </p:grpSpPr>
        <p:sp>
          <p:nvSpPr>
            <p:cNvPr id="111" name=""/>
            <p:cNvSpPr/>
            <p:nvPr/>
          </p:nvSpPr>
          <p:spPr>
            <a:xfrm flipV="1">
              <a:off x="5794560" y="278100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7280" y="458136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35640" y="4653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4560" y="2637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10560" y="45813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59280" y="3232080"/>
            <a:ext cx="2736720" cy="2790360"/>
            <a:chOff x="4859280" y="3232080"/>
            <a:chExt cx="2736720" cy="2790360"/>
          </a:xfrm>
        </p:grpSpPr>
        <p:sp>
          <p:nvSpPr>
            <p:cNvPr id="117" name=""/>
            <p:cNvSpPr/>
            <p:nvPr/>
          </p:nvSpPr>
          <p:spPr>
            <a:xfrm flipV="1">
              <a:off x="4859280" y="3500280"/>
              <a:ext cx="2736720" cy="2522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9025400">
              <a:off x="6606000" y="3501000"/>
              <a:ext cx="91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=kx+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65987E-006 L -0.10226 -0.14713 E">
                                      <p:cBhvr>
                                        <p:cTn id="57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26 -0.14713 L 0.0552 0.07877 E">
                                      <p:cBhvr>
                                        <p:cTn id="60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08943 L -0.10226 -0.1418 E">
                                      <p:cBhvr>
                                        <p:cTn id="63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26 -0.14713 L 0.06302 0.08943 E">
                                      <p:cBhvr>
                                        <p:cTn id="66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 0.07877 L -0.09445 -0.1418 E">
                                      <p:cBhvr>
                                        <p:cTn id="69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26 -0.14713 L 3.61111E-006 -0.00533 E">
                                      <p:cBhvr>
                                        <p:cTn id="72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ешение простейших линейны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й с параметром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421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Пример</a:t>
            </a:r>
            <a:r>
              <a:rPr b="1" i="1" lang="en-US" sz="1600" spc="-1" strike="noStrike">
                <a:solidFill>
                  <a:srgbClr val="00005e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Решить простейшее линейное уравнение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=1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где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арамет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08360" y="2637000"/>
            <a:ext cx="4103640" cy="3239640"/>
            <a:chOff x="3708360" y="2637000"/>
            <a:chExt cx="4103640" cy="3239640"/>
          </a:xfrm>
        </p:grpSpPr>
        <p:sp>
          <p:nvSpPr>
            <p:cNvPr id="122" name=""/>
            <p:cNvSpPr/>
            <p:nvPr/>
          </p:nvSpPr>
          <p:spPr>
            <a:xfrm flipV="1">
              <a:off x="5435640" y="278100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08360" y="458136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76720" y="4653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35640" y="2637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51640" y="45813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284720" y="3356640"/>
            <a:ext cx="2303280" cy="2313720"/>
            <a:chOff x="4284720" y="3356640"/>
            <a:chExt cx="2303280" cy="2313720"/>
          </a:xfrm>
        </p:grpSpPr>
        <p:sp>
          <p:nvSpPr>
            <p:cNvPr id="128" name=""/>
            <p:cNvSpPr/>
            <p:nvPr/>
          </p:nvSpPr>
          <p:spPr>
            <a:xfrm flipV="1">
              <a:off x="4284720" y="3581280"/>
              <a:ext cx="2303280" cy="2089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9025400">
              <a:off x="5781240" y="3573000"/>
              <a:ext cx="76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=a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64000" y="4508640"/>
            <a:ext cx="144720" cy="14256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4149720"/>
            <a:ext cx="3527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3860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8606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522936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5e"/>
                </a:solidFill>
                <a:latin typeface="Times New Roman"/>
              </a:rPr>
              <a:t>Ответ: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уравнение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=1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имеет решение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=1/a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, если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≠0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и не имеет решений,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если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=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557360"/>
            <a:ext cx="820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a00"/>
                </a:solidFill>
                <a:latin typeface="Times New Roman"/>
              </a:rPr>
              <a:t>Линейные уравнения в зависимости от значений параметра </a:t>
            </a:r>
            <a:r>
              <a:rPr b="1" i="1" lang="ru-RU" sz="1800" spc="-1" strike="noStrike">
                <a:solidFill>
                  <a:srgbClr val="004a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4a00"/>
                </a:solidFill>
                <a:latin typeface="Times New Roman"/>
              </a:rPr>
              <a:t> могут иметь:</a:t>
            </a:r>
            <a:r>
              <a:rPr b="1" i="1" lang="ru-RU" sz="1800" spc="-1" strike="noStrike">
                <a:solidFill>
                  <a:srgbClr val="004a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4a00"/>
                </a:solidFill>
                <a:latin typeface="Times New Roman"/>
              </a:rPr>
              <a:t>1) единственное решение, 2) бесконечно много решений , 3) не иметь решен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7893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Для нахождения решения применим графический подход. Построим графики функций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1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ax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. 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084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Определим те значения угловых коэффициентов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и которых имеются точки пересечения графиков, т.е. решения уравн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6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6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6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6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6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1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1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стейших линейны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уравнений с параме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4000" y="3500280"/>
            <a:ext cx="3527280" cy="2871720"/>
            <a:chOff x="324000" y="3500280"/>
            <a:chExt cx="3527280" cy="2871720"/>
          </a:xfrm>
        </p:grpSpPr>
        <p:sp>
          <p:nvSpPr>
            <p:cNvPr id="140" name=""/>
            <p:cNvSpPr/>
            <p:nvPr/>
          </p:nvSpPr>
          <p:spPr>
            <a:xfrm>
              <a:off x="324000" y="3500280"/>
              <a:ext cx="3527280" cy="28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5e"/>
                  </a:solidFill>
                  <a:latin typeface="Times New Roman"/>
                </a:rPr>
                <a:t>Преобразуем уравнение: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5e"/>
                  </a:solidFill>
                  <a:latin typeface="Times New Roman"/>
                </a:rPr>
                <a:t>       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x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-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ax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=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1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-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a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       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x(1-a)=1-a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5e"/>
                  </a:solidFill>
                  <a:latin typeface="Times New Roman"/>
                </a:rPr>
                <a:t>Ответ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	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Если   а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≠1, то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x=1,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            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если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a=1, 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то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x    R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2771640" y="5661000"/>
                  <a:ext cx="208080" cy="2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" name=""/>
          <p:cNvSpPr/>
          <p:nvPr/>
        </p:nvSpPr>
        <p:spPr>
          <a:xfrm>
            <a:off x="468360" y="1628640"/>
            <a:ext cx="352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Пример2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Рассмотрим линейное уравн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+1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где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–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арамет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628640"/>
            <a:ext cx="35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Пример3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Рассмотрим линейное уравн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+1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где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–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арамет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3500280"/>
            <a:ext cx="3527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еобразуем уравнение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1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(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-a)=1-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Ответ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Если   а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≠2, то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x=(1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)/(2-a)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если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=2,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то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решений н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стейших линейны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уравнений с параме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628640"/>
            <a:ext cx="352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Пример 4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Рассмотрим линейное уравн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2-x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где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–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арамет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35772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Для нахождения решения применим графический подход. Построим графики функций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2-x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и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+a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. 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716360" y="2068920"/>
            <a:ext cx="2808360" cy="2872800"/>
            <a:chOff x="4716360" y="2068920"/>
            <a:chExt cx="2808360" cy="2872800"/>
          </a:xfrm>
        </p:grpSpPr>
        <p:sp>
          <p:nvSpPr>
            <p:cNvPr id="150" name=""/>
            <p:cNvSpPr/>
            <p:nvPr/>
          </p:nvSpPr>
          <p:spPr>
            <a:xfrm>
              <a:off x="4716360" y="2276640"/>
              <a:ext cx="2808360" cy="2665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392200">
              <a:off x="4787280" y="2349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=-x+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23760" y="1321560"/>
            <a:ext cx="2604240" cy="2827800"/>
            <a:chOff x="5423760" y="1321560"/>
            <a:chExt cx="2604240" cy="2827800"/>
          </a:xfrm>
        </p:grpSpPr>
        <p:sp>
          <p:nvSpPr>
            <p:cNvPr id="153" name=""/>
            <p:cNvSpPr/>
            <p:nvPr/>
          </p:nvSpPr>
          <p:spPr>
            <a:xfrm>
              <a:off x="5435640" y="1704240"/>
              <a:ext cx="2592360" cy="24451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436600">
              <a:off x="5439240" y="15584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=2-x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427640" y="1700280"/>
            <a:ext cx="4103640" cy="3239640"/>
            <a:chOff x="4427640" y="1700280"/>
            <a:chExt cx="4103640" cy="3239640"/>
          </a:xfrm>
        </p:grpSpPr>
        <p:grpSp>
          <p:nvGrpSpPr>
            <p:cNvPr id="156" name=""/>
            <p:cNvGrpSpPr/>
            <p:nvPr/>
          </p:nvGrpSpPr>
          <p:grpSpPr>
            <a:xfrm>
              <a:off x="4427640" y="1700280"/>
              <a:ext cx="4103640" cy="3239640"/>
              <a:chOff x="4427640" y="1700280"/>
              <a:chExt cx="4103640" cy="323964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6154920" y="1844280"/>
                <a:ext cx="0" cy="30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27640" y="3644640"/>
                <a:ext cx="38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96000" y="37162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54920" y="17002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170920" y="364464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867280" y="2276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08720" y="364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0920" y="4869000"/>
            <a:ext cx="554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и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=2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ямые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2-x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и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+a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сливаются, то есть уравнение имеет бесконечное множество решени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и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а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≠2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прямые параллельны, то есть уравнение не имеет решений.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588000" y="5157720"/>
            <a:ext cx="2087640" cy="785520"/>
            <a:chOff x="6588000" y="5157720"/>
            <a:chExt cx="2087640" cy="785520"/>
          </a:xfrm>
        </p:grpSpPr>
        <p:sp>
          <p:nvSpPr>
            <p:cNvPr id="166" name=""/>
            <p:cNvSpPr/>
            <p:nvPr/>
          </p:nvSpPr>
          <p:spPr>
            <a:xfrm>
              <a:off x="6588000" y="5157720"/>
              <a:ext cx="2087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5e"/>
                  </a:solidFill>
                  <a:latin typeface="Times New Roman"/>
                </a:rPr>
                <a:t>Ответ</a:t>
              </a:r>
              <a:r>
                <a:rPr b="0" lang="ru-RU" sz="1800" spc="-1" strike="noStrike">
                  <a:solidFill>
                    <a:srgbClr val="00005e"/>
                  </a:solidFill>
                  <a:latin typeface="Times New Roman"/>
                </a:rPr>
                <a:t>: 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    R, </a:t>
              </a: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=2;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           </a:t>
              </a: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       , </a:t>
              </a: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≠2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7524720" y="5661000"/>
                  <a:ext cx="43200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  <m:r>
                        <m:t xml:space="preserve">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596360" y="5300640"/>
                  <a:ext cx="193680" cy="1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95829E-006 L 0.08281 -0.13138 E">
                                      <p:cBhvr>
                                        <p:cTn id="180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13138 L -0.07483 0.11051 E">
                                      <p:cBhvr>
                                        <p:cTn id="183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83 0.11051 L 0.00399 -0.0051 E">
                                      <p:cBhvr>
                                        <p:cTn id="186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Линейные задачи с параме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28640"/>
            <a:ext cx="3166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Задача </a:t>
            </a:r>
            <a:r>
              <a:rPr b="1" i="1" lang="en-US" sz="1600" spc="-1" strike="noStrike">
                <a:solidFill>
                  <a:srgbClr val="00005e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Два бегуна стартуют одновременно навстречу друг другу. Скорость второго бегуна пропорциональна скорости первого. Найти коэффициент пропорциональности, если известно, что в момент встречи первый бегун пробежал вдвое больше, чем втор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284720" y="2924280"/>
            <a:ext cx="4102200" cy="288720"/>
            <a:chOff x="4284720" y="2924280"/>
            <a:chExt cx="4102200" cy="288720"/>
          </a:xfrm>
        </p:grpSpPr>
        <p:sp>
          <p:nvSpPr>
            <p:cNvPr id="172" name=""/>
            <p:cNvSpPr/>
            <p:nvPr/>
          </p:nvSpPr>
          <p:spPr>
            <a:xfrm>
              <a:off x="4284720" y="3213000"/>
              <a:ext cx="410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60080" y="2924280"/>
              <a:ext cx="21204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140360" y="3068640"/>
            <a:ext cx="217440" cy="216000"/>
          </a:xfrm>
          <a:prstGeom prst="flowChartConnec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8317080" y="3068640"/>
            <a:ext cx="217440" cy="216000"/>
          </a:xfrm>
          <a:prstGeom prst="flowChartConnec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78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811640" y="270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егун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2349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егун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3716280"/>
            <a:ext cx="460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Решение. </a:t>
            </a:r>
            <a:r>
              <a:rPr b="0" lang="ru-RU" sz="1600" spc="-1" strike="noStrike">
                <a:solidFill>
                  <a:srgbClr val="00005e"/>
                </a:solidFill>
                <a:latin typeface="Times New Roman"/>
              </a:rPr>
              <a:t>Пусть общая длина дистанции равна </a:t>
            </a:r>
            <a:r>
              <a:rPr b="0" lang="ru-RU" sz="2000" spc="-1" strike="noStrike">
                <a:solidFill>
                  <a:srgbClr val="00005e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5e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5e"/>
                </a:solidFill>
                <a:latin typeface="Times New Roman"/>
              </a:rPr>
              <a:t>Тогда путь, проделанный первым бегуном, равен 2/3, а вторым – 1/3.  Скорость первого бегуна обозначим </a:t>
            </a:r>
            <a:r>
              <a:rPr b="1" i="1" lang="en-US" sz="2000" spc="-1" strike="noStrike">
                <a:solidFill>
                  <a:srgbClr val="00005e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5e"/>
                </a:solidFill>
                <a:latin typeface="Times New Roman"/>
              </a:rPr>
              <a:t>второго –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v 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 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параметр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5e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26920" y="5084640"/>
            <a:ext cx="7417080" cy="792360"/>
            <a:chOff x="826920" y="5084640"/>
            <a:chExt cx="7417080" cy="792360"/>
          </a:xfrm>
        </p:grpSpPr>
        <p:sp>
          <p:nvSpPr>
            <p:cNvPr id="183" name=""/>
            <p:cNvSpPr/>
            <p:nvPr/>
          </p:nvSpPr>
          <p:spPr>
            <a:xfrm>
              <a:off x="826920" y="5084640"/>
              <a:ext cx="74170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5e"/>
                  </a:solidFill>
                  <a:latin typeface="Times New Roman"/>
                </a:rPr>
                <a:t>В силу того, что время, затраченное на дистанцию для обоих бегунов одинаково,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5e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5e"/>
                  </a:solidFill>
                  <a:latin typeface="Times New Roman"/>
                </a:rPr>
                <a:t>составим уравнение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2916360" y="5373720"/>
                  <a:ext cx="216036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v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"/>
          <p:cNvSpPr/>
          <p:nvPr/>
        </p:nvSpPr>
        <p:spPr>
          <a:xfrm>
            <a:off x="5580000" y="580536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5e"/>
                </a:solidFill>
                <a:latin typeface="Times New Roman"/>
              </a:rPr>
              <a:t>Ответ: 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=0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,5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2567E-006 L 0.2717 0.00533 E">
                                      <p:cBhvr>
                                        <p:cTn id="23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2567E-006 L -0.18507 0.00533 E">
                                      <p:cBhvr>
                                        <p:cTn id="23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5:36:02Z</dcterms:created>
  <dc:creator/>
  <dc:description/>
  <dc:language>en-US</dc:language>
  <cp:lastModifiedBy>Denis Svintsov</cp:lastModifiedBy>
  <dcterms:modified xsi:type="dcterms:W3CDTF">2008-04-15T11:30:36Z</dcterms:modified>
  <cp:revision>92</cp:revision>
  <dc:subject/>
  <dc:title>Исследование аналитической и графической моделей линейной функции. Понятие параметр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