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79B-A1CC-43E9-8402-565C6D1F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7DE-37C1-4E8B-A525-24DFEA48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BB4-FF45-4DF1-AD69-FCCF6087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724-6DF4-484C-8B32-7D044518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FDBE-0776-424D-BDAF-FD5710DE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E705-4383-4463-9180-EDC23AFF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C58D-B930-4CD3-A5C9-38F9BCFD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8F06-8EF2-4DA8-A8CA-A278E0A1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AD06-6256-4B63-B67B-2270E2CC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13EA-A978-43C0-89D6-7CD8ECEC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1992-4381-4472-ADCE-48BF9E00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AA5-0034-471B-B92F-145B430E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3E03-6858-4600-862D-2A91EC2A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FE7B-1B78-47CE-B7B6-32F59050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788B-FD9D-41D7-9D94-9465FA47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AAAF-20CD-4FB0-B740-7BA6BBA0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887A-57CD-4BF0-830C-577A8FBC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FE2-C170-4032-9CD8-983E2988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0AE-5B29-4F95-880B-4EE1AFD3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1D6-F2B3-47D3-9599-C17486DC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455-8778-4D59-88B9-EC210DF5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132-D9F9-40A2-ADD3-F2680953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9B0-B0C3-4945-B7F3-130AB35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5DB-65EB-473F-8F06-9E4B49FE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4A46-B12D-4221-829A-791E9628CD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422D-EAF5-409E-9A6A-4F13715F9C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628280"/>
            <a:ext cx="7772400" cy="34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Линейные уравнения с параметрами</a:t>
            </a:r>
            <a:br>
              <a:rPr sz="4600"/>
            </a:br>
            <a:br>
              <a:rPr sz="4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ающая интерактивная презентация</a:t>
            </a:r>
            <a:br>
              <a:rPr sz="4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Линейная функция. Понятие пара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3068640"/>
            <a:ext cx="2881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мотрим линейную функцию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kx+b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де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извольное числ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принимающе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лич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значения,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фиксированное чи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708360" y="2637000"/>
            <a:ext cx="4103640" cy="3239640"/>
            <a:chOff x="3708360" y="2637000"/>
            <a:chExt cx="4103640" cy="3239640"/>
          </a:xfrm>
        </p:grpSpPr>
        <p:sp>
          <p:nvSpPr>
            <p:cNvPr id="100" name=""/>
            <p:cNvSpPr/>
            <p:nvPr/>
          </p:nvSpPr>
          <p:spPr>
            <a:xfrm flipV="1">
              <a:off x="5435640" y="2781000"/>
              <a:ext cx="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8360" y="458136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6720" y="4653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35640" y="2637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458136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11640" y="2528280"/>
            <a:ext cx="2592360" cy="2702520"/>
            <a:chOff x="4211640" y="2528280"/>
            <a:chExt cx="2592360" cy="2702520"/>
          </a:xfrm>
        </p:grpSpPr>
        <p:sp>
          <p:nvSpPr>
            <p:cNvPr id="106" name=""/>
            <p:cNvSpPr/>
            <p:nvPr/>
          </p:nvSpPr>
          <p:spPr>
            <a:xfrm flipV="1">
              <a:off x="4211640" y="2781360"/>
              <a:ext cx="2592360" cy="2449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025400">
              <a:off x="5869440" y="2781000"/>
              <a:ext cx="86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y=kx+b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mph" presetID="8" repeatCount="10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ейная функция. Понятие парамет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3068640"/>
            <a:ext cx="2953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мотрим линейную функцию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kx+b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де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извольное числ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принимающе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личны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чения,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фиксированное чи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067280" y="2637000"/>
            <a:ext cx="4103640" cy="3239640"/>
            <a:chOff x="4067280" y="2637000"/>
            <a:chExt cx="4103640" cy="3239640"/>
          </a:xfrm>
        </p:grpSpPr>
        <p:sp>
          <p:nvSpPr>
            <p:cNvPr id="111" name=""/>
            <p:cNvSpPr/>
            <p:nvPr/>
          </p:nvSpPr>
          <p:spPr>
            <a:xfrm flipV="1">
              <a:off x="5794560" y="2781000"/>
              <a:ext cx="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67280" y="458136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35640" y="4653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4560" y="2637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10560" y="458136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859280" y="3232080"/>
            <a:ext cx="2736720" cy="2790360"/>
            <a:chOff x="4859280" y="3232080"/>
            <a:chExt cx="2736720" cy="2790360"/>
          </a:xfrm>
        </p:grpSpPr>
        <p:sp>
          <p:nvSpPr>
            <p:cNvPr id="117" name=""/>
            <p:cNvSpPr/>
            <p:nvPr/>
          </p:nvSpPr>
          <p:spPr>
            <a:xfrm flipV="1">
              <a:off x="4859280" y="3500280"/>
              <a:ext cx="2736720" cy="2522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9025400">
              <a:off x="6606000" y="3501000"/>
              <a:ext cx="91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y=kx+b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65987E-006 L -0.10226 -0.14713 E">
                                      <p:cBhvr>
                                        <p:cTn id="57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26 -0.14713 L 0.0552 0.07877 E">
                                      <p:cBhvr>
                                        <p:cTn id="60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0.08943 L -0.10226 -0.1418 E">
                                      <p:cBhvr>
                                        <p:cTn id="63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90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26 -0.14713 L 0.06302 0.08943 E">
                                      <p:cBhvr>
                                        <p:cTn id="66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 0.07877 L -0.09445 -0.1418 E">
                                      <p:cBhvr>
                                        <p:cTn id="69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26 -0.14713 L 3.61111E-006 -0.00533 E">
                                      <p:cBhvr>
                                        <p:cTn id="72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Решение простейших линейны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авнений с параметром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421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Пример</a:t>
            </a:r>
            <a:r>
              <a:rPr b="1" i="1" lang="en-US" sz="1600" spc="-1" strike="noStrike">
                <a:solidFill>
                  <a:srgbClr val="00005e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Решить простейшее линейное уравнение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x=1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где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араметр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08360" y="2637000"/>
            <a:ext cx="4103640" cy="3239640"/>
            <a:chOff x="3708360" y="2637000"/>
            <a:chExt cx="4103640" cy="3239640"/>
          </a:xfrm>
        </p:grpSpPr>
        <p:sp>
          <p:nvSpPr>
            <p:cNvPr id="122" name=""/>
            <p:cNvSpPr/>
            <p:nvPr/>
          </p:nvSpPr>
          <p:spPr>
            <a:xfrm flipV="1">
              <a:off x="5435640" y="2781000"/>
              <a:ext cx="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08360" y="458136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76720" y="4653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35640" y="2637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51640" y="458136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284720" y="3356640"/>
            <a:ext cx="2303280" cy="2313720"/>
            <a:chOff x="4284720" y="3356640"/>
            <a:chExt cx="2303280" cy="2313720"/>
          </a:xfrm>
        </p:grpSpPr>
        <p:sp>
          <p:nvSpPr>
            <p:cNvPr id="128" name=""/>
            <p:cNvSpPr/>
            <p:nvPr/>
          </p:nvSpPr>
          <p:spPr>
            <a:xfrm flipV="1">
              <a:off x="4284720" y="3581280"/>
              <a:ext cx="2303280" cy="2089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9025400">
              <a:off x="5781240" y="3573000"/>
              <a:ext cx="76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y=a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364000" y="4508640"/>
            <a:ext cx="144720" cy="14256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4149720"/>
            <a:ext cx="3527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3860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386064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5651640" y="522936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5e"/>
                </a:solidFill>
                <a:latin typeface="Times New Roman"/>
              </a:rPr>
              <a:t>Ответ:  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уравнение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x=1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имеет решение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=1/a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, если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≠0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и не имеет решений,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если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a=0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557360"/>
            <a:ext cx="820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a00"/>
                </a:solidFill>
                <a:latin typeface="Times New Roman"/>
              </a:rPr>
              <a:t>Линейные уравнения в зависимости от значений параметра </a:t>
            </a:r>
            <a:r>
              <a:rPr b="1" i="1" lang="ru-RU" sz="1800" spc="-1" strike="noStrike">
                <a:solidFill>
                  <a:srgbClr val="004a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4a00"/>
                </a:solidFill>
                <a:latin typeface="Times New Roman"/>
              </a:rPr>
              <a:t> могут иметь:</a:t>
            </a:r>
            <a:r>
              <a:rPr b="1" i="1" lang="ru-RU" sz="1800" spc="-1" strike="noStrike">
                <a:solidFill>
                  <a:srgbClr val="004a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4a00"/>
                </a:solidFill>
                <a:latin typeface="Times New Roman"/>
              </a:rPr>
              <a:t>1) единственное решение, 2) бесконечно много решений , 3) не иметь решен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7893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Для нахождения решения применим графический подход. Построим графики функций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y=1</a:t>
            </a:r>
            <a:r>
              <a:rPr b="0" i="1" lang="en-US" sz="1800" spc="-1" strike="noStrike">
                <a:solidFill>
                  <a:srgbClr val="00005e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y=ax</a:t>
            </a:r>
            <a:r>
              <a:rPr b="0" i="1" lang="en-US" sz="1800" spc="-1" strike="noStrike">
                <a:solidFill>
                  <a:srgbClr val="00005e"/>
                </a:solidFill>
                <a:latin typeface="Times New Roman"/>
              </a:rPr>
              <a:t>. 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5084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Определим те значения угловых коэффициентов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а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ри которых имеются точки пересечения графиков, т.е. решения уравн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6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6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6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6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6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6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6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31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1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простейших линейны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уравнений с параме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4000" y="3500280"/>
            <a:ext cx="3527280" cy="2871720"/>
            <a:chOff x="324000" y="3500280"/>
            <a:chExt cx="3527280" cy="2871720"/>
          </a:xfrm>
        </p:grpSpPr>
        <p:sp>
          <p:nvSpPr>
            <p:cNvPr id="140" name=""/>
            <p:cNvSpPr/>
            <p:nvPr/>
          </p:nvSpPr>
          <p:spPr>
            <a:xfrm>
              <a:off x="324000" y="3500280"/>
              <a:ext cx="3527280" cy="28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5e"/>
                  </a:solidFill>
                  <a:latin typeface="Times New Roman"/>
                </a:rPr>
                <a:t>Преобразуем уравнение: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5e"/>
                  </a:solidFill>
                  <a:latin typeface="Times New Roman"/>
                </a:rPr>
                <a:t>        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</a:rPr>
                <a:t>x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-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</a:rPr>
                <a:t>ax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=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</a:rPr>
                <a:t>1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-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</a:rPr>
                <a:t>a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        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</a:rPr>
                <a:t>x(1-a)=1-a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5e"/>
                  </a:solidFill>
                  <a:latin typeface="Times New Roman"/>
                </a:rPr>
                <a:t>Ответ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</a:rPr>
                <a:t>	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</a:rPr>
                <a:t>Если   а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≠1, то 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x=1,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             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если 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a=1, 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то </a:t>
              </a:r>
              <a:r>
                <a:rPr b="1" i="1" lang="en-US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x    R</a:t>
              </a:r>
              <a:r>
                <a:rPr b="1" i="1" lang="ru-RU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5e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2771640" y="5661000"/>
                  <a:ext cx="208080" cy="2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2" name=""/>
          <p:cNvSpPr/>
          <p:nvPr/>
        </p:nvSpPr>
        <p:spPr>
          <a:xfrm>
            <a:off x="468360" y="1628640"/>
            <a:ext cx="352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Пример2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. Рассмотрим линейное уравне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x+1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где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–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араметр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1628640"/>
            <a:ext cx="35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Пример3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. Рассмотрим линейное уравне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x+1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где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–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араметр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3500280"/>
            <a:ext cx="3527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реобразуем уравнение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x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1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      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(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-a)=1-a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Ответ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Если   а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≠2, то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x=(1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a)/(2-a)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если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a=2,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то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решений н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простейших линейны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уравнений с параме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628640"/>
            <a:ext cx="352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Пример 4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. Рассмотрим линейное уравне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2-x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где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–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араметр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335772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Для нахождения решения применим графический подход. Построим графики функций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y=2-x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и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y=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+a</a:t>
            </a:r>
            <a:r>
              <a:rPr b="0" i="1" lang="en-US" sz="1800" spc="-1" strike="noStrike">
                <a:solidFill>
                  <a:srgbClr val="00005e"/>
                </a:solidFill>
                <a:latin typeface="Times New Roman"/>
              </a:rPr>
              <a:t>. 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716360" y="2068920"/>
            <a:ext cx="2808360" cy="2872800"/>
            <a:chOff x="4716360" y="2068920"/>
            <a:chExt cx="2808360" cy="2872800"/>
          </a:xfrm>
        </p:grpSpPr>
        <p:sp>
          <p:nvSpPr>
            <p:cNvPr id="150" name=""/>
            <p:cNvSpPr/>
            <p:nvPr/>
          </p:nvSpPr>
          <p:spPr>
            <a:xfrm>
              <a:off x="4716360" y="2276640"/>
              <a:ext cx="2808360" cy="2665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392200">
              <a:off x="4787280" y="23490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=-x+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23760" y="1321560"/>
            <a:ext cx="2604240" cy="2827800"/>
            <a:chOff x="5423760" y="1321560"/>
            <a:chExt cx="2604240" cy="2827800"/>
          </a:xfrm>
        </p:grpSpPr>
        <p:sp>
          <p:nvSpPr>
            <p:cNvPr id="153" name=""/>
            <p:cNvSpPr/>
            <p:nvPr/>
          </p:nvSpPr>
          <p:spPr>
            <a:xfrm>
              <a:off x="5435640" y="1704240"/>
              <a:ext cx="2592360" cy="24451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436600">
              <a:off x="5439240" y="15584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=2-x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427640" y="1700280"/>
            <a:ext cx="4103640" cy="3239640"/>
            <a:chOff x="4427640" y="1700280"/>
            <a:chExt cx="4103640" cy="3239640"/>
          </a:xfrm>
        </p:grpSpPr>
        <p:grpSp>
          <p:nvGrpSpPr>
            <p:cNvPr id="156" name=""/>
            <p:cNvGrpSpPr/>
            <p:nvPr/>
          </p:nvGrpSpPr>
          <p:grpSpPr>
            <a:xfrm>
              <a:off x="4427640" y="1700280"/>
              <a:ext cx="4103640" cy="3239640"/>
              <a:chOff x="4427640" y="1700280"/>
              <a:chExt cx="4103640" cy="323964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6154920" y="1844280"/>
                <a:ext cx="0" cy="30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27640" y="3644640"/>
                <a:ext cx="381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96000" y="37162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54920" y="170028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170920" y="364464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867280" y="2276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08720" y="3645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0920" y="4869000"/>
            <a:ext cx="554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ри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=2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рямые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y=2-x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и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y=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x+a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сливаются, то есть уравнение имеет бесконечное множество решений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ри 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</a:rPr>
              <a:t>а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≠2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 прямые параллельны, то есть уравнение не имеет решений.</a:t>
            </a:r>
            <a:r>
              <a:rPr b="0" lang="en-US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588000" y="5157720"/>
            <a:ext cx="2087640" cy="785520"/>
            <a:chOff x="6588000" y="5157720"/>
            <a:chExt cx="2087640" cy="785520"/>
          </a:xfrm>
        </p:grpSpPr>
        <p:sp>
          <p:nvSpPr>
            <p:cNvPr id="166" name=""/>
            <p:cNvSpPr/>
            <p:nvPr/>
          </p:nvSpPr>
          <p:spPr>
            <a:xfrm>
              <a:off x="6588000" y="5157720"/>
              <a:ext cx="2087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5e"/>
                  </a:solidFill>
                  <a:latin typeface="Times New Roman"/>
                </a:rPr>
                <a:t>Ответ</a:t>
              </a:r>
              <a:r>
                <a:rPr b="0" lang="ru-RU" sz="1800" spc="-1" strike="noStrike">
                  <a:solidFill>
                    <a:srgbClr val="00005e"/>
                  </a:solidFill>
                  <a:latin typeface="Times New Roman"/>
                </a:rPr>
                <a:t>: </a:t>
              </a:r>
              <a:r>
                <a:rPr b="0" lang="en-US" sz="1800" spc="-1" strike="noStrike">
                  <a:solidFill>
                    <a:srgbClr val="00005e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5e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5e"/>
                  </a:solidFill>
                  <a:latin typeface="Times New Roman"/>
                </a:rPr>
                <a:t>    R, </a:t>
              </a:r>
              <a:r>
                <a:rPr b="0" i="1" lang="en-US" sz="1800" spc="-1" strike="noStrike">
                  <a:solidFill>
                    <a:srgbClr val="00005e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5e"/>
                  </a:solidFill>
                  <a:latin typeface="Times New Roman"/>
                </a:rPr>
                <a:t>=2;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5e"/>
                  </a:solidFill>
                  <a:latin typeface="Times New Roman"/>
                </a:rPr>
                <a:t>           </a:t>
              </a:r>
              <a:r>
                <a:rPr b="0" i="1" lang="en-US" sz="1800" spc="-1" strike="noStrike">
                  <a:solidFill>
                    <a:srgbClr val="00005e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5e"/>
                  </a:solidFill>
                  <a:latin typeface="Times New Roman"/>
                </a:rPr>
                <a:t>       , </a:t>
              </a:r>
              <a:r>
                <a:rPr b="0" i="1" lang="en-US" sz="1800" spc="-1" strike="noStrike">
                  <a:solidFill>
                    <a:srgbClr val="00005e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5e"/>
                  </a:solidFill>
                  <a:latin typeface="Times New Roman"/>
                  <a:ea typeface="Times New Roman"/>
                </a:rPr>
                <a:t>≠2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7524720" y="5661000"/>
                  <a:ext cx="43200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  <m:r>
                        <m:t xml:space="preserve">∅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596360" y="5300640"/>
                  <a:ext cx="193680" cy="1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95829E-006 L 0.08281 -0.13138 E">
                                      <p:cBhvr>
                                        <p:cTn id="180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13138 L -0.07483 0.11051 E">
                                      <p:cBhvr>
                                        <p:cTn id="183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83 0.11051 L 0.00399 -0.0051 E">
                                      <p:cBhvr>
                                        <p:cTn id="186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Линейные задачи с параме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628640"/>
            <a:ext cx="3166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Задача </a:t>
            </a:r>
            <a:r>
              <a:rPr b="1" i="1" lang="en-US" sz="1600" spc="-1" strike="noStrike">
                <a:solidFill>
                  <a:srgbClr val="00005e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. Два бегуна стартуют одновременно навстречу друг другу. Скорость второго бегуна пропорциональна скорости первого. Найти коэффициент пропорциональности, если известно, что в момент встречи первый бегун пробежал вдвое больше, чем втор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284720" y="2924280"/>
            <a:ext cx="4102200" cy="288720"/>
            <a:chOff x="4284720" y="2924280"/>
            <a:chExt cx="4102200" cy="288720"/>
          </a:xfrm>
        </p:grpSpPr>
        <p:sp>
          <p:nvSpPr>
            <p:cNvPr id="172" name=""/>
            <p:cNvSpPr/>
            <p:nvPr/>
          </p:nvSpPr>
          <p:spPr>
            <a:xfrm>
              <a:off x="4284720" y="3213000"/>
              <a:ext cx="410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60080" y="2924280"/>
              <a:ext cx="212040" cy="288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140360" y="3068640"/>
            <a:ext cx="217440" cy="216000"/>
          </a:xfrm>
          <a:prstGeom prst="flowChartConnec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8317080" y="3068640"/>
            <a:ext cx="217440" cy="216000"/>
          </a:xfrm>
          <a:prstGeom prst="flowChartConnec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78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7811640" y="270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2421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егун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7667640" y="2349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егун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3995640" y="3716280"/>
            <a:ext cx="460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5e"/>
                </a:solidFill>
                <a:latin typeface="Times New Roman"/>
              </a:rPr>
              <a:t>Решение. </a:t>
            </a:r>
            <a:r>
              <a:rPr b="0" lang="ru-RU" sz="1600" spc="-1" strike="noStrike">
                <a:solidFill>
                  <a:srgbClr val="00005e"/>
                </a:solidFill>
                <a:latin typeface="Times New Roman"/>
              </a:rPr>
              <a:t>Пусть общая длина дистанции равна </a:t>
            </a:r>
            <a:r>
              <a:rPr b="0" lang="ru-RU" sz="2000" spc="-1" strike="noStrike">
                <a:solidFill>
                  <a:srgbClr val="00005e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5e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5e"/>
                </a:solidFill>
                <a:latin typeface="Times New Roman"/>
              </a:rPr>
              <a:t>Тогда путь, проделанный первым бегуном, равен 2/3, а вторым – 1/3.  Скорость первого бегуна обозначим </a:t>
            </a:r>
            <a:r>
              <a:rPr b="1" i="1" lang="en-US" sz="2000" spc="-1" strike="noStrike">
                <a:solidFill>
                  <a:srgbClr val="00005e"/>
                </a:solidFill>
                <a:latin typeface="Times New Roman"/>
              </a:rPr>
              <a:t>v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00005e"/>
                </a:solidFill>
                <a:latin typeface="Times New Roman"/>
              </a:rPr>
              <a:t>второго –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v </a:t>
            </a:r>
            <a:r>
              <a:rPr b="0" i="1" lang="en-US" sz="1800" spc="-1" strike="noStrike">
                <a:solidFill>
                  <a:srgbClr val="00005e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</a:rPr>
              <a:t>a </a:t>
            </a:r>
            <a:r>
              <a:rPr b="0" i="1" lang="en-US" sz="1800" spc="-1" strike="noStrike">
                <a:solidFill>
                  <a:srgbClr val="00005e"/>
                </a:solidFill>
                <a:latin typeface="Times New Roman"/>
              </a:rPr>
              <a:t>- </a:t>
            </a:r>
            <a:r>
              <a:rPr b="0" i="1" lang="ru-RU" sz="1800" spc="-1" strike="noStrike">
                <a:solidFill>
                  <a:srgbClr val="00005e"/>
                </a:solidFill>
                <a:latin typeface="Times New Roman"/>
              </a:rPr>
              <a:t>параметр</a:t>
            </a:r>
            <a:r>
              <a:rPr b="0" i="1" lang="en-US" sz="1800" spc="-1" strike="noStrike">
                <a:solidFill>
                  <a:srgbClr val="00005e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5e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26920" y="5084640"/>
            <a:ext cx="7417080" cy="792360"/>
            <a:chOff x="826920" y="5084640"/>
            <a:chExt cx="7417080" cy="792360"/>
          </a:xfrm>
        </p:grpSpPr>
        <p:sp>
          <p:nvSpPr>
            <p:cNvPr id="183" name=""/>
            <p:cNvSpPr/>
            <p:nvPr/>
          </p:nvSpPr>
          <p:spPr>
            <a:xfrm>
              <a:off x="826920" y="5084640"/>
              <a:ext cx="74170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5e"/>
                  </a:solidFill>
                  <a:latin typeface="Times New Roman"/>
                </a:rPr>
                <a:t>В силу того, что время, затраченное на дистанцию для обоих бегунов одинаково,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5e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5e"/>
                  </a:solidFill>
                  <a:latin typeface="Times New Roman"/>
                </a:rPr>
                <a:t>составим уравнение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2916360" y="5373720"/>
                  <a:ext cx="216036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v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"/>
          <p:cNvSpPr/>
          <p:nvPr/>
        </p:nvSpPr>
        <p:spPr>
          <a:xfrm>
            <a:off x="5580000" y="580536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5e"/>
                </a:solidFill>
                <a:latin typeface="Times New Roman"/>
              </a:rPr>
              <a:t>Ответ:   </a:t>
            </a:r>
            <a:r>
              <a:rPr b="1" i="1" lang="en-US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a=0</a:t>
            </a:r>
            <a:r>
              <a:rPr b="1" i="1" lang="ru-RU" sz="1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,5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5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2567E-006 L 0.2717 0.00533 E">
                                      <p:cBhvr>
                                        <p:cTn id="23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72567E-006 L -0.18507 0.00533 E">
                                      <p:cBhvr>
                                        <p:cTn id="23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5:36:02Z</dcterms:created>
  <dc:creator/>
  <dc:description/>
  <dc:language>en-US</dc:language>
  <cp:lastModifiedBy>Denis Svintsov</cp:lastModifiedBy>
  <dcterms:modified xsi:type="dcterms:W3CDTF">2008-04-15T11:30:36Z</dcterms:modified>
  <cp:revision>92</cp:revision>
  <dc:subject/>
  <dc:title>Исследование аналитической и графической моделей линейной функции. Понятие параметр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