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A9A-E2F7-4C41-8AFB-6C821F6A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527-7CBD-4256-935F-60E648BB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BD6-33EB-45A9-B2A3-DE8E4D71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D76-5D21-49C2-AF20-65CA5114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5F26-7073-4F72-B7C6-405800D0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5702-A06B-4629-B383-7E327929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87EA-0337-46A9-8462-008DF77E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FB3E-EC75-4473-817B-F98C3B60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A1E3-40C9-40D6-9882-7B09C3CC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7555-FA31-4217-8FA8-9B68C28F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B8E5-2601-45EC-923D-C5CED249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D70-BB60-42E3-8D58-411ED8B7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5658-9BB2-4D69-A234-F1A3A212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A902-9903-4BFF-A63C-C2F4C2A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064D-E032-434A-8B6F-5D9FBDAF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0197-2347-4DCF-B1CE-421F00E8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A5DB-F0B4-4DD8-8BD5-51FE7631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083-B734-4DB1-9520-962F0E0C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0BE-CF06-4600-8176-7F0ABCB2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5A1-7437-4A34-A0F5-746DD78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578-2BD2-407F-98F4-A82098A8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CC1-418C-4175-B4E2-A37273F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5CE-EF27-4DA3-B854-CC0FA00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FB8-4C15-4E77-A32D-9C03157F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189F-858F-4158-A9DB-7C09F6F5743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4642-24DE-4321-B52E-D448DB2B012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Влияние уроков информатики на формирование общих учебных умений и способов деятельности младших школьников.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44880" y="4114440"/>
            <a:ext cx="429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езентация опыта уч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ысшей категор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БОУ СОШ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№ 60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Осиповой Екатерины Анатольев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bs01180_" descr=""/>
          <p:cNvPicPr/>
          <p:nvPr/>
        </p:nvPicPr>
        <p:blipFill>
          <a:blip r:embed="rId1"/>
          <a:stretch/>
        </p:blipFill>
        <p:spPr>
          <a:xfrm>
            <a:off x="912960" y="2360520"/>
            <a:ext cx="3978000" cy="3279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-2520"/>
            <a:ext cx="876276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По  мнению учителей, у  тех учащихся начальных классов, которые обучались с применением данного опыта, по сравнению с традиционным обучением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овышается обучае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лучшается память, внимание, восприятие. Младшие школьники умеют «слышать», «видеть», рассужд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развивается способность к переносу полученных мыслительных навыков на незнакомый материал (на русский язык, математику и др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0640" y="561600"/>
            <a:ext cx="8163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Исследования, проведённые в школе показали, что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равнительный анализ показывает, что наибольшее влияние применение данного опыта оказывает на учащихся  высокого и низкого уровня обучен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114800" y="1905120"/>
          <a:ext cx="49086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905120"/>
                    <a:ext cx="49086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 Unicode MS"/>
              </a:rPr>
              <a:t>Сформированность интеллектуальных операций и действий.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 - выявление логических связей и отношений, связанных с установлением противоположно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 – сформированность речемыслительной деятельности, составляющая основу коммуникативных компетенций умений работать с информац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 – сформированность учебных навыков, умения устанавливать логико–функциональные связи с ориентировкой на существенные признаки предм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045040" y="2162160"/>
          <a:ext cx="39783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5040" y="2162160"/>
                    <a:ext cx="39783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 Unicode MS"/>
              </a:rPr>
              <a:t>СПАСИБО ЗА ВНИМАНИЕ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0" name="j007884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2571840" cy="3105000"/>
          </a:xfrm>
          <a:prstGeom prst="rect">
            <a:avLst/>
          </a:prstGeom>
          <a:ln w="0">
            <a:noFill/>
          </a:ln>
        </p:spPr>
      </p:pic>
      <p:pic>
        <p:nvPicPr>
          <p:cNvPr id="241" name="j0078825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5365800" cy="3060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4876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омпьютер дает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озможность намного  более  полного  и  глубокого,  чем  при традиционном обучении,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нимания  процесса  умственного  развития  ребенка. 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bs00580_" descr=""/>
          <p:cNvPicPr/>
          <p:nvPr/>
        </p:nvPicPr>
        <p:blipFill>
          <a:blip r:embed="rId1"/>
          <a:stretch/>
        </p:blipFill>
        <p:spPr>
          <a:xfrm>
            <a:off x="5410080" y="2325600"/>
            <a:ext cx="3353040" cy="2822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560" y="2057040"/>
            <a:ext cx="466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овременное  обучение  развивает  в  детях   только    одну    сторону -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сполнительские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способности, а более сложная и важная сторона -  творческие способности человека отдаются воле случая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bd00146_" descr=""/>
          <p:cNvPicPr/>
          <p:nvPr/>
        </p:nvPicPr>
        <p:blipFill>
          <a:blip r:embed="rId1"/>
          <a:stretch/>
        </p:blipFill>
        <p:spPr>
          <a:xfrm>
            <a:off x="5045040" y="2023920"/>
            <a:ext cx="3978360" cy="39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-426600"/>
            <a:ext cx="8915400" cy="265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Опыт моей работы по формированию общих учебных умений и способов деятельности младших школьников на уроках информатики является актуальным, т.к. </a:t>
            </a:r>
            <a:r>
              <a:rPr b="0" lang="ru-RU" sz="2800" spc="-1" strike="noStrike">
                <a:solidFill>
                  <a:srgbClr val="003366"/>
                </a:solidFill>
                <a:latin typeface="Arial Unicode MS"/>
              </a:rPr>
              <a:t>благода</a:t>
            </a:r>
            <a:r>
              <a:rPr b="0" lang="ru-RU" sz="28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ря моим урокам учащиеся младших классов: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10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знакомятся с базовой системой понятий информатики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сваивают, развивают и корректируют речевую деятельность (коммуникативные умения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оисходит активное развитие определённых видов мыш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ируется умение преодолевать трудности, совершен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ется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ум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работать самостоятельно (индивидуально и в групп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Мною разработаны:</a:t>
            </a:r>
            <a:r>
              <a:rPr b="0" lang="ru-RU" sz="4400" spc="-1" strike="noStrike">
                <a:solidFill>
                  <a:srgbClr val="0033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пражнения по развитию внимания, мышления младших школьников, в том числе  с использованием ПК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разнообразные виды тестов, т.к. учащиеся в 11 классе сдают ЕГЭ,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следовательно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становится актуальным знакомство уже в начальной школе с вариантами тестовых зада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роки по формированию коммуникативных умений, различных видов мыш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 Unicode MS"/>
              </a:rPr>
              <a:t>Разминка: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Одно из простых упражнений, которое предлагает выполнить задание с текстовой информацией, пополняет  активный словарный запас учащихся, с другой стороны – даёт дополнительную возможность в игре, в соревновании проявить свои коммуникативные умения и навы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ю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j007862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1857600" cy="3996000"/>
          </a:xfrm>
          <a:prstGeom prst="rect">
            <a:avLst/>
          </a:prstGeom>
          <a:ln w="0">
            <a:noFill/>
          </a:ln>
        </p:spPr>
      </p:pic>
      <p:pic>
        <p:nvPicPr>
          <p:cNvPr id="223" name="j0078625" descr=""/>
          <p:cNvPicPr/>
          <p:nvPr/>
        </p:nvPicPr>
        <p:blipFill>
          <a:blip r:embed="rId2"/>
          <a:stretch/>
        </p:blipFill>
        <p:spPr>
          <a:xfrm>
            <a:off x="7238880" y="1066680"/>
            <a:ext cx="1379520" cy="4191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 Unicode MS"/>
              </a:rPr>
              <a:t>Варианты ответов учащихся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акая осень дивн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ругом одни деревь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ючи отдали детя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апитан отдал докумен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олечко (кресло, кувшин) очень дорог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оза объела дере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от одел джинс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44680" y="1904760"/>
            <a:ext cx="397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ы (мама, машина, Маша) едем на ю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ама еле нашла Юл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ышка ела набор «Юниор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аленький енот несёт юл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иша ещё не юри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-489960"/>
            <a:ext cx="838188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Мой опыт изучен учителями начальных классов нашей школы. Учителя отмечают, что данный опыт позволяет учащимся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ть выделять главное, видеть общую закономерность, делать обобщенные выводы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оследовательно, логично обосновывать свои действия и контролировать и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именять знания в новых условиях, часто усложнённых, с элементами творческого подхода к достижению цел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7:16:31Z</dcterms:created>
  <dc:creator>omg</dc:creator>
  <dc:description/>
  <dc:language>en-US</dc:language>
  <cp:lastModifiedBy>User</cp:lastModifiedBy>
  <dcterms:modified xsi:type="dcterms:W3CDTF">2011-12-13T16:17:48Z</dcterms:modified>
  <cp:revision>59</cp:revision>
  <dc:subject/>
  <dc:title>Влияние уроков информатики на формирование общих учебных умений и способов деятельности младших школьников. </dc:title>
</cp:coreProperties>
</file>