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0B6-A82F-449D-8319-24B049BC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CD5-C43A-4206-959E-EECFD719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24D-AFD2-4981-A51E-361AA0E6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4D9-D713-4057-A249-CB4093F8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A847-31A7-4D4C-A554-5FDF4977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957A-9B86-4B0C-9843-9686A461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C51E-657D-4D55-8EE1-30231F72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9CF2-86EC-49FB-874D-F846D772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0310-892E-4FB4-8956-B3EAC46E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8857-9F4E-4A8B-8307-2D40408A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6079-2B30-47A1-9E9E-65945509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F72-3C96-47CF-908D-6B53969E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E587-EA71-4129-9703-02BE4721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B951-F41F-41DC-8A40-7A708B71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7B2D-5C3F-4189-BB97-A0CE3A78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901E-6637-4D70-82FA-923577B7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2AEF-6323-44F3-97A9-1FCE58AC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8ED-7FAD-4598-B2B2-DEE4DF8B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D92-E980-45F3-A39D-06F5E032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8B7-5B56-42BA-8764-0142C90A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5A3-0E04-43B5-B047-EA5A5010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6BD-0866-41C9-B7A3-CDA4BFFB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A81-5F09-4816-B910-434F693A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44AA-6F58-450E-8121-A1623F45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5D86-E58C-45AF-8E69-E104778DCB8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8D47-089E-42F4-9EF4-609E2FFF25A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8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Влияние уроков информатики на формирование общих учебных умений и способов деятельности младших школьников.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44880" y="4114440"/>
            <a:ext cx="429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резентация опыта уч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ысшей категор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БОУ СОШ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№ 603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Осиповой Екатерины Анатольев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bs01180_" descr=""/>
          <p:cNvPicPr/>
          <p:nvPr/>
        </p:nvPicPr>
        <p:blipFill>
          <a:blip r:embed="rId1"/>
          <a:stretch/>
        </p:blipFill>
        <p:spPr>
          <a:xfrm>
            <a:off x="912960" y="2360520"/>
            <a:ext cx="3978000" cy="3279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1760" y="-2520"/>
            <a:ext cx="876276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По  мнению учителей, у  тех учащихся начальных классов, которые обучались с применением данного опыта, по сравнению с традиционным обучением: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овышается обучае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лучшается память, внимание, восприятие. Младшие школьники умеют «слышать», «видеть», рассужда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развивается способность к переносу полученных мыслительных навыков на незнакомый материал (на русский язык, математику и др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0640" y="561600"/>
            <a:ext cx="8163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Исследования, проведённые в школе показали, что: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Сравнительный анализ показывает, что наибольшее влияние применение данного опыта оказывает на учащихся  высокого и низкого уровня обучен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114800" y="1905120"/>
          <a:ext cx="490860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905120"/>
                    <a:ext cx="49086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 Unicode MS"/>
              </a:rPr>
              <a:t>Сформированность интеллектуальных операций и действий.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5105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 - выявление логических связей и отношений, связанных с установлением противоположно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 – сформированность речемыслительной деятельности, составляющая основу коммуникативных компетенций умений работать с информац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3 – сформированность учебных навыков, умения устанавливать логико–функциональные связи с ориентировкой на существенные признаки предм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045040" y="2162160"/>
          <a:ext cx="397836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5040" y="2162160"/>
                    <a:ext cx="39783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 Unicode MS"/>
              </a:rPr>
              <a:t>СПАСИБО ЗА ВНИМАНИЕ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0" name="j007884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2571840" cy="3105000"/>
          </a:xfrm>
          <a:prstGeom prst="rect">
            <a:avLst/>
          </a:prstGeom>
          <a:ln w="0">
            <a:noFill/>
          </a:ln>
        </p:spPr>
      </p:pic>
      <p:pic>
        <p:nvPicPr>
          <p:cNvPr id="241" name="j0078825" descr=""/>
          <p:cNvPicPr/>
          <p:nvPr/>
        </p:nvPicPr>
        <p:blipFill>
          <a:blip r:embed="rId2"/>
          <a:stretch/>
        </p:blipFill>
        <p:spPr>
          <a:xfrm>
            <a:off x="3505320" y="2133720"/>
            <a:ext cx="5365800" cy="3060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4876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омпьютер дает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озможность намного  более  полного  и  глубокого,  чем  при традиционном обучении,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нимания  процесса  умственного  развития  ребенка. 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bs00580_" descr=""/>
          <p:cNvPicPr/>
          <p:nvPr/>
        </p:nvPicPr>
        <p:blipFill>
          <a:blip r:embed="rId1"/>
          <a:stretch/>
        </p:blipFill>
        <p:spPr>
          <a:xfrm>
            <a:off x="5410080" y="2325600"/>
            <a:ext cx="3353040" cy="2822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560" y="2057040"/>
            <a:ext cx="466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овременное  обучение  развивает  в  детях   только    одну    сторону -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сполнительские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способности, а более сложная и важная сторона -  творческие способности человека отдаются воле случая.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bd00146_" descr=""/>
          <p:cNvPicPr/>
          <p:nvPr/>
        </p:nvPicPr>
        <p:blipFill>
          <a:blip r:embed="rId1"/>
          <a:stretch/>
        </p:blipFill>
        <p:spPr>
          <a:xfrm>
            <a:off x="5045040" y="2023920"/>
            <a:ext cx="3978360" cy="39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-426600"/>
            <a:ext cx="8915400" cy="265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Опыт моей работы по формированию общих учебных умений и способов деятельности младших школьников на уроках информатики является актуальным, т.к. </a:t>
            </a:r>
            <a:r>
              <a:rPr b="0" lang="ru-RU" sz="2800" spc="-1" strike="noStrike">
                <a:solidFill>
                  <a:srgbClr val="003366"/>
                </a:solidFill>
                <a:latin typeface="Arial Unicode MS"/>
              </a:rPr>
              <a:t>благода</a:t>
            </a:r>
            <a:r>
              <a:rPr b="0" lang="ru-RU" sz="28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ря моим урокам учащиеся младших классов: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10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знакомятся с базовой системой понятий информатики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сваивают, развивают и корректируют речевую деятельность (коммуникативные умения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оисходит активное развитие определённых видов мыш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ируется умение преодолевать трудности, совершенст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ется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уме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работать самостоятельно (индивидуально и в групп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Мною разработаны:</a:t>
            </a:r>
            <a:r>
              <a:rPr b="0" lang="ru-RU" sz="4400" spc="-1" strike="noStrike">
                <a:solidFill>
                  <a:srgbClr val="003366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пражнения по развитию внимания, мышления младших школьников, в том числе  с использованием ПК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разнообразные виды тестов, т.к. учащиеся в 11 классе сдают ЕГЭ,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следовательно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становится актуальным знакомство уже в начальной школе с вариантами тестовых зада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роки по формированию коммуникативных умений, различных видов мышл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10422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 Unicode MS"/>
              </a:rPr>
              <a:t>Разминка: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42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Одно из простых упражнений, которое предлагает выполнить задание с текстовой информацией, пополняет  активный словарный запас учащихся, с другой стороны – даёт дополнительную возможность в игре, в соревновании проявить свои коммуникативные умения и навы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К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______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о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_______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д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________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М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______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_______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н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_______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ю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Unicode MS"/>
              </a:rPr>
              <a:t>_______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j0078622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1857600" cy="3996000"/>
          </a:xfrm>
          <a:prstGeom prst="rect">
            <a:avLst/>
          </a:prstGeom>
          <a:ln w="0">
            <a:noFill/>
          </a:ln>
        </p:spPr>
      </p:pic>
      <p:pic>
        <p:nvPicPr>
          <p:cNvPr id="223" name="j0078625" descr=""/>
          <p:cNvPicPr/>
          <p:nvPr/>
        </p:nvPicPr>
        <p:blipFill>
          <a:blip r:embed="rId2"/>
          <a:stretch/>
        </p:blipFill>
        <p:spPr>
          <a:xfrm>
            <a:off x="7238880" y="1066680"/>
            <a:ext cx="1379520" cy="4191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 Unicode MS"/>
              </a:rPr>
              <a:t>Варианты ответов учащихся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акая осень дивн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ругом одни деревь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лючи отдали детя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апитан отдал докумен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олечко (кресло, кувшин) очень дорог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оза объела дере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от одел джинс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44680" y="1904760"/>
            <a:ext cx="397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Мы (мама, машина, Маша) едем на ю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Мама еле нашла Юл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Мышка ела набор «Юниор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Маленький енот несёт юл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Миша ещё не юри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1760" y="-489960"/>
            <a:ext cx="8381880" cy="25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 Unicode MS"/>
                <a:ea typeface="Times New Roman"/>
              </a:rPr>
              <a:t>Мой опыт изучен учителями начальных классов нашей школы. Учителя отмечают, что данный опыт позволяет учащимся: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ть выделять главное, видеть общую закономерность, делать обобщенные выводы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оследовательно, логично обосновывать свои действия и контролировать и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именять знания в новых условиях, часто усложнённых, с элементами творческого подхода к достижению цел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7:16:31Z</dcterms:created>
  <dc:creator>omg</dc:creator>
  <dc:description/>
  <dc:language>en-US</dc:language>
  <cp:lastModifiedBy>User</cp:lastModifiedBy>
  <dcterms:modified xsi:type="dcterms:W3CDTF">2011-12-13T16:17:48Z</dcterms:modified>
  <cp:revision>59</cp:revision>
  <dc:subject/>
  <dc:title>Влияние уроков информатики на формирование общих учебных умений и способов деятельности младших школьников. </dc:title>
</cp:coreProperties>
</file>