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947-2158-48B5-8D1E-67CE74F5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19E-EC29-4DC4-8441-10BC97C0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ECC7C-6055-4F33-A5BF-D73C3458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BC153-F01C-41E6-B311-0153024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E53DC-817D-4854-B9A1-307AACB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A2070-FC69-4B31-BD36-42FF0F2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0F784-06BB-4251-A85D-369E37FC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63CA7-C816-4AB7-88F1-D2DE549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A4234-3E55-4297-87DC-9AFEFB5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E7AC4-CE27-4FD4-A7AF-EBEE6DA7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1695C-8824-483F-8FA9-C243E018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AE6D4-9560-455A-B15D-BEB857B5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02F-A40A-4A96-BA6B-843DA06F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06A93-D045-4A79-9025-96AB512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3885D-51BB-49B0-811B-80EE12E3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DC6A-8ECC-4EEF-9E85-98236005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5478-F3E4-48CA-B2E0-A73491D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679BE-F0DA-41AB-9D23-3CCC7D29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1EF5A-3274-4B37-8610-51DA6B9C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6587-CE9E-436D-A530-C82602E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B282B-8AB9-4480-9094-5C98A0E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541DD-6951-46BF-A436-D730F81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00CA1-2CCB-40BB-862F-AA8D0F7F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72A-DB5D-483C-8DE6-A3D6419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0B4E1-96DD-4656-A3B4-26C4F05D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574DE7-A215-4C60-B236-C7D58ADB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BE2397-AFCB-4B05-BD80-E0C18F50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A3EBB3-DA6E-4E43-A382-38693BA5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390C7D-F6B3-40E9-857B-569FD233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668112-E13D-4CCA-8BAA-DF1285F6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5B1804-E942-4584-8933-85AD1ECB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695A84-63DF-4561-80FB-8ABBA162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44EEB1-1C3B-4DA4-AAB4-E4A770C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40A67-B42C-4AB6-B66F-688954E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4E6D-2947-4136-9156-36E633CA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A601BB-6CAA-4FC2-B048-038275C9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D20921-899C-4B05-BED8-20406B48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DC755A-5009-44CC-B527-B813A2D2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67999-2992-44CD-ADF2-74B9C74D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7808E-F98D-4CD0-BC1C-3052F74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5DD39-3786-433B-B7F1-80875C43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86580-042D-4C6E-9C62-08344BED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F6398-E1C7-4A3E-9038-A895C1F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217EE-31D5-4C7F-8261-A8E9AB78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0A0BB-C648-444A-8E74-2DC3EC7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DE50-7576-405A-9101-02BD6E8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5A0E2-52C5-4CA2-8627-DBA6575B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29244-34A6-431F-856A-67A653B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68EC8-A8A5-4295-8006-4E70DEA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3CC2E-7E42-4829-98CD-FD459229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5BB66-624B-40FE-88F9-DF5267B9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FA54F-41B8-4540-9543-E167531D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4735B-F7E3-4396-8DD2-06A89586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C6C75-C96B-40E1-8648-6E953670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29D45-96B1-44FF-8F52-6798C937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A944E-C997-4ED9-85F4-3F15C1A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596D-73E0-4466-8954-4B9CA4C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175CB-86F5-49F5-BDE3-0457C3D2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2C76E-1EC6-45BF-97D5-91683BC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15FC0-E80D-45A3-912E-87551F0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7A33D-A442-4550-A43C-89F9E4D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BA317-D15E-4C37-8B47-898CE07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F782D-F976-4300-BE24-1E287299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0F73D-B18E-4A53-9A9C-BFA29090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1C93-B101-4027-A912-6A2B1ED4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97C8-3039-4DDD-9833-305A854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61CA-9FA6-44E9-9BB8-BC22CA4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9895-1715-41F7-8DB6-F0A9C22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1C8-921F-45D4-BC19-ECFC1613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7352-C3EE-41F3-8C6F-B1C9906F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E7B5-C187-4E42-8CF4-1C555BE8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0982-45EE-40C1-85C6-F96A694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B7AA-F016-4E9B-9213-8E17A722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F334-177D-401F-8CBE-3D087195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4911-145E-4127-A0A7-627FABD0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1A9E-2572-4786-BD35-15A1F8AA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344D-C17C-4441-9851-DD6C467D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260B-256D-4947-94CA-40C909E9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F6A9-4CF1-4581-A6A6-5FDF7F13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44F-987B-4FBB-9CD8-6A0D5F0A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01AF-7955-40B8-9AAC-9CA369FF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230C-6CA1-42E2-9F3B-B9FF54D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B023-4B2A-40CB-A3B2-7E9DF3A6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C8B9-3F0B-40C6-94D1-632D42C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DDD9-777E-4DAD-8C43-CB933EF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6FD9-66CE-41FB-ABD1-34CE6A7A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0A39-D817-4472-95D9-95FCC604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6187-8CE5-4C74-9FE7-5D49E024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48D95-F1DA-4729-AD27-83217434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ECE5-FE49-444D-BD74-D6C494B6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AC2-4832-453D-B252-78A87986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107D-E4A5-461C-BDC1-9C1D86A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15B8-9315-4248-98AB-5928C8F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2798-53CB-4630-ACAF-D0A50C0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2045-5E16-4B51-919F-6A85CE4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A509-60C7-4EF0-B381-AA53FE9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82BE-3BD4-450E-A60B-9A9FD55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46216-1CD6-4127-AE13-907CC10C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8B04-647C-4A4A-AC59-0B082DD1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4C34-0107-490A-9469-39B59817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B403-CCBE-4878-82BA-A8E2D1D2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30A-B38A-4978-9588-4153D90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1AE6-DF26-4CD9-AC52-1BD58863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6A2D-6E68-4FA8-9807-BE69EB6A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C34E-BCEB-44FB-9DCA-9F465CEC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918E-0B33-47F7-9D03-B41D3A71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845D-F519-4858-87FA-3AD8C5E4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270C-F37D-4E0E-AF14-15E6708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48C2-FCB0-4DBF-9426-F8692A37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90CD-24BD-4965-989A-C06C4FF3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A91EF-1DAE-4826-8CF3-DAE5C93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224F-AB4D-4D44-B545-9CCD3BFE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DE6-8E51-499A-9021-6809E4B8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3DCA-45B5-4609-96A1-62B4D0E5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3C8E-F3B9-42CE-9B61-C9D63A11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A1D09-9073-48D2-BE07-762A3BFC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3174-A3DA-40E7-843C-C7B2B72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0BB64-3C3E-4FE9-A4AF-97278E9C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A3E72-1EFE-4095-B5D6-30F1289D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F4791-1A23-4DFA-9C9B-073A66F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440D7-8B7A-4168-870A-E45D83C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5169-E99E-440C-B3E3-05D0033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52BB0-2FA1-40FC-8607-EE8779BC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0CC-E6A9-472A-B01F-ABBEDA6D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BC9F-E418-44C4-9C41-B4CF063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BC97-B41B-42FD-818A-34B512FD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6AD9-F4CB-454F-8E7C-3291CB6A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FA42-869D-488A-9A30-1655AC2B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D5D52-4E41-4DEB-8767-3D18726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C6362-F9C7-45A7-9F18-567A5BE4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AE0E1-AD59-4DE5-AA26-BDF7A9A6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8E2C-CEFE-4767-9197-BA71197F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98CE-BE63-407C-8EC0-0107654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1DA6D-4526-4F96-8AC2-545E975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DC6-F1D4-4423-9CB6-358E187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CCDF-B5A0-4F4A-A074-A302720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E26A7-25EC-4183-A346-46B9174E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8CBA-2457-425D-B9BC-C910481F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30AC-128C-49A6-BD7E-C66DB75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3DD4-9285-4684-96BF-C3048406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2373-F06F-47E7-B7C6-61F678E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3A7F-4A13-4D82-8A98-C2936FB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3C3A7-D248-4702-B32A-C05DD7E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BF31-08F2-4189-B1EA-F77ED30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0AF6-5081-4C83-B6A4-3AD04A1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1BE-1686-414A-B6F8-C8E3890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1EDEF-31A0-4041-93B7-CD0FF202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B941-0B14-496D-99F1-7BCD1AA8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7F769-2D85-4646-9483-5A991C24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1513-816F-4CF6-A228-4EA4B6F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A1D2D-547F-4ADF-846B-502FE43C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2B464-0EE7-4FDE-8D62-7950A8E2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338F6-B104-4C38-A36C-A81719E9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D44C3-9756-4D98-87BE-D03B39B4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1D598-0E4A-4F77-BCF9-461E5ACF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B8343-625E-4E65-B79F-B2EE0D65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124-78DE-4887-8DEF-2097EAE46C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61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86C-2DCF-437E-86C7-AE2903BE5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B9C0-73A4-4A0D-BD9B-284AF58BF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0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1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0F5-1D59-41F6-A7D0-8D47355523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6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4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82C-9DBD-4315-AAD8-628F484C2D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7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98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9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0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102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4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grpSp>
            <p:nvGrpSpPr>
              <p:cNvPr id="109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0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2f1311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2f1311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2f1311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13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4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11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8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121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2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125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6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8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1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4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6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7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38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B7F8-0923-4CFF-8CBF-0FEDFF554B1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1DA-53FC-4583-8569-105725B5F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DABE-F056-437E-8652-AC0D20C892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DE7-CC53-436E-B4AD-AAE8AFAA2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1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0B09-4290-469F-9C24-C34271B3BA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7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E58-8565-410F-9A17-51CDFB022B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3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3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43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3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3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43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2f1311"/>
                      </a:solidFill>
                      <a:latin typeface="Arial Narrow"/>
                    </a:endParaRPr>
                  </a:p>
                </p:txBody>
              </p:sp>
            </p:grpSp>
            <p:pic>
              <p:nvPicPr>
                <p:cNvPr id="44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5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3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4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5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6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7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8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79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0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2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48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C848-B83C-4591-8C8B-0F26F12ACC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5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5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5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grpSp>
          <p:nvGrpSpPr>
            <p:cNvPr id="5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5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5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5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5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grpSp>
          <p:nvGrpSpPr>
            <p:cNvPr id="5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5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  <p:sp>
            <p:nvSpPr>
              <p:cNvPr id="5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2f1311"/>
                  </a:solidFill>
                  <a:latin typeface="Arial Narrow"/>
                </a:endParaRPr>
              </a:p>
            </p:txBody>
          </p:sp>
        </p:grpSp>
        <p:sp>
          <p:nvSpPr>
            <p:cNvPr id="5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  <p:sp>
          <p:nvSpPr>
            <p:cNvPr id="5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2f1311"/>
                </a:solidFill>
                <a:latin typeface="Arial Narrow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DB89-713D-45A1-A33A-15346FDF021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-252720" y="836280"/>
            <a:ext cx="939636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ec94"/>
                </a:solidFill>
                <a:latin typeface="바탕"/>
              </a:rPr>
              <a:t>«</a:t>
            </a:r>
            <a:r>
              <a:rPr b="1" i="1" lang="en-US" sz="5400" spc="-1" strike="noStrike">
                <a:solidFill>
                  <a:srgbClr val="feec94"/>
                </a:solidFill>
                <a:latin typeface="바탕"/>
              </a:rPr>
              <a:t>REISE</a:t>
            </a:r>
            <a:r>
              <a:rPr b="1" i="1" lang="ru-RU" sz="5400" spc="-1" strike="noStrike">
                <a:solidFill>
                  <a:srgbClr val="feec94"/>
                </a:solidFill>
                <a:latin typeface="바탕"/>
              </a:rPr>
              <a:t>-</a:t>
            </a:r>
            <a:br>
              <a:rPr sz="5400"/>
            </a:br>
            <a:r>
              <a:rPr b="1" i="1" lang="en-US" sz="5400" spc="-1" strike="noStrike">
                <a:solidFill>
                  <a:srgbClr val="feec94"/>
                </a:solidFill>
                <a:latin typeface="바탕"/>
              </a:rPr>
              <a:t>VORBEREITUNGEN</a:t>
            </a:r>
            <a:r>
              <a:rPr b="1" i="1" lang="ru-RU" sz="5400" spc="-1" strike="noStrike">
                <a:solidFill>
                  <a:srgbClr val="feec94"/>
                </a:solidFill>
                <a:latin typeface="바탕"/>
              </a:rPr>
              <a:t>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7040" y="2931840"/>
            <a:ext cx="792972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e Stafette des Wisse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292560" y="481824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8. KLASSE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2"/>
          <p:cNvSpPr/>
          <p:nvPr/>
        </p:nvSpPr>
        <p:spPr>
          <a:xfrm>
            <a:off x="1908000" y="333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f1311"/>
                </a:solidFill>
                <a:uFillTx/>
                <a:latin typeface="Arial Black"/>
              </a:rPr>
              <a:t>Arbeitet mit dem Computer </a:t>
            </a: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 Black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279360" y="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2f1311"/>
                </a:solidFill>
                <a:uFillTx/>
                <a:latin typeface="Arial Black"/>
              </a:rPr>
              <a:t>Schritt 7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539640" y="1197000"/>
            <a:ext cx="835344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2556000" y="119700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Wie heißen die Lösungswörter?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7" name="Text Box 9"/>
          <p:cNvSpPr/>
          <p:nvPr/>
        </p:nvSpPr>
        <p:spPr>
          <a:xfrm>
            <a:off x="611280" y="155736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s gibt viele interessante Informationen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über die ………. ,  in der Miriam, Daniel,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Esther und Marko leben.Thomas erzählt auch über die ……….. Berlins.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8" name="AutoShape 10"/>
          <p:cNvSpPr/>
          <p:nvPr/>
        </p:nvSpPr>
        <p:spPr>
          <a:xfrm>
            <a:off x="0" y="3789360"/>
            <a:ext cx="8962920" cy="1800360"/>
          </a:xfrm>
          <a:prstGeom prst="flowChartPreparation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900000" y="3429000"/>
            <a:ext cx="7920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Erg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änze den Text! Die Wörter sind im Kasten!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1258920" y="4221000"/>
            <a:ext cx="711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ssica zeigt den …. .  Dort gibt es viele … .  Au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ßerdem findet man dort viele ….  Am schönsten ist dort am … . Esther wohnt in … .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Dort gibt es viele … und viele … Geschäfte. Sie findet Kreuzberg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ehr … .  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1" name="AutoShape 17"/>
          <p:cNvSpPr/>
          <p:nvPr/>
        </p:nvSpPr>
        <p:spPr>
          <a:xfrm>
            <a:off x="1258920" y="5805360"/>
            <a:ext cx="640872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2" name="Text Box 19"/>
          <p:cNvSpPr/>
          <p:nvPr/>
        </p:nvSpPr>
        <p:spPr>
          <a:xfrm>
            <a:off x="2340000" y="580536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inos – Abend – 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ürkische – Kurfürstendamm –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Geschäfte – interessant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Kreuzberg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3" name="Text Box 0"/>
          <p:cNvSpPr/>
          <p:nvPr/>
        </p:nvSpPr>
        <p:spPr>
          <a:xfrm>
            <a:off x="1476360" y="5805360"/>
            <a:ext cx="94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fes -  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-387360"/>
            <a:ext cx="747684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Schritt 8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58920" y="260280"/>
            <a:ext cx="7386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Bearbeitet den Raster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Welcher Text  passt  zu welchem  Datum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Gedächtniskirche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immer noch eine Ruine                              193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39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Die Mauer fällt!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44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Berlin in Trümmer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45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Mauer trennt Berli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96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Hitler an der Macht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    Europa in Angst:                                  1989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Der Zweite Weltkrieg begin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* Bomben auf Berlin                                    1999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304920" y="-7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chritt 7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7" name="AutoShape 5"/>
          <p:cNvSpPr/>
          <p:nvPr/>
        </p:nvSpPr>
        <p:spPr>
          <a:xfrm>
            <a:off x="1332000" y="620640"/>
            <a:ext cx="6624720" cy="5112000"/>
          </a:xfrm>
          <a:custGeom>
            <a:avLst/>
            <a:gdLst>
              <a:gd name="textAreaLeft" fmla="*/ 602280 w 6624720"/>
              <a:gd name="textAreaRight" fmla="*/ 6022440 w 6624720"/>
              <a:gd name="textAreaTop" fmla="*/ 602280 h 5112000"/>
              <a:gd name="textAreaBottom" fmla="*/ 4509720 h 5112000"/>
            </a:gdLst>
            <a:ahLst/>
            <a:rect l="textAreaLeft" t="textAreaTop" r="textAreaRight" b="textAreaBottom"/>
            <a:pathLst>
              <a:path w="279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391" y="21600"/>
                </a:lnTo>
                <a:arcTo wR="3600" hR="3600" stAng="10800000" swAng="5400000"/>
                <a:lnTo>
                  <a:pt x="27991" y="3600"/>
                </a:lnTo>
                <a:arcTo wR="3600" hR="3600" stAng="5400000" swAng="5400000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8" name="Text Box 7"/>
          <p:cNvSpPr/>
          <p:nvPr/>
        </p:nvSpPr>
        <p:spPr>
          <a:xfrm>
            <a:off x="1835280" y="1341360"/>
            <a:ext cx="585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nke sch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ön für eure heutige Arbeit. Ich bin 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it euren Antworten sehr zufrieden. Ich bin sicher, 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ass jeder von euch weiss, wie man sich auf eine Reise vorbereiten muss. Ihr könnt die Reiseziele wählen, die Einkäufe machen und die  Fahrkarten bestellen. 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Schreibt, bitte,  die Hausaufgabe auf! Ihr sollt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die Erzählung über die Geschichte und die Sehenswürdigkeiten Berlins vorbereiten.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09" name="AutoShape 11"/>
          <p:cNvSpPr/>
          <p:nvPr/>
        </p:nvSpPr>
        <p:spPr>
          <a:xfrm>
            <a:off x="2124000" y="4365720"/>
            <a:ext cx="5327640" cy="790560"/>
          </a:xfrm>
          <a:custGeom>
            <a:avLst/>
            <a:gdLst>
              <a:gd name="textAreaLeft" fmla="*/ 1332000 w 5327640"/>
              <a:gd name="textAreaRight" fmla="*/ 3996000 w 5327640"/>
              <a:gd name="textAreaTop" fmla="*/ 197640 h 790560"/>
              <a:gd name="textAreaBottom" fmla="*/ 76716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910" name="Text Box 13"/>
          <p:cNvSpPr/>
          <p:nvPr/>
        </p:nvSpPr>
        <p:spPr>
          <a:xfrm>
            <a:off x="3421440" y="4581360"/>
            <a:ext cx="27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UF WIEDERSEHE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427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Цели урок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1. Закрепление лексики по теме</a:t>
            </a:r>
            <a:r>
              <a:rPr b="0" i="1" lang="en-US" sz="1400" spc="-1" strike="noStrike">
                <a:solidFill>
                  <a:srgbClr val="006699"/>
                </a:solidFill>
                <a:latin typeface="Verdana"/>
              </a:rPr>
              <a:t>&lt;&lt;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Подготовка к поездке за границу</a:t>
            </a:r>
            <a:r>
              <a:rPr b="0" i="1" lang="en-US" sz="1400" spc="-1" strike="noStrike">
                <a:solidFill>
                  <a:srgbClr val="006699"/>
                </a:solidFill>
                <a:latin typeface="Verdana"/>
              </a:rPr>
              <a:t>&gt;&gt;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.Совершенствование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навыков монологической и диалогической реч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3.Проверка умений выполнять творческие задания в группа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4.Контроль умений понимать содержание видеофильм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5.Продолжение работы по формированию межкультурной компетенции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учащихс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Задачи урок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1.Расширение и углубление страноведческих и культуроведчески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знаний учащихс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2.Развитие мышления, памяти, умений делать сообщени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по теме «Подготовка к поездке в Германию»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3.Формирование навыков работы в групп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Тип урока: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комбинированный</a:t>
            </a:r>
            <a:r>
              <a:rPr b="0" i="1" lang="ru-RU" sz="1400" spc="-1" strike="noStrike">
                <a:solidFill>
                  <a:srgbClr val="006699"/>
                </a:solidFill>
                <a:latin typeface="MS Mincho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Методы обучения: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словесный и наглядный, исследовательский, 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коммуникативный,проектны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8080"/>
                </a:solidFill>
                <a:uFillTx/>
                <a:latin typeface="Verdana"/>
              </a:rPr>
              <a:t>Средства обучения: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наглядность, дидактичеслий материал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карта Германии, технические средств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                                         </a:t>
            </a:r>
            <a:r>
              <a:rPr b="0" i="1" lang="ru-RU" sz="1400" spc="-1" strike="noStrike">
                <a:solidFill>
                  <a:srgbClr val="006699"/>
                </a:solidFill>
                <a:latin typeface="Verdana"/>
              </a:rPr>
              <a:t>( аудио – и видеомагнитофоны, компьютер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468360" y="131760"/>
            <a:ext cx="7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0" y="0"/>
            <a:ext cx="32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8080"/>
                </a:solidFill>
                <a:uFillTx/>
                <a:latin typeface="Times New Roman"/>
              </a:rPr>
              <a:t>Тема урока</a:t>
            </a:r>
            <a:r>
              <a:rPr b="1" i="1" lang="ru-RU" sz="4000" spc="-1" strike="noStrike" u="sng">
                <a:solidFill>
                  <a:srgbClr val="008080"/>
                </a:solidFill>
                <a:uFillTx/>
                <a:latin typeface="Tahoma"/>
              </a:rPr>
              <a:t>: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1750680" y="13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2771640" y="0"/>
            <a:ext cx="489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Wir </a:t>
            </a:r>
            <a:r>
              <a:rPr b="1" i="1" lang="en-US" sz="3600" spc="-1" strike="noStrike">
                <a:solidFill>
                  <a:srgbClr val="a50021"/>
                </a:solidFill>
                <a:latin typeface="Times New Roman"/>
              </a:rPr>
              <a:t>bereiten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 uns auf eine Deutschlandreise vor</a:t>
            </a: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4"/>
          <p:cNvSpPr/>
          <p:nvPr/>
        </p:nvSpPr>
        <p:spPr>
          <a:xfrm>
            <a:off x="1476360" y="32400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2f1311"/>
                </a:solidFill>
                <a:latin typeface="Arial"/>
              </a:rPr>
              <a:t>Was machen wir heute?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4" name="Oval 5"/>
          <p:cNvSpPr/>
          <p:nvPr/>
        </p:nvSpPr>
        <p:spPr>
          <a:xfrm>
            <a:off x="900000" y="1341360"/>
            <a:ext cx="576360" cy="7192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5" name="AutoShape 6"/>
          <p:cNvSpPr/>
          <p:nvPr/>
        </p:nvSpPr>
        <p:spPr>
          <a:xfrm>
            <a:off x="1258920" y="1916280"/>
            <a:ext cx="720720" cy="79200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6" name="AutoShape 7"/>
          <p:cNvSpPr/>
          <p:nvPr/>
        </p:nvSpPr>
        <p:spPr>
          <a:xfrm rot="20684400">
            <a:off x="0" y="1700280"/>
            <a:ext cx="1144440" cy="72072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7" name="AutoShape 8"/>
          <p:cNvSpPr/>
          <p:nvPr/>
        </p:nvSpPr>
        <p:spPr>
          <a:xfrm>
            <a:off x="1403280" y="1341360"/>
            <a:ext cx="1152720" cy="647640"/>
          </a:xfrm>
          <a:prstGeom prst="irregularSeal2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8" name="AutoShape 9"/>
          <p:cNvSpPr/>
          <p:nvPr/>
        </p:nvSpPr>
        <p:spPr>
          <a:xfrm>
            <a:off x="468360" y="692280"/>
            <a:ext cx="790560" cy="936360"/>
          </a:xfrm>
          <a:prstGeom prst="irregularSeal1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29" name="Text Box 10"/>
          <p:cNvSpPr/>
          <p:nvPr/>
        </p:nvSpPr>
        <p:spPr>
          <a:xfrm rot="21332400">
            <a:off x="2576880" y="1341360"/>
            <a:ext cx="656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Wir bilden eine Collage zusammen,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7667640" y="251316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1" name="AutoShape 14"/>
          <p:cNvSpPr/>
          <p:nvPr/>
        </p:nvSpPr>
        <p:spPr>
          <a:xfrm>
            <a:off x="7380360" y="2060640"/>
            <a:ext cx="1584360" cy="1008000"/>
          </a:xfrm>
          <a:prstGeom prst="wedgeEllipseCallout">
            <a:avLst>
              <a:gd name="adj1" fmla="val -64027"/>
              <a:gd name="adj2" fmla="val 31888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8010720" y="2025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7667640" y="2205000"/>
            <a:ext cx="4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4" name="Text Box 18"/>
          <p:cNvSpPr/>
          <p:nvPr/>
        </p:nvSpPr>
        <p:spPr>
          <a:xfrm>
            <a:off x="8369640" y="2168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5" name="Text Box 19"/>
          <p:cNvSpPr/>
          <p:nvPr/>
        </p:nvSpPr>
        <p:spPr>
          <a:xfrm rot="236400">
            <a:off x="1993680" y="4411800"/>
            <a:ext cx="68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pr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üfen 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eur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ch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ö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pferisch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e</a:t>
            </a:r>
            <a:r>
              <a:rPr b="1" i="1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Arbeiten,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6" name="AutoShape 20"/>
          <p:cNvSpPr/>
          <p:nvPr/>
        </p:nvSpPr>
        <p:spPr>
          <a:xfrm rot="20781000">
            <a:off x="250560" y="3429000"/>
            <a:ext cx="1979640" cy="11430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468360" y="36450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Projekte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3059280" y="3492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sehen uns den Film an,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39" name="Text Box 33"/>
          <p:cNvSpPr/>
          <p:nvPr/>
        </p:nvSpPr>
        <p:spPr>
          <a:xfrm rot="206400">
            <a:off x="2163240" y="25635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besprechen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einige Fragen,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179280" y="1890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Schritt 1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1" name="Text Box 0"/>
          <p:cNvSpPr/>
          <p:nvPr/>
        </p:nvSpPr>
        <p:spPr>
          <a:xfrm>
            <a:off x="2986560" y="5589720"/>
            <a:ext cx="56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arbeiten mit dem  Computer.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pic>
        <p:nvPicPr>
          <p:cNvPr id="842" name="Picture 1" descr="j0300520"/>
          <p:cNvPicPr/>
          <p:nvPr/>
        </p:nvPicPr>
        <p:blipFill>
          <a:blip r:embed="rId1"/>
          <a:stretch/>
        </p:blipFill>
        <p:spPr>
          <a:xfrm>
            <a:off x="468360" y="5013360"/>
            <a:ext cx="2303280" cy="154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öchtet ihr als Reiseziel wähl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Text Box 9"/>
          <p:cNvSpPr/>
          <p:nvPr/>
        </p:nvSpPr>
        <p:spPr>
          <a:xfrm rot="21107400">
            <a:off x="2871360" y="1554120"/>
            <a:ext cx="58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omit kann man reisen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5" name="Text Box 10"/>
          <p:cNvSpPr/>
          <p:nvPr/>
        </p:nvSpPr>
        <p:spPr>
          <a:xfrm rot="370800">
            <a:off x="358560" y="2490480"/>
            <a:ext cx="61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as m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Arial"/>
              </a:rPr>
              <a:t>öchtet ihr mitnehmen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6" name="Text Box 11"/>
          <p:cNvSpPr/>
          <p:nvPr/>
        </p:nvSpPr>
        <p:spPr>
          <a:xfrm rot="21328200">
            <a:off x="168120" y="3645000"/>
            <a:ext cx="87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Ist das Kofferpacken auch ein Problem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7" name="Text Box 12"/>
          <p:cNvSpPr/>
          <p:nvPr/>
        </p:nvSpPr>
        <p:spPr>
          <a:xfrm rot="273000">
            <a:off x="447120" y="5022720"/>
            <a:ext cx="60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Wohin gehen wir, 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um die Eink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Arial"/>
              </a:rPr>
              <a:t>äufe zu machen?</a:t>
            </a:r>
            <a:endParaRPr b="0" lang="en-US" sz="3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88920" y="-7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chritt</a:t>
            </a:r>
            <a:r>
              <a:rPr b="1" i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49" name="Text Box 1"/>
          <p:cNvSpPr/>
          <p:nvPr/>
        </p:nvSpPr>
        <p:spPr>
          <a:xfrm>
            <a:off x="1527120" y="34920"/>
            <a:ext cx="70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chen wir eine Collage zusammen!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Oval 4"/>
          <p:cNvSpPr/>
          <p:nvPr/>
        </p:nvSpPr>
        <p:spPr>
          <a:xfrm>
            <a:off x="2700360" y="2133720"/>
            <a:ext cx="5111640" cy="187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1" name="AutoShape 5"/>
          <p:cNvSpPr/>
          <p:nvPr/>
        </p:nvSpPr>
        <p:spPr>
          <a:xfrm rot="20991000">
            <a:off x="5208120" y="339840"/>
            <a:ext cx="3851280" cy="1652400"/>
          </a:xfrm>
          <a:prstGeom prst="cloudCallout">
            <a:avLst>
              <a:gd name="adj1" fmla="val -51120"/>
              <a:gd name="adj2" fmla="val 6877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2" name="AutoShape 6"/>
          <p:cNvSpPr/>
          <p:nvPr/>
        </p:nvSpPr>
        <p:spPr>
          <a:xfrm rot="685200">
            <a:off x="611280" y="549000"/>
            <a:ext cx="3456000" cy="1584360"/>
          </a:xfrm>
          <a:prstGeom prst="cloudCallout">
            <a:avLst>
              <a:gd name="adj1" fmla="val 45962"/>
              <a:gd name="adj2" fmla="val 59916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3" name="AutoShape 7"/>
          <p:cNvSpPr/>
          <p:nvPr/>
        </p:nvSpPr>
        <p:spPr>
          <a:xfrm rot="589200">
            <a:off x="5594040" y="4078080"/>
            <a:ext cx="3290760" cy="1503360"/>
          </a:xfrm>
          <a:prstGeom prst="cloudCallout">
            <a:avLst>
              <a:gd name="adj1" fmla="val -55148"/>
              <a:gd name="adj2" fmla="val -70671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4" name="AutoShape 8"/>
          <p:cNvSpPr/>
          <p:nvPr/>
        </p:nvSpPr>
        <p:spPr>
          <a:xfrm>
            <a:off x="0" y="2492280"/>
            <a:ext cx="2556000" cy="1513080"/>
          </a:xfrm>
          <a:prstGeom prst="cloudCallout">
            <a:avLst>
              <a:gd name="adj1" fmla="val 69314"/>
              <a:gd name="adj2" fmla="val -3856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5" name="AutoShape 9"/>
          <p:cNvSpPr/>
          <p:nvPr/>
        </p:nvSpPr>
        <p:spPr>
          <a:xfrm rot="20789400">
            <a:off x="1103040" y="4154040"/>
            <a:ext cx="3768480" cy="1629000"/>
          </a:xfrm>
          <a:prstGeom prst="cloudCallout">
            <a:avLst>
              <a:gd name="adj1" fmla="val 48662"/>
              <a:gd name="adj2" fmla="val -5667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56" name="Text Box 55"/>
          <p:cNvSpPr/>
          <p:nvPr/>
        </p:nvSpPr>
        <p:spPr>
          <a:xfrm>
            <a:off x="1187280" y="90792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Reiseziel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ä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l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5651640" y="1413000"/>
          <a:ext cx="3276360" cy="103644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68"/>
          <p:cNvSpPr/>
          <p:nvPr/>
        </p:nvSpPr>
        <p:spPr>
          <a:xfrm>
            <a:off x="5364000" y="76500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Verkehrsmittel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ä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hl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179280" y="2637000"/>
          <a:ext cx="2089080" cy="13222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0" name="Text Box 101"/>
          <p:cNvSpPr/>
          <p:nvPr/>
        </p:nvSpPr>
        <p:spPr>
          <a:xfrm>
            <a:off x="234000" y="2822400"/>
            <a:ext cx="184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as Koffer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pack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2050920" y="4365720"/>
          <a:ext cx="3384720" cy="107928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2" name="Text Box 9"/>
          <p:cNvSpPr/>
          <p:nvPr/>
        </p:nvSpPr>
        <p:spPr>
          <a:xfrm>
            <a:off x="1835280" y="4406760"/>
            <a:ext cx="29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Fahrkart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bestell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6012000" y="3716280"/>
          <a:ext cx="2663640" cy="1036800"/>
        </p:xfrm>
        <a:graphic>
          <a:graphicData uri="http://schemas.openxmlformats.org/drawingml/2006/table">
            <a:tbl>
              <a:tblPr/>
              <a:tblGrid>
                <a:gridCol w="2663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2f1311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4" name="Text Box 35"/>
          <p:cNvSpPr/>
          <p:nvPr/>
        </p:nvSpPr>
        <p:spPr>
          <a:xfrm>
            <a:off x="6064200" y="4292640"/>
            <a:ext cx="21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</a:rPr>
              <a:t>Die Eink</a:t>
            </a: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äufe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machen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65" name="WordArt 41"/>
          <p:cNvSpPr txBox="1"/>
          <p:nvPr/>
        </p:nvSpPr>
        <p:spPr>
          <a:xfrm>
            <a:off x="3132000" y="2708280"/>
            <a:ext cx="4392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EISEVORBEREITUNGEN</a:t>
            </a:r>
            <a:endParaRPr b="0" lang="en-US" sz="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6" name="Text Box 50"/>
          <p:cNvSpPr/>
          <p:nvPr/>
        </p:nvSpPr>
        <p:spPr>
          <a:xfrm>
            <a:off x="87480" y="1890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Schtitt</a:t>
            </a:r>
            <a:r>
              <a:rPr b="1" i="1" lang="ru-RU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67" name="Text Box 1"/>
          <p:cNvSpPr/>
          <p:nvPr/>
        </p:nvSpPr>
        <p:spPr>
          <a:xfrm>
            <a:off x="395280" y="616572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68" name="Text Box 0"/>
          <p:cNvSpPr/>
          <p:nvPr/>
        </p:nvSpPr>
        <p:spPr>
          <a:xfrm>
            <a:off x="436320" y="5865840"/>
            <a:ext cx="84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2f1311"/>
                </a:solidFill>
                <a:uFillTx/>
                <a:latin typeface="Arial Narrow"/>
              </a:rPr>
              <a:t>Was könnt ihr über die Reisevorbereitungen sagen?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0"/>
          <p:cNvSpPr/>
          <p:nvPr/>
        </p:nvSpPr>
        <p:spPr>
          <a:xfrm>
            <a:off x="832680" y="4076640"/>
            <a:ext cx="708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Arial Narrow"/>
              </a:rPr>
              <a:t>http: // w w w. jandex. ru.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66"/>
                </a:solidFill>
                <a:uFillTx/>
                <a:latin typeface="Arial Narrow"/>
              </a:rPr>
              <a:t>http: // w w w. rambler. ru.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9900"/>
                </a:solidFill>
                <a:uFillTx/>
                <a:latin typeface="Arial Narrow"/>
              </a:rPr>
              <a:t>http: // w w w. coogle. ru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0" name="Text Box 0"/>
          <p:cNvSpPr/>
          <p:nvPr/>
        </p:nvSpPr>
        <p:spPr>
          <a:xfrm>
            <a:off x="303120" y="111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Schritt 4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1" name="Text Box 0"/>
          <p:cNvSpPr/>
          <p:nvPr/>
        </p:nvSpPr>
        <p:spPr>
          <a:xfrm>
            <a:off x="4680" y="476280"/>
            <a:ext cx="870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 Schüler arbeiten mit dem Computer.  Sie werden 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2 Gruppen geteilt. Jede Gruppe sucht mittels  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uter und Internet bestimmte Information.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 1.Gruppe macht das Projekt &lt;&lt;Mozart – 250&gt;&gt;.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 2.Gruppe macht die schöpferische Arbeit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&lt;&lt;Den Rhein entlang&gt;&gt;.  Die Sch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ǜler nutzen 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den Computer als Informationsquelle und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prä -</a:t>
            </a:r>
            <a:endParaRPr b="0" lang="en-US" sz="2800" spc="-1" strike="noStrike">
              <a:solidFill>
                <a:srgbClr val="2f1311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sentieren dann die Ergebnisse der Projektarbeiten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4"/>
          <p:cNvSpPr/>
          <p:nvPr/>
        </p:nvSpPr>
        <p:spPr>
          <a:xfrm>
            <a:off x="158760" y="39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Schritt 5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3" name="Text Box 5"/>
          <p:cNvSpPr/>
          <p:nvPr/>
        </p:nvSpPr>
        <p:spPr>
          <a:xfrm flipV="1" rot="10443000">
            <a:off x="2491920" y="720"/>
            <a:ext cx="598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ffff00"/>
                </a:solidFill>
                <a:uFillTx/>
                <a:latin typeface="Arial"/>
              </a:rPr>
              <a:t>MOZART</a:t>
            </a:r>
            <a:endParaRPr b="0" lang="en-US" sz="96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74" name="Text Box 6"/>
          <p:cNvSpPr/>
          <p:nvPr/>
        </p:nvSpPr>
        <p:spPr>
          <a:xfrm flipV="1">
            <a:off x="179280" y="473760"/>
            <a:ext cx="232416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996633"/>
                </a:solidFill>
                <a:uFillTx/>
                <a:latin typeface="Arial"/>
              </a:rPr>
              <a:t>2</a:t>
            </a:r>
            <a:r>
              <a:rPr b="1" i="1" lang="ru-RU" sz="8000" spc="-1" strike="noStrike" u="sng">
                <a:solidFill>
                  <a:srgbClr val="996633"/>
                </a:solidFill>
                <a:uFillTx/>
                <a:latin typeface="Arial"/>
              </a:rPr>
              <a:t>5</a:t>
            </a:r>
            <a:r>
              <a:rPr b="1" i="1" lang="en-US" sz="8000" spc="-1" strike="noStrike" u="sng">
                <a:solidFill>
                  <a:srgbClr val="996633"/>
                </a:solidFill>
                <a:uFillTx/>
                <a:latin typeface="Arial"/>
              </a:rPr>
              <a:t>0</a:t>
            </a:r>
            <a:endParaRPr b="0" lang="en-US" sz="8000" spc="-1" strike="noStrike">
              <a:solidFill>
                <a:srgbClr val="2f1311"/>
              </a:solidFill>
              <a:latin typeface="Arial Narrow"/>
            </a:endParaRPr>
          </a:p>
        </p:txBody>
      </p:sp>
      <p:pic>
        <p:nvPicPr>
          <p:cNvPr id="875" name="Picture 0" descr="mozart"/>
          <p:cNvPicPr/>
          <p:nvPr/>
        </p:nvPicPr>
        <p:blipFill>
          <a:blip r:embed="rId1"/>
          <a:stretch/>
        </p:blipFill>
        <p:spPr>
          <a:xfrm rot="21307200">
            <a:off x="468360" y="1988640"/>
            <a:ext cx="3049560" cy="38116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0" descr="Mozart-am-Klavier"/>
          <p:cNvPicPr/>
          <p:nvPr/>
        </p:nvPicPr>
        <p:blipFill>
          <a:blip r:embed="rId2"/>
          <a:stretch/>
        </p:blipFill>
        <p:spPr>
          <a:xfrm rot="275400">
            <a:off x="6443280" y="2205000"/>
            <a:ext cx="2519280" cy="2212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0" descr="vienna-mozart-concerts"/>
          <p:cNvPicPr/>
          <p:nvPr/>
        </p:nvPicPr>
        <p:blipFill>
          <a:blip r:embed="rId3"/>
          <a:stretch/>
        </p:blipFill>
        <p:spPr>
          <a:xfrm>
            <a:off x="3780000" y="3068640"/>
            <a:ext cx="2449440" cy="232740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1"/>
          <p:cNvSpPr/>
          <p:nvPr/>
        </p:nvSpPr>
        <p:spPr>
          <a:xfrm>
            <a:off x="250920" y="5851440"/>
            <a:ext cx="891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Die 1.Gruppe präsentiert das Projekt im Form eines Gesprächs. Die Schüler erzählen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über das Leben und das Schaffen der berühmten deutschen Komponisten  W.A.Mozart.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250920" y="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Schritt 6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80" name="WordArt 6"/>
          <p:cNvSpPr txBox="1"/>
          <p:nvPr/>
        </p:nvSpPr>
        <p:spPr>
          <a:xfrm rot="21243600">
            <a:off x="178920" y="115560"/>
            <a:ext cx="8640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n Rhein entlang</a:t>
            </a:r>
            <a:endParaRPr b="0" lang="en-US" sz="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1" name="Picture 0" descr="rhein2"/>
          <p:cNvPicPr/>
          <p:nvPr/>
        </p:nvPicPr>
        <p:blipFill>
          <a:blip r:embed="rId1"/>
          <a:stretch/>
        </p:blipFill>
        <p:spPr>
          <a:xfrm rot="21384600">
            <a:off x="539280" y="2060280"/>
            <a:ext cx="3313080" cy="187164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2" descr="река Рейн"/>
          <p:cNvPicPr/>
          <p:nvPr/>
        </p:nvPicPr>
        <p:blipFill>
          <a:blip r:embed="rId2"/>
          <a:stretch/>
        </p:blipFill>
        <p:spPr>
          <a:xfrm rot="358200">
            <a:off x="5003640" y="1628640"/>
            <a:ext cx="3889440" cy="210204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0" descr="рейн 3"/>
          <p:cNvPicPr/>
          <p:nvPr/>
        </p:nvPicPr>
        <p:blipFill>
          <a:blip r:embed="rId3"/>
          <a:stretch/>
        </p:blipFill>
        <p:spPr>
          <a:xfrm>
            <a:off x="1476360" y="4005360"/>
            <a:ext cx="3457440" cy="22525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3" descr="рейн3"/>
          <p:cNvPicPr/>
          <p:nvPr/>
        </p:nvPicPr>
        <p:blipFill>
          <a:blip r:embed="rId4"/>
          <a:stretch/>
        </p:blipFill>
        <p:spPr>
          <a:xfrm rot="230400">
            <a:off x="5724360" y="3860280"/>
            <a:ext cx="3168720" cy="224496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0"/>
          <p:cNvSpPr/>
          <p:nvPr/>
        </p:nvSpPr>
        <p:spPr>
          <a:xfrm>
            <a:off x="164880" y="6253200"/>
            <a:ext cx="83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 Narrow"/>
              </a:rPr>
              <a:t>Die  Schüler  der 2.Gruppe  erzählen  von  dem  romantischen  Rhein.</a:t>
            </a:r>
            <a:endParaRPr b="0" lang="en-US" sz="24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0"/>
          <p:cNvSpPr/>
          <p:nvPr/>
        </p:nvSpPr>
        <p:spPr>
          <a:xfrm rot="21133800">
            <a:off x="149400" y="477360"/>
            <a:ext cx="525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2f1311"/>
                </a:solidFill>
                <a:uFillTx/>
                <a:latin typeface="Arial Narrow"/>
              </a:rPr>
              <a:t>Hallo,  aus  Berlin !</a:t>
            </a:r>
            <a:endParaRPr b="0" lang="en-US" sz="5400" spc="-1" strike="noStrike">
              <a:solidFill>
                <a:srgbClr val="2f1311"/>
              </a:solidFill>
              <a:latin typeface="Arial Narrow"/>
            </a:endParaRPr>
          </a:p>
        </p:txBody>
      </p:sp>
      <p:sp>
        <p:nvSpPr>
          <p:cNvPr id="887" name="Text Box 1"/>
          <p:cNvSpPr/>
          <p:nvPr/>
        </p:nvSpPr>
        <p:spPr>
          <a:xfrm>
            <a:off x="947160" y="183348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 Narrow"/>
              </a:rPr>
              <a:t>Seht den Film an!</a:t>
            </a:r>
            <a:endParaRPr b="0" lang="en-US" sz="3200" spc="-1" strike="noStrike">
              <a:solidFill>
                <a:srgbClr val="2f1311"/>
              </a:solidFill>
              <a:latin typeface="Arial Narrow"/>
            </a:endParaRPr>
          </a:p>
        </p:txBody>
      </p:sp>
      <p:pic>
        <p:nvPicPr>
          <p:cNvPr id="888" name="Picture 2" descr="_berlin 5"/>
          <p:cNvPicPr/>
          <p:nvPr/>
        </p:nvPicPr>
        <p:blipFill>
          <a:blip r:embed="rId1"/>
          <a:stretch/>
        </p:blipFill>
        <p:spPr>
          <a:xfrm rot="228600">
            <a:off x="6399360" y="198000"/>
            <a:ext cx="2298600" cy="30654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8" descr="берлин 4"/>
          <p:cNvPicPr/>
          <p:nvPr/>
        </p:nvPicPr>
        <p:blipFill>
          <a:blip r:embed="rId2"/>
          <a:stretch/>
        </p:blipFill>
        <p:spPr>
          <a:xfrm>
            <a:off x="5148360" y="3648240"/>
            <a:ext cx="3816360" cy="30016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1" descr="берлин3"/>
          <p:cNvPicPr/>
          <p:nvPr/>
        </p:nvPicPr>
        <p:blipFill>
          <a:blip r:embed="rId3"/>
          <a:stretch/>
        </p:blipFill>
        <p:spPr>
          <a:xfrm>
            <a:off x="179280" y="2708280"/>
            <a:ext cx="2433600" cy="29415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4" descr="берлин4"/>
          <p:cNvPicPr/>
          <p:nvPr/>
        </p:nvPicPr>
        <p:blipFill>
          <a:blip r:embed="rId4"/>
          <a:stretch/>
        </p:blipFill>
        <p:spPr>
          <a:xfrm>
            <a:off x="2771640" y="3141720"/>
            <a:ext cx="2160720" cy="31687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0"/>
          <p:cNvSpPr/>
          <p:nvPr/>
        </p:nvSpPr>
        <p:spPr>
          <a:xfrm>
            <a:off x="231840" y="396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Schritt 6</a:t>
            </a:r>
            <a:endParaRPr b="0" lang="en-US" sz="2000" spc="-1" strike="noStrike">
              <a:solidFill>
                <a:srgbClr val="2f1311"/>
              </a:solidFill>
              <a:latin typeface="Arial Narrow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12-11T17:40:20Z</dcterms:modified>
  <cp:revision>162</cp:revision>
  <dc:subject/>
  <dc:title>PowerPoint Presentation</dc:title>
</cp:coreProperties>
</file>