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9CF-55A6-4EFD-88CD-168A6715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429-830E-428B-949F-F0735F79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460E8-7099-4ACB-BEFB-9E24F1E7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CA4F3-8E90-4D2F-9E58-2B42FAF1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3D77A-8A8D-4EA8-A8DC-194F30A9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9C016-778C-41DB-AEFA-6D4FD0BA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A7737-C446-4F8A-8C46-FD95150C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544AF-5F6B-41B2-8EDD-368B1A74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B6D61-2D5A-4E7B-A278-D5EDF43E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13505-17E9-4C7A-B405-BA36F092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15D41-DC6D-4C80-93AD-593799DD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DA499-0E0A-4144-9A87-96D03FF2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E9C-AECA-421C-A2F7-8049505D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3BFE4-3B07-461D-B4DD-49B4DC09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CEB38-5FA5-44E0-9BA5-83F52086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50D55-441F-492E-93DE-2DC89C43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78391-45E2-40EF-9054-96BDEEA9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C44C2-9821-402C-BE47-6429E8BF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38266-7983-4270-97EA-EC1A6EF4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70507-46F7-4EDE-87EA-642D7775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ED0BD-6262-4777-B6E2-4CAB10D5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6B2E4-CCFA-4657-A90E-A9A53862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14BB0-A285-4605-BEBB-B2EFDDEA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4A1-A8CC-4A6A-B1E9-09FCA5D5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B31BC-1218-4523-BB7E-562CF741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033F62-E7DF-44A6-95C7-BF21FE49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3B4202-0462-48B6-BCBD-216A16A9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9E0D9C-48DB-4D36-AE52-CE073DD0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F98AD6-6E19-40D1-9E9A-A51BF9C4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72F838-4125-41D4-8EA9-9F53836C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947A5B-0CBF-4B7D-A9E3-F4BED801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2210EB-A26B-45C1-9703-BF659F7E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6F3F75-9554-423B-89CD-2D951D96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011D92-EF33-4397-A3E6-F9A1EC0D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A799-23FD-4E64-A363-2D18CEA1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65DC27-C34F-4AEF-AC3B-C86815DC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79BF30-D746-482E-8007-3A0C6D83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7930F0-5564-4C31-B580-C69D73D7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CE9D1-C72A-460B-B675-70F46CD2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F8C16-DE2A-48B8-9D73-79622D34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26922-0C76-4710-A45B-AA58792C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505C5-FAF9-44DA-9CAB-FA75956F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64C9D-BE78-46B9-9862-5609F6D2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BBB44-5335-4120-9A3A-1E8337ED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50B8B-EEFF-4776-934D-106F6352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972F-C346-434F-99F6-631BE863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86CA6-A469-4A9D-AE12-C425F4E0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50870-C92B-42C9-BDF1-9477321B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449F3-7149-4077-B4D3-DED95DAE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0A487-E642-4D04-932F-D3427579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4A9F1-AAD0-4A1D-9214-0F609536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5C019-5E48-458B-AA53-492D69C6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22547-F5AC-4C72-B959-13A55539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9432D-06BF-4B45-8640-FC086B83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427D4-46AB-4543-951B-282F5358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846C9-97AF-4B24-8398-FF8B8C94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6DE1-DACA-4BDD-A6CC-40F68DE9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1DFC0-9C7D-4049-AE2B-23426B8A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35EBC-2F8D-4939-86C4-1B10366E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F1BA3-C36D-4867-83CD-7AED2AA4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10CC9-6538-427D-945C-D97BE7E5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4C086-3665-49BC-B743-E89AFBDD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AD5C4-6379-4D16-8964-561579E5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6B015-2380-4B88-8D38-730EB0C1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B4F6-10D5-4583-8A21-956CA3DF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F6FF-03D6-4FB0-AAAC-3E621893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44E9-94CF-4812-82D4-63571261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5F7E-E63A-43B8-8AFF-9F90616C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241-9131-4212-B554-B338098A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6397-9F13-4079-BB55-F738856E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86E2-E7FA-40D8-9834-FF53A000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65E9-5178-495D-A4B9-7F9C5052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5301-1A0D-4727-AD49-2EE617D9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2A11-9F8F-4F4D-B3EE-4E96769B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0B72-BBB8-42F0-81F6-198897BB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238C-A1C6-4527-A31E-E15FEAA3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FAD7-2BF3-4F15-B72E-BE83AA99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7A82C-62C6-48CA-8BC9-C9E30346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B63E6-8333-41E5-B27B-87614411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262-11FE-49D4-B6DE-457456F5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DAAD-35E1-48D9-A048-D5ECC66C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F697-9958-434E-ABC8-64BF7C37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1404-DCDF-4F43-A653-A27C7A8A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47A29-36C9-4538-B050-6602BC2B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F3E9D-800D-443C-8483-147578A8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F1471-0C43-470B-8D50-1D4E1DB6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9FFEF-E166-412F-B4B9-A0290626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C7672-4ACA-433F-A779-A65BC06C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65455-B2CD-44C0-9284-31C7FDC8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59B6E-BB35-4DDA-A749-D8D28A86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EF7-36EE-49C5-81A5-C0006084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B1CC6-2897-46BF-8549-E1AE2519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7018C-C891-455A-A8E0-7503F8A1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2510A-2AFD-482D-BCF6-B760F989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58D9C-C217-449A-B45D-D78BEE93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75D2E-4F0D-4CB4-B46B-1B501E4C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D4758-D486-46F3-812C-3EEF4FB2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31077-B687-4143-A7D9-85DB6CD0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B45A-9AE0-4E6D-B872-D7A6AC62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01392-A8B1-4B32-AC4B-44BA9741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AC60A-59CC-4DF7-883A-AB406A02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834-CE7F-40E1-A5E6-6F7C39C7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6A816-715C-4E12-B083-771E368B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6B4B0-B890-4057-8F73-9BC4866A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3E697-4608-4BFE-8DF0-4D47885B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0522B-347F-4C3B-BCED-FCBDCF0F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FAEFE-5870-4175-87DE-0810D5B8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66457-6669-437E-B5F2-B68E9875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AE639-64FA-4CAA-A4FF-D47ED1ED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BDA8E-F4B6-4F8C-99C7-CE57595C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2E5A7-E9BF-4D85-B456-981FA9B3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98AB8-0E60-4C41-B4AF-38220D10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A62-E6F6-4641-8A1E-5725E7FB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84FDA-C957-4C7C-9BA1-90897CB4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86090-2F9A-4E35-908E-277AC42B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DEB96-8D6E-4526-88C1-BF4C8A93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D1718-2843-4370-9325-0F557397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A3660-2536-4A00-9BAD-736D2137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77998-6ED4-4F46-A1A7-5E879A00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BEE78-24F3-43A9-B3E5-5ABEEB6A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24D23-13AC-4BFB-A0A2-DAD3DEB3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58F87-9015-4F07-94E3-03248C31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D3242-CDC1-4B35-BDA2-95DB990A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F2B-2264-4E33-A368-33ABA0C9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1ED95-D99A-4BCA-81E5-9DF6FD12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8A64B-2FE3-45C8-9798-80EC9884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EFB3D-06C7-49E3-B8AD-40581694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EA876-FDEF-4DCC-BCB6-F51F867A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818EA-FD03-4205-B4F3-E90FAFD1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D56E8-BFDB-4A3D-B55C-1D098CE9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120D1-542A-40D9-B18A-FF49B255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00BF5-5B68-4225-AC8B-6D1D5F4F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10C8E-B528-4D2B-90D0-1E37AB8B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9F557-DFBD-4187-8AD9-21F6EC28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F6B-B2E4-4925-B4E9-6B11BC11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835BC-C550-4C4C-BC42-015F0096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002EE-143A-4C15-ACFF-9986217F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C601F-79C7-4F0C-AEBE-7B3957BD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E2534-6FDD-4215-8DE6-F086D505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98302-7022-4AB1-A528-735F9C99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6277F-5A43-4FBA-9C72-A06C9901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83AC4-C383-4120-A486-5FA99AA2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DA1B1-A3A3-45BB-A989-BDF51F1A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05B04-E3AD-4382-866F-8168BCDB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4692A-0BA6-4F04-A3E1-5A68BDD1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F55-2B77-4B64-8002-A514840E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6B8D9-8F00-4A21-AD70-D1CC7823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15139-6EB4-478C-AECF-148B4956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61721-5AFA-4726-9235-BE75D887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6E9D2-6643-4A80-BBA5-62828772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0C567-EAF4-4250-8577-2CA0BEF2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5E245-30F4-48A3-8BFC-9C013ED0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6F429-2DCC-4597-AFA8-E72E00AA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560A7-2ACC-4180-B6AD-C5941496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ADDE6-B8D1-4128-91B6-684E5721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336A3-EC28-4A6E-8C33-82F0DF0F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9BD5-1536-4F46-80D1-B65AB5E35A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61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61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61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61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61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2DE8-B075-4D1A-9B51-0C4071EBE1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BA79-D5C2-4493-81C9-31A6F89C15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9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0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1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2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3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4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5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6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7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8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9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10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11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12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13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681A-C4B4-44C2-B99A-5387A55615D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56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57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58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59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0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1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2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3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4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73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9ABA-662E-4087-A025-8D6BE34EB1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97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grpSp>
          <p:nvGrpSpPr>
            <p:cNvPr id="98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9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00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sp>
          <p:nvSpPr>
            <p:cNvPr id="102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grpSp>
          <p:nvGrpSpPr>
            <p:cNvPr id="103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4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05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06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07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08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grpSp>
            <p:nvGrpSpPr>
              <p:cNvPr id="109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10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2f1311"/>
                    </a:solidFill>
                    <a:latin typeface="Arial Narrow"/>
                  </a:endParaRPr>
                </a:p>
              </p:txBody>
            </p:sp>
            <p:sp>
              <p:nvSpPr>
                <p:cNvPr id="111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2f1311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2f1311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113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14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15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16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grpSp>
          <p:nvGrpSpPr>
            <p:cNvPr id="117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8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19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20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grpSp>
          <p:nvGrpSpPr>
            <p:cNvPr id="121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22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23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24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sp>
          <p:nvSpPr>
            <p:cNvPr id="125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26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27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28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29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0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1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2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3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4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5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6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7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8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64E2-F1F4-4C62-99A9-C21FEA778BA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0B32-9EAD-42C1-AED3-08FC037EC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8633-76A6-41E5-9B8E-21ACB2AA09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C784-5917-4824-881F-D35D43F5F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1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15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16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17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20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21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23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24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09B3-A0AC-4E2C-901B-035BB4B344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7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8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8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8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8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8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8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8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6973-C9F7-4BC9-8FC2-730018C5F4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3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3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grpSp>
          <p:nvGrpSpPr>
            <p:cNvPr id="43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3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3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3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37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38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439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0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1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2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3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4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</p:grpSp>
            <p:pic>
              <p:nvPicPr>
                <p:cNvPr id="44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5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73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74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75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76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77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78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79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80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8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82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8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8D4F-6761-4A5D-8F9D-C440FD25A6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526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527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28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29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30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31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32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33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sp>
          <p:nvSpPr>
            <p:cNvPr id="5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3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3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3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grpSp>
          <p:nvGrpSpPr>
            <p:cNvPr id="5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5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grpSp>
          <p:nvGrpSpPr>
            <p:cNvPr id="544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545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46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47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grpSp>
          <p:nvGrpSpPr>
            <p:cNvPr id="548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549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50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51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grpSp>
          <p:nvGrpSpPr>
            <p:cNvPr id="552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553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54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55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grpSp>
          <p:nvGrpSpPr>
            <p:cNvPr id="556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557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58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59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sp>
          <p:nvSpPr>
            <p:cNvPr id="56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6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5B10-E7DF-424A-82EB-34B8B1FC7B3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-252720" y="836280"/>
            <a:ext cx="939636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eec94"/>
                </a:solidFill>
                <a:latin typeface="바탕"/>
              </a:rPr>
              <a:t>«</a:t>
            </a:r>
            <a:r>
              <a:rPr b="1" i="1" lang="en-US" sz="5400" spc="-1" strike="noStrike">
                <a:solidFill>
                  <a:srgbClr val="feec94"/>
                </a:solidFill>
                <a:latin typeface="바탕"/>
              </a:rPr>
              <a:t>REISE</a:t>
            </a:r>
            <a:r>
              <a:rPr b="1" i="1" lang="ru-RU" sz="5400" spc="-1" strike="noStrike">
                <a:solidFill>
                  <a:srgbClr val="feec94"/>
                </a:solidFill>
                <a:latin typeface="바탕"/>
              </a:rPr>
              <a:t>-</a:t>
            </a:r>
            <a:br>
              <a:rPr sz="5400"/>
            </a:br>
            <a:r>
              <a:rPr b="1" i="1" lang="en-US" sz="5400" spc="-1" strike="noStrike">
                <a:solidFill>
                  <a:srgbClr val="feec94"/>
                </a:solidFill>
                <a:latin typeface="바탕"/>
              </a:rPr>
              <a:t>VORBEREITUNGEN</a:t>
            </a:r>
            <a:r>
              <a:rPr b="1" i="1" lang="ru-RU" sz="5400" spc="-1" strike="noStrike">
                <a:solidFill>
                  <a:srgbClr val="feec94"/>
                </a:solidFill>
                <a:latin typeface="바탕"/>
              </a:rPr>
              <a:t>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7040" y="2931840"/>
            <a:ext cx="7929720" cy="31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ie Stafette des Wisse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3292560" y="481824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8. KLASSE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2"/>
          <p:cNvSpPr/>
          <p:nvPr/>
        </p:nvSpPr>
        <p:spPr>
          <a:xfrm>
            <a:off x="1908000" y="333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 Black"/>
              </a:rPr>
              <a:t>Arbeitet mit dem Computer </a:t>
            </a:r>
            <a:r>
              <a:rPr b="1" i="1" lang="en-US" sz="2800" spc="-1" strike="noStrike" u="sng">
                <a:solidFill>
                  <a:srgbClr val="2f1311"/>
                </a:solidFill>
                <a:uFillTx/>
                <a:latin typeface="Arial Black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94" name="Text Box 3"/>
          <p:cNvSpPr/>
          <p:nvPr/>
        </p:nvSpPr>
        <p:spPr>
          <a:xfrm>
            <a:off x="279360" y="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2f1311"/>
                </a:solidFill>
                <a:uFillTx/>
                <a:latin typeface="Arial Black"/>
              </a:rPr>
              <a:t>Schritt 7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95" name="Rectangle 4"/>
          <p:cNvSpPr/>
          <p:nvPr/>
        </p:nvSpPr>
        <p:spPr>
          <a:xfrm>
            <a:off x="539640" y="1197000"/>
            <a:ext cx="8353440" cy="1441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96" name="Text Box 7"/>
          <p:cNvSpPr/>
          <p:nvPr/>
        </p:nvSpPr>
        <p:spPr>
          <a:xfrm>
            <a:off x="2556000" y="119700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Wie heißen die Lösungswörter?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97" name="Text Box 9"/>
          <p:cNvSpPr/>
          <p:nvPr/>
        </p:nvSpPr>
        <p:spPr>
          <a:xfrm>
            <a:off x="611280" y="1557360"/>
            <a:ext cx="82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s gibt viele interessante Informationen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  <a:ea typeface="Arial"/>
              </a:rPr>
              <a:t>über die ………. ,  in der Miriam, Daniel,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  <a:ea typeface="Arial"/>
              </a:rPr>
              <a:t>Esther und Marko leben.Thomas erzählt auch über die ……….. Berlins.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98" name="AutoShape 10"/>
          <p:cNvSpPr/>
          <p:nvPr/>
        </p:nvSpPr>
        <p:spPr>
          <a:xfrm>
            <a:off x="0" y="3789360"/>
            <a:ext cx="8962920" cy="1800360"/>
          </a:xfrm>
          <a:prstGeom prst="flowChartPreparation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99" name="Text Box 12"/>
          <p:cNvSpPr/>
          <p:nvPr/>
        </p:nvSpPr>
        <p:spPr>
          <a:xfrm>
            <a:off x="900000" y="3429000"/>
            <a:ext cx="7920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Erg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änze den Text! Die Wörter sind im Kasten!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900" name="Text Box 15"/>
          <p:cNvSpPr/>
          <p:nvPr/>
        </p:nvSpPr>
        <p:spPr>
          <a:xfrm>
            <a:off x="1258920" y="4221000"/>
            <a:ext cx="711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essica zeigt den …. .  Dort gibt es viele … .  Au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ßerdem findet man dort viele ….  Am schönsten ist dort am … . Esther wohnt in … .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Dort gibt es viele … und viele … Geschäfte. Sie findet Kreuzberg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sehr … .  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901" name="AutoShape 17"/>
          <p:cNvSpPr/>
          <p:nvPr/>
        </p:nvSpPr>
        <p:spPr>
          <a:xfrm>
            <a:off x="1258920" y="5805360"/>
            <a:ext cx="6408720" cy="863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902" name="Text Box 19"/>
          <p:cNvSpPr/>
          <p:nvPr/>
        </p:nvSpPr>
        <p:spPr>
          <a:xfrm>
            <a:off x="2340000" y="580536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inos – Abend – 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ürkische – Kurfürstendamm –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Geschäfte – interessant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Kreuzberg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903" name="Text Box 0"/>
          <p:cNvSpPr/>
          <p:nvPr/>
        </p:nvSpPr>
        <p:spPr>
          <a:xfrm>
            <a:off x="1476360" y="5805360"/>
            <a:ext cx="94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fes -  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18880" y="-387360"/>
            <a:ext cx="747684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7d47d"/>
                </a:solidFill>
                <a:uFillTx/>
                <a:latin typeface="Arial"/>
              </a:rPr>
              <a:t>Schritt 8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258920" y="260280"/>
            <a:ext cx="73864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Bearbeitet den Raster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Welcher Text  passt  zu welchem  Datum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* Gedächtniskirche –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mmer noch eine Ruine                              193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939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* Die Mauer fällt!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944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* Berlin in Trümmern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945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* Mauer trennt Berlin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961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* Hitler an der Macht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*     Europa in Angst:                                  1989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Der Zweite Weltkrieg beginnt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* Bomben auf Berlin                                    1999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4"/>
          <p:cNvSpPr/>
          <p:nvPr/>
        </p:nvSpPr>
        <p:spPr>
          <a:xfrm>
            <a:off x="304920" y="-79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Schritt 7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907" name="AutoShape 5"/>
          <p:cNvSpPr/>
          <p:nvPr/>
        </p:nvSpPr>
        <p:spPr>
          <a:xfrm>
            <a:off x="1332000" y="620640"/>
            <a:ext cx="6624720" cy="5112000"/>
          </a:xfrm>
          <a:custGeom>
            <a:avLst/>
            <a:gdLst>
              <a:gd name="textAreaLeft" fmla="*/ 602280 w 6624720"/>
              <a:gd name="textAreaRight" fmla="*/ 6022440 w 6624720"/>
              <a:gd name="textAreaTop" fmla="*/ 602280 h 5112000"/>
              <a:gd name="textAreaBottom" fmla="*/ 4509720 h 5112000"/>
            </a:gdLst>
            <a:ahLst/>
            <a:rect l="textAreaLeft" t="textAreaTop" r="textAreaRight" b="textAreaBottom"/>
            <a:pathLst>
              <a:path w="279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391" y="21600"/>
                </a:lnTo>
                <a:arcTo wR="3600" hR="3600" stAng="10800000" swAng="5400000"/>
                <a:lnTo>
                  <a:pt x="27991" y="3600"/>
                </a:lnTo>
                <a:arcTo wR="3600" hR="3600" stAng="5400000" swAng="5400000"/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908" name="Text Box 7"/>
          <p:cNvSpPr/>
          <p:nvPr/>
        </p:nvSpPr>
        <p:spPr>
          <a:xfrm>
            <a:off x="1835280" y="1341360"/>
            <a:ext cx="5852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nke sch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ön für eure heutige Arbeit. Ich bin 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mit euren Antworten sehr zufrieden. Ich bin sicher, 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dass jeder von euch weiss, wie man sich auf eine Reise vorbereiten muss. Ihr könnt die Reiseziele wählen, die Einkäufe machen und die  Fahrkarten bestellen. 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Schreibt, bitte,  die Hausaufgabe auf! Ihr sollt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die Erzählung über die Geschichte und die Sehenswürdigkeiten Berlins vorbereiten.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909" name="AutoShape 11"/>
          <p:cNvSpPr/>
          <p:nvPr/>
        </p:nvSpPr>
        <p:spPr>
          <a:xfrm>
            <a:off x="2124000" y="4365720"/>
            <a:ext cx="5327640" cy="790560"/>
          </a:xfrm>
          <a:custGeom>
            <a:avLst/>
            <a:gdLst>
              <a:gd name="textAreaLeft" fmla="*/ 1332000 w 5327640"/>
              <a:gd name="textAreaRight" fmla="*/ 3996000 w 5327640"/>
              <a:gd name="textAreaTop" fmla="*/ 197640 h 790560"/>
              <a:gd name="textAreaBottom" fmla="*/ 767160 h 790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910" name="Text Box 13"/>
          <p:cNvSpPr/>
          <p:nvPr/>
        </p:nvSpPr>
        <p:spPr>
          <a:xfrm>
            <a:off x="3421440" y="4581360"/>
            <a:ext cx="27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AUF WIEDERSEHEN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!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7427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8080"/>
                </a:solidFill>
                <a:uFillTx/>
                <a:latin typeface="Verdana"/>
              </a:rPr>
              <a:t>Цели урок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1. Закрепление лексики по теме</a:t>
            </a:r>
            <a:r>
              <a:rPr b="0" i="1" lang="en-US" sz="1400" spc="-1" strike="noStrike">
                <a:solidFill>
                  <a:srgbClr val="006699"/>
                </a:solidFill>
                <a:latin typeface="Verdana"/>
              </a:rPr>
              <a:t>&lt;&lt;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Подготовка к поездке за границу</a:t>
            </a:r>
            <a:r>
              <a:rPr b="0" i="1" lang="en-US" sz="1400" spc="-1" strike="noStrike">
                <a:solidFill>
                  <a:srgbClr val="006699"/>
                </a:solidFill>
                <a:latin typeface="Verdana"/>
              </a:rPr>
              <a:t>&gt;&gt;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2.Совершенствование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навыков монологической и диалогической речи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3.Проверка умений выполнять творческие задания в группах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4.Контроль умений понимать содержание видеофильма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5.Продолжение работы по формированию межкультурной компетенции 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учащихся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8080"/>
                </a:solidFill>
                <a:uFillTx/>
                <a:latin typeface="Verdana"/>
              </a:rPr>
              <a:t>Задачи урок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1.Расширение и углубление страноведческих и культуроведческих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знаний учащихся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2.Развитие мышления, памяти, умений делать сообщение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по теме «Подготовка к поездке в Германию»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3.Формирование навыков работы в групп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8080"/>
                </a:solidFill>
                <a:uFillTx/>
                <a:latin typeface="Verdana"/>
              </a:rPr>
              <a:t>Тип урока:</a:t>
            </a: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комбинированный</a:t>
            </a:r>
            <a:r>
              <a:rPr b="0" i="1" lang="ru-RU" sz="1400" spc="-1" strike="noStrike">
                <a:solidFill>
                  <a:srgbClr val="006699"/>
                </a:solidFill>
                <a:latin typeface="MS Mincho"/>
              </a:rPr>
              <a:t>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8080"/>
                </a:solidFill>
                <a:uFillTx/>
                <a:latin typeface="Verdana"/>
              </a:rPr>
              <a:t>Методы обучения:</a:t>
            </a: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словесный и наглядный, исследовательский,   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                          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коммуникативный,проектный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8080"/>
                </a:solidFill>
                <a:uFillTx/>
                <a:latin typeface="Verdana"/>
              </a:rPr>
              <a:t>Средства обучения:</a:t>
            </a: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наглядность, дидактичеслий материал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карта Германии, технические средств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                            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( аудио – и видеомагнитофоны, компьютер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)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468360" y="131760"/>
            <a:ext cx="7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0" y="0"/>
            <a:ext cx="32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8080"/>
                </a:solidFill>
                <a:uFillTx/>
                <a:latin typeface="Times New Roman"/>
              </a:rPr>
              <a:t>Тема урока</a:t>
            </a:r>
            <a:r>
              <a:rPr b="1" i="1" lang="ru-RU" sz="4000" spc="-1" strike="noStrike" u="sng">
                <a:solidFill>
                  <a:srgbClr val="008080"/>
                </a:solidFill>
                <a:uFillTx/>
                <a:latin typeface="Tahoma"/>
              </a:rPr>
              <a:t>:</a:t>
            </a:r>
            <a:endParaRPr b="0" lang="en-US" sz="4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1" name="Text Box 7"/>
          <p:cNvSpPr/>
          <p:nvPr/>
        </p:nvSpPr>
        <p:spPr>
          <a:xfrm>
            <a:off x="1750680" y="13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2771640" y="0"/>
            <a:ext cx="489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Wir </a:t>
            </a:r>
            <a:r>
              <a:rPr b="1" i="1" lang="en-US" sz="3600" spc="-1" strike="noStrike">
                <a:solidFill>
                  <a:srgbClr val="a50021"/>
                </a:solidFill>
                <a:latin typeface="Times New Roman"/>
              </a:rPr>
              <a:t>bereiten</a:t>
            </a: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 uns auf eine Deutschlandreise vor</a:t>
            </a: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4"/>
          <p:cNvSpPr/>
          <p:nvPr/>
        </p:nvSpPr>
        <p:spPr>
          <a:xfrm>
            <a:off x="1476360" y="324000"/>
            <a:ext cx="76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2f1311"/>
                </a:solidFill>
                <a:latin typeface="Arial"/>
              </a:rPr>
              <a:t>Was machen wir heute?</a:t>
            </a:r>
            <a:endParaRPr b="0" lang="en-US" sz="54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4" name="Oval 5"/>
          <p:cNvSpPr/>
          <p:nvPr/>
        </p:nvSpPr>
        <p:spPr>
          <a:xfrm>
            <a:off x="900000" y="1341360"/>
            <a:ext cx="576360" cy="7192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5" name="AutoShape 6"/>
          <p:cNvSpPr/>
          <p:nvPr/>
        </p:nvSpPr>
        <p:spPr>
          <a:xfrm>
            <a:off x="1258920" y="1916280"/>
            <a:ext cx="720720" cy="792000"/>
          </a:xfrm>
          <a:prstGeom prst="irregularSeal1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6" name="AutoShape 7"/>
          <p:cNvSpPr/>
          <p:nvPr/>
        </p:nvSpPr>
        <p:spPr>
          <a:xfrm rot="20684400">
            <a:off x="0" y="1700280"/>
            <a:ext cx="1144440" cy="720720"/>
          </a:xfrm>
          <a:prstGeom prst="irregularSeal1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7" name="AutoShape 8"/>
          <p:cNvSpPr/>
          <p:nvPr/>
        </p:nvSpPr>
        <p:spPr>
          <a:xfrm>
            <a:off x="1403280" y="1341360"/>
            <a:ext cx="1152720" cy="647640"/>
          </a:xfrm>
          <a:prstGeom prst="irregularSeal2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8" name="AutoShape 9"/>
          <p:cNvSpPr/>
          <p:nvPr/>
        </p:nvSpPr>
        <p:spPr>
          <a:xfrm>
            <a:off x="468360" y="692280"/>
            <a:ext cx="790560" cy="936360"/>
          </a:xfrm>
          <a:prstGeom prst="irregularSeal1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9" name="Text Box 10"/>
          <p:cNvSpPr/>
          <p:nvPr/>
        </p:nvSpPr>
        <p:spPr>
          <a:xfrm rot="21332400">
            <a:off x="2576880" y="1341360"/>
            <a:ext cx="656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Wir bilden eine Collage zusammen,</a:t>
            </a: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0" name="Text Box 11"/>
          <p:cNvSpPr/>
          <p:nvPr/>
        </p:nvSpPr>
        <p:spPr>
          <a:xfrm>
            <a:off x="7667640" y="2513160"/>
            <a:ext cx="38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1" name="AutoShape 14"/>
          <p:cNvSpPr/>
          <p:nvPr/>
        </p:nvSpPr>
        <p:spPr>
          <a:xfrm>
            <a:off x="7380360" y="2060640"/>
            <a:ext cx="1584360" cy="1008000"/>
          </a:xfrm>
          <a:prstGeom prst="wedgeEllipseCallout">
            <a:avLst>
              <a:gd name="adj1" fmla="val -64027"/>
              <a:gd name="adj2" fmla="val 31888"/>
            </a:avLst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2" name="Text Box 15"/>
          <p:cNvSpPr/>
          <p:nvPr/>
        </p:nvSpPr>
        <p:spPr>
          <a:xfrm>
            <a:off x="8010720" y="2025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3" name="Text Box 16"/>
          <p:cNvSpPr/>
          <p:nvPr/>
        </p:nvSpPr>
        <p:spPr>
          <a:xfrm>
            <a:off x="7667640" y="2205000"/>
            <a:ext cx="4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4" name="Text Box 18"/>
          <p:cNvSpPr/>
          <p:nvPr/>
        </p:nvSpPr>
        <p:spPr>
          <a:xfrm>
            <a:off x="8369640" y="21686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5" name="Text Box 19"/>
          <p:cNvSpPr/>
          <p:nvPr/>
        </p:nvSpPr>
        <p:spPr>
          <a:xfrm rot="236400">
            <a:off x="1993680" y="4411800"/>
            <a:ext cx="68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pr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üfen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eure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ch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ö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pferisch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e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Arbeiten,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6" name="AutoShape 20"/>
          <p:cNvSpPr/>
          <p:nvPr/>
        </p:nvSpPr>
        <p:spPr>
          <a:xfrm rot="20781000">
            <a:off x="250560" y="3429000"/>
            <a:ext cx="1979640" cy="11430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7" name="Text Box 22"/>
          <p:cNvSpPr/>
          <p:nvPr/>
        </p:nvSpPr>
        <p:spPr>
          <a:xfrm>
            <a:off x="468360" y="3645000"/>
            <a:ext cx="15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Projekte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3059280" y="3492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sehen uns den Film an,</a:t>
            </a: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9" name="Text Box 33"/>
          <p:cNvSpPr/>
          <p:nvPr/>
        </p:nvSpPr>
        <p:spPr>
          <a:xfrm rot="206400">
            <a:off x="2163240" y="25635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besprechen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einige Fragen,</a:t>
            </a: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179280" y="18900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Schritt 1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41" name="Text Box 0"/>
          <p:cNvSpPr/>
          <p:nvPr/>
        </p:nvSpPr>
        <p:spPr>
          <a:xfrm>
            <a:off x="2986560" y="5589720"/>
            <a:ext cx="56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arbeiten mit dem  Computer.</a:t>
            </a: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</p:txBody>
      </p:sp>
      <p:pic>
        <p:nvPicPr>
          <p:cNvPr id="842" name="Picture 1" descr="j0300520"/>
          <p:cNvPicPr/>
          <p:nvPr/>
        </p:nvPicPr>
        <p:blipFill>
          <a:blip r:embed="rId1"/>
          <a:stretch/>
        </p:blipFill>
        <p:spPr>
          <a:xfrm>
            <a:off x="468360" y="5013360"/>
            <a:ext cx="2303280" cy="1547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99128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öchtet ihr als Reiseziel wähl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Text Box 9"/>
          <p:cNvSpPr/>
          <p:nvPr/>
        </p:nvSpPr>
        <p:spPr>
          <a:xfrm rot="21107400">
            <a:off x="2871360" y="1554120"/>
            <a:ext cx="58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Womit kann man reisen?</a:t>
            </a:r>
            <a:endParaRPr b="0" lang="en-US" sz="36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45" name="Text Box 10"/>
          <p:cNvSpPr/>
          <p:nvPr/>
        </p:nvSpPr>
        <p:spPr>
          <a:xfrm rot="370800">
            <a:off x="358560" y="2490480"/>
            <a:ext cx="61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Was m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  <a:ea typeface="Arial"/>
              </a:rPr>
              <a:t>öchtet ihr mitnehmen?</a:t>
            </a:r>
            <a:endParaRPr b="0" lang="en-US" sz="36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46" name="Text Box 11"/>
          <p:cNvSpPr/>
          <p:nvPr/>
        </p:nvSpPr>
        <p:spPr>
          <a:xfrm rot="21328200">
            <a:off x="168120" y="3645000"/>
            <a:ext cx="87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Ist das Kofferpacken auch ein Problem?</a:t>
            </a:r>
            <a:endParaRPr b="0" lang="en-US" sz="36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47" name="Text Box 12"/>
          <p:cNvSpPr/>
          <p:nvPr/>
        </p:nvSpPr>
        <p:spPr>
          <a:xfrm rot="273000">
            <a:off x="447120" y="5022720"/>
            <a:ext cx="60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Wohin gehen wir, </a:t>
            </a:r>
            <a:endParaRPr b="0" lang="en-US" sz="36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um die Eink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  <a:ea typeface="Arial"/>
              </a:rPr>
              <a:t>äufe zu machen?</a:t>
            </a:r>
            <a:endParaRPr b="0" lang="en-US" sz="36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48" name="Text Box 13"/>
          <p:cNvSpPr/>
          <p:nvPr/>
        </p:nvSpPr>
        <p:spPr>
          <a:xfrm>
            <a:off x="88920" y="-79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Schritt</a:t>
            </a:r>
            <a:r>
              <a:rPr b="1" i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49" name="Text Box 1"/>
          <p:cNvSpPr/>
          <p:nvPr/>
        </p:nvSpPr>
        <p:spPr>
          <a:xfrm>
            <a:off x="1527120" y="34920"/>
            <a:ext cx="70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chen wir eine Collage zusammen!</a:t>
            </a: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Oval 4"/>
          <p:cNvSpPr/>
          <p:nvPr/>
        </p:nvSpPr>
        <p:spPr>
          <a:xfrm>
            <a:off x="2700360" y="2133720"/>
            <a:ext cx="5111640" cy="1871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51" name="AutoShape 5"/>
          <p:cNvSpPr/>
          <p:nvPr/>
        </p:nvSpPr>
        <p:spPr>
          <a:xfrm rot="20991000">
            <a:off x="5208120" y="339840"/>
            <a:ext cx="3851280" cy="1652400"/>
          </a:xfrm>
          <a:prstGeom prst="cloudCallout">
            <a:avLst>
              <a:gd name="adj1" fmla="val -51120"/>
              <a:gd name="adj2" fmla="val 6877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52" name="AutoShape 6"/>
          <p:cNvSpPr/>
          <p:nvPr/>
        </p:nvSpPr>
        <p:spPr>
          <a:xfrm rot="685200">
            <a:off x="611280" y="549000"/>
            <a:ext cx="3456000" cy="1584360"/>
          </a:xfrm>
          <a:prstGeom prst="cloudCallout">
            <a:avLst>
              <a:gd name="adj1" fmla="val 45962"/>
              <a:gd name="adj2" fmla="val 59916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53" name="AutoShape 7"/>
          <p:cNvSpPr/>
          <p:nvPr/>
        </p:nvSpPr>
        <p:spPr>
          <a:xfrm rot="589200">
            <a:off x="5594040" y="4078080"/>
            <a:ext cx="3290760" cy="1503360"/>
          </a:xfrm>
          <a:prstGeom prst="cloudCallout">
            <a:avLst>
              <a:gd name="adj1" fmla="val -55148"/>
              <a:gd name="adj2" fmla="val -70671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54" name="AutoShape 8"/>
          <p:cNvSpPr/>
          <p:nvPr/>
        </p:nvSpPr>
        <p:spPr>
          <a:xfrm>
            <a:off x="0" y="2492280"/>
            <a:ext cx="2556000" cy="1513080"/>
          </a:xfrm>
          <a:prstGeom prst="cloudCallout">
            <a:avLst>
              <a:gd name="adj1" fmla="val 69314"/>
              <a:gd name="adj2" fmla="val -3856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55" name="AutoShape 9"/>
          <p:cNvSpPr/>
          <p:nvPr/>
        </p:nvSpPr>
        <p:spPr>
          <a:xfrm rot="20789400">
            <a:off x="1103040" y="4154040"/>
            <a:ext cx="3768480" cy="1629000"/>
          </a:xfrm>
          <a:prstGeom prst="cloudCallout">
            <a:avLst>
              <a:gd name="adj1" fmla="val 48662"/>
              <a:gd name="adj2" fmla="val -56675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56" name="Text Box 55"/>
          <p:cNvSpPr/>
          <p:nvPr/>
        </p:nvSpPr>
        <p:spPr>
          <a:xfrm>
            <a:off x="1187280" y="907920"/>
            <a:ext cx="23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as Reiseziel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ä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hlen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5651640" y="1413000"/>
          <a:ext cx="3276360" cy="1036440"/>
        </p:xfrm>
        <a:graphic>
          <a:graphicData uri="http://schemas.openxmlformats.org/drawingml/2006/table">
            <a:tbl>
              <a:tblPr/>
              <a:tblGrid>
                <a:gridCol w="32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8" name="Text Box 68"/>
          <p:cNvSpPr/>
          <p:nvPr/>
        </p:nvSpPr>
        <p:spPr>
          <a:xfrm>
            <a:off x="5364000" y="765000"/>
            <a:ext cx="37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as Verkehrsmittel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ä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hlen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179280" y="2637000"/>
          <a:ext cx="2089080" cy="132228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0" name="Text Box 101"/>
          <p:cNvSpPr/>
          <p:nvPr/>
        </p:nvSpPr>
        <p:spPr>
          <a:xfrm>
            <a:off x="234000" y="2822400"/>
            <a:ext cx="184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as Koffer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packen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2050920" y="4365720"/>
          <a:ext cx="3384720" cy="107928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2" name="Text Box 9"/>
          <p:cNvSpPr/>
          <p:nvPr/>
        </p:nvSpPr>
        <p:spPr>
          <a:xfrm>
            <a:off x="1835280" y="4406760"/>
            <a:ext cx="29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ie Fahrkarten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bestellen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6012000" y="3716280"/>
          <a:ext cx="2663640" cy="1036800"/>
        </p:xfrm>
        <a:graphic>
          <a:graphicData uri="http://schemas.openxmlformats.org/drawingml/2006/table">
            <a:tbl>
              <a:tblPr/>
              <a:tblGrid>
                <a:gridCol w="2663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4" name="Text Box 35"/>
          <p:cNvSpPr/>
          <p:nvPr/>
        </p:nvSpPr>
        <p:spPr>
          <a:xfrm>
            <a:off x="6064200" y="4292640"/>
            <a:ext cx="21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ie Eink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äufe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machen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65" name="WordArt 41"/>
          <p:cNvSpPr txBox="1"/>
          <p:nvPr/>
        </p:nvSpPr>
        <p:spPr>
          <a:xfrm>
            <a:off x="3132000" y="2708280"/>
            <a:ext cx="4392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REISEVORBEREITUNGEN</a:t>
            </a:r>
            <a:endParaRPr b="0" lang="en-US" sz="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6" name="Text Box 50"/>
          <p:cNvSpPr/>
          <p:nvPr/>
        </p:nvSpPr>
        <p:spPr>
          <a:xfrm>
            <a:off x="87480" y="18900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Schtitt</a:t>
            </a:r>
            <a:r>
              <a:rPr b="1" i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67" name="Text Box 1"/>
          <p:cNvSpPr/>
          <p:nvPr/>
        </p:nvSpPr>
        <p:spPr>
          <a:xfrm>
            <a:off x="395280" y="6165720"/>
            <a:ext cx="712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68" name="Text Box 0"/>
          <p:cNvSpPr/>
          <p:nvPr/>
        </p:nvSpPr>
        <p:spPr>
          <a:xfrm>
            <a:off x="436320" y="5865840"/>
            <a:ext cx="84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2f1311"/>
                </a:solidFill>
                <a:uFillTx/>
                <a:latin typeface="Arial Narrow"/>
              </a:rPr>
              <a:t>Was könnt ihr über die Reisevorbereitungen sagen?</a:t>
            </a: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0"/>
          <p:cNvSpPr/>
          <p:nvPr/>
        </p:nvSpPr>
        <p:spPr>
          <a:xfrm>
            <a:off x="832680" y="4076640"/>
            <a:ext cx="708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00"/>
                </a:solidFill>
                <a:uFillTx/>
                <a:latin typeface="Arial Narrow"/>
              </a:rPr>
              <a:t>http: // w w w. jandex. ru.</a:t>
            </a:r>
            <a:endParaRPr b="0" lang="en-US" sz="5400" spc="-1" strike="noStrike">
              <a:solidFill>
                <a:srgbClr val="2f1311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66"/>
                </a:solidFill>
                <a:uFillTx/>
                <a:latin typeface="Arial Narrow"/>
              </a:rPr>
              <a:t>http: // w w w. rambler. ru.</a:t>
            </a:r>
            <a:endParaRPr b="0" lang="en-US" sz="5400" spc="-1" strike="noStrike">
              <a:solidFill>
                <a:srgbClr val="2f1311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9900"/>
                </a:solidFill>
                <a:uFillTx/>
                <a:latin typeface="Arial Narrow"/>
              </a:rPr>
              <a:t>http: // w w w. coogle. ru</a:t>
            </a:r>
            <a:endParaRPr b="0" lang="en-US" sz="54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70" name="Text Box 0"/>
          <p:cNvSpPr/>
          <p:nvPr/>
        </p:nvSpPr>
        <p:spPr>
          <a:xfrm>
            <a:off x="303120" y="1112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Schritt 4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71" name="Text Box 0"/>
          <p:cNvSpPr/>
          <p:nvPr/>
        </p:nvSpPr>
        <p:spPr>
          <a:xfrm>
            <a:off x="4680" y="476280"/>
            <a:ext cx="8707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e Schüler arbeiten mit dem Computer.  Sie werden 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 2 Gruppen geteilt. Jede Gruppe sucht mittels  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puter und Internet bestimmte Information.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e 1.Gruppe macht das Projekt &lt;&lt;Mozart – 250&gt;&gt;.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e 2.Gruppe macht die schöpferische Arbeit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&lt;&lt;Den Rhein entlang&gt;&gt;.  Die Sch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ǜler nutzen 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den Computer als Informationsquelle und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prä -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sentieren dann die Ergebnisse der Projektarbeiten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 Box 4"/>
          <p:cNvSpPr/>
          <p:nvPr/>
        </p:nvSpPr>
        <p:spPr>
          <a:xfrm>
            <a:off x="158760" y="396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Schritt 5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73" name="Text Box 5"/>
          <p:cNvSpPr/>
          <p:nvPr/>
        </p:nvSpPr>
        <p:spPr>
          <a:xfrm flipV="1" rot="10443000">
            <a:off x="2491920" y="720"/>
            <a:ext cx="598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ffff00"/>
                </a:solidFill>
                <a:uFillTx/>
                <a:latin typeface="Arial"/>
              </a:rPr>
              <a:t>MOZART</a:t>
            </a:r>
            <a:endParaRPr b="0" lang="en-US" sz="96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74" name="Text Box 6"/>
          <p:cNvSpPr/>
          <p:nvPr/>
        </p:nvSpPr>
        <p:spPr>
          <a:xfrm flipV="1">
            <a:off x="179280" y="473760"/>
            <a:ext cx="2324160" cy="1312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996633"/>
                </a:solidFill>
                <a:uFillTx/>
                <a:latin typeface="Arial"/>
              </a:rPr>
              <a:t>2</a:t>
            </a:r>
            <a:r>
              <a:rPr b="1" i="1" lang="ru-RU" sz="8000" spc="-1" strike="noStrike" u="sng">
                <a:solidFill>
                  <a:srgbClr val="996633"/>
                </a:solidFill>
                <a:uFillTx/>
                <a:latin typeface="Arial"/>
              </a:rPr>
              <a:t>5</a:t>
            </a:r>
            <a:r>
              <a:rPr b="1" i="1" lang="en-US" sz="8000" spc="-1" strike="noStrike" u="sng">
                <a:solidFill>
                  <a:srgbClr val="996633"/>
                </a:solidFill>
                <a:uFillTx/>
                <a:latin typeface="Arial"/>
              </a:rPr>
              <a:t>0</a:t>
            </a:r>
            <a:endParaRPr b="0" lang="en-US" sz="8000" spc="-1" strike="noStrike">
              <a:solidFill>
                <a:srgbClr val="2f1311"/>
              </a:solidFill>
              <a:latin typeface="Arial Narrow"/>
            </a:endParaRPr>
          </a:p>
        </p:txBody>
      </p:sp>
      <p:pic>
        <p:nvPicPr>
          <p:cNvPr id="875" name="Picture 0" descr="mozart"/>
          <p:cNvPicPr/>
          <p:nvPr/>
        </p:nvPicPr>
        <p:blipFill>
          <a:blip r:embed="rId1"/>
          <a:stretch/>
        </p:blipFill>
        <p:spPr>
          <a:xfrm rot="21307200">
            <a:off x="468360" y="1988640"/>
            <a:ext cx="3049560" cy="381168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0" descr="Mozart-am-Klavier"/>
          <p:cNvPicPr/>
          <p:nvPr/>
        </p:nvPicPr>
        <p:blipFill>
          <a:blip r:embed="rId2"/>
          <a:stretch/>
        </p:blipFill>
        <p:spPr>
          <a:xfrm rot="275400">
            <a:off x="6443280" y="2205000"/>
            <a:ext cx="2519280" cy="22129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0" descr="vienna-mozart-concerts"/>
          <p:cNvPicPr/>
          <p:nvPr/>
        </p:nvPicPr>
        <p:blipFill>
          <a:blip r:embed="rId3"/>
          <a:stretch/>
        </p:blipFill>
        <p:spPr>
          <a:xfrm>
            <a:off x="3780000" y="3068640"/>
            <a:ext cx="2449440" cy="2327400"/>
          </a:xfrm>
          <a:prstGeom prst="rect">
            <a:avLst/>
          </a:prstGeom>
          <a:ln w="0">
            <a:noFill/>
          </a:ln>
        </p:spPr>
      </p:pic>
      <p:sp>
        <p:nvSpPr>
          <p:cNvPr id="878" name="Text Box 1"/>
          <p:cNvSpPr/>
          <p:nvPr/>
        </p:nvSpPr>
        <p:spPr>
          <a:xfrm>
            <a:off x="250920" y="5851440"/>
            <a:ext cx="891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Die 1.Gruppe präsentiert das Projekt im Form eines Gesprächs. Die Schüler erzählen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über das Leben und das Schaffen der berühmten deutschen Komponisten  W.A.Mozart.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4"/>
          <p:cNvSpPr/>
          <p:nvPr/>
        </p:nvSpPr>
        <p:spPr>
          <a:xfrm>
            <a:off x="250920" y="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Schritt 6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80" name="WordArt 6"/>
          <p:cNvSpPr txBox="1"/>
          <p:nvPr/>
        </p:nvSpPr>
        <p:spPr>
          <a:xfrm rot="21243600">
            <a:off x="178920" y="115560"/>
            <a:ext cx="8640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n Rhein entlang</a:t>
            </a:r>
            <a:endParaRPr b="0" lang="en-US" sz="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1" name="Picture 0" descr="rhein2"/>
          <p:cNvPicPr/>
          <p:nvPr/>
        </p:nvPicPr>
        <p:blipFill>
          <a:blip r:embed="rId1"/>
          <a:stretch/>
        </p:blipFill>
        <p:spPr>
          <a:xfrm rot="21384600">
            <a:off x="539280" y="2060280"/>
            <a:ext cx="3313080" cy="187164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2" descr="река Рейн"/>
          <p:cNvPicPr/>
          <p:nvPr/>
        </p:nvPicPr>
        <p:blipFill>
          <a:blip r:embed="rId2"/>
          <a:stretch/>
        </p:blipFill>
        <p:spPr>
          <a:xfrm rot="358200">
            <a:off x="5003640" y="1628640"/>
            <a:ext cx="3889440" cy="210204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0" descr="рейн 3"/>
          <p:cNvPicPr/>
          <p:nvPr/>
        </p:nvPicPr>
        <p:blipFill>
          <a:blip r:embed="rId3"/>
          <a:stretch/>
        </p:blipFill>
        <p:spPr>
          <a:xfrm>
            <a:off x="1476360" y="4005360"/>
            <a:ext cx="3457440" cy="225252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3" descr="рейн3"/>
          <p:cNvPicPr/>
          <p:nvPr/>
        </p:nvPicPr>
        <p:blipFill>
          <a:blip r:embed="rId4"/>
          <a:stretch/>
        </p:blipFill>
        <p:spPr>
          <a:xfrm rot="230400">
            <a:off x="5724360" y="3860280"/>
            <a:ext cx="3168720" cy="2244960"/>
          </a:xfrm>
          <a:prstGeom prst="rect">
            <a:avLst/>
          </a:prstGeom>
          <a:ln w="0">
            <a:noFill/>
          </a:ln>
        </p:spPr>
      </p:pic>
      <p:sp>
        <p:nvSpPr>
          <p:cNvPr id="885" name="Text Box 0"/>
          <p:cNvSpPr/>
          <p:nvPr/>
        </p:nvSpPr>
        <p:spPr>
          <a:xfrm>
            <a:off x="164880" y="6253200"/>
            <a:ext cx="83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 Narrow"/>
              </a:rPr>
              <a:t>Die  Schüler  der 2.Gruppe  erzählen  von  dem  romantischen  Rhein.</a:t>
            </a:r>
            <a:endParaRPr b="0" lang="en-US" sz="24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0"/>
          <p:cNvSpPr/>
          <p:nvPr/>
        </p:nvSpPr>
        <p:spPr>
          <a:xfrm rot="21133800">
            <a:off x="149400" y="477360"/>
            <a:ext cx="525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2f1311"/>
                </a:solidFill>
                <a:uFillTx/>
                <a:latin typeface="Arial Narrow"/>
              </a:rPr>
              <a:t>Hallo,  aus  Berlin !</a:t>
            </a:r>
            <a:endParaRPr b="0" lang="en-US" sz="54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87" name="Text Box 1"/>
          <p:cNvSpPr/>
          <p:nvPr/>
        </p:nvSpPr>
        <p:spPr>
          <a:xfrm>
            <a:off x="947160" y="1833480"/>
            <a:ext cx="29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 Narrow"/>
              </a:rPr>
              <a:t>Seht den Film an!</a:t>
            </a: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</p:txBody>
      </p:sp>
      <p:pic>
        <p:nvPicPr>
          <p:cNvPr id="888" name="Picture 2" descr="_berlin 5"/>
          <p:cNvPicPr/>
          <p:nvPr/>
        </p:nvPicPr>
        <p:blipFill>
          <a:blip r:embed="rId1"/>
          <a:stretch/>
        </p:blipFill>
        <p:spPr>
          <a:xfrm rot="228600">
            <a:off x="6399360" y="198000"/>
            <a:ext cx="2298600" cy="306540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8" descr="берлин 4"/>
          <p:cNvPicPr/>
          <p:nvPr/>
        </p:nvPicPr>
        <p:blipFill>
          <a:blip r:embed="rId2"/>
          <a:stretch/>
        </p:blipFill>
        <p:spPr>
          <a:xfrm>
            <a:off x="5148360" y="3648240"/>
            <a:ext cx="3816360" cy="300168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11" descr="берлин3"/>
          <p:cNvPicPr/>
          <p:nvPr/>
        </p:nvPicPr>
        <p:blipFill>
          <a:blip r:embed="rId3"/>
          <a:stretch/>
        </p:blipFill>
        <p:spPr>
          <a:xfrm>
            <a:off x="179280" y="2708280"/>
            <a:ext cx="2433600" cy="294156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14" descr="берлин4"/>
          <p:cNvPicPr/>
          <p:nvPr/>
        </p:nvPicPr>
        <p:blipFill>
          <a:blip r:embed="rId4"/>
          <a:stretch/>
        </p:blipFill>
        <p:spPr>
          <a:xfrm>
            <a:off x="2771640" y="3141720"/>
            <a:ext cx="2160720" cy="31687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0"/>
          <p:cNvSpPr/>
          <p:nvPr/>
        </p:nvSpPr>
        <p:spPr>
          <a:xfrm>
            <a:off x="231840" y="396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Schritt 6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1-12-11T17:40:20Z</dcterms:modified>
  <cp:revision>162</cp:revision>
  <dc:subject/>
  <dc:title>PowerPoint Presentation</dc:title>
</cp:coreProperties>
</file>