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BE5-7174-43CC-BC47-CBBDFC1A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464-A3FE-4B94-B3E8-CB460934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2A4-52AB-4B40-8ABC-EC43F31C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787-ACC9-4B69-AD97-E844FD71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82C4-90FC-4B87-A759-3907795F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5DF9-59EC-4314-BA1D-B6853444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794D-4511-419D-8D34-173E1445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86D5-B476-43F2-A155-50CB9178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82D-987A-47E3-9DD7-6F58E11A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78EA-F277-4DEB-8F83-0C559901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2347-C6D3-432F-A75E-048BB1B6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62B-093D-4D0F-8CAA-9BE2CAF5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5FDD-A74C-4A96-A7C9-F56F9D2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0506-29BF-4818-886A-F9FA7DBE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D97B-087F-4575-8F0E-8770FA75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5739-5908-4E66-9CE4-6A3A3A20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FA9F-F835-4045-8EA2-A26EA132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166-F8C1-4EBE-AAF0-6AB30A39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621-B7B6-4649-935E-46BF4A2D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06D-619D-4BDE-BFC6-DFB5CB83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307-D6B1-4D77-8AEC-718DB872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27A-7889-42B7-BD8B-35C700F5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D32-FD69-47E2-B799-08F17EBD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996-8FF4-42F2-9A1D-E8F35C54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0A68-60ED-4EE7-A592-7F6A0DD3CE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5C25-F0A2-4659-BAF9-B514C429056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58920" y="260280"/>
            <a:ext cx="66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6329520"/>
            <a:ext cx="678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Работа классного руководител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 семьями учащихся с ОВЗ в условиях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СКОУ СКОШ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VIII</a:t>
            </a:r>
            <a:r>
              <a:rPr b="0" lang="ru-RU" sz="4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ид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. Арзамаса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716000" y="4868640"/>
            <a:ext cx="4032360" cy="1655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ищенкова С.А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лассный руководитель МСКОУ СКОШ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ида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0280"/>
            <a:ext cx="849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МУНИЦИП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СПЕЦИАЛЬНОЕ (КОРРЕКЦИОННОЕ)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«СПЕЦИАЛЬНАЯ</a:t>
            </a:r>
            <a:r>
              <a:rPr b="0" lang="ru-RU" sz="1600" spc="-1" strike="noStrike">
                <a:solidFill>
                  <a:srgbClr val="2613b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(КОРРЕКЦИОННАЯ) ОБЩЕОБРАЗОВАТЕЛЬНАЯ  ШКОЛА </a:t>
            </a:r>
            <a:r>
              <a:rPr b="1" lang="en-US" sz="1600" spc="-1" strike="noStrike">
                <a:solidFill>
                  <a:srgbClr val="2613b5"/>
                </a:solidFill>
                <a:latin typeface="Arial"/>
              </a:rPr>
              <a:t>VIII</a:t>
            </a:r>
            <a:r>
              <a:rPr b="1" lang="ru-RU" sz="1600" spc="-1" strike="noStrike">
                <a:solidFill>
                  <a:srgbClr val="2613b5"/>
                </a:solidFill>
                <a:latin typeface="Arial"/>
              </a:rPr>
              <a:t> ви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970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Занятия с родителями учащихся «группы риска»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249800" cy="38833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038480" cy="3052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16360" y="3645000"/>
            <a:ext cx="4038840" cy="3052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Совместные спортивные мероприятия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4176720" cy="34542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183200" cy="33541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Внеклассные мероприятия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500720" cy="3240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248360" cy="3024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Уровень образования родителей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образование- 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специальное- 3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- 4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олное среднее-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грамотные-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99"/>
                </a:solidFill>
                <a:latin typeface="Garamond"/>
              </a:rPr>
              <a:t>Направления воспитательной работы МСКОУ СКОШ </a:t>
            </a:r>
            <a:r>
              <a:rPr b="1" lang="en-US" sz="3000" spc="-1" strike="noStrike">
                <a:solidFill>
                  <a:srgbClr val="003399"/>
                </a:solidFill>
                <a:latin typeface="Garamond"/>
                <a:ea typeface="宋体"/>
              </a:rPr>
              <a:t>VIII </a:t>
            </a:r>
            <a:r>
              <a:rPr b="1" lang="ru-RU" sz="3000" spc="-1" strike="noStrike">
                <a:solidFill>
                  <a:srgbClr val="003399"/>
                </a:solidFill>
                <a:latin typeface="Garamond"/>
              </a:rPr>
              <a:t>вида с семьями учащихся</a:t>
            </a:r>
            <a:endParaRPr b="0" lang="en-US" sz="3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ышение психолого-педагогической грамотности родит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ация детско-родительских отнош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держка и повышение социального статуса сем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оружение родителей практическими приемами коррекции дефектов развития ребёнка с ограниченными возможностями здоровь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филактика эмоционального выгорания родителей, формирование умений психологической защиты и самовосстано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Общешкольные родительские собрания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4321080" cy="3527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182840" cy="34527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Общешкольные родительские собрания просветительского характера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2011-1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лияние ИКТ на духовно - нравственное становление личностиобщешкольн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гровая зависимость – понятие, последствие, профилактика.общешкольн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2010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ль родителей в сохранении и укреплении здоровья детей, обучающихся в коррекционной шко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фортность и позитивное взаимодействие с ребенком в семье – основа сохранения и укрепления его здоровьяобщешкольн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2009-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адиции семьи как основа воспитания нравственности ребенка: способы общения и методы педагогического воздействия на ребенка в семь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трудничество семьи и школы в психофизическом развитии воспитанниковобщешкольно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Собрания для родителей учащихся 1-х, 5-х классов</a:t>
            </a:r>
            <a:endParaRPr b="0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176720" cy="34560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4038840" cy="3916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Garamond"/>
              </a:rPr>
              <a:t>Классные родительские собрания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Учите ребёнка быть добр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ручения ребёнка в сем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декс семейного здоров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спитание без наказа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89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Garamond"/>
              </a:rPr>
              <a:t>Встречи со специалистами школы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4248360" cy="2997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327560" cy="3024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a4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Социальный статус семей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олные- 5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лообеспеченные- 6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благополучные- 10% (14 сем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работающие родители-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екаемые семьи- 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1:41:18Z</dcterms:created>
  <dc:creator>Масько Л.Г.</dc:creator>
  <dc:description/>
  <dc:language>en-US</dc:language>
  <cp:lastModifiedBy>user</cp:lastModifiedBy>
  <dcterms:modified xsi:type="dcterms:W3CDTF">2011-12-13T18:39:11Z</dcterms:modified>
  <cp:revision>60</cp:revision>
  <dc:subject/>
  <dc:title>Мой  новый друг</dc:title>
</cp:coreProperties>
</file>