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BB4-6628-4399-B499-B62747EE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178-C7FA-4EC0-BA37-750BB810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97A-5345-4306-AE15-EBDA8EB9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303-DF36-4DC3-A7CE-457C9A17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17E-6BEA-496B-9CED-7E03F2B3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3FE6-2C31-4200-A363-1FAABB29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180-4A18-4563-B427-2CE3A0A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4CF-F113-415C-AEAF-DAD380CB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FA5-8944-4FF2-BAF3-88D1AB6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16A-F89B-4538-A817-C36507EB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9A85-B523-4B7F-8FE8-57BCF21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3EB-AF9E-4B40-B038-EC860D7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B4E-27E5-4ADC-9E2A-39957957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C6A-8EE1-4D80-BA8E-D914367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D435-FDDC-4648-8708-67E75224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720E-DCE9-46DB-A5F9-F507AD60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AFF-B539-45CC-97C6-6A2114F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2A3-2537-4130-9EFB-916AA2E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00C-8ECA-4D96-AE35-551E3DF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83C-B3D9-4AAE-87FF-20AFA84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48B-3881-4025-BAF0-A486F13E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F0F-82D2-48CC-B0A8-EA3CC56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A44-3EB2-41EF-9A57-D2CB74B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307-D870-41E2-8FCE-0EB4944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E1E-415A-4851-8EE1-CF798F6925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5EF-65A9-46C4-BF4D-568B7C9401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8920" y="260280"/>
            <a:ext cx="66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329520"/>
            <a:ext cx="678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Работа классного руководител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 семьями учащихся с ОВЗ в условиях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СКОУ СКОШ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III</a:t>
            </a:r>
            <a:r>
              <a:rPr b="0" lang="ru-RU" sz="4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ид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Арзамаса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16000" y="4868640"/>
            <a:ext cx="4032360" cy="1655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ищенкова С.А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лассный руководитель МСКОУ СКОШ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ида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МУНИЦИП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СПЕЦИАЛЬНОЕ (КОРРЕКЦИОННОЕ)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«СПЕЦИАЛЬНАЯ</a:t>
            </a:r>
            <a:r>
              <a:rPr b="0" lang="ru-RU" sz="1600" spc="-1" strike="noStrike">
                <a:solidFill>
                  <a:srgbClr val="2613b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(КОРРЕКЦИОННАЯ) ОБЩЕОБРАЗОВАТЕЛЬНАЯ  ШКОЛА </a:t>
            </a:r>
            <a:r>
              <a:rPr b="1" lang="en-US" sz="1600" spc="-1" strike="noStrike">
                <a:solidFill>
                  <a:srgbClr val="2613b5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970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Занятия с родителями учащихся «группы риска»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249800" cy="38833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3052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4038840" cy="3052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Совместные спортивные мероприят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4176720" cy="3454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83200" cy="33541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Внеклассные мероприят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500720" cy="3240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248360" cy="302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Уровень образования родителей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образование- 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специальное- 3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- 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лное среднее-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рамотные-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99"/>
                </a:solidFill>
                <a:latin typeface="Garamond"/>
              </a:rPr>
              <a:t>Направления воспитательной работы МСКОУ СКОШ </a:t>
            </a:r>
            <a:r>
              <a:rPr b="1" lang="en-US" sz="3000" spc="-1" strike="noStrike">
                <a:solidFill>
                  <a:srgbClr val="003399"/>
                </a:solidFill>
                <a:latin typeface="Garamond"/>
                <a:ea typeface="宋体"/>
              </a:rPr>
              <a:t>VIII </a:t>
            </a:r>
            <a:r>
              <a:rPr b="1" lang="ru-RU" sz="3000" spc="-1" strike="noStrike">
                <a:solidFill>
                  <a:srgbClr val="003399"/>
                </a:solidFill>
                <a:latin typeface="Garamond"/>
              </a:rPr>
              <a:t>вида с семьями учащихся</a:t>
            </a:r>
            <a:endParaRPr b="0" lang="en-US" sz="3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психолого-педагогической грамотности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я детско-родительских отнош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держка и повышение социального статуса сем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оружение родителей практическими приемами коррекции дефектов развития ребёнка с ограниченными возможностями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филактика эмоционального выгорания родителей, формирование умений психологической защиты и самовосстано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Общешкольные родительские собран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4321080" cy="3527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82840" cy="34527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Общешкольные родительские собрания просветительского характера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11-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лияние ИКТ на духовно - нравственное становление личности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гровая зависимость – понятие, последствие, профилактика.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10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ь родителей в сохранении и укреплении здоровья детей, обучающихся в коррекционной шко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фортность и позитивное взаимодействие с ребенком в семье – основа сохранения и укрепления его здоровья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09-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адиции семьи как основа воспитания нравственности ребенка: способы общения и методы педагогического воздействия на ребенка в семь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трудничество семьи и школы в психофизическом развитии воспитанников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Собрания для родителей учащихся 1-х, 5-х классов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176720" cy="3456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8840" cy="391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Классные родительские собрания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Учите ребёнка быть добр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ручения ребёнка в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декс семейного здоров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питание без наказ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Встречи со специалистами школы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2997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327560" cy="302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Социальный статус семей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олные- 5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ообеспеченные- 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благополучные- 10% (14 сем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работающие родители-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екаемые семьи- 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1:41:18Z</dcterms:created>
  <dc:creator>Масько Л.Г.</dc:creator>
  <dc:description/>
  <dc:language>en-US</dc:language>
  <cp:lastModifiedBy>user</cp:lastModifiedBy>
  <dcterms:modified xsi:type="dcterms:W3CDTF">2011-12-13T18:39:11Z</dcterms:modified>
  <cp:revision>60</cp:revision>
  <dc:subject/>
  <dc:title>Мой  новый друг</dc:title>
</cp:coreProperties>
</file>