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F29-DB0A-4CE7-801E-9D54F29D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73E-3A03-447A-A4FC-C3564E7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B5B-F376-4554-ABAC-C6ED1108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F1B-62B4-446E-B54E-2EB601AC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BCA2-0FAD-4293-A25D-12510023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3E7-6BFC-441D-A455-620E83AE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198-E806-4DA7-B20A-337780B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888A-B2E5-48FC-A85E-B6217B3D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B6A-F2A9-4255-A966-DC042A78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903-8759-4B43-BF15-3209648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006-B655-42E8-8EB8-936858A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0AB-02B0-49AE-9212-AA9C66B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D8D-38BB-47B1-AB3D-5F5F9EE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095A-C3AE-49C6-ABF7-1D05D1F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0910-FE33-4A03-9E75-023271D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2A5-91FB-443B-8AFA-5C730594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A54-7BBD-416E-A014-3634040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90F-46E6-4731-B1B6-B76848FC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3D2-168F-42BE-8A01-EBB7A86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4DE-7715-4B29-8AE7-8232E0E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4B3-8F5B-4FAA-BAB8-C881CA6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5C1-D6B0-46D9-95D3-5A079F8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1AF-FD9F-45EB-94D7-069BCE2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E33-D3EA-4EB2-A8A2-1E37EB4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583-44C3-4AE5-A1FF-7AF792E8769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A02-3AA5-45B0-B122-488B3E0997C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lide0001_image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838080"/>
            <a:ext cx="960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French Script MT"/>
              </a:rPr>
              <a:t>Die Schule meines Traumes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2200680" y="586728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ено учениками 5 «А» клас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ировой Дарьей, Голубушкиной Ольгой, Нероновой Варва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720" y="4952880"/>
            <a:ext cx="49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Rage Italic"/>
              </a:rPr>
              <a:t>St.Petersburg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lide0010_image0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5040" y="608400"/>
            <a:ext cx="78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Impact"/>
              </a:rPr>
              <a:t>Der Lehrraum </a:t>
            </a:r>
            <a:r>
              <a:rPr b="0" lang="de-DE" sz="4400" spc="-1" strike="noStrike">
                <a:solidFill>
                  <a:srgbClr val="0000cc"/>
                </a:solidFill>
                <a:latin typeface="Impact"/>
              </a:rPr>
              <a:t>für</a:t>
            </a:r>
            <a:r>
              <a:rPr b="0" lang="en-US" sz="4400" spc="-1" strike="noStrike">
                <a:solidFill>
                  <a:srgbClr val="0000cc"/>
                </a:solidFill>
                <a:latin typeface="Impact"/>
              </a:rPr>
              <a:t> Informatik</a:t>
            </a:r>
            <a:r>
              <a:rPr b="1" lang="ru-RU" sz="40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slide0011_image0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53440" y="227880"/>
            <a:ext cx="672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Old English Text MT"/>
              </a:rPr>
              <a:t>Deutschra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lide0012_image03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78120" y="1599480"/>
            <a:ext cx="74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Der Klassenraum der Biologie</a:t>
            </a: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lide0019_image0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7240" y="684720"/>
            <a:ext cx="70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Der Raum </a:t>
            </a:r>
            <a:r>
              <a:rPr b="0" lang="de-DE" sz="5400" spc="-1" strike="noStrike">
                <a:solidFill>
                  <a:srgbClr val="0000cc"/>
                </a:solidFill>
                <a:latin typeface="Arial"/>
              </a:rPr>
              <a:t>für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 Werke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lide0013_image03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5393880"/>
            <a:ext cx="75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Im dritten Stock lie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40"/>
                            </p:stCondLst>
                            <p:childTnLst>
                              <p:par>
                                <p:cTn id="15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lide0014_image0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120" y="487584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askerville Old Face"/>
              </a:rPr>
              <a:t>die riesige Aula</a:t>
            </a:r>
            <a:r>
              <a:rPr b="0" lang="ru-RU" sz="6000" spc="-1" strike="noStrike">
                <a:solidFill>
                  <a:srgbClr val="ff0000"/>
                </a:solidFill>
                <a:latin typeface="Baskerville Old Fac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lide0015_image04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24444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Impact"/>
              </a:rPr>
              <a:t>Das schöne Kabinett des Direktors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lide0016_image0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761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Monotype Corsiva"/>
              </a:rPr>
              <a:t>Das Lehrerzimmer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lide0017_image04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662040" y="4342680"/>
            <a:ext cx="1007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Old English Text MT"/>
              </a:rPr>
              <a:t>Die geräumige Schulmensa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lide0018_image04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-457920"/>
            <a:ext cx="901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Kunstler Script"/>
              </a:rPr>
              <a:t>Der gemütliche Aufenthaltsraum der Lehr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ue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148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3726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Die Schule des Traumes ist an der warmen Küste des zärtlichen Meeres gelegen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slide0002_image010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4589640" cy="2570040"/>
          </a:xfrm>
          <a:prstGeom prst="rect">
            <a:avLst/>
          </a:prstGeom>
          <a:ln w="0">
            <a:noFill/>
          </a:ln>
        </p:spPr>
      </p:pic>
      <p:pic>
        <p:nvPicPr>
          <p:cNvPr id="89" name="slide0002_image013" descr=""/>
          <p:cNvPicPr/>
          <p:nvPr/>
        </p:nvPicPr>
        <p:blipFill>
          <a:blip r:embed="rId4"/>
          <a:stretch/>
        </p:blipFill>
        <p:spPr>
          <a:xfrm>
            <a:off x="228600" y="3124080"/>
            <a:ext cx="4343400" cy="2318040"/>
          </a:xfrm>
          <a:prstGeom prst="rect">
            <a:avLst/>
          </a:prstGeom>
          <a:ln w="0">
            <a:noFill/>
          </a:ln>
        </p:spPr>
      </p:pic>
      <p:pic>
        <p:nvPicPr>
          <p:cNvPr id="90" name="slide0002_image012" descr=""/>
          <p:cNvPicPr/>
          <p:nvPr/>
        </p:nvPicPr>
        <p:blipFill>
          <a:blip r:embed="rId5"/>
          <a:stretch/>
        </p:blipFill>
        <p:spPr>
          <a:xfrm>
            <a:off x="4343400" y="4114800"/>
            <a:ext cx="4503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lide0021_image04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680" y="685080"/>
            <a:ext cx="469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ld English Text MT"/>
              </a:rPr>
              <a:t>Das En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799 -0.115 0.02797 -0.115 0.04395 C -0.115 0.0586 -0.067 0.06925 -0.003 0.06925 C 0.061 0.06925 0.115 0.0586 0.115 0.04395 C 0.115 0.02797 0.059 0.02397 -0.005 0.03463 C -0.068 0.04661 -0.115 0.06659 -0.115 0.08124 C -0.115 0.09589 -0.066 0.10788 -0.003 0.10788 C 0.061 0.10788 0.115 0.09589 0.115 0.08124 C 0.115 0.06659 0.059 0.06259 -0.004 0.07325 C -0.068 0.0839 -0.115 0.10388 -0.115 0.11853 C -0.115 0.13451 -0.066 0.1465 -0.002 0.1465 C 0.061 0.1465 0.115 0.13451 0.115 0.11853 C 0.115 0.10521 0.059 0.10122 -0.004 0.11054 C -0.067 0.12119 -0.115 0.1425 -0.115 0.15715 C -0.115 0.1718 -0.065 0.18379 -0.002 0.18379 C 0.063 0.18379 0.115 0.1718 0.115 0.15715 C 0.115 0.1425 0.06 0.13851 -0.003 0.14916 C -0.066 0.15982 -0.115 0.17979 -0.115 0.19444 C -0.115 0.21042 -0.065 0.22108 -0.001 0.22108 C 0.063 0.22108 0.115 0.20909 0.115 0.19444 C 0.115 0.17979 0.06 0.1758 -0.003 0.18645 C -0.066 0.19711 -0.115 0.21841 -0.115 0.23173 C -0.115 0.24638 -0.064 0.25837 -0.001 0.25837 C 0.063 0.25837 0.115 0.24638 0.115 0.23173 C 0.115 0.21841 0.061 0.21442 -0.003 0.22374 C -0.066 0.2344 -0.115 0.2557 -0.115 0.27035 C -0.115 0.28367 -0.064 0.29699 0 0.29699 C 0.064 0.29699 0.115 0.285 0.115 0.27035 C 0.115 0.2557 0.061 0.25171 -0.002 0.26236 C -0.065 0.27302 -0.116 0.29299 -0.115 0.30764 C -0.114 0.32229 -0.064 0.33295 0 0.33295 C 0.064 0.33295 0.115 0.32096 0.115 0.30631 C 0.115 0.29299 0.063 0.289 0 0.30098 E">
                                      <p:cBhvr>
                                        <p:cTn id="22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lide0003_image0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Der elektronische Wächter beschützt den Eingang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lide0004_image0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27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Old English Text MT"/>
              </a:rPr>
              <a:t>Eine</a:t>
            </a:r>
            <a:r>
              <a:rPr b="1" lang="en-US" sz="4000" spc="-1" strike="noStrike">
                <a:solidFill>
                  <a:srgbClr val="ff0000"/>
                </a:solidFill>
                <a:latin typeface="Old English Text MT"/>
              </a:rPr>
              <a:t> bequeme große Halle begegnet den Gästen und den Schül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lide0005_image0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6200" y="838080"/>
            <a:ext cx="57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IM Erdgeschoß liegen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50720" y="4267080"/>
            <a:ext cx="129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Kunstler Script"/>
              </a:rPr>
              <a:t>Eine  gemütliche Garderob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lide0006_image0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51800" y="380520"/>
            <a:ext cx="67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Old English Text MT"/>
              </a:rPr>
              <a:t>eine große Turnhalle</a:t>
            </a:r>
            <a:r>
              <a:rPr b="1" lang="ru-RU" sz="4800" spc="-1" strike="noStrike">
                <a:solidFill>
                  <a:srgbClr val="ffffff"/>
                </a:solidFill>
                <a:latin typeface="Old English Text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lide0007_image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43360" y="5334120"/>
            <a:ext cx="112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ein blaues Schwimmba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lide0008_image0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-1309320"/>
            <a:ext cx="9144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Kunstler Script"/>
              </a:rPr>
              <a:t>Im zweiten Sto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Kunstler Script"/>
              </a:rPr>
              <a:t>befinden sich der helle Korridor und die Klassenräume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lide0009_image02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254760" y="2286000"/>
            <a:ext cx="1532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cc"/>
                </a:solidFill>
                <a:latin typeface="Kunstler Script"/>
              </a:rPr>
              <a:t>Unser Klassenraum</a:t>
            </a:r>
            <a:r>
              <a:rPr b="0" lang="ru-RU" sz="9600" spc="-1" strike="noStrike">
                <a:solidFill>
                  <a:srgbClr val="000000"/>
                </a:solidFill>
                <a:latin typeface="Kunstler Scrip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14:56Z</dcterms:created>
  <dc:creator/>
  <dc:description/>
  <dc:language>en-US</dc:language>
  <cp:lastModifiedBy>Alla L. Sotnikova</cp:lastModifiedBy>
  <dcterms:modified xsi:type="dcterms:W3CDTF">2011-12-13T17:15:2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