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5.gif" ContentType="image/gif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581-A6DB-40E7-BD25-AE8DC8BD3D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08A1-C960-4C45-B3EE-764FAF6F5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7DC-7931-422C-996A-9696CA6CC5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C6AE-C21B-4A91-8822-29E3D45D6B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4152-474F-4247-9C37-F85E161C7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0215-11B3-4A91-B385-3DDD5F3B7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868-9F8B-4307-BCFA-A826B23928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870-82A1-4372-8DC7-B9334D99D9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327F-5CB3-4585-A49B-5AC7346AA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196-DCD5-4161-83A1-5023D43780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D43-8A0F-43A2-9F37-E1E91569F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AE58-776C-4DDB-8DF0-ADD5758B37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F74-3BF8-4D0B-BC31-ACE3A69B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CFC-9910-440A-9EF7-A07E5E08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C6D-DA71-4B77-8EDF-0B84BE68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33F-261E-4317-AB17-5F8CAC0C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63E-F00C-441E-B0E6-6F3DDB7A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9EB-2F30-44BF-998B-7AB8E594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88E-A1EB-4D99-9F77-C919DC29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EA0-087E-487E-A748-7AB23BF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175-1950-408A-805A-1E975D28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79D-0A07-493E-AD24-10210D8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CE2-6F33-452F-95B6-52C7B7A4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34F-50F3-401E-A7FB-AACC54B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249-AD9C-4E61-AC13-943FA0FDCEE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714240" y="21420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Мозговая ат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214800" y="92880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г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071880" y="15717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ип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857680" y="2214720"/>
            <a:ext cx="29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а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286080" y="28576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ёж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928960" y="350028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во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857680" y="42148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пп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857680" y="485784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omic Sans MS"/>
              </a:rPr>
              <a:t>Лестница успех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7858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8572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92896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40006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50720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614376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721512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7215120" y="54291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721512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1"/>
          <p:cNvSpPr/>
          <p:nvPr/>
        </p:nvSpPr>
        <p:spPr>
          <a:xfrm>
            <a:off x="721512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2"/>
          <p:cNvSpPr/>
          <p:nvPr/>
        </p:nvSpPr>
        <p:spPr>
          <a:xfrm>
            <a:off x="721512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3"/>
          <p:cNvSpPr/>
          <p:nvPr/>
        </p:nvSpPr>
        <p:spPr>
          <a:xfrm>
            <a:off x="721512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4"/>
          <p:cNvSpPr/>
          <p:nvPr/>
        </p:nvSpPr>
        <p:spPr>
          <a:xfrm>
            <a:off x="7215120" y="364320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5"/>
          <p:cNvSpPr/>
          <p:nvPr/>
        </p:nvSpPr>
        <p:spPr>
          <a:xfrm>
            <a:off x="721512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6"/>
          <p:cNvSpPr/>
          <p:nvPr/>
        </p:nvSpPr>
        <p:spPr>
          <a:xfrm>
            <a:off x="721512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1285920" y="542916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8"/>
          <p:cNvSpPr/>
          <p:nvPr/>
        </p:nvSpPr>
        <p:spPr>
          <a:xfrm>
            <a:off x="185724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9"/>
          <p:cNvSpPr/>
          <p:nvPr/>
        </p:nvSpPr>
        <p:spPr>
          <a:xfrm>
            <a:off x="235728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0"/>
          <p:cNvSpPr/>
          <p:nvPr/>
        </p:nvSpPr>
        <p:spPr>
          <a:xfrm>
            <a:off x="292896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1"/>
          <p:cNvSpPr/>
          <p:nvPr/>
        </p:nvSpPr>
        <p:spPr>
          <a:xfrm>
            <a:off x="342900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4000680" y="364320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3"/>
          <p:cNvSpPr/>
          <p:nvPr/>
        </p:nvSpPr>
        <p:spPr>
          <a:xfrm>
            <a:off x="457200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4"/>
          <p:cNvSpPr/>
          <p:nvPr/>
        </p:nvSpPr>
        <p:spPr>
          <a:xfrm>
            <a:off x="507204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5"/>
          <p:cNvSpPr/>
          <p:nvPr/>
        </p:nvSpPr>
        <p:spPr>
          <a:xfrm>
            <a:off x="5643720" y="257184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6"/>
          <p:cNvSpPr/>
          <p:nvPr/>
        </p:nvSpPr>
        <p:spPr>
          <a:xfrm>
            <a:off x="621504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7"/>
          <p:cNvSpPr/>
          <p:nvPr/>
        </p:nvSpPr>
        <p:spPr>
          <a:xfrm>
            <a:off x="6643800" y="185724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8"/>
          <p:cNvSpPr/>
          <p:nvPr/>
        </p:nvSpPr>
        <p:spPr>
          <a:xfrm>
            <a:off x="7215120" y="15001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9"/>
          <p:cNvSpPr/>
          <p:nvPr/>
        </p:nvSpPr>
        <p:spPr>
          <a:xfrm>
            <a:off x="7215120" y="25718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0"/>
          <p:cNvSpPr/>
          <p:nvPr/>
        </p:nvSpPr>
        <p:spPr>
          <a:xfrm>
            <a:off x="7215120" y="185724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1"/>
          <p:cNvSpPr/>
          <p:nvPr/>
        </p:nvSpPr>
        <p:spPr>
          <a:xfrm>
            <a:off x="721512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5-конечная звезда 32"/>
          <p:cNvSpPr/>
          <p:nvPr/>
        </p:nvSpPr>
        <p:spPr>
          <a:xfrm>
            <a:off x="7572240" y="357120"/>
            <a:ext cx="428760" cy="428760"/>
          </a:xfrm>
          <a:prstGeom prst="pie">
            <a:avLst/>
          </a:prstGeom>
          <a:solidFill>
            <a:srgbClr val="ff0000"/>
          </a:solidFill>
          <a:ln w="478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4"/>
          <p:cNvSpPr/>
          <p:nvPr/>
        </p:nvSpPr>
        <p:spPr>
          <a:xfrm flipH="1">
            <a:off x="7786800" y="714240"/>
            <a:ext cx="1440" cy="714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Documents and Settings\123\Рабочий стол\Анимашки\Анимашки3\ani-rabbit_hop.gif"/>
          <p:cNvPicPr/>
          <p:nvPr/>
        </p:nvPicPr>
        <p:blipFill>
          <a:blip r:embed="rId1"/>
          <a:stretch/>
        </p:blipFill>
        <p:spPr>
          <a:xfrm>
            <a:off x="1071720" y="4000680"/>
            <a:ext cx="1199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84 -0.13542 C -0.08767 -0.20949 -0.08715 -0.28311 -0.06354 -0.27014 C -0.0401 -0.25648 0.03386 -0.08773 0.05486 -0.05255 C 0.07587 -0.01598 0.05868 -0.05764 0.05903 -0.05764 C 0.05955 -0.05787 0.0592 -0.05162 0.05799 -0.05139 E">
                                      <p:cBhvr>
                                        <p:cTn id="56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14760" y="1571760"/>
            <a:ext cx="59292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C:\Documents and Settings\123\Рабочий стол\Анимашки\Анимашки3\s13.gif"/>
          <p:cNvPicPr/>
          <p:nvPr/>
        </p:nvPicPr>
        <p:blipFill>
          <a:blip r:embed="rId1"/>
          <a:stretch/>
        </p:blipFill>
        <p:spPr>
          <a:xfrm>
            <a:off x="500040" y="1285920"/>
            <a:ext cx="27860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57120" y="57168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рны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714920" y="42876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лова с другими орфограмм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928800" y="19288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г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143680" y="242892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1287000" y="2571840"/>
            <a:ext cx="229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5643720" y="321480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ёж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357200" y="328608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во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214280" y="3929040"/>
            <a:ext cx="26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ппет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143000" y="464328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omic Sans MS"/>
              </a:rPr>
              <a:t>Лестница успех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7858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8572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92896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00068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07204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6143760" y="578628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7215120" y="578628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7215120" y="54291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21512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721512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721512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721512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7215120" y="364320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721512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721512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1285920" y="542916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1857240" y="50720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9"/>
          <p:cNvSpPr/>
          <p:nvPr/>
        </p:nvSpPr>
        <p:spPr>
          <a:xfrm>
            <a:off x="2357280" y="47149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0"/>
          <p:cNvSpPr/>
          <p:nvPr/>
        </p:nvSpPr>
        <p:spPr>
          <a:xfrm>
            <a:off x="2928960" y="435780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1"/>
          <p:cNvSpPr/>
          <p:nvPr/>
        </p:nvSpPr>
        <p:spPr>
          <a:xfrm>
            <a:off x="3429000" y="40006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>
            <a:off x="4000680" y="364320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4572000" y="328608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5072040" y="292896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5"/>
          <p:cNvSpPr/>
          <p:nvPr/>
        </p:nvSpPr>
        <p:spPr>
          <a:xfrm>
            <a:off x="5643720" y="2571840"/>
            <a:ext cx="107136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6"/>
          <p:cNvSpPr/>
          <p:nvPr/>
        </p:nvSpPr>
        <p:spPr>
          <a:xfrm>
            <a:off x="621504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7"/>
          <p:cNvSpPr/>
          <p:nvPr/>
        </p:nvSpPr>
        <p:spPr>
          <a:xfrm>
            <a:off x="6643800" y="1857240"/>
            <a:ext cx="107136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8"/>
          <p:cNvSpPr/>
          <p:nvPr/>
        </p:nvSpPr>
        <p:spPr>
          <a:xfrm>
            <a:off x="7215120" y="15001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"/>
          <p:cNvSpPr/>
          <p:nvPr/>
        </p:nvSpPr>
        <p:spPr>
          <a:xfrm>
            <a:off x="7215120" y="257184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215120" y="1857240"/>
            <a:ext cx="1071720" cy="35748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1"/>
          <p:cNvSpPr/>
          <p:nvPr/>
        </p:nvSpPr>
        <p:spPr>
          <a:xfrm>
            <a:off x="7215120" y="2214720"/>
            <a:ext cx="1071720" cy="357120"/>
          </a:xfrm>
          <a:prstGeom prst="rect">
            <a:avLst/>
          </a:prstGeom>
          <a:solidFill>
            <a:srgbClr val="ffc000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-конечная звезда 32"/>
          <p:cNvSpPr/>
          <p:nvPr/>
        </p:nvSpPr>
        <p:spPr>
          <a:xfrm>
            <a:off x="7572240" y="357120"/>
            <a:ext cx="428760" cy="428760"/>
          </a:xfrm>
          <a:prstGeom prst="pie">
            <a:avLst/>
          </a:prstGeom>
          <a:solidFill>
            <a:srgbClr val="ff0000"/>
          </a:solidFill>
          <a:ln w="478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4"/>
          <p:cNvSpPr/>
          <p:nvPr/>
        </p:nvSpPr>
        <p:spPr>
          <a:xfrm flipH="1">
            <a:off x="7786800" y="714240"/>
            <a:ext cx="1440" cy="714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123\Рабочий стол\Анимашки\Анимашки3\ani-rabbit_hop.gif"/>
          <p:cNvPicPr/>
          <p:nvPr/>
        </p:nvPicPr>
        <p:blipFill>
          <a:blip r:embed="rId1"/>
          <a:stretch/>
        </p:blipFill>
        <p:spPr>
          <a:xfrm>
            <a:off x="1071720" y="4000680"/>
            <a:ext cx="1199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5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7120" y="32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 люблю русскую берёз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авно  . . .  были в берёзовом лес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аня молодец! Сколько  . . . подберёзовиков нашё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. .. , ребята, сколько наш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т выглянуло солнце из-за тучи.    . . .   осветило всю земл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етку берёзы села ворона.   . . .  громко закарк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другой ветке сидел воробей.  . . .  чистил свои пёрыш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любим наблюдать за птицами, . . .    помогают нам узнавать ново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место каких слов употребляются местоимени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они употребляютс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571680" y="0"/>
            <a:ext cx="7643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d0d0d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Какие слова нужно поставить вместо точек?</a:t>
            </a:r>
            <a:endParaRPr b="0" lang="en-US" sz="1800" spc="1" strike="noStrike">
              <a:ln w="9360">
                <a:solidFill>
                  <a:srgbClr val="0d0d0d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28760" y="5000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714680" y="9288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000760" y="12859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42960" y="24289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500800" y="2357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857840" y="3143160"/>
            <a:ext cx="92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5357880" y="385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5715000" y="4143240"/>
            <a:ext cx="9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123\Рабочий стол\Анимашки\245.gif"/>
          <p:cNvPicPr/>
          <p:nvPr/>
        </p:nvPicPr>
        <p:blipFill>
          <a:blip r:embed="rId2"/>
          <a:stretch/>
        </p:blipFill>
        <p:spPr>
          <a:xfrm>
            <a:off x="6477120" y="495288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00040" y="2000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0" y="428760"/>
          <a:ext cx="8929800" cy="621504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621504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125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ерёзу милую, родную считают символом России.                           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125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спета в  музыке, живописи.                     напи-сано немало стихов, расска-зов, сказок</a:t>
                      </a:r>
                      <a:r>
                        <a:rPr b="1" lang="ru-RU" sz="5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.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Box 4"/>
          <p:cNvSpPr/>
          <p:nvPr/>
        </p:nvSpPr>
        <p:spPr>
          <a:xfrm>
            <a:off x="714240" y="20001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рё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85960" y="207180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3857760" y="264312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берё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286160" y="26431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C:\Documents and Settings\123\Рабочий стол\Анимашки\7f87cd8f8528.gif"/>
          <p:cNvPicPr/>
          <p:nvPr/>
        </p:nvPicPr>
        <p:blipFill>
          <a:blip r:embed="rId2"/>
          <a:stretch/>
        </p:blipFill>
        <p:spPr>
          <a:xfrm>
            <a:off x="7286760" y="5000760"/>
            <a:ext cx="15714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214200" y="1214280"/>
          <a:ext cx="8643960" cy="5286600"/>
        </p:xfrm>
        <a:graphic>
          <a:graphicData uri="http://schemas.openxmlformats.org/drawingml/2006/table">
            <a:tbl>
              <a:tblPr/>
              <a:tblGrid>
                <a:gridCol w="2330640"/>
                <a:gridCol w="3232080"/>
                <a:gridCol w="3081240"/>
              </a:tblGrid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"/>
          <p:cNvSpPr/>
          <p:nvPr/>
        </p:nvSpPr>
        <p:spPr>
          <a:xfrm>
            <a:off x="428760" y="-145800"/>
            <a:ext cx="8072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Calibri"/>
              </a:rPr>
              <a:t>Местоимение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 – часть речи, которая указывает на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123\Рабочий стол\Анимашки\1\AG00092_.GIF"/>
          <p:cNvPicPr/>
          <p:nvPr/>
        </p:nvPicPr>
        <p:blipFill>
          <a:blip r:embed="rId2"/>
          <a:stretch/>
        </p:blipFill>
        <p:spPr>
          <a:xfrm>
            <a:off x="3714840" y="30718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123\Рабочий стол\Анимашки\1\AG00092_.GIF"/>
          <p:cNvPicPr/>
          <p:nvPr/>
        </p:nvPicPr>
        <p:blipFill>
          <a:blip r:embed="rId3"/>
          <a:stretch/>
        </p:blipFill>
        <p:spPr>
          <a:xfrm>
            <a:off x="7072200" y="3071880"/>
            <a:ext cx="343080" cy="333360"/>
          </a:xfrm>
          <a:prstGeom prst="rect">
            <a:avLst/>
          </a:prstGeom>
          <a:ln w="0">
            <a:noFill/>
          </a:ln>
        </p:spPr>
      </p:pic>
      <p:sp>
        <p:nvSpPr>
          <p:cNvPr id="125" name="Равнобедренный треугольник 10"/>
          <p:cNvSpPr/>
          <p:nvPr/>
        </p:nvSpPr>
        <p:spPr>
          <a:xfrm>
            <a:off x="3929040" y="5357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ручное управление 11"/>
          <p:cNvSpPr/>
          <p:nvPr/>
        </p:nvSpPr>
        <p:spPr>
          <a:xfrm>
            <a:off x="3071880" y="5357880"/>
            <a:ext cx="428400" cy="357120"/>
          </a:xfrm>
          <a:prstGeom prst="flowChartManualOperation">
            <a:avLst/>
          </a:prstGeom>
          <a:solidFill>
            <a:srgbClr val="f0a22e"/>
          </a:solidFill>
          <a:ln w="478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123\Рабочий стол\Анимашки\85.gif"/>
          <p:cNvPicPr/>
          <p:nvPr/>
        </p:nvPicPr>
        <p:blipFill>
          <a:blip r:embed="rId4"/>
          <a:stretch/>
        </p:blipFill>
        <p:spPr>
          <a:xfrm>
            <a:off x="4929120" y="4857840"/>
            <a:ext cx="571680" cy="542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3"/>
          <p:cNvSpPr/>
          <p:nvPr/>
        </p:nvSpPr>
        <p:spPr>
          <a:xfrm>
            <a:off x="4572000" y="171468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7429680" y="178596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500040" y="2000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428760" y="321480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428760" y="507204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 лиц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3357720" y="3429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715080" y="350028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2714760" y="564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3643200" y="571500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4643280" y="52149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5"/>
          <p:cNvSpPr/>
          <p:nvPr/>
        </p:nvSpPr>
        <p:spPr>
          <a:xfrm>
            <a:off x="671508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6"/>
          <p:cNvSpPr/>
          <p:nvPr/>
        </p:nvSpPr>
        <p:spPr>
          <a:xfrm>
            <a:off x="7643880" y="214200"/>
            <a:ext cx="121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2571840" y="114300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Единствен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8"/>
          <p:cNvSpPr/>
          <p:nvPr/>
        </p:nvSpPr>
        <p:spPr>
          <a:xfrm>
            <a:off x="5786280" y="11430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ножествен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5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42920" y="1785960"/>
          <a:ext cx="8858160" cy="266364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2943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Я (1л., ед.ч.), ты (2 л., ед ч.), он (3л., ед.ч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Мы (1л., мн.ч.,), вы (2л., мн.ч.), они (3 л.,мн.ч.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н (3л.,ед.ч.),она (3 л., ед. ч.), оно (3 л. ед.ч.)</a:t>
                      </a: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ка , окно, ок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"/>
          <p:cNvSpPr/>
          <p:nvPr/>
        </p:nvSpPr>
        <p:spPr>
          <a:xfrm>
            <a:off x="1000080" y="502920"/>
            <a:ext cx="698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Упражнение 294   (ЭТАЛО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3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214200" y="383400"/>
            <a:ext cx="83584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Задание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Прочитайте текст, определите границы предложений. Выпишите предложения с местоим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Calibri"/>
              </a:rPr>
              <a:t>Ночью выпал снег он покрыл землю пушистым ковром налетела вьюга она подняла в воздух легкие снежинки они закружились в хоро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H:\863169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357120" y="5000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 покрыл землю пушистым ков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57120" y="21430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а подняла в воздух лёгкие снежин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285840" y="371484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ни закружились в хоровод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123\Рабочий стол\Word's Clips\OFFICE\SNOWFLK8.WMF"/>
          <p:cNvPicPr/>
          <p:nvPr/>
        </p:nvPicPr>
        <p:blipFill>
          <a:blip r:embed="rId2"/>
          <a:stretch/>
        </p:blipFill>
        <p:spPr>
          <a:xfrm>
            <a:off x="7215120" y="64296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123\Рабочий стол\Word's Clips\OFFICE\SNOWFLK8.WMF"/>
          <p:cNvPicPr/>
          <p:nvPr/>
        </p:nvPicPr>
        <p:blipFill>
          <a:blip r:embed="rId3"/>
          <a:stretch/>
        </p:blipFill>
        <p:spPr>
          <a:xfrm>
            <a:off x="6929280" y="507204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123\Рабочий стол\Word's Clips\OFFICE\SNOWFLK8.WMF"/>
          <p:cNvPicPr/>
          <p:nvPr/>
        </p:nvPicPr>
        <p:blipFill>
          <a:blip r:embed="rId4"/>
          <a:stretch/>
        </p:blipFill>
        <p:spPr>
          <a:xfrm>
            <a:off x="3786120" y="4929120"/>
            <a:ext cx="1428840" cy="1300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123\Рабочий стол\Word's Clips\OFFICE\SNOWFLK8.WMF"/>
          <p:cNvPicPr/>
          <p:nvPr/>
        </p:nvPicPr>
        <p:blipFill>
          <a:blip r:embed="rId5"/>
          <a:stretch/>
        </p:blipFill>
        <p:spPr>
          <a:xfrm>
            <a:off x="428760" y="5357880"/>
            <a:ext cx="1428480" cy="1299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123\Рабочий стол\Word's Clips\OFFICE\SNOWFLK8.WMF"/>
          <p:cNvPicPr/>
          <p:nvPr/>
        </p:nvPicPr>
        <p:blipFill>
          <a:blip r:embed="rId6"/>
          <a:stretch/>
        </p:blipFill>
        <p:spPr>
          <a:xfrm>
            <a:off x="7072200" y="3214800"/>
            <a:ext cx="142884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65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650"/>
                            </p:stCondLst>
                            <p:childTnLst>
                              <p:par>
                                <p:cTn id="5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65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15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150"/>
                            </p:stCondLst>
                            <p:childTnLst>
                              <p:par>
                                <p:cTn id="54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0:24:36Z</dcterms:created>
  <dc:creator>Татьяна Владимировна</dc:creator>
  <dc:description/>
  <dc:language>en-US</dc:language>
  <cp:lastModifiedBy>Татьяна</cp:lastModifiedBy>
  <dcterms:modified xsi:type="dcterms:W3CDTF">2009-11-29T14:07:35Z</dcterms:modified>
  <cp:revision>23</cp:revision>
  <dc:subject/>
  <dc:title>. . .  люблю русскую берёзу. Недавно  . . .  были в берёзовом лесу. Какой Ваня молодец! Сколько  . . . подберёзовиков нашёл. А  . . . , ребята, сколько нашли? Вот выглянуло солнце из-за тучи.    . . .   осветило всю землю. На ветку берёзы села ворона.   . . .  громко закаркала. На другой ветке сидел воробей.  . . .  чистил свои пёрышки. Мы любим наблюдать за птицами, . . . помогают нам узнавать новое.   Вместо каких слов употребляются местоимения? Зачем они употребляются?</dc:title>
</cp:coreProperties>
</file>