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gif" ContentType="image/gif"/>
  <Override PartName="/ppt/media/image7.wmf" ContentType="image/x-wmf"/>
  <Override PartName="/ppt/media/image5.gif" ContentType="image/gif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A6B8-9EFE-4EBB-A1C0-3A28E80E9D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25CD-5FC1-4980-84FE-5A8CF8635B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5379-71B3-4264-9B7B-51D0714B81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EF6E-3C76-4701-AF40-0C6CECC86F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3663-625A-4AD6-9334-B173D9650F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971D-8716-4E75-9D97-1A1A141AC0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E507-B7AA-4A80-A772-FCEB4A158C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16B7-1D18-4D04-9D3F-A6C6075DA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9DE6-F056-4B44-BF7F-5A455A12CA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E19A-AA9E-4FB3-842E-4B868E7BA6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92A7-A425-4CBA-981A-FDF01A99AD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CF1B-7D2F-4E3D-BB15-8C129DD6E5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C8D-7171-40E9-A0B3-9C422A9F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759-FE12-46DA-B4A8-4FE33FE5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012-7E2A-4C6B-8147-218D4FB8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DA3-851D-4DCC-ACC3-B6966455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52C-7A8C-44F8-A6DC-FCBEB5A1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4FD-12FC-4C37-ACA2-755C4915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292-9C8D-47C4-AFF3-E44128D6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942-2B27-4B1B-84C0-ADE30753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5B9-9E40-4C71-9BE9-AF9A5517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BE6-8579-4E92-914F-994D2D10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0AF-8F00-4699-97B0-BD6AED5A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B3D-F123-4590-BC9F-8C248D4E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6F4D-D2D4-45BB-BB8A-C4EE82749F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714240" y="21420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озговая ата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214800" y="92880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ага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071880" y="157176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гип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857680" y="2214720"/>
            <a:ext cx="29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ма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3286080" y="2857680"/>
            <a:ext cx="17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ёж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928960" y="3500280"/>
            <a:ext cx="23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вон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2857680" y="42148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ппет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857680" y="485784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рё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Comic Sans MS"/>
              </a:rPr>
              <a:t>Лестница успех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78588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185724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292896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400068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507204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614376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721512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7215120" y="54291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7215120" y="50720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1"/>
          <p:cNvSpPr/>
          <p:nvPr/>
        </p:nvSpPr>
        <p:spPr>
          <a:xfrm>
            <a:off x="7215120" y="47149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2"/>
          <p:cNvSpPr/>
          <p:nvPr/>
        </p:nvSpPr>
        <p:spPr>
          <a:xfrm>
            <a:off x="7215120" y="435780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3"/>
          <p:cNvSpPr/>
          <p:nvPr/>
        </p:nvSpPr>
        <p:spPr>
          <a:xfrm>
            <a:off x="7215120" y="40006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4"/>
          <p:cNvSpPr/>
          <p:nvPr/>
        </p:nvSpPr>
        <p:spPr>
          <a:xfrm>
            <a:off x="7215120" y="364320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5"/>
          <p:cNvSpPr/>
          <p:nvPr/>
        </p:nvSpPr>
        <p:spPr>
          <a:xfrm>
            <a:off x="7215120" y="32860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6"/>
          <p:cNvSpPr/>
          <p:nvPr/>
        </p:nvSpPr>
        <p:spPr>
          <a:xfrm>
            <a:off x="7215120" y="29289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7"/>
          <p:cNvSpPr/>
          <p:nvPr/>
        </p:nvSpPr>
        <p:spPr>
          <a:xfrm>
            <a:off x="1285920" y="5429160"/>
            <a:ext cx="107136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8"/>
          <p:cNvSpPr/>
          <p:nvPr/>
        </p:nvSpPr>
        <p:spPr>
          <a:xfrm>
            <a:off x="1857240" y="50720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9"/>
          <p:cNvSpPr/>
          <p:nvPr/>
        </p:nvSpPr>
        <p:spPr>
          <a:xfrm>
            <a:off x="2357280" y="47149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0"/>
          <p:cNvSpPr/>
          <p:nvPr/>
        </p:nvSpPr>
        <p:spPr>
          <a:xfrm>
            <a:off x="2928960" y="435780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1"/>
          <p:cNvSpPr/>
          <p:nvPr/>
        </p:nvSpPr>
        <p:spPr>
          <a:xfrm>
            <a:off x="3429000" y="40006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2"/>
          <p:cNvSpPr/>
          <p:nvPr/>
        </p:nvSpPr>
        <p:spPr>
          <a:xfrm>
            <a:off x="4000680" y="364320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3"/>
          <p:cNvSpPr/>
          <p:nvPr/>
        </p:nvSpPr>
        <p:spPr>
          <a:xfrm>
            <a:off x="4572000" y="32860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4"/>
          <p:cNvSpPr/>
          <p:nvPr/>
        </p:nvSpPr>
        <p:spPr>
          <a:xfrm>
            <a:off x="5072040" y="29289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5"/>
          <p:cNvSpPr/>
          <p:nvPr/>
        </p:nvSpPr>
        <p:spPr>
          <a:xfrm>
            <a:off x="5643720" y="2571840"/>
            <a:ext cx="107136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6"/>
          <p:cNvSpPr/>
          <p:nvPr/>
        </p:nvSpPr>
        <p:spPr>
          <a:xfrm>
            <a:off x="6215040" y="22147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7"/>
          <p:cNvSpPr/>
          <p:nvPr/>
        </p:nvSpPr>
        <p:spPr>
          <a:xfrm>
            <a:off x="6643800" y="185724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8"/>
          <p:cNvSpPr/>
          <p:nvPr/>
        </p:nvSpPr>
        <p:spPr>
          <a:xfrm>
            <a:off x="7215120" y="15001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9"/>
          <p:cNvSpPr/>
          <p:nvPr/>
        </p:nvSpPr>
        <p:spPr>
          <a:xfrm>
            <a:off x="7215120" y="25718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0"/>
          <p:cNvSpPr/>
          <p:nvPr/>
        </p:nvSpPr>
        <p:spPr>
          <a:xfrm>
            <a:off x="7215120" y="185724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1"/>
          <p:cNvSpPr/>
          <p:nvPr/>
        </p:nvSpPr>
        <p:spPr>
          <a:xfrm>
            <a:off x="7215120" y="22147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-конечная звезда 32"/>
          <p:cNvSpPr/>
          <p:nvPr/>
        </p:nvSpPr>
        <p:spPr>
          <a:xfrm>
            <a:off x="7572240" y="357120"/>
            <a:ext cx="428760" cy="428760"/>
          </a:xfrm>
          <a:prstGeom prst="pie">
            <a:avLst/>
          </a:prstGeom>
          <a:solidFill>
            <a:srgbClr val="ff0000"/>
          </a:solidFill>
          <a:ln w="478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34"/>
          <p:cNvSpPr/>
          <p:nvPr/>
        </p:nvSpPr>
        <p:spPr>
          <a:xfrm flipH="1">
            <a:off x="7786800" y="714240"/>
            <a:ext cx="1440" cy="714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Documents and Settings\123\Рабочий стол\Анимашки\Анимашки3\ani-rabbit_hop.gif"/>
          <p:cNvPicPr/>
          <p:nvPr/>
        </p:nvPicPr>
        <p:blipFill>
          <a:blip r:embed="rId1"/>
          <a:stretch/>
        </p:blipFill>
        <p:spPr>
          <a:xfrm>
            <a:off x="1071720" y="4000680"/>
            <a:ext cx="11998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84 -0.13542 C -0.08767 -0.20949 -0.08715 -0.28311 -0.06354 -0.27014 C -0.0401 -0.25648 0.03386 -0.08773 0.05486 -0.05255 C 0.07587 -0.01598 0.05868 -0.05764 0.05903 -0.05764 C 0.05955 -0.05787 0.0592 -0.05162 0.05799 -0.05139 E">
                                      <p:cBhvr>
                                        <p:cTn id="56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14760" y="1571760"/>
            <a:ext cx="59292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а урок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C:\Documents and Settings\123\Рабочий стол\Анимашки\Анимашки3\s13.gif"/>
          <p:cNvPicPr/>
          <p:nvPr/>
        </p:nvPicPr>
        <p:blipFill>
          <a:blip r:embed="rId1"/>
          <a:stretch/>
        </p:blipFill>
        <p:spPr>
          <a:xfrm>
            <a:off x="500040" y="1285920"/>
            <a:ext cx="27860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57120" y="57168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ловарны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714920" y="42876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лова с другими орфограмм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928800" y="19288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аг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143680" y="242892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гип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1287000" y="257184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ма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5643720" y="321480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ёж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1357200" y="328608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во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1214280" y="3929040"/>
            <a:ext cx="26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ппет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1143000" y="4643280"/>
            <a:ext cx="271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рё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Comic Sans MS"/>
              </a:rPr>
              <a:t>Лестница успех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78588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85724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92896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00068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507204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614376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721512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7215120" y="54291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215120" y="50720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7215120" y="47149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7215120" y="435780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3"/>
          <p:cNvSpPr/>
          <p:nvPr/>
        </p:nvSpPr>
        <p:spPr>
          <a:xfrm>
            <a:off x="7215120" y="40006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4"/>
          <p:cNvSpPr/>
          <p:nvPr/>
        </p:nvSpPr>
        <p:spPr>
          <a:xfrm>
            <a:off x="7215120" y="364320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7215120" y="32860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6"/>
          <p:cNvSpPr/>
          <p:nvPr/>
        </p:nvSpPr>
        <p:spPr>
          <a:xfrm>
            <a:off x="7215120" y="29289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7"/>
          <p:cNvSpPr/>
          <p:nvPr/>
        </p:nvSpPr>
        <p:spPr>
          <a:xfrm>
            <a:off x="1285920" y="5429160"/>
            <a:ext cx="107136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8"/>
          <p:cNvSpPr/>
          <p:nvPr/>
        </p:nvSpPr>
        <p:spPr>
          <a:xfrm>
            <a:off x="1857240" y="50720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9"/>
          <p:cNvSpPr/>
          <p:nvPr/>
        </p:nvSpPr>
        <p:spPr>
          <a:xfrm>
            <a:off x="2357280" y="47149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0"/>
          <p:cNvSpPr/>
          <p:nvPr/>
        </p:nvSpPr>
        <p:spPr>
          <a:xfrm>
            <a:off x="2928960" y="435780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1"/>
          <p:cNvSpPr/>
          <p:nvPr/>
        </p:nvSpPr>
        <p:spPr>
          <a:xfrm>
            <a:off x="3429000" y="40006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2"/>
          <p:cNvSpPr/>
          <p:nvPr/>
        </p:nvSpPr>
        <p:spPr>
          <a:xfrm>
            <a:off x="4000680" y="364320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3"/>
          <p:cNvSpPr/>
          <p:nvPr/>
        </p:nvSpPr>
        <p:spPr>
          <a:xfrm>
            <a:off x="4572000" y="32860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4"/>
          <p:cNvSpPr/>
          <p:nvPr/>
        </p:nvSpPr>
        <p:spPr>
          <a:xfrm>
            <a:off x="5072040" y="29289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5"/>
          <p:cNvSpPr/>
          <p:nvPr/>
        </p:nvSpPr>
        <p:spPr>
          <a:xfrm>
            <a:off x="5643720" y="2571840"/>
            <a:ext cx="107136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6"/>
          <p:cNvSpPr/>
          <p:nvPr/>
        </p:nvSpPr>
        <p:spPr>
          <a:xfrm>
            <a:off x="6215040" y="22147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7"/>
          <p:cNvSpPr/>
          <p:nvPr/>
        </p:nvSpPr>
        <p:spPr>
          <a:xfrm>
            <a:off x="6643800" y="185724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8"/>
          <p:cNvSpPr/>
          <p:nvPr/>
        </p:nvSpPr>
        <p:spPr>
          <a:xfrm>
            <a:off x="7215120" y="15001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9"/>
          <p:cNvSpPr/>
          <p:nvPr/>
        </p:nvSpPr>
        <p:spPr>
          <a:xfrm>
            <a:off x="7215120" y="25718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0"/>
          <p:cNvSpPr/>
          <p:nvPr/>
        </p:nvSpPr>
        <p:spPr>
          <a:xfrm>
            <a:off x="7215120" y="185724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1"/>
          <p:cNvSpPr/>
          <p:nvPr/>
        </p:nvSpPr>
        <p:spPr>
          <a:xfrm>
            <a:off x="7215120" y="22147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-конечная звезда 32"/>
          <p:cNvSpPr/>
          <p:nvPr/>
        </p:nvSpPr>
        <p:spPr>
          <a:xfrm>
            <a:off x="7572240" y="357120"/>
            <a:ext cx="428760" cy="428760"/>
          </a:xfrm>
          <a:prstGeom prst="pie">
            <a:avLst/>
          </a:prstGeom>
          <a:solidFill>
            <a:srgbClr val="ff0000"/>
          </a:solidFill>
          <a:ln w="478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34"/>
          <p:cNvSpPr/>
          <p:nvPr/>
        </p:nvSpPr>
        <p:spPr>
          <a:xfrm flipH="1">
            <a:off x="7786800" y="714240"/>
            <a:ext cx="1440" cy="714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123\Рабочий стол\Анимашки\Анимашки3\ani-rabbit_hop.gif"/>
          <p:cNvPicPr/>
          <p:nvPr/>
        </p:nvPicPr>
        <p:blipFill>
          <a:blip r:embed="rId1"/>
          <a:stretch/>
        </p:blipFill>
        <p:spPr>
          <a:xfrm>
            <a:off x="1071720" y="4000680"/>
            <a:ext cx="11998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5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7120" y="32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 люблю русскую берёз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авно  . . .  были в берёзовом лес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Ваня молодец! Сколько  . . . подберёзовиков нашё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. .. , ребята, сколько нашл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выглянуло солнце из-за тучи.    . . .   осветило всю землю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етку берёзы села ворона.   . . .  громко закарка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другой ветке сидел воробей.  . . .  чистил свои пёрыш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любим наблюдать за птицами, . . .    помогают нам узнавать ново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место каких слов употребляются местоимения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они употребляются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"/>
          <p:cNvSpPr txBox="1"/>
          <p:nvPr/>
        </p:nvSpPr>
        <p:spPr>
          <a:xfrm>
            <a:off x="571680" y="0"/>
            <a:ext cx="7643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Какие слова нужно поставить вместо точек?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28760" y="5000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714680" y="9288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5000760" y="12859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642960" y="2428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500800" y="23572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4857840" y="3143160"/>
            <a:ext cx="92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5357880" y="3857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5715000" y="4143240"/>
            <a:ext cx="9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123\Рабочий стол\Анимашки\245.gif"/>
          <p:cNvPicPr/>
          <p:nvPr/>
        </p:nvPicPr>
        <p:blipFill>
          <a:blip r:embed="rId2"/>
          <a:stretch/>
        </p:blipFill>
        <p:spPr>
          <a:xfrm>
            <a:off x="6477120" y="4952880"/>
            <a:ext cx="2666880" cy="1905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7"/>
          <p:cNvSpPr/>
          <p:nvPr/>
        </p:nvSpPr>
        <p:spPr>
          <a:xfrm>
            <a:off x="500040" y="20001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в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0" y="428760"/>
          <a:ext cx="8929800" cy="621504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6215040">
                <a:tc>
                  <a:txBody>
                    <a:bodyPr lIns="114480" rIns="114480" tIns="0" bIns="0" anchor="t">
                      <a:noAutofit/>
                    </a:bodyPr>
                    <a:p>
                      <a:pPr marL="457200" indent="125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ерёзу милую, родную считают символом России.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125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4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спета в  музыке, живописи.                     напи-сано немало стихов, расска-зов, сказок</a:t>
                      </a:r>
                      <a:r>
                        <a:rPr b="1" lang="ru-RU" sz="5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.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Box 4"/>
          <p:cNvSpPr/>
          <p:nvPr/>
        </p:nvSpPr>
        <p:spPr>
          <a:xfrm>
            <a:off x="714240" y="200016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рё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85960" y="207180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3857760" y="264312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 берёз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286160" y="264312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C:\Documents and Settings\123\Рабочий стол\Анимашки\7f87cd8f8528.gif"/>
          <p:cNvPicPr/>
          <p:nvPr/>
        </p:nvPicPr>
        <p:blipFill>
          <a:blip r:embed="rId2"/>
          <a:stretch/>
        </p:blipFill>
        <p:spPr>
          <a:xfrm>
            <a:off x="7286760" y="5000760"/>
            <a:ext cx="15714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214200" y="1214280"/>
          <a:ext cx="8643960" cy="5286600"/>
        </p:xfrm>
        <a:graphic>
          <a:graphicData uri="http://schemas.openxmlformats.org/drawingml/2006/table">
            <a:tbl>
              <a:tblPr/>
              <a:tblGrid>
                <a:gridCol w="2330640"/>
                <a:gridCol w="3232080"/>
                <a:gridCol w="3081240"/>
              </a:tblGrid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2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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1"/>
          <p:cNvSpPr/>
          <p:nvPr/>
        </p:nvSpPr>
        <p:spPr>
          <a:xfrm>
            <a:off x="428760" y="-145800"/>
            <a:ext cx="8072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Calibri"/>
              </a:rPr>
              <a:t>Местоимени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 – часть речи, которая указывает на </a:t>
            </a:r>
            <a:r>
              <a:rPr b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Documents and Settings\123\Рабочий стол\Анимашки\1\AG00092_.GIF"/>
          <p:cNvPicPr/>
          <p:nvPr/>
        </p:nvPicPr>
        <p:blipFill>
          <a:blip r:embed="rId2"/>
          <a:stretch/>
        </p:blipFill>
        <p:spPr>
          <a:xfrm>
            <a:off x="3714840" y="307188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Documents and Settings\123\Рабочий стол\Анимашки\1\AG00092_.GIF"/>
          <p:cNvPicPr/>
          <p:nvPr/>
        </p:nvPicPr>
        <p:blipFill>
          <a:blip r:embed="rId3"/>
          <a:stretch/>
        </p:blipFill>
        <p:spPr>
          <a:xfrm>
            <a:off x="7072200" y="3071880"/>
            <a:ext cx="343080" cy="333360"/>
          </a:xfrm>
          <a:prstGeom prst="rect">
            <a:avLst/>
          </a:prstGeom>
          <a:ln w="0">
            <a:noFill/>
          </a:ln>
        </p:spPr>
      </p:pic>
      <p:sp>
        <p:nvSpPr>
          <p:cNvPr id="125" name="Равнобедренный треугольник 10"/>
          <p:cNvSpPr/>
          <p:nvPr/>
        </p:nvSpPr>
        <p:spPr>
          <a:xfrm>
            <a:off x="3929040" y="535788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ручное управление 11"/>
          <p:cNvSpPr/>
          <p:nvPr/>
        </p:nvSpPr>
        <p:spPr>
          <a:xfrm>
            <a:off x="3071880" y="5357880"/>
            <a:ext cx="428400" cy="357120"/>
          </a:xfrm>
          <a:prstGeom prst="flowChartManualOperation">
            <a:avLst/>
          </a:prstGeom>
          <a:solidFill>
            <a:srgbClr val="f0a22e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123\Рабочий стол\Анимашки\85.gif"/>
          <p:cNvPicPr/>
          <p:nvPr/>
        </p:nvPicPr>
        <p:blipFill>
          <a:blip r:embed="rId4"/>
          <a:stretch/>
        </p:blipFill>
        <p:spPr>
          <a:xfrm>
            <a:off x="4929120" y="4857840"/>
            <a:ext cx="571680" cy="5428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3"/>
          <p:cNvSpPr/>
          <p:nvPr/>
        </p:nvSpPr>
        <p:spPr>
          <a:xfrm>
            <a:off x="4572000" y="171468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7429680" y="178596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500040" y="20001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 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428760" y="321480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 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428760" y="507204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 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3357720" y="34290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6715080" y="350028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2714760" y="564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3643200" y="571500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4643280" y="52149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5"/>
          <p:cNvSpPr/>
          <p:nvPr/>
        </p:nvSpPr>
        <p:spPr>
          <a:xfrm>
            <a:off x="6715080" y="5500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6"/>
          <p:cNvSpPr/>
          <p:nvPr/>
        </p:nvSpPr>
        <p:spPr>
          <a:xfrm>
            <a:off x="7643880" y="214200"/>
            <a:ext cx="1214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2571840" y="114300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Единственн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8"/>
          <p:cNvSpPr/>
          <p:nvPr/>
        </p:nvSpPr>
        <p:spPr>
          <a:xfrm>
            <a:off x="5786280" y="114300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ножественн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5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42920" y="1785960"/>
          <a:ext cx="8858160" cy="2663640"/>
        </p:xfrm>
        <a:graphic>
          <a:graphicData uri="http://schemas.openxmlformats.org/drawingml/2006/table">
            <a:tbl>
              <a:tblPr/>
              <a:tblGrid>
                <a:gridCol w="8858160"/>
              </a:tblGrid>
              <a:tr h="29433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Я (1л., ед.ч.), ты (2 л., ед ч.), он (3л., ед.ч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Мы (1л., мн.ч.,), вы (2л., мн.ч.), они (3 л.,мн.ч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Он (3л.,ед.ч.),она (3 л., ед. ч.), оно (3 л. ед.ч.)</a:t>
                      </a: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Ока , окно, око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1000080" y="502920"/>
            <a:ext cx="698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Упражнение 294   (ЭТАЛО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3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214200" y="383400"/>
            <a:ext cx="835848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Задание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Прочитайте текст, определите границы предложений. Выпишите предложения с местоим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Calibri"/>
              </a:rPr>
              <a:t>Ночью выпал снег он покрыл землю пушистым ковром налетела вьюга она подняла в воздух легкие снежинки они закружились в хоро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357120" y="50004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н покрыл землю пушистым ков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357120" y="214308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на подняла в воздух лёгкие снежин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285840" y="371484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ни закружились в хоровод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Documents and Settings\123\Рабочий стол\Word's Clips\OFFICE\SNOWFLK8.WMF"/>
          <p:cNvPicPr/>
          <p:nvPr/>
        </p:nvPicPr>
        <p:blipFill>
          <a:blip r:embed="rId2"/>
          <a:stretch/>
        </p:blipFill>
        <p:spPr>
          <a:xfrm>
            <a:off x="7215120" y="642960"/>
            <a:ext cx="1428840" cy="130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123\Рабочий стол\Word's Clips\OFFICE\SNOWFLK8.WMF"/>
          <p:cNvPicPr/>
          <p:nvPr/>
        </p:nvPicPr>
        <p:blipFill>
          <a:blip r:embed="rId3"/>
          <a:stretch/>
        </p:blipFill>
        <p:spPr>
          <a:xfrm>
            <a:off x="6929280" y="5072040"/>
            <a:ext cx="1428840" cy="1300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123\Рабочий стол\Word's Clips\OFFICE\SNOWFLK8.WMF"/>
          <p:cNvPicPr/>
          <p:nvPr/>
        </p:nvPicPr>
        <p:blipFill>
          <a:blip r:embed="rId4"/>
          <a:stretch/>
        </p:blipFill>
        <p:spPr>
          <a:xfrm>
            <a:off x="3786120" y="4929120"/>
            <a:ext cx="1428840" cy="1300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123\Рабочий стол\Word's Clips\OFFICE\SNOWFLK8.WMF"/>
          <p:cNvPicPr/>
          <p:nvPr/>
        </p:nvPicPr>
        <p:blipFill>
          <a:blip r:embed="rId5"/>
          <a:stretch/>
        </p:blipFill>
        <p:spPr>
          <a:xfrm>
            <a:off x="428760" y="5357880"/>
            <a:ext cx="1428480" cy="1299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Documents and Settings\123\Рабочий стол\Word's Clips\OFFICE\SNOWFLK8.WMF"/>
          <p:cNvPicPr/>
          <p:nvPr/>
        </p:nvPicPr>
        <p:blipFill>
          <a:blip r:embed="rId6"/>
          <a:stretch/>
        </p:blipFill>
        <p:spPr>
          <a:xfrm>
            <a:off x="7072200" y="3214800"/>
            <a:ext cx="142884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650"/>
                            </p:stCondLst>
                            <p:childTnLst>
                              <p:par>
                                <p:cTn id="5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650"/>
                            </p:stCondLst>
                            <p:childTnLst>
                              <p:par>
                                <p:cTn id="5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65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150"/>
                            </p:stCondLst>
                            <p:childTnLst>
                              <p:par>
                                <p:cTn id="5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150"/>
                            </p:stCondLst>
                            <p:childTnLst>
                              <p:par>
                                <p:cTn id="54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0:24:36Z</dcterms:created>
  <dc:creator>Татьяна Владимировна</dc:creator>
  <dc:description/>
  <dc:language>en-US</dc:language>
  <cp:lastModifiedBy>Татьяна</cp:lastModifiedBy>
  <dcterms:modified xsi:type="dcterms:W3CDTF">2009-11-29T14:07:35Z</dcterms:modified>
  <cp:revision>23</cp:revision>
  <dc:subject/>
  <dc:title>. . .  люблю русскую берёзу. Недавно  . . .  были в берёзовом лесу. Какой Ваня молодец! Сколько  . . . подберёзовиков нашёл. А  . . . , ребята, сколько нашли? Вот выглянуло солнце из-за тучи.    . . .   осветило всю землю. На ветку берёзы села ворона.   . . .  громко закаркала. На другой ветке сидел воробей.  . . .  чистил свои пёрышки. Мы любим наблюдать за птицами, . . . помогают нам узнавать новое.   Вместо каких слов употребляются местоимения? Зачем они употребляются?</dc:title>
</cp:coreProperties>
</file>