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D32-5D40-4F55-BF93-AF018CBB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AAF-7DF3-4ACC-BCD3-EB1F8549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F93-2DB1-4A6E-A6E7-5A933539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8AD-A0C9-45DD-898F-E333529F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57D8-8010-418B-93B4-9697CEB4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AAB9-337C-4675-83A9-5C0FC781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68E9-3B71-4343-B48F-F0CE79C7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4E58-AC5D-4290-B241-80B655A7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DEDB-0FDC-4E06-AFE9-2346C972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3595-7271-4E28-9380-8B9E3542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FB2-D8B0-4882-A290-74FB833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142-D4EB-4FB9-8008-C2F459E2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3B8F-36B1-4FA7-AE69-0896C2F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C415-0698-4DCE-87A9-54E32DD5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E0BD-1F65-4960-9106-75E175C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8DD3-CB91-4BFC-BDE1-03BE68EC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AD81-E4DB-474C-B782-98785F22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4B3-210D-4123-85D6-B3573349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DC9-7300-46B5-AF87-269C788B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EE6-FAC3-42F6-A633-0AC449A1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6C4-9429-4391-A73E-1D7199D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26C-7325-4419-BB85-6B79C89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76D-2896-453A-8CF8-00D34BB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2CB-2CDE-4769-95DC-C4132C4E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7064-D197-468D-8F54-6AD971BC97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71CB-9992-4412-A22C-CAA02E86FD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826920" y="981000"/>
            <a:ext cx="813780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Плазма</cp:lastModifiedBy>
  <dcterms:modified xsi:type="dcterms:W3CDTF">2011-12-13T15:36:57Z</dcterms:modified>
  <cp:revision>4</cp:revision>
  <dc:subject/>
  <dc:title>Слайд 1</dc:title>
</cp:coreProperties>
</file>