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26D-7942-4A44-9143-BE4B8E2B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B38-A78B-4662-993F-A36C0353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212-7C06-49F4-8ADF-FFC8EDC1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337-C6CB-45D2-8E7C-CC049094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317A-D070-443E-B17A-9772A740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3CB9-A7E6-4C7E-8BE1-0DAB0375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0332-16FA-44CE-ACB8-1EA08AC7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773C-4056-4785-9C65-1C6A1691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C53F-8685-421C-8C0C-A8B95DDE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F891-1FD1-4855-8C2F-92173A63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BBEF-C823-4CAF-B64B-A8A3EC42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48A-060B-4021-AFDD-B85CF8BE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6396-B298-494F-8029-E4BE1174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7487-AF03-45C8-B73E-19401F91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B331-0913-48AB-8732-E8A2932D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AD55-FA43-4A8F-95E4-343B7CA6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B795-395A-4BF2-BED8-8A0541ED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236-2342-4621-B89E-F21F5294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431-CE23-4BB2-B935-CD4ABD9C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288-5D64-405E-9519-F0DAD9FD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B81-5E3A-4526-8441-9BC4BC7E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057-020D-48DD-A305-9F77E3E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CB1-F92F-4B80-BD8C-9D29036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2AC-7F82-438B-9FC7-6C423D6E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67E1-D57B-4875-875B-3B8A157055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E91B-9A40-4877-AC93-B89A4EC5DE0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826920" y="981000"/>
            <a:ext cx="813780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Плазма</cp:lastModifiedBy>
  <dcterms:modified xsi:type="dcterms:W3CDTF">2011-12-13T15:36:57Z</dcterms:modified>
  <cp:revision>4</cp:revision>
  <dc:subject/>
  <dc:title>Слайд 1</dc:title>
</cp:coreProperties>
</file>