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B9D8-4CF8-4B33-A5CF-EE5F94A40B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16F8-F37C-4061-92DF-64855EA024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1683-56BF-4CD0-823D-7BFB1400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6C6-1825-4FF3-9E78-A8723FDC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A907-B267-4A94-90E1-BBBFB3AD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6861-91F0-443A-B91E-1FA04BF1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0B67-E66F-4F52-87E2-91B3FF8A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260A-D428-4C2D-885C-4943BCDC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8B46-FE29-4249-AA03-02C98E00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CE4-3625-4A29-86FD-73C996DF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E75D-239A-45BC-BCAD-650C14BC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0577-86C8-414F-A7DA-05571064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390-F9D3-446C-9876-6AB9BFDC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6E5-69E8-48EF-BB49-70A20689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008080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B6C9-A40A-4D32-97E9-BB81B7EEF28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3"/>
          <p:cNvSpPr txBox="1"/>
          <p:nvPr/>
        </p:nvSpPr>
        <p:spPr>
          <a:xfrm>
            <a:off x="1066680" y="457200"/>
            <a:ext cx="6019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ВТОРЕНИЕ  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нировочные задания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1 класс 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16"/>
          <p:cNvSpPr txBox="1"/>
          <p:nvPr/>
        </p:nvSpPr>
        <p:spPr>
          <a:xfrm>
            <a:off x="380880" y="1600200"/>
            <a:ext cx="82296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Тренировочные задания В2</a:t>
            </a:r>
            <a:endParaRPr b="1" lang="en-US" sz="66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(графическое представление данных)</a:t>
            </a:r>
            <a:endParaRPr b="1" lang="en-US" sz="66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WordArt 18"/>
          <p:cNvSpPr txBox="1"/>
          <p:nvPr/>
        </p:nvSpPr>
        <p:spPr>
          <a:xfrm>
            <a:off x="914400" y="4191120"/>
            <a:ext cx="8001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дготовила учитель математик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БОУСОШ № 43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.Северская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раснодарский край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Шкребий Ирина Александровна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609480"/>
            <a:ext cx="922824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189000" y="380880"/>
            <a:ext cx="8955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92160" y="609480"/>
            <a:ext cx="89596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rcRect l="0" t="1325" r="0" b="0"/>
          <a:stretch/>
        </p:blipFill>
        <p:spPr>
          <a:xfrm>
            <a:off x="104760" y="533520"/>
            <a:ext cx="8934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643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50760" y="304920"/>
            <a:ext cx="9042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74520" y="914400"/>
            <a:ext cx="9069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41400" y="914400"/>
            <a:ext cx="88740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-4680" y="1066680"/>
            <a:ext cx="91533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5840" y="990720"/>
            <a:ext cx="912816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9805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4920" y="914400"/>
            <a:ext cx="91090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66600" y="228600"/>
            <a:ext cx="86518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114480" y="914400"/>
            <a:ext cx="880092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албесина</cp:lastModifiedBy>
  <dcterms:modified xsi:type="dcterms:W3CDTF">2011-12-12T17:54:21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