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F65F-A15C-48EB-A073-0A659A1D96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DFC0-A99C-4850-9DF7-AA6DF3B164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7A2B-1A8E-4E56-A6BF-646785DA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D41-C9E8-4FEF-9908-9C04804A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1BB-1B2D-4B2D-AFFD-08E637F8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19B6-0A79-4C6A-AE66-52E38284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AAB-AA48-42EA-8AB9-729ECDA9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270-BF93-4E9A-AC13-AA1E2418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E3A-DCF5-465F-850C-5CD076F5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B4E-501E-45E4-B808-909220C6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F3D1-67C5-4851-9495-6B669C15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6F0-21F4-47FC-9DAD-601C14CC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3637-2350-484C-829E-0297A474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B208-5F25-4DFF-9117-0D908512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008080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D4DE-86CA-4EA8-AB57-7656CDBB52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3"/>
          <p:cNvSpPr txBox="1"/>
          <p:nvPr/>
        </p:nvSpPr>
        <p:spPr>
          <a:xfrm>
            <a:off x="1066680" y="45720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ВТОРЕНИЕ 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нировочные задани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1 класс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16"/>
          <p:cNvSpPr txBox="1"/>
          <p:nvPr/>
        </p:nvSpPr>
        <p:spPr>
          <a:xfrm>
            <a:off x="380880" y="1600200"/>
            <a:ext cx="82296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ренировочные задания В2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(графическое представление данных)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18"/>
          <p:cNvSpPr txBox="1"/>
          <p:nvPr/>
        </p:nvSpPr>
        <p:spPr>
          <a:xfrm>
            <a:off x="914400" y="419112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дготовила учитель математик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БОУСОШ № 43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.Северска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раснодарский край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Шкребий Ирина Александровна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609480"/>
            <a:ext cx="92282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189000" y="380880"/>
            <a:ext cx="8955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92160" y="609480"/>
            <a:ext cx="8959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rcRect l="0" t="1325" r="0" b="0"/>
          <a:stretch/>
        </p:blipFill>
        <p:spPr>
          <a:xfrm>
            <a:off x="104760" y="533520"/>
            <a:ext cx="8934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643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50760" y="304920"/>
            <a:ext cx="9042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74520" y="914400"/>
            <a:ext cx="9069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41400" y="914400"/>
            <a:ext cx="8874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-4680" y="1066680"/>
            <a:ext cx="91533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5840" y="990720"/>
            <a:ext cx="912816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9805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4920" y="914400"/>
            <a:ext cx="9109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66600" y="228600"/>
            <a:ext cx="86518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14480" y="914400"/>
            <a:ext cx="880092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лбесина</cp:lastModifiedBy>
  <dcterms:modified xsi:type="dcterms:W3CDTF">2011-12-12T17:54:21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