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7.gif" ContentType="image/gif"/>
  <Override PartName="/ppt/media/image3.png" ContentType="image/pn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E057-11F9-4CF8-A136-7C62F5AA2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2E41-17EF-438E-8252-46085E46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DDC4-AD8E-4D35-81AF-692FA6B2C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ED72-5DF9-4EF6-9BF8-01986B756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D6376-F0BC-4FA6-A55E-3E04EDF08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00BE0-3C51-4560-854C-AC00134E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05228-FA38-4626-8CF8-1AC096EB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69406-A255-4BB1-8E1B-11D0D876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E849F-2C82-415F-BA16-A31BD180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50884-0891-490D-BF37-D95EB6F3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F010FE-350C-4B52-9F37-310FDA04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EF48-87A7-4430-882B-234580A0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571A1-6CF6-4895-9191-72977442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E3CD8-EF60-49EA-9A12-AB1E2B9E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EACD3-5660-46D7-BE94-84DB0831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0DDC6-8BBF-4144-A81F-64E766E1E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71EA5-6E76-41A1-8CE9-7F7661326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8DC0-F62B-49C3-96AC-943A6660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367E-0700-4241-9EF1-0D95AA52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9626-D16A-4F3F-86C4-6D9F85CF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D986-D777-4D33-91CA-86A21DF4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FCC9-5FDA-4615-8EF9-32C82C1A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2F25-7E6B-41DA-8AA4-2225903E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FFFE-E011-4425-92D6-07F487A7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DA97-CCFB-47BD-B748-84175C21B3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2CF3-B8C8-4157-BA80-5B96BF075F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белы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3505320"/>
            <a:ext cx="0" cy="838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55960" y="5365800"/>
            <a:ext cx="34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79640" y="4808520"/>
            <a:ext cx="344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чёрны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Группа ботани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чебник, с. 90, лист – помощник, гербар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Группа зоолог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чебник,с. 90-91, лист – помощник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ллюстрация, с. 92-9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Группа эколог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чебник, с. 91, 94, лист-помощни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7238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58672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7696440" cy="6095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04920" y="304920"/>
            <a:ext cx="784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ятигорск — грязевой курорт всероссийского знач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в группе курортов Кавказских Минеральных Вод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старейший на Северном Кавказ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305920" cy="65037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4920" y="30636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ятигорск. Скульптура «Орел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Это скульптурное изображение ста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изитной карточкой Пятигорс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8229600" cy="57913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478160" y="109440"/>
            <a:ext cx="566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Ессентуки. Грязелечебниц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Ессентукские минеральные в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были открыты в начале 19 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43400" cy="3276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343400" y="0"/>
            <a:ext cx="4800600" cy="3352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0" y="3276720"/>
            <a:ext cx="4343400" cy="3581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4343400" y="3344760"/>
            <a:ext cx="480060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Проверь себ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1. Черноморское побережье Кавказа расположено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) в арктической зоне стран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) в лесной зоне стран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) в субтропической зоне стра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2. Субтропики России – это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) обширная зона в центре стран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) небольшая зона на побережье северных мор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) небольшая зона на побережье Чёрного мор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3429000"/>
            <a:ext cx="5333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5715000"/>
            <a:ext cx="7543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3. На склонах гор в субтропиках часто встречаются следующие растен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) бук, каштан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) ель, сосн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) ольха, лип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4. На Черноморском побережье обитаю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) пчёлы, комары, мошк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) Цикады, богомолы, олеандровые бражник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) шмели, кобылки, жуки – чернотёл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5. В Чёрном море у побережья обитаю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) киты, морские черепахи, олен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) медузы, крабы, морские коньк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) крокодилы, львы, морские коти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1600200"/>
            <a:ext cx="23619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5867280"/>
            <a:ext cx="57909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057400" y="2220840"/>
            <a:ext cx="5181480" cy="35877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457200" y="380880"/>
            <a:ext cx="7162920" cy="15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8001000" y="457200"/>
            <a:ext cx="4287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286000" y="1981080"/>
            <a:ext cx="4648320" cy="33530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304920" y="304920"/>
            <a:ext cx="83818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иродное равновесие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5410080"/>
            <a:ext cx="756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омашнее задание: с. 90-94 читать, пересказ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. 95, вопросы, задание 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* рисун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У Чёрного мор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562360" y="4723920"/>
            <a:ext cx="3276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дготовила Сверкунова М. Н., учитель начальных классов МОУ «Морозовская СОШ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464832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Цели уро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ться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 месторасположением и климатом субтропической зоны Черноморского побережья Кавказ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 растительным миром природной зон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ивотный мир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еятельность люд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30456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23920" y="228240"/>
            <a:ext cx="40388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86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3885840"/>
            <a:ext cx="4038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3962160"/>
            <a:ext cx="4038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4038480" cy="3353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572000" y="457200"/>
            <a:ext cx="4191120" cy="3276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228600" y="3809880"/>
            <a:ext cx="3962520" cy="2590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4648320" y="3809880"/>
            <a:ext cx="41529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82296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рса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дж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жузгу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лосня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караб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105520" y="30456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равянистое растение («песчаный овёс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т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устарн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Жу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Лисич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981080" y="533520"/>
            <a:ext cx="2819520" cy="5181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057400" y="1676520"/>
            <a:ext cx="220968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3124080"/>
            <a:ext cx="2514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133720" y="533520"/>
            <a:ext cx="2590560" cy="3962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286000" y="4419360"/>
            <a:ext cx="2362320" cy="1447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У Чёрного моря.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лан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есторасположение и климат субтропической зоны Черноморского побережья Кавказ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тительный мир природной зон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ивотный мир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еятельность люд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2-13T15:26:1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