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3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B03B-0F62-4E37-BE8D-94F600EC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5269-60ED-42B3-BDF3-493B2C5A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EBE-0D61-48EE-A540-40FE9781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E0ED-D851-4285-AF23-C3A18151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1AB8B-7DD7-4991-9516-03F290C3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A9846-790C-4D55-B162-E2A36569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1BAA0-E5C1-4ADA-84D3-F4AD3508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8A355-78AC-406A-8661-AA01FB27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2B180-459F-408A-8F40-3CC4A239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828B6-68B6-494A-80D1-3B22B65C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D8C15-7A49-4B79-94D2-13A3B6B6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4207-F0A9-453D-A5C0-BCF96472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5E4D9-69EC-47EC-9366-9E9E3AF7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DB181-4830-4B03-98A3-881FFFB6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47443-962F-4FF5-BFF9-38521FA8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62A7D-21D4-41B8-86BB-473BCB51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85BEE-968F-4724-B088-BFD0DC50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7B4D-9C11-46F7-80EF-BDB706DD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7199-B9F6-4120-8812-22A7BB56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9306-69CF-46A5-8132-E1EAD292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DFB4-DA3C-4DCA-B2F4-C2A83FC0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047A-3C06-4474-8126-6B32D60A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6B5D-0E43-4255-923A-7C45932F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40A1-4C87-4699-9726-2F757182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7506-F78E-4888-ABDE-9B1A78BC5D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F6B5-0C7B-467C-AE16-1ABD45B194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белы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3505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55960" y="5365800"/>
            <a:ext cx="34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9640" y="4808520"/>
            <a:ext cx="344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чёрн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руппа ботани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чебник, с. 90, лист – помощник, гербар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руппа зоолог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чебник,с. 90-91, лист – помощни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ллюстрация, с. 92-9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руппа эколог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чебник, с. 91, 94, лист-помощ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58672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7696440" cy="6095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4920" y="304920"/>
            <a:ext cx="784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ятигорск — грязевой курорт всероссийского знач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 группе курортов Кавказских Минеральных Вод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старейший на Северном Кавказ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305920" cy="6503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30636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ятигорск. Скульптура «Орел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Это скульптурное изображение ст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изитной карточкой Пятигорс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229600" cy="5791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78160" y="109440"/>
            <a:ext cx="566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Ессентуки. Грязелечебни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Ессентукские минеральные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ыли открыты в начале 19 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43400" cy="3276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343400" y="0"/>
            <a:ext cx="4800600" cy="3352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3276720"/>
            <a:ext cx="4343400" cy="3581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4343400" y="3344760"/>
            <a:ext cx="48006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Проверь себ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. Черноморское побережье Кавказа расположен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) в арктической зоне стра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) в лесной зоне стра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) в субтропической зоне стра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. Субтропики России – это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) обширная зона в центре стра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) небольшая зона на побережье северных мор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) небольшая зона на побережье Чёрного мор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3429000"/>
            <a:ext cx="5333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5715000"/>
            <a:ext cx="7543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3. На склонах гор в субтропиках часто встречаются следующие раст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) бук, каштан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) ель, сос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) ольха, лип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4. На Черноморском побережье обитаю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) пчёлы, комары, мош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) Цикады, богомолы, олеандровые бражни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) шмели, кобылки, жуки – чернотёл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5. В Чёрном море у побережья обитаю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) киты, морские черепахи, оле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) медузы, крабы, морские конь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) крокодилы, львы, морские коти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600200"/>
            <a:ext cx="2361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5867280"/>
            <a:ext cx="5790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057400" y="2220840"/>
            <a:ext cx="5181480" cy="3587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57200" y="380880"/>
            <a:ext cx="716292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8001000" y="457200"/>
            <a:ext cx="428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4648320" cy="3353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304920" y="304920"/>
            <a:ext cx="83818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родное равновесие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5410080"/>
            <a:ext cx="756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омашнее задание: с. 90-94 читать, пересказ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. 95, вопросы, задание 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* рисун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У Чёрного мор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562360" y="4723920"/>
            <a:ext cx="3276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готовила Сверкунова М. Н., учитель начальных классов МОУ «Морозовская СОШ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464832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Цели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тьс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месторасположением и климатом субтропической зоны Черноморского побережья Кавказ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растительным миром природной зон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вотный ми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ятельность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23920" y="228240"/>
            <a:ext cx="40388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86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3885840"/>
            <a:ext cx="4038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396216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4038480" cy="3353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572000" y="457200"/>
            <a:ext cx="4191120" cy="3276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28600" y="3809880"/>
            <a:ext cx="3962520" cy="2590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648320" y="3809880"/>
            <a:ext cx="4152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рс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дж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жузгу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осня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араб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05520" y="30456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равянистое растение («песчаный овёс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т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устар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Жу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исич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533520"/>
            <a:ext cx="2819520" cy="518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057400" y="1676520"/>
            <a:ext cx="22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3124080"/>
            <a:ext cx="2514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133720" y="533520"/>
            <a:ext cx="2590560" cy="3962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286000" y="4419360"/>
            <a:ext cx="236232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 Чёрного моря.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лан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сторасположение и климат субтропической зоны Черноморского побережья Кавказ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тительный мир природной зон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вотный ми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ятельность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13T15:26:1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