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CD2D-2018-4C63-A808-E2D0E13A99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093F-2630-4292-88BF-5239C4BCF8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1503-793C-45E9-97B7-F8AD4ADF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DEB-348B-4413-8C26-1B10BE1B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4DE-147A-4837-8D0C-548B6CF2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73A4-42DC-4C47-A7AF-050E1A85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F66C-E7B3-4CA3-99BD-C1F3C2AC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F33-10CB-4F07-85C7-57A21BDB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BF0D-6D8C-4910-9EDC-7E704393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B3D1-9A84-4438-9C8A-C221B71C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31AB-7D97-4102-B997-AA41CB8E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7C70-6BA5-4C8A-9D8A-7394A34E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413-F616-417A-BFEC-45730839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ECA-B7C3-4545-9052-FBFCD998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008080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6B7A-42B2-4463-8EC4-A80651136C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3"/>
          <p:cNvSpPr txBox="1"/>
          <p:nvPr/>
        </p:nvSpPr>
        <p:spPr>
          <a:xfrm>
            <a:off x="1066680" y="457200"/>
            <a:ext cx="6019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ВТОРЕНИЕ  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нировочные задания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1 класс 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16"/>
          <p:cNvSpPr txBox="1"/>
          <p:nvPr/>
        </p:nvSpPr>
        <p:spPr>
          <a:xfrm>
            <a:off x="380880" y="1600200"/>
            <a:ext cx="82296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Задачи на составление </a:t>
            </a:r>
            <a:endParaRPr b="1" lang="en-US" sz="66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логарифмических</a:t>
            </a:r>
            <a:endParaRPr b="1" lang="en-US" sz="66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уравнения</a:t>
            </a:r>
            <a:endParaRPr b="1" lang="en-US" sz="66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WordArt 18"/>
          <p:cNvSpPr txBox="1"/>
          <p:nvPr/>
        </p:nvSpPr>
        <p:spPr>
          <a:xfrm>
            <a:off x="914400" y="4191120"/>
            <a:ext cx="8001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дготовила учитель математик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БОУСОШ № 43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.Северская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раснодарский край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Шкребий Ирина Александровна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9240" y="536040"/>
            <a:ext cx="851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каких значениях аргумента графики функц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Object 1"/>
          <p:cNvGraphicFramePr/>
          <p:nvPr/>
        </p:nvGraphicFramePr>
        <p:xfrm>
          <a:off x="228600" y="1600200"/>
          <a:ext cx="831204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3120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3"/>
          <p:cNvSpPr/>
          <p:nvPr/>
        </p:nvSpPr>
        <p:spPr>
          <a:xfrm>
            <a:off x="1533600" y="3125880"/>
            <a:ext cx="38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ют общие точ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9240" y="688680"/>
            <a:ext cx="851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каких значениях аргумента графики функц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Object 1"/>
          <p:cNvGraphicFramePr/>
          <p:nvPr/>
        </p:nvGraphicFramePr>
        <p:xfrm>
          <a:off x="304920" y="1600200"/>
          <a:ext cx="84582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458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3"/>
          <p:cNvSpPr/>
          <p:nvPr/>
        </p:nvSpPr>
        <p:spPr>
          <a:xfrm>
            <a:off x="467640" y="3735360"/>
            <a:ext cx="36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ют общие точ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39240" y="536040"/>
            <a:ext cx="851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каких значениях аргумента графики функц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Object 1"/>
          <p:cNvGraphicFramePr/>
          <p:nvPr/>
        </p:nvGraphicFramePr>
        <p:xfrm>
          <a:off x="0" y="2133720"/>
          <a:ext cx="891540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89154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3"/>
          <p:cNvSpPr/>
          <p:nvPr/>
        </p:nvSpPr>
        <p:spPr>
          <a:xfrm>
            <a:off x="1991520" y="3659040"/>
            <a:ext cx="36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ют общие точ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39240" y="764640"/>
            <a:ext cx="851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каких значениях аргумента графики функц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" name="Object 1"/>
          <p:cNvGraphicFramePr/>
          <p:nvPr/>
        </p:nvGraphicFramePr>
        <p:xfrm>
          <a:off x="228600" y="1676520"/>
          <a:ext cx="869328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6932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Rectangle 3"/>
          <p:cNvSpPr/>
          <p:nvPr/>
        </p:nvSpPr>
        <p:spPr>
          <a:xfrm>
            <a:off x="239040" y="3430440"/>
            <a:ext cx="36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ют общие точ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39240" y="-73440"/>
            <a:ext cx="841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каких значениях аргумента графики функ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Object 1"/>
          <p:cNvGraphicFramePr/>
          <p:nvPr/>
        </p:nvGraphicFramePr>
        <p:xfrm>
          <a:off x="228600" y="1905120"/>
          <a:ext cx="868680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86868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Rectangle 3"/>
          <p:cNvSpPr/>
          <p:nvPr/>
        </p:nvSpPr>
        <p:spPr>
          <a:xfrm>
            <a:off x="1838880" y="3506760"/>
            <a:ext cx="37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ют общие точ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9240" y="-73440"/>
            <a:ext cx="851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каких значениях аргумента графики функц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" name="Object 1"/>
          <p:cNvGraphicFramePr/>
          <p:nvPr/>
        </p:nvGraphicFramePr>
        <p:xfrm>
          <a:off x="228600" y="1752480"/>
          <a:ext cx="861048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6104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3"/>
          <p:cNvSpPr/>
          <p:nvPr/>
        </p:nvSpPr>
        <p:spPr>
          <a:xfrm>
            <a:off x="1915200" y="2973240"/>
            <a:ext cx="36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ют общие точ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191520" y="917280"/>
            <a:ext cx="841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каких значениях аргумента графики функ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" name="Object 1"/>
          <p:cNvGraphicFramePr/>
          <p:nvPr/>
        </p:nvGraphicFramePr>
        <p:xfrm>
          <a:off x="533520" y="2133720"/>
          <a:ext cx="84787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478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3"/>
          <p:cNvSpPr/>
          <p:nvPr/>
        </p:nvSpPr>
        <p:spPr>
          <a:xfrm>
            <a:off x="315000" y="3278160"/>
            <a:ext cx="36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ют общие точ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39240" y="-73440"/>
            <a:ext cx="851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каких значениях аргумента графики функц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Object 1"/>
          <p:cNvGraphicFramePr/>
          <p:nvPr/>
        </p:nvGraphicFramePr>
        <p:xfrm>
          <a:off x="304920" y="1219320"/>
          <a:ext cx="853416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5341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3"/>
          <p:cNvSpPr/>
          <p:nvPr/>
        </p:nvSpPr>
        <p:spPr>
          <a:xfrm>
            <a:off x="163440" y="2516040"/>
            <a:ext cx="36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ют общие точ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албесина</cp:lastModifiedBy>
  <dcterms:modified xsi:type="dcterms:W3CDTF">2011-12-12T17:00:29Z</dcterms:modified>
  <cp:revision>1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