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43C3-92D7-479D-A344-6F35654EE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791C-256C-4E3C-8718-2071A2A77D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D2E-D383-4058-B099-B3F3B62D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C4A-92A9-4EB1-B3BC-CCB46BE1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471-82B9-4D9A-A406-B6BE934F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BBC-222B-40A0-8A15-9B388C6E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0EE-68B1-4CD7-9CC6-0EEBEFA3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E39-F1DA-489D-9F4E-B0496D32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62E-C74C-48FF-9E12-D55B263D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272-72BF-4D3F-AD9F-AC62DBA2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DE5-345A-4B35-9859-CCC6B61D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3A4-7DAC-48D3-8AD6-178BECD8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835-A996-48F0-B2BF-9A1CB26E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69B-604C-439E-B04A-412F2F36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6E14-3F7D-4B92-9CC2-F60AFA7596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чи на составление 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логарифмических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уравнения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9240" y="536040"/>
            <a:ext cx="85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228600" y="1600200"/>
          <a:ext cx="83120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312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3"/>
          <p:cNvSpPr/>
          <p:nvPr/>
        </p:nvSpPr>
        <p:spPr>
          <a:xfrm>
            <a:off x="1533600" y="3125880"/>
            <a:ext cx="38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9240" y="688680"/>
            <a:ext cx="85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1"/>
          <p:cNvGraphicFramePr/>
          <p:nvPr/>
        </p:nvGraphicFramePr>
        <p:xfrm>
          <a:off x="304920" y="1600200"/>
          <a:ext cx="84582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458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3"/>
          <p:cNvSpPr/>
          <p:nvPr/>
        </p:nvSpPr>
        <p:spPr>
          <a:xfrm>
            <a:off x="467640" y="3735360"/>
            <a:ext cx="36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9240" y="536040"/>
            <a:ext cx="85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Object 1"/>
          <p:cNvGraphicFramePr/>
          <p:nvPr/>
        </p:nvGraphicFramePr>
        <p:xfrm>
          <a:off x="0" y="2133720"/>
          <a:ext cx="891540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89154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3"/>
          <p:cNvSpPr/>
          <p:nvPr/>
        </p:nvSpPr>
        <p:spPr>
          <a:xfrm>
            <a:off x="1991520" y="3659040"/>
            <a:ext cx="36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9240" y="764640"/>
            <a:ext cx="85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Object 1"/>
          <p:cNvGraphicFramePr/>
          <p:nvPr/>
        </p:nvGraphicFramePr>
        <p:xfrm>
          <a:off x="228600" y="1676520"/>
          <a:ext cx="86932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6932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3"/>
          <p:cNvSpPr/>
          <p:nvPr/>
        </p:nvSpPr>
        <p:spPr>
          <a:xfrm>
            <a:off x="239040" y="3430440"/>
            <a:ext cx="36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9240" y="-73440"/>
            <a:ext cx="841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Object 1"/>
          <p:cNvGraphicFramePr/>
          <p:nvPr/>
        </p:nvGraphicFramePr>
        <p:xfrm>
          <a:off x="228600" y="1905120"/>
          <a:ext cx="86868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686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3"/>
          <p:cNvSpPr/>
          <p:nvPr/>
        </p:nvSpPr>
        <p:spPr>
          <a:xfrm>
            <a:off x="1838880" y="3506760"/>
            <a:ext cx="37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9240" y="-73440"/>
            <a:ext cx="85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Object 1"/>
          <p:cNvGraphicFramePr/>
          <p:nvPr/>
        </p:nvGraphicFramePr>
        <p:xfrm>
          <a:off x="228600" y="1752480"/>
          <a:ext cx="86104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10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3"/>
          <p:cNvSpPr/>
          <p:nvPr/>
        </p:nvSpPr>
        <p:spPr>
          <a:xfrm>
            <a:off x="1915200" y="2973240"/>
            <a:ext cx="36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91520" y="917280"/>
            <a:ext cx="841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" name="Object 1"/>
          <p:cNvGraphicFramePr/>
          <p:nvPr/>
        </p:nvGraphicFramePr>
        <p:xfrm>
          <a:off x="533520" y="2133720"/>
          <a:ext cx="8478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478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3"/>
          <p:cNvSpPr/>
          <p:nvPr/>
        </p:nvSpPr>
        <p:spPr>
          <a:xfrm>
            <a:off x="315000" y="3278160"/>
            <a:ext cx="36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39240" y="-73440"/>
            <a:ext cx="85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Object 1"/>
          <p:cNvGraphicFramePr/>
          <p:nvPr/>
        </p:nvGraphicFramePr>
        <p:xfrm>
          <a:off x="304920" y="1219320"/>
          <a:ext cx="85341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534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3"/>
          <p:cNvSpPr/>
          <p:nvPr/>
        </p:nvSpPr>
        <p:spPr>
          <a:xfrm>
            <a:off x="163440" y="2516040"/>
            <a:ext cx="36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12T17:00:29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