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2F31-F338-4ABF-8B5E-384F0A44C8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4599-1526-4C00-8B64-0E0FA6C988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9DD-FD7D-4119-A76F-E96B5841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2A5-A2C2-4344-B8DE-77073201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0313-60D4-4CAF-B320-B408342C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1EAB-C285-4BB4-B600-E310A825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203-E93F-4BC1-9DE8-952FD8F5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F2B-2A7C-46B2-9A25-2FFA2E39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53E5-0837-4707-838E-3F6D2ACA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4C4-0E26-4EB1-B611-61A9A0CF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59D-633F-45E7-9252-FD826ACE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34A0-2655-4386-97CB-2BDA94EB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D7E-5061-49AA-B47F-6A1BF419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1E9-384A-4F08-ADD8-AEE1EE0E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008080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B07F-C4DD-4845-B20A-B7C280DE16C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3"/>
          <p:cNvSpPr txBox="1"/>
          <p:nvPr/>
        </p:nvSpPr>
        <p:spPr>
          <a:xfrm>
            <a:off x="1066680" y="45720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ВТОРЕНИЕ 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нировочные задани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1 класс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16"/>
          <p:cNvSpPr txBox="1"/>
          <p:nvPr/>
        </p:nvSpPr>
        <p:spPr>
          <a:xfrm>
            <a:off x="380880" y="1600200"/>
            <a:ext cx="82296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Задачи В 4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(на умение использовать приобретенные знания 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умения и навыки в  практической 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еятельности и повседневной жизни )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18"/>
          <p:cNvSpPr txBox="1"/>
          <p:nvPr/>
        </p:nvSpPr>
        <p:spPr>
          <a:xfrm>
            <a:off x="914400" y="419112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дготовила учитель математик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БОУСОШ № 43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.Северска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раснодарский край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Шкребий Ирина Александровна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92160" y="1143000"/>
            <a:ext cx="670716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-6480" y="1600200"/>
            <a:ext cx="915048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-34920" y="1371600"/>
            <a:ext cx="9213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838080"/>
            <a:ext cx="8906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534960" y="609480"/>
            <a:ext cx="612144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731196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-817560" y="0"/>
            <a:ext cx="1049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104760" y="1469880"/>
            <a:ext cx="87343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-128520" y="990720"/>
            <a:ext cx="9258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2600" y="1066680"/>
            <a:ext cx="9085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-76320" y="1219320"/>
            <a:ext cx="9298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лбесина</cp:lastModifiedBy>
  <dcterms:modified xsi:type="dcterms:W3CDTF">2011-12-12T17:48:33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