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95B9-FC97-488F-A187-48DE47DF7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8AE3-D36D-4EE6-9F17-B3D3C048D2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116-AE6D-4580-BD95-890970D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DD1-2677-4144-BF3C-96D7F16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D1E-FB1C-46B6-B5D7-931A2168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E72-A298-48C7-8848-7BF89B98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CC3-7205-4B2C-B0A6-B2F81BD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62A-591E-40D3-ABA2-FD5D53A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9B8-B287-4E1E-A90B-545AD1A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C71-92E4-41C7-982D-98FD5947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47E-87A4-41B7-9391-6336A49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62D-E428-4181-9BCF-34A0EF1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130-9B5A-44AC-A83C-07B60BB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0CA-A432-4C7B-A56F-484D2C3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701F-E9F4-45D1-8E50-F9E3398497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В 4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(на умение использовать приобретенные знания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мения и навыки в  практической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еятельности и повседневной жизни )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92160" y="1143000"/>
            <a:ext cx="67071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-6480" y="1600200"/>
            <a:ext cx="91504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-34920" y="1371600"/>
            <a:ext cx="921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838080"/>
            <a:ext cx="8906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34960" y="609480"/>
            <a:ext cx="612144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11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817560" y="0"/>
            <a:ext cx="1049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04760" y="1469880"/>
            <a:ext cx="87343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-128520" y="990720"/>
            <a:ext cx="925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2600" y="1066680"/>
            <a:ext cx="9085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-76320" y="1219320"/>
            <a:ext cx="9298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48:33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