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53F-6A9D-4136-930C-8F8163FD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E26-57EB-4616-88CE-C5F5E9D8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7DB-F7D8-4D63-A2CC-5B4C3EAE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F36-E0DF-4C04-A3CD-C3682418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0E9-1B46-4E0D-85FA-E2CA7824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07B-3D44-4AD8-A9B5-E1736B79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A45-68A5-4CC0-9A69-9396AE9C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048-74B9-44BF-A0F2-52FD5DBF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042-23FC-4F2F-8005-A55F04FF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727-3516-4BE4-A02A-10C821C2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A5A-C654-4BE9-98E1-76BDA79F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5AD-416F-4AF5-BF70-333AB8E6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0653-79EB-436A-87BA-E903C56A98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9.jpeg"/><Relationship Id="rId3" Type="http://schemas.openxmlformats.org/officeDocument/2006/relationships/image" Target="../media/image38.jpeg"/><Relationship Id="rId4" Type="http://schemas.openxmlformats.org/officeDocument/2006/relationships/image" Target="../media/image36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user\Рабочий стол\Пустыня\мечеть.bmp"/>
          <p:cNvPicPr/>
          <p:nvPr/>
        </p:nvPicPr>
        <p:blipFill>
          <a:blip r:embed="rId1"/>
          <a:stretch/>
        </p:blipFill>
        <p:spPr>
          <a:xfrm>
            <a:off x="304920" y="1295280"/>
            <a:ext cx="2743200" cy="3043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Художественная культура Средней 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user\Рабочий стол\Пустыня\Иран.bmp"/>
          <p:cNvPicPr/>
          <p:nvPr/>
        </p:nvPicPr>
        <p:blipFill>
          <a:blip r:embed="rId2"/>
          <a:stretch/>
        </p:blipFill>
        <p:spPr>
          <a:xfrm>
            <a:off x="4800600" y="1828800"/>
            <a:ext cx="399096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user\Рабочий стол\Пустыня\минарет.bmp"/>
          <p:cNvPicPr/>
          <p:nvPr/>
        </p:nvPicPr>
        <p:blipFill>
          <a:blip r:embed="rId3"/>
          <a:stretch/>
        </p:blipFill>
        <p:spPr>
          <a:xfrm>
            <a:off x="2666880" y="2819520"/>
            <a:ext cx="243864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Минарет2"/>
          <p:cNvPicPr/>
          <p:nvPr/>
        </p:nvPicPr>
        <p:blipFill>
          <a:blip r:embed="rId1"/>
          <a:stretch/>
        </p:blipFill>
        <p:spPr>
          <a:xfrm>
            <a:off x="457200" y="0"/>
            <a:ext cx="4343400" cy="7074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4952880" y="19051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мвол ислама  – мин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минарет Парижской мечети "/>
          <p:cNvPicPr/>
          <p:nvPr/>
        </p:nvPicPr>
        <p:blipFill>
          <a:blip r:embed="rId1"/>
          <a:stretch/>
        </p:blipFill>
        <p:spPr>
          <a:xfrm>
            <a:off x="2895480" y="2743200"/>
            <a:ext cx="2975040" cy="3962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Мечеть"/>
          <p:cNvPicPr/>
          <p:nvPr/>
        </p:nvPicPr>
        <p:blipFill>
          <a:blip r:embed="rId2"/>
          <a:stretch/>
        </p:blipFill>
        <p:spPr>
          <a:xfrm>
            <a:off x="6019920" y="533520"/>
            <a:ext cx="2966760" cy="617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3"/>
          <a:stretch/>
        </p:blipFill>
        <p:spPr>
          <a:xfrm>
            <a:off x="2666880" y="152280"/>
            <a:ext cx="2971800" cy="2517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1743120" cy="283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23464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Портал медресе Нодира диван беги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Медресе Улугбека "/>
          <p:cNvPicPr/>
          <p:nvPr/>
        </p:nvPicPr>
        <p:blipFill>
          <a:blip r:embed="rId1"/>
          <a:stretch/>
        </p:blipFill>
        <p:spPr>
          <a:xfrm>
            <a:off x="990720" y="228600"/>
            <a:ext cx="7391160" cy="6332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4176720" y="333360"/>
            <a:ext cx="4759200" cy="634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250920" y="3878280"/>
            <a:ext cx="36734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42498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ok Antiqua"/>
              </a:rPr>
              <a:t>АРХИТЕКТУРНЫЕ ПОСТРОЙКИ КУЛЬТОВОГО НАЗН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52280" y="2924280"/>
            <a:ext cx="434340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 Antiqua"/>
              </a:rPr>
              <a:t>Мечеть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    («масджит» - «место коленопреклонения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Мечеть Кул Шариф "/>
          <p:cNvPicPr/>
          <p:nvPr/>
        </p:nvPicPr>
        <p:blipFill>
          <a:blip r:embed="rId1"/>
          <a:stretch/>
        </p:blipFill>
        <p:spPr>
          <a:xfrm>
            <a:off x="4419720" y="0"/>
            <a:ext cx="4419360" cy="6629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68360" y="623736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ечеть Кул Шариф в Каз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191120" y="457200"/>
            <a:ext cx="4647960" cy="69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Comic Sans MS"/>
              </a:rPr>
              <a:t>Элементы мече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Купол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- символ божественного духа и совершен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Минарет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– круглая или многоугольная башня с балко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Квадратный двор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окруженный галере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Пятиконечная звезд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(символ «пяти столпов ислама») и 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полумесяц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(напоминает о лунном календар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Водоем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с проточной водой для ритуальных омов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Михраб1"/>
          <p:cNvPicPr/>
          <p:nvPr/>
        </p:nvPicPr>
        <p:blipFill>
          <a:blip r:embed="rId1"/>
          <a:stretch/>
        </p:blipFill>
        <p:spPr>
          <a:xfrm>
            <a:off x="228600" y="304920"/>
            <a:ext cx="340524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28600" y="5257800"/>
            <a:ext cx="35812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996633"/>
                </a:solidFill>
                <a:latin typeface="Comic Sans MS"/>
              </a:rPr>
              <a:t>Михраб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– священная арка или ниша в стене мечети, указывающая направление  на Мек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Минаре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Турецкий флаг"/>
          <p:cNvPicPr/>
          <p:nvPr/>
        </p:nvPicPr>
        <p:blipFill>
          <a:blip r:embed="rId1"/>
          <a:stretch/>
        </p:blipFill>
        <p:spPr>
          <a:xfrm>
            <a:off x="5076720" y="333360"/>
            <a:ext cx="3353040" cy="21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Мечеть медресе Ляля Тюльпан"/>
          <p:cNvPicPr/>
          <p:nvPr/>
        </p:nvPicPr>
        <p:blipFill>
          <a:blip r:embed="rId2"/>
          <a:stretch/>
        </p:blipFill>
        <p:spPr>
          <a:xfrm>
            <a:off x="228600" y="228600"/>
            <a:ext cx="3805200" cy="6400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4356000" y="3116160"/>
            <a:ext cx="4608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380880"/>
            <a:ext cx="91440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ook Antiqua"/>
              </a:rPr>
              <a:t>АРХИТЕКТУРНЫЕ ПОСТРОЙКИ КУЛЬТОВОГО НА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едресе (араб. - «место учения») - религиозная школа или университет, одновременно – меч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ля изучения арабского языка, Корана и исламских дисцип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Медресе Шир-Дор "/>
          <p:cNvPicPr/>
          <p:nvPr/>
        </p:nvPicPr>
        <p:blipFill>
          <a:blip r:embed="rId1"/>
          <a:stretch/>
        </p:blipFill>
        <p:spPr>
          <a:xfrm>
            <a:off x="179280" y="3357720"/>
            <a:ext cx="4572000" cy="291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Медресе Аттарин"/>
          <p:cNvPicPr/>
          <p:nvPr/>
        </p:nvPicPr>
        <p:blipFill>
          <a:blip r:embed="rId2"/>
          <a:stretch/>
        </p:blipFill>
        <p:spPr>
          <a:xfrm>
            <a:off x="5003640" y="3284640"/>
            <a:ext cx="3935520" cy="2952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04920" y="6308640"/>
            <a:ext cx="43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Медресе Шир – Дор, 17 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876920" y="630864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Медресе Аттар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4952880" y="990720"/>
            <a:ext cx="3429000" cy="990360"/>
          </a:xfrm>
          <a:prstGeom prst="rect">
            <a:avLst/>
          </a:prstGeom>
          <a:noFill/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4441680" cy="327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851360" cy="3353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3529080" cy="13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АРХИТЕКТУРНЫЕ ПОСТРОЙКИ КУЛЬТОВОГО НАЗНАЧ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Мавзолей Саманидов "/>
          <p:cNvPicPr/>
          <p:nvPr/>
        </p:nvPicPr>
        <p:blipFill>
          <a:blip r:embed="rId1"/>
          <a:stretch/>
        </p:blipFill>
        <p:spPr>
          <a:xfrm>
            <a:off x="228600" y="3352680"/>
            <a:ext cx="4648320" cy="331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Мавзолей Х Бургибы"/>
          <p:cNvPicPr/>
          <p:nvPr/>
        </p:nvPicPr>
        <p:blipFill>
          <a:blip r:embed="rId2"/>
          <a:stretch/>
        </p:blipFill>
        <p:spPr>
          <a:xfrm>
            <a:off x="3809880" y="152280"/>
            <a:ext cx="5143680" cy="3772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029200" y="617220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Мавзолей Самани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257800" y="4038480"/>
            <a:ext cx="358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Мавзолей Бургиб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Мавзолей Тадж Махал Индия 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4766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2195640" y="6019920"/>
            <a:ext cx="67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Book Antiqua"/>
              </a:rPr>
              <a:t>Мавзолей Тадж Махал в Агре (Индия), сер. 17 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Мечеть Кул Шариф "/>
          <p:cNvPicPr/>
          <p:nvPr/>
        </p:nvPicPr>
        <p:blipFill>
          <a:blip r:embed="rId1"/>
          <a:stretch/>
        </p:blipFill>
        <p:spPr>
          <a:xfrm>
            <a:off x="304920" y="152280"/>
            <a:ext cx="2514600" cy="377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380880" y="4151160"/>
            <a:ext cx="3610080" cy="270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Мавзолей Саманидов "/>
          <p:cNvPicPr/>
          <p:nvPr/>
        </p:nvPicPr>
        <p:blipFill>
          <a:blip r:embed="rId3"/>
          <a:stretch/>
        </p:blipFill>
        <p:spPr>
          <a:xfrm>
            <a:off x="2971800" y="2514600"/>
            <a:ext cx="3505320" cy="250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Медресе Шир-Дор "/>
          <p:cNvPicPr/>
          <p:nvPr/>
        </p:nvPicPr>
        <p:blipFill>
          <a:blip r:embed="rId4"/>
          <a:stretch/>
        </p:blipFill>
        <p:spPr>
          <a:xfrm>
            <a:off x="5181480" y="228600"/>
            <a:ext cx="3810240" cy="243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Documents and Settings\user\Рабочий стол\Пустыня\минарет.bmp"/>
          <p:cNvPicPr/>
          <p:nvPr/>
        </p:nvPicPr>
        <p:blipFill>
          <a:blip r:embed="rId5"/>
          <a:stretch/>
        </p:blipFill>
        <p:spPr>
          <a:xfrm>
            <a:off x="6019920" y="2819520"/>
            <a:ext cx="243828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581280" y="57913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В. Верещагин                          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«Медресе в Самарканд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710480" cy="5410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35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476280"/>
            <a:ext cx="50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Гирих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сложный геометрический орн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935440" y="2276640"/>
            <a:ext cx="3152520" cy="4367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5580000" y="189000"/>
            <a:ext cx="3370320" cy="299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2625840" cy="4389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4"/>
          <a:stretch/>
        </p:blipFill>
        <p:spPr>
          <a:xfrm>
            <a:off x="6300720" y="3284640"/>
            <a:ext cx="252432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243400" cy="618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5492880" y="0"/>
            <a:ext cx="3651120" cy="4869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5435640" y="5229360"/>
            <a:ext cx="34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Дверь мечети снаружи и изну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50920" y="638172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ир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Мечеть2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590920" y="6019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имвол – купол меч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5580000" y="765000"/>
            <a:ext cx="331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зные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4508640"/>
            <a:ext cx="244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зное количество куп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2743200" y="2806560"/>
            <a:ext cx="640080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Мечеть4"/>
          <p:cNvPicPr/>
          <p:nvPr/>
        </p:nvPicPr>
        <p:blipFill>
          <a:blip r:embed="rId1"/>
          <a:stretch/>
        </p:blipFill>
        <p:spPr>
          <a:xfrm>
            <a:off x="4726080" y="1557360"/>
            <a:ext cx="4228920" cy="514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4321080" cy="324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170600" cy="3127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4788000" y="26028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зные формы куп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12-14T08:47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