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3B8-3D82-4A81-896D-4DDFCA80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FE4-6EB4-44A2-92CB-B72A4B8A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B31-4101-4A88-A5E1-EF88F84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163-A247-43A0-B49B-40C18B1A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C8-0B17-4AD1-A396-C9395C91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8C3-EB2B-44B4-9609-C87B6966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125-62B0-4E18-811B-1E71F0F7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D99-84AA-4CE1-881A-FFD16A4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B6A-DB06-4774-936C-39589FC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4B6-7446-4F83-9585-6F5B20F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96F-2FDD-4ECE-BB32-680BA62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27B-6550-4108-BD4D-2965152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687-FCDF-4E74-8761-9FF2F7054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9.jpeg"/><Relationship Id="rId3" Type="http://schemas.openxmlformats.org/officeDocument/2006/relationships/image" Target="../media/image38.jpeg"/><Relationship Id="rId4" Type="http://schemas.openxmlformats.org/officeDocument/2006/relationships/image" Target="../media/image3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user\Рабочий стол\Пустыня\мечеть.bmp"/>
          <p:cNvPicPr/>
          <p:nvPr/>
        </p:nvPicPr>
        <p:blipFill>
          <a:blip r:embed="rId1"/>
          <a:stretch/>
        </p:blipFill>
        <p:spPr>
          <a:xfrm>
            <a:off x="304920" y="1295280"/>
            <a:ext cx="2743200" cy="304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Художественная культура С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user\Рабочий стол\Пустыня\Иран.bmp"/>
          <p:cNvPicPr/>
          <p:nvPr/>
        </p:nvPicPr>
        <p:blipFill>
          <a:blip r:embed="rId2"/>
          <a:stretch/>
        </p:blipFill>
        <p:spPr>
          <a:xfrm>
            <a:off x="4800600" y="1828800"/>
            <a:ext cx="39909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Пустыня\минарет.bmp"/>
          <p:cNvPicPr/>
          <p:nvPr/>
        </p:nvPicPr>
        <p:blipFill>
          <a:blip r:embed="rId3"/>
          <a:stretch/>
        </p:blipFill>
        <p:spPr>
          <a:xfrm>
            <a:off x="2666880" y="28195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Минарет2"/>
          <p:cNvPicPr/>
          <p:nvPr/>
        </p:nvPicPr>
        <p:blipFill>
          <a:blip r:embed="rId1"/>
          <a:stretch/>
        </p:blipFill>
        <p:spPr>
          <a:xfrm>
            <a:off x="457200" y="0"/>
            <a:ext cx="4343400" cy="707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952880" y="19051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вол ислама  – мин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минарет Парижской мечети "/>
          <p:cNvPicPr/>
          <p:nvPr/>
        </p:nvPicPr>
        <p:blipFill>
          <a:blip r:embed="rId1"/>
          <a:stretch/>
        </p:blipFill>
        <p:spPr>
          <a:xfrm>
            <a:off x="2895480" y="2743200"/>
            <a:ext cx="2975040" cy="396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ечеть"/>
          <p:cNvPicPr/>
          <p:nvPr/>
        </p:nvPicPr>
        <p:blipFill>
          <a:blip r:embed="rId2"/>
          <a:stretch/>
        </p:blipFill>
        <p:spPr>
          <a:xfrm>
            <a:off x="6019920" y="533520"/>
            <a:ext cx="2966760" cy="617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2666880" y="152280"/>
            <a:ext cx="2971800" cy="251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43120" cy="283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346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ортал медресе Нодира диван беги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Медресе Улугбека "/>
          <p:cNvPicPr/>
          <p:nvPr/>
        </p:nvPicPr>
        <p:blipFill>
          <a:blip r:embed="rId1"/>
          <a:stretch/>
        </p:blipFill>
        <p:spPr>
          <a:xfrm>
            <a:off x="990720" y="228600"/>
            <a:ext cx="7391160" cy="6332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176720" y="333360"/>
            <a:ext cx="4759200" cy="634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50920" y="387828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42498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АРХИТЕКТУРНЫЕ ПОСТРОЙКИ КУЛЬТОВОГО НА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52280" y="2924280"/>
            <a:ext cx="43434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</a:rPr>
              <a:t>Мечеть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    («масджит» - «место коленопреклонения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Мечеть Кул Шариф 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68360" y="623736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ечеть Кул Шариф в Ка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191120" y="457200"/>
            <a:ext cx="4647960" cy="69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Comic Sans MS"/>
              </a:rPr>
              <a:t>Элементы меч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Купол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символ божественного духа и соверше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Минаре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– круглая или многоугольная башня с балко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Квадратный д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окруженный галере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Пятиконечная звезд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символ «пяти столпов ислама») и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полумесяц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напоминает о лунном календ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Водое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с проточной водой для ритуальных омов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Михраб1"/>
          <p:cNvPicPr/>
          <p:nvPr/>
        </p:nvPicPr>
        <p:blipFill>
          <a:blip r:embed="rId1"/>
          <a:stretch/>
        </p:blipFill>
        <p:spPr>
          <a:xfrm>
            <a:off x="228600" y="304920"/>
            <a:ext cx="34052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28600" y="5257800"/>
            <a:ext cx="3581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Михраб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– священная арка или ниша в стене мечети, указывающая направление  на Мек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Минаре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Турецкий флаг"/>
          <p:cNvPicPr/>
          <p:nvPr/>
        </p:nvPicPr>
        <p:blipFill>
          <a:blip r:embed="rId1"/>
          <a:stretch/>
        </p:blipFill>
        <p:spPr>
          <a:xfrm>
            <a:off x="5076720" y="333360"/>
            <a:ext cx="3353040" cy="21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Мечеть медресе Ляля Тюльпан"/>
          <p:cNvPicPr/>
          <p:nvPr/>
        </p:nvPicPr>
        <p:blipFill>
          <a:blip r:embed="rId2"/>
          <a:stretch/>
        </p:blipFill>
        <p:spPr>
          <a:xfrm>
            <a:off x="228600" y="228600"/>
            <a:ext cx="3805200" cy="640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4356000" y="3116160"/>
            <a:ext cx="4608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80880"/>
            <a:ext cx="91440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ook Antiqua"/>
              </a:rPr>
              <a:t>АРХИТЕКТУРНЫЕ ПОСТРОЙКИ КУЛЬТОВ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дресе (араб. - «место учения») - религиозная школа или университет, одновременно – меч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ля изучения арабского языка, Корана и исламски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Медресе Шир-Дор "/>
          <p:cNvPicPr/>
          <p:nvPr/>
        </p:nvPicPr>
        <p:blipFill>
          <a:blip r:embed="rId1"/>
          <a:stretch/>
        </p:blipFill>
        <p:spPr>
          <a:xfrm>
            <a:off x="179280" y="3357720"/>
            <a:ext cx="4572000" cy="29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Медресе Аттарин"/>
          <p:cNvPicPr/>
          <p:nvPr/>
        </p:nvPicPr>
        <p:blipFill>
          <a:blip r:embed="rId2"/>
          <a:stretch/>
        </p:blipFill>
        <p:spPr>
          <a:xfrm>
            <a:off x="5003640" y="3284640"/>
            <a:ext cx="3935520" cy="295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04920" y="630864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едресе Шир – Дор, 17 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876920" y="630864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едресе Аттар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4952880" y="990720"/>
            <a:ext cx="3429000" cy="990360"/>
          </a:xfrm>
          <a:prstGeom prst="rect">
            <a:avLst/>
          </a:prstGeom>
          <a:noFill/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41680" cy="32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85136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352908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РХИТЕКТУРНЫЕ ПОСТРОЙКИ КУЛЬТОВОГО НАЗНАЧ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Мавзолей Саманидов "/>
          <p:cNvPicPr/>
          <p:nvPr/>
        </p:nvPicPr>
        <p:blipFill>
          <a:blip r:embed="rId1"/>
          <a:stretch/>
        </p:blipFill>
        <p:spPr>
          <a:xfrm>
            <a:off x="228600" y="3352680"/>
            <a:ext cx="4648320" cy="331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Мавзолей Х Бургибы"/>
          <p:cNvPicPr/>
          <p:nvPr/>
        </p:nvPicPr>
        <p:blipFill>
          <a:blip r:embed="rId2"/>
          <a:stretch/>
        </p:blipFill>
        <p:spPr>
          <a:xfrm>
            <a:off x="3809880" y="152280"/>
            <a:ext cx="5143680" cy="3772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029200" y="61722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Самани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257800" y="403848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Бургиб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Мавзолей Тадж Махал Индия 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47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195640" y="6019920"/>
            <a:ext cx="67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Тадж Махал в Агре (Индия), сер. 17 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Мечеть Кул Шариф "/>
          <p:cNvPicPr/>
          <p:nvPr/>
        </p:nvPicPr>
        <p:blipFill>
          <a:blip r:embed="rId1"/>
          <a:stretch/>
        </p:blipFill>
        <p:spPr>
          <a:xfrm>
            <a:off x="304920" y="152280"/>
            <a:ext cx="2514600" cy="377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380880" y="4151160"/>
            <a:ext cx="3610080" cy="27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Мавзолей Саманидов "/>
          <p:cNvPicPr/>
          <p:nvPr/>
        </p:nvPicPr>
        <p:blipFill>
          <a:blip r:embed="rId3"/>
          <a:stretch/>
        </p:blipFill>
        <p:spPr>
          <a:xfrm>
            <a:off x="2971800" y="2514600"/>
            <a:ext cx="3505320" cy="250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Медресе Шир-Дор "/>
          <p:cNvPicPr/>
          <p:nvPr/>
        </p:nvPicPr>
        <p:blipFill>
          <a:blip r:embed="rId4"/>
          <a:stretch/>
        </p:blipFill>
        <p:spPr>
          <a:xfrm>
            <a:off x="5181480" y="228600"/>
            <a:ext cx="381024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user\Рабочий стол\Пустыня\минарет.bmp"/>
          <p:cNvPicPr/>
          <p:nvPr/>
        </p:nvPicPr>
        <p:blipFill>
          <a:blip r:embed="rId5"/>
          <a:stretch/>
        </p:blipFill>
        <p:spPr>
          <a:xfrm>
            <a:off x="6019920" y="2819520"/>
            <a:ext cx="243828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581280" y="5791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В. Верещагин                         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«Медресе в Самаркан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710480" cy="5410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47628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Гирих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сложный геометрический орн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935440" y="2276640"/>
            <a:ext cx="3152520" cy="436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70320" cy="29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2625840" cy="438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52432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18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492880" y="0"/>
            <a:ext cx="3651120" cy="486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35640" y="522936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Дверь мечети снаружи и 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638172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и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ечеть2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9092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имвол – купол меч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5580000" y="765000"/>
            <a:ext cx="33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ные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4508640"/>
            <a:ext cx="244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ное количество куп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743200" y="2806560"/>
            <a:ext cx="64008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Мечеть4"/>
          <p:cNvPicPr/>
          <p:nvPr/>
        </p:nvPicPr>
        <p:blipFill>
          <a:blip r:embed="rId1"/>
          <a:stretch/>
        </p:blipFill>
        <p:spPr>
          <a:xfrm>
            <a:off x="4726080" y="1557360"/>
            <a:ext cx="422892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170600" cy="3127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478800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ные формы куп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12-14T08:47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