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7.gif" ContentType="image/gif"/>
  <Override PartName="/ppt/media/image12.gif" ContentType="image/gif"/>
  <Override PartName="/ppt/media/image15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D4C-99AD-40F0-BD2F-79B60F95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7A2-90F2-4D27-BF9F-F4226966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41C-162F-4C25-AA8C-B67F73AF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C04-FB69-471A-BAA1-1F0EC9A7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9C4-D6ED-46BF-AB2E-ED9D9BBF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A3B-A614-41F4-957D-AFD4F248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523-476D-4DB7-9FB3-A3693635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70E-39E7-44B6-96F5-A581D3B9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EC4-2A85-4DBD-8F72-56A29CDD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1F6-D6A8-4D3C-868A-0A255D69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470-6B30-4C3D-891C-06A9C258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D6A-92B8-43AA-9386-05A9103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E4D4-BA73-49CB-8512-FD35787DF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realnets.lv/images/3501_latex%2520ball.jpg&amp;imgrefurl=http://www.realnets.lv/index.php%3FcPath%3D1_9&amp;h=283&amp;w=300&amp;sz=11&amp;hl=ru&amp;start=5&amp;tbnid=AI2KvO2jGSZ_tM:&amp;tbnh=109&amp;tbnw=116&amp;prev=/images%3Fq%3D%25D0%25BC%25D1%258F%25D1%2587%26gbv%3D2%26svnum%3D10%26hl%3Dru%26newwindow%3D1%26sa%3D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133360"/>
            <a:ext cx="78483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Круг. 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Окружнос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. 83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Прочитайте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Запишите  сх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0 кг – 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 кг - ?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Как найти четвёртое пропорциональное число?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)   30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6 =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⁪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)   25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5257800"/>
            <a:ext cx="7617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19720" y="5334120"/>
            <a:ext cx="137160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. 83 № 5 (1, 2 столб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. 83 № 2, № 4, № 5 (3 стол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57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962520"/>
            <a:ext cx="243828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267080"/>
            <a:ext cx="1828800" cy="175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4952880" y="510552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95680" y="5181480"/>
            <a:ext cx="457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48769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36.gif"/>
          <p:cNvPicPr/>
          <p:nvPr/>
        </p:nvPicPr>
        <p:blipFill>
          <a:blip r:embed="rId2"/>
          <a:stretch/>
        </p:blipFill>
        <p:spPr>
          <a:xfrm>
            <a:off x="3352680" y="533520"/>
            <a:ext cx="2590920" cy="22176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" descr=""/>
          <p:cNvPicPr/>
          <p:nvPr/>
        </p:nvPicPr>
        <p:blipFill>
          <a:blip r:embed="rId3"/>
          <a:stretch/>
        </p:blipFill>
        <p:spPr>
          <a:xfrm>
            <a:off x="835200" y="2736720"/>
            <a:ext cx="7772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Назовите, какие доли круга получились на  каждом черте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равните, какая доля боль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одна восьмая или одна четвёртая;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- одна третья или одна шес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887" t="0" r="2887" b="-406"/>
          <a:stretch/>
        </p:blipFill>
        <p:spPr>
          <a:xfrm>
            <a:off x="685800" y="205740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3501_latex%2520bal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380880"/>
            <a:ext cx="1752480" cy="164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2120" y="2743200"/>
            <a:ext cx="2819160" cy="161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934320" y="4768920"/>
            <a:ext cx="1752480" cy="149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419720" y="4495680"/>
            <a:ext cx="1353960" cy="150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9625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60020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553080" y="1066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95280" y="4572000"/>
            <a:ext cx="2057400" cy="189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019920" y="297180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7720" y="4038120"/>
            <a:ext cx="807732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круг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                        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окружность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572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1447920"/>
            <a:ext cx="3429000" cy="342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e89"/>
                </a:solidFill>
                <a:latin typeface="comic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Окружн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– это границ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Круг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– это часть плоскости, ограниченная окруж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0" t="1690" r="9703" b="8481"/>
          <a:stretch/>
        </p:blipFill>
        <p:spPr>
          <a:xfrm>
            <a:off x="1752480" y="2286000"/>
            <a:ext cx="4106880" cy="426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609480"/>
            <a:ext cx="251460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g_bov6p4646419272"/>
          <p:cNvPicPr/>
          <p:nvPr/>
        </p:nvPicPr>
        <p:blipFill>
          <a:blip r:embed="rId3"/>
          <a:stretch/>
        </p:blipFill>
        <p:spPr>
          <a:xfrm rot="1848600">
            <a:off x="5105160" y="990720"/>
            <a:ext cx="327636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2700360" y="1773360"/>
            <a:ext cx="4248000" cy="417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335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Точка О –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центр окру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4800600" y="380988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211640" y="342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5335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Отрезок ОА –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радиус окруж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2700360" y="2060640"/>
            <a:ext cx="4032360" cy="38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4716360" y="3141360"/>
            <a:ext cx="1800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77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343400" y="3733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724280" y="40384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5"/>
          <p:cNvSpPr/>
          <p:nvPr/>
        </p:nvSpPr>
        <p:spPr>
          <a:xfrm>
            <a:off x="609480" y="228600"/>
            <a:ext cx="4032360" cy="38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514600" y="83808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523880" y="1600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2438280" y="182880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5720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5146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9144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Радиусы одной окружности (круга)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411480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Начертите окружность радиусом 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Возьмите цветной карандаш и акку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выделите линию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Как показать кру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Отметьте центр окружности и провед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её радиус. Обозначьте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1-10T13:31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