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7.gif" ContentType="image/gif"/>
  <Override PartName="/ppt/media/image12.gif" ContentType="image/gif"/>
  <Override PartName="/ppt/media/image15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572-7D68-48F0-951E-71C97256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473-90C8-4E0B-A9FA-81E66D8D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253-506E-4C6C-91C1-00EF9E93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8D6-E6E4-473A-AC34-A985183B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73C-18B6-4B6C-AFD2-D36FD044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1C7-B82D-4DF7-9F58-AA1BC6A5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790-477F-4419-933A-C21A9391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7D1-6804-4143-A70A-CD0A7EA7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A15-0A48-4731-8A21-C344773A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FF4-4F0E-4AF2-831A-E1C971E2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A59-FE73-49BF-8BC3-A1CC37F8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0D35-5B78-4451-A2DF-A85DBA5A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C8D3-8152-4D42-A8EE-E7C3267C2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realnets.lv/images/3501_latex%2520ball.jpg&amp;imgrefurl=http://www.realnets.lv/index.php%3FcPath%3D1_9&amp;h=283&amp;w=300&amp;sz=11&amp;hl=ru&amp;start=5&amp;tbnid=AI2KvO2jGSZ_tM:&amp;tbnh=109&amp;tbnw=116&amp;prev=/images%3Fq%3D%25D0%25BC%25D1%258F%25D1%2587%26gbv%3D2%26svnum%3D10%26hl%3Dru%26newwindow%3D1%26sa%3D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133360"/>
            <a:ext cx="78483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Круг. </a:t>
            </a: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Окружнос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Работа с учебни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. 83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Прочитайте за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Запишите  сх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0 кг – 6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5 кг - ?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Как найти четвёртое пропорциональное число?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)   30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6 =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⁪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к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)   25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5257800"/>
            <a:ext cx="7617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419720" y="5334120"/>
            <a:ext cx="137160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С. 83 № 5 (1, 2 столб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Домашнее зад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С. 83 № 2, № 4, № 5 (3 стол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572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Работа с учебни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962520"/>
            <a:ext cx="2438280" cy="236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267080"/>
            <a:ext cx="1828800" cy="175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4952880" y="510552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495680" y="5181480"/>
            <a:ext cx="4572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6172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48769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2" descr="36.gif"/>
          <p:cNvPicPr/>
          <p:nvPr/>
        </p:nvPicPr>
        <p:blipFill>
          <a:blip r:embed="rId2"/>
          <a:stretch/>
        </p:blipFill>
        <p:spPr>
          <a:xfrm>
            <a:off x="3352680" y="533520"/>
            <a:ext cx="2590920" cy="22176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" descr=""/>
          <p:cNvPicPr/>
          <p:nvPr/>
        </p:nvPicPr>
        <p:blipFill>
          <a:blip r:embed="rId3"/>
          <a:stretch/>
        </p:blipFill>
        <p:spPr>
          <a:xfrm>
            <a:off x="835200" y="2736720"/>
            <a:ext cx="77724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Назовите, какие доли круга получились на  каждом черте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Сравните, какая доля больш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одна восьмая или одна четвёртая;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- одна третья или одна шест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2887" t="0" r="2887" b="-406"/>
          <a:stretch/>
        </p:blipFill>
        <p:spPr>
          <a:xfrm>
            <a:off x="685800" y="205740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3501_latex%2520bal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380880"/>
            <a:ext cx="1752480" cy="1646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62120" y="2743200"/>
            <a:ext cx="2819160" cy="1611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934320" y="4768920"/>
            <a:ext cx="1752480" cy="149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419720" y="4495680"/>
            <a:ext cx="1353960" cy="150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962520" y="2362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1600200" y="762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553080" y="1066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295280" y="4572000"/>
            <a:ext cx="2057400" cy="189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6019920" y="297180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7720" y="4038120"/>
            <a:ext cx="807732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круг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                         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окружность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4572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1447920"/>
            <a:ext cx="3429000" cy="342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e89"/>
                </a:solidFill>
                <a:latin typeface="comic"/>
              </a:rPr>
              <a:t>За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Arial"/>
              </a:rPr>
              <a:t>Окружност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– это границ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ру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Arial"/>
              </a:rPr>
              <a:t>Круг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– это часть плоскости, ограниченная окружност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0" t="1690" r="9703" b="8481"/>
          <a:stretch/>
        </p:blipFill>
        <p:spPr>
          <a:xfrm>
            <a:off x="1752480" y="2286000"/>
            <a:ext cx="4106880" cy="4267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609480"/>
            <a:ext cx="251460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img_bov6p4646419272"/>
          <p:cNvPicPr/>
          <p:nvPr/>
        </p:nvPicPr>
        <p:blipFill>
          <a:blip r:embed="rId3"/>
          <a:stretch/>
        </p:blipFill>
        <p:spPr>
          <a:xfrm rot="1848600">
            <a:off x="5105160" y="990720"/>
            <a:ext cx="327636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2700360" y="1773360"/>
            <a:ext cx="4248000" cy="417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5335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Точка О –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центр окруж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/>
          <p:cNvSpPr/>
          <p:nvPr/>
        </p:nvSpPr>
        <p:spPr>
          <a:xfrm>
            <a:off x="4800600" y="380988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211640" y="342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5335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Отрезок ОА –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радиус окруж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2700360" y="2060640"/>
            <a:ext cx="4032360" cy="38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V="1">
            <a:off x="4716360" y="3141360"/>
            <a:ext cx="180036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4771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343400" y="3733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4724280" y="403848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5"/>
          <p:cNvSpPr/>
          <p:nvPr/>
        </p:nvSpPr>
        <p:spPr>
          <a:xfrm>
            <a:off x="609480" y="228600"/>
            <a:ext cx="4032360" cy="38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2514600" y="83808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523880" y="1600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2438280" y="182880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457200"/>
            <a:ext cx="15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5146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91440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Радиусы одной окружности (круга)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8560" y="4114800"/>
            <a:ext cx="77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 Начертите окружность радиусом 2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 Возьмите цветной карандаш и акку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выделите линию окру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 Как показать кру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 Отметьте центр окружности и провед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её радиус. Обозначьте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01-10T13:31:5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