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CF5-A962-489A-802E-C2EF620F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3A2-5988-434C-A127-CCCEA6FB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C95-8B53-436C-ADD0-6C706EF1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14A-AB4A-4F3A-8FC5-039BCEDB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5BB-D970-470A-AD1A-6DA24479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6A6-2093-41FD-B5B4-E02BD205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4F3A-84B7-4641-8011-E8BE31E4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7DC-42AC-44BB-908D-42BFDEA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FB1F-E1F3-4F9E-A784-5AC72F8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726-935F-4E61-A711-8152D84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FE48-E659-4A92-BDA0-9BA6951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024-EBD7-4A61-B164-469B699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F403-0DFE-4996-882B-20DB938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E7D-9630-4854-AB53-17D5DEB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451-69A1-4F8F-BDEC-8EF3A01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6083-C00D-4D29-AB78-109286B1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286-DE90-4A32-B8E8-ED0453F8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1188E-AE55-4DE4-A443-34E721DD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2A64B-6E73-4AD1-ACB4-4DFB7C51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E28E0-3DB8-48D2-BA6D-825AA86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D8116-CA37-4896-9C68-566B952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14093-03C9-45E5-9F23-13C894F4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74E-EF9F-441C-9F95-BEDD7665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8DE55-73A1-43F8-8D89-7A8151B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B4FDC-E5CC-4E74-AB6C-B71B80E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75749-BA8A-49BF-AF67-19EEA55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69308-892A-4318-83D0-78BBA0E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6BC5D-F9F2-437E-AF0C-3B6FA64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42D73-D6DD-48F9-8F57-1C8C7348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17F9F-212E-4546-B8B9-34083A78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2D89-5781-4CEB-A1A1-1311DF50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B3BC-0352-44F4-B598-D16E5F9C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259E-E28B-46D6-8EC0-DB0B9F0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B51-05D9-428E-8B05-2FEE7CEE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C40D-F987-4437-8FC0-A1FB171B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317B-E4D4-44B0-B94A-B8E71F7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60EE-0419-49A1-8241-EFF96F29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9771-5F3A-435E-AB56-FD5AE1A8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79E7-2E1C-4601-A8BE-289908D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4185-C32E-4E75-A0B9-47E2D06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EABF-86C3-4AED-BF16-4D36EB49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295F-025B-4789-8E8E-96796800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CD32-282E-416C-A366-2E12944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D0E-EB5C-407A-8A34-C858677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DEE-AC72-4D91-B12C-77B8A72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1E6-87FF-4FF5-BA00-4ED3045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155-96E4-4D2F-ADDD-014C94C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50D-4B67-4F30-948F-57203C6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BB41-2E50-43DC-8C37-1DAE3DB09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7C0-4B78-4D9E-9B2D-FF3F462C5F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05C-BA0A-4AF1-ABF9-92AFDA683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4F4-BF29-4F9D-9FF6-65F17DA0E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2280" y="13712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Модель самоуправления в классном коллектив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среднего звена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4720" y="3900600"/>
            <a:ext cx="4535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Georgia"/>
              </a:rPr>
              <a:t>Устинова И.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</a:rPr>
              <a:t>Пресс-центр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(редколлегия)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выпуск газет для информации в класс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оформление классного уголк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оформление  конкурсов, виктори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Актив класса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тароста (помощник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классного руководителя) – курирует организацию работы всех секторов самоуправления, помогает учителям – предметникам, работающим в классе, в обеспечении учебного процесс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Зам. старосты-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гает  старосте 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редставитель класса в школьном совете само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, в обязанности которого входит посещение  сборов общешкольного комитета самоуправления и быть связующим звеном между классом и школьным комитетом самоуправле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анпост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отвечает за ведение рапортичк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отмечает  справк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-ведет учет прививок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rebuchet MS"/>
              </a:rPr>
              <a:t>Правила дружного общения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Будь внимателен везде , где нужно проявить вниматель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 учителем из-за отметок не спорь и на учителя из-за отметок не обижай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тарайся все делать вовремя и думай о хороших результатах,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чаще говори: давай дружить, давай играть, давай вместе пойдем дом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мни! Ты не лучше всех, ты не хуже всех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ы - 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Широкая 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Масленица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4" name="Picture 2" descr="F:\DCIM\100___02\IMG_0020.JPG"/>
          <p:cNvPicPr/>
          <p:nvPr/>
        </p:nvPicPr>
        <p:blipFill>
          <a:blip r:embed="rId1"/>
          <a:stretch/>
        </p:blipFill>
        <p:spPr>
          <a:xfrm>
            <a:off x="179280" y="2998800"/>
            <a:ext cx="4753080" cy="345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F:\DCIM\100___02\IMG_0021.JPG"/>
          <p:cNvPicPr/>
          <p:nvPr/>
        </p:nvPicPr>
        <p:blipFill>
          <a:blip r:embed="rId2"/>
          <a:stretch/>
        </p:blipFill>
        <p:spPr>
          <a:xfrm>
            <a:off x="4648320" y="1052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Загадки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7" name="Picture 2" descr="D:\Documents and Settings\П_М\Рабочий стол\Новая папка (2)\IMG_0022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D:\Documents and Settings\П_М\Рабочий стол\Новая папка (2)\IMG_0029.JPG"/>
          <p:cNvPicPr/>
          <p:nvPr/>
        </p:nvPicPr>
        <p:blipFill>
          <a:blip r:embed="rId2"/>
          <a:stretch/>
        </p:blipFill>
        <p:spPr>
          <a:xfrm>
            <a:off x="4648320" y="1125360"/>
            <a:ext cx="403848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Частушки…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0" name="Picture 2" descr="F:\DCIM\100___02\IMG_0028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DCIM\100___02\IMG_0026.JPG"/>
          <p:cNvPicPr/>
          <p:nvPr/>
        </p:nvPicPr>
        <p:blipFill>
          <a:blip r:embed="rId2"/>
          <a:stretch/>
        </p:blipFill>
        <p:spPr>
          <a:xfrm>
            <a:off x="4648320" y="620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Конкурсы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3" name="Picture 2" descr="F:\DCIM\100___02\IMG_0023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F:\DCIM\100___02\IMG_0025.JPG"/>
          <p:cNvPicPr/>
          <p:nvPr/>
        </p:nvPicPr>
        <p:blipFill>
          <a:blip r:embed="rId2"/>
          <a:stretch/>
        </p:blipFill>
        <p:spPr>
          <a:xfrm>
            <a:off x="4648320" y="981000"/>
            <a:ext cx="40384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Принципы работы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2249640"/>
            <a:ext cx="8856720" cy="4324320"/>
          </a:xfrm>
          <a:prstGeom prst="rect">
            <a:avLst/>
          </a:prstGeom>
          <a:solidFill>
            <a:srgbClr val="8ad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запрещать, а направлять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управлять, а соуправлять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принуждать, а убежд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командовать, а организовывать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 ограничивать, а предоставлять свободу выбора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5395"/>
                </a:solidFill>
                <a:latin typeface="Trebuchet MS"/>
              </a:rPr>
              <a:t>Результат воспитательной модели самоуправления - 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формирование самостоятельной, коммуникативной, творческой  социально-адаптированной личности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Спасибо за внимание 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68360" y="907560"/>
            <a:ext cx="842472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Конвенция ООН о правах ребен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Статья 1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Государства-участники признают право ребенка на свободу ассоциации и свободу мирных собраний.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Конституция Р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3763"/>
                </a:solidFill>
                <a:latin typeface="Georgia"/>
              </a:rPr>
              <a:t>Статья 3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Каждый имеет право на объединение, включая право создавать профессиональные союзы для защиты своих интересов. Свобода деятельности общественных объединений гарантируе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    </a:t>
            </a:r>
            <a:r>
              <a:rPr b="0" lang="en-US" sz="3200" spc="-1" strike="noStrike">
                <a:solidFill>
                  <a:srgbClr val="04617b"/>
                </a:solidFill>
                <a:latin typeface="Trebuchet MS"/>
              </a:rPr>
              <a:t>Главная функция детских организаций и объединений в том, чтобы оказать своим членам помощь в социальной адаптации к новым социально-экономическим условиям, чтобы дети участвовали в национально-культурном возрождении, в организации свободного времени и досуга, в сохранении и развитии духовных ценностей. 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нципы самоуправления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педагогическое руководство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предметность деятельности, то есть органы самоуправления формируются для организации деятельности в коллективе и для коллектива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единое планирование, то есть создание единого плана воспитывающей деятельности, исполнителями которого являются сами органы самоуправления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выборность органов самоуправления, то есть в органы будут избираться классным собранием;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сменяемость функций руководства и подчинения, а также видов деятельности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построение самоуправления снизу вверх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участие всех учащихся в системе самоуправления; 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• согласие, то есть после принятия решения действует правило обязательного его выполнения всеми участниками процесса. 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1" name="Diagram 1"/>
          <p:cNvGrpSpPr/>
          <p:nvPr/>
        </p:nvGrpSpPr>
        <p:grpSpPr>
          <a:xfrm>
            <a:off x="468360" y="333360"/>
            <a:ext cx="8424720" cy="6524640"/>
            <a:chOff x="468360" y="333360"/>
            <a:chExt cx="8424720" cy="6524640"/>
          </a:xfrm>
        </p:grpSpPr>
        <p:pic>
          <p:nvPicPr>
            <p:cNvPr id="222" name="Схема 38" descr=""/>
            <p:cNvPicPr/>
            <p:nvPr/>
          </p:nvPicPr>
          <p:blipFill>
            <a:blip r:embed="rId1"/>
            <a:stretch/>
          </p:blipFill>
          <p:spPr>
            <a:xfrm>
              <a:off x="468360" y="333360"/>
              <a:ext cx="8424720" cy="65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17"/>
            <p:cNvSpPr/>
            <p:nvPr/>
          </p:nvSpPr>
          <p:spPr>
            <a:xfrm>
              <a:off x="892800" y="4744800"/>
              <a:ext cx="1542240" cy="1100160"/>
            </a:xfrm>
            <a:prstGeom prst="ellipse">
              <a:avLst/>
            </a:prstGeom>
            <a:solidFill>
              <a:srgbClr val="21b2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Классное собрание учащихся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4" name="Oval 16"/>
            <p:cNvSpPr/>
            <p:nvPr/>
          </p:nvSpPr>
          <p:spPr>
            <a:xfrm>
              <a:off x="6922440" y="4744800"/>
              <a:ext cx="1542240" cy="1100160"/>
            </a:xfrm>
            <a:prstGeom prst="ellipse">
              <a:avLst/>
            </a:prstGeom>
            <a:solidFill>
              <a:srgbClr val="20c9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Родительское 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80"/>
                  </a:solidFill>
                  <a:latin typeface="Calibri"/>
                  <a:ea typeface="Calibri"/>
                </a:rPr>
                <a:t>собрание</a:t>
              </a:r>
              <a:endParaRPr b="0" lang="en-US" sz="11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1734120" y="4344480"/>
              <a:ext cx="3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7763400" y="434448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7" name="Line 13"/>
            <p:cNvSpPr/>
            <p:nvPr/>
          </p:nvSpPr>
          <p:spPr>
            <a:xfrm flipV="1">
              <a:off x="5660280" y="5445000"/>
              <a:ext cx="126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2295000" y="5545080"/>
              <a:ext cx="140184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1032840" y="2243520"/>
              <a:ext cx="1261800" cy="300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Пресс-цент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032840" y="1743480"/>
              <a:ext cx="1261800" cy="299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Культмассовый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1032840" y="1343160"/>
              <a:ext cx="1261800" cy="29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портивный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1032840" y="942840"/>
              <a:ext cx="1261800" cy="299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рудовой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Rectangle 7"/>
            <p:cNvSpPr/>
            <p:nvPr/>
          </p:nvSpPr>
          <p:spPr>
            <a:xfrm>
              <a:off x="1032840" y="542880"/>
              <a:ext cx="1261800" cy="2998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Учебный сектор</a:t>
              </a:r>
              <a:endParaRPr b="0" lang="en-US" sz="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 flipV="1">
              <a:off x="1734120" y="25434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 flipV="1">
              <a:off x="1734120" y="204300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Line 4"/>
            <p:cNvSpPr/>
            <p:nvPr/>
          </p:nvSpPr>
          <p:spPr>
            <a:xfrm flipV="1">
              <a:off x="1734120" y="164340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Line 3"/>
            <p:cNvSpPr/>
            <p:nvPr/>
          </p:nvSpPr>
          <p:spPr>
            <a:xfrm flipV="1">
              <a:off x="1734120" y="124308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Line 2"/>
            <p:cNvSpPr/>
            <p:nvPr/>
          </p:nvSpPr>
          <p:spPr>
            <a:xfrm flipV="1">
              <a:off x="1734120" y="8427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Функции секторов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Учебный сектор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помощь в проверке дневников;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формирование команд к участию в викторинах, интеллектуальных марафонах;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организация помощи отстающим в учебе;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учет посещаем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Трудовой сектор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920" y="2397960"/>
            <a:ext cx="7561440" cy="350388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рганизация дежурства по классу,                                                    -участие в трудовых акциях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бота по оформлению кабин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озеленение, поддержание хорошег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состояния мебели, поддержание чистоты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Спортивный сектор 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2249640"/>
            <a:ext cx="843588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тор спортивно-оздоровительнойработ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частие в спортивно-оздоровительных  мероприятиях класса и школ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команды к спортивны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язаниям, турнир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</a:rPr>
              <a:t>Культмассовый сектор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solidFill>
            <a:srgbClr val="6bdbf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классных огонь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щешкольные и внутриклассные праздник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ещение театров, музеев, проведение  экскурс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7:57:11Z</dcterms:created>
  <dc:creator>Игорь</dc:creator>
  <dc:description/>
  <dc:language>en-US</dc:language>
  <cp:lastModifiedBy>Komp</cp:lastModifiedBy>
  <dcterms:modified xsi:type="dcterms:W3CDTF">2008-03-28T09:06:35Z</dcterms:modified>
  <cp:revision>40</cp:revision>
  <dc:subject/>
  <dc:title>Модель самоуправления в классном коллективе среднего звена </dc:title>
</cp:coreProperties>
</file>