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4A2-A490-4E3D-8309-D724C755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0D6-2A88-4371-8CDC-8B4D90C5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6C1-B786-41FF-88A4-DB38C22E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031-E1A8-4363-8A91-3D8FB502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CC1-E6C0-481F-976A-819A3CF5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5E0-47A1-4F29-ADDE-55C1564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F73-A655-4738-9614-D99D919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38C7-5324-417C-A843-3690011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30FB-84C9-49D8-BA5F-8D0AA07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85B-FDA5-473E-8A1C-DE7D5E56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6CB-9919-4A6E-BE56-7DB12A0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486-B4CA-4899-BBAF-17F21B9B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EF42-B649-468A-BC13-0C77EC3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26D-8B17-416E-9B94-EAEB02F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1DBA-E14A-4CC6-BE78-1385A62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B664-76C4-423D-A4B8-09C63FD5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6C28-135A-4CB2-96A7-DF5C457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250E8-889C-4885-B4A3-B87FEBD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1A62F-7E2E-488B-9510-9936DC0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1E3EE-212C-4AA9-8CD9-81A5A9F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6CFC4-A4A2-419A-BBD2-CB744B5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03E86-F54A-4EF4-97E2-019CFD8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A04-22A5-4051-80BF-7A16D77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383A4-E64E-478E-911A-089E22C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FC92A-F6BB-4EE9-9F6D-9D0DF13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4ACC6-79AF-4365-8BDA-459E59E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87B78-63FA-4307-9D0E-1901148A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A1158-7D7E-4451-9BA4-F5A142E0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FBC8A-BCF9-4105-8F5C-435A4082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7E4D9-2D62-461E-9126-262392CF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1883-32F5-40C4-983E-5A9B0C9A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1835-DA27-4C05-99DD-137AC57A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DB2B-2C6F-4C59-871E-FDC74923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E26-340F-42A9-BA2C-CB0A5A46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33F7-4D48-4F0B-99E0-85986C0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40D9-369F-4D22-A978-E434DC7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0D97-54F9-44B2-94A8-34AE0F8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E4B5-96D5-47ED-AAAE-2048931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614F-1EF3-4D79-AFA5-F0276B6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B159-686D-433D-957D-D2E3392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25DE-F003-4C5B-B2C5-A26460F0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759F-B78D-4AFB-A1A9-C25660E0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175B-1216-431E-8DD9-2632675D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28F-A9C3-4EF2-A474-1AB74BDF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A9D-55E6-4DE9-8E18-3FD658C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37D-4A4B-4302-82A2-FF22620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41C-D8AD-4701-91EC-D8AF4297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F02-707C-4504-BB35-DC3F3A4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E2E-5C17-4866-BC73-FDBF9908C0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592-772A-4746-A475-35AE3E29F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1F6-BD17-44D7-9BAD-61D0E72507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05B-D2E4-42E0-A6D1-D1F3C7C6B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2280" y="13712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Модель самоуправления в классном коллектив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среднего звена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4720" y="3900600"/>
            <a:ext cx="453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Устинова И.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</a:rPr>
              <a:t>Пресс-центр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(редколлегия)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выпуск газет для информации в класс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оформление классного уголк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оформление  конкурсов, виктори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Актив класса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тароста (помощник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классного руководителя) – курирует организацию работы всех секторов самоуправления, помогает учителям – предметникам, работающим в классе, в обеспечении учебного процесс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Зам. старосты-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гает  старосте 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редставитель класса в школьном совете само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в обязанности которого входит посещение  сборов общешкольного комитета самоуправления и быть связующим звеном между классом и школьным комитетом самоуправле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анпост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отвечает за ведение рапортичк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отмечает  справк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ведет учет прививо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Правила дружного общения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удь внимателен везде , где нужно проявить вниматель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 учителем из-за отметок не спорь и на учителя из-за отметок не обижай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тарайся все делать вовремя и думай о хороших результатах,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чаще говори: давай дружить, давай играть, давай вместе пойдем дом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мни! Ты не лучше всех, ты не хуже всех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ы - 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Широкая 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Масленица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4" name="Picture 2" descr="F:\DCIM\100___02\IMG_0020.JPG"/>
          <p:cNvPicPr/>
          <p:nvPr/>
        </p:nvPicPr>
        <p:blipFill>
          <a:blip r:embed="rId1"/>
          <a:stretch/>
        </p:blipFill>
        <p:spPr>
          <a:xfrm>
            <a:off x="179280" y="2998800"/>
            <a:ext cx="4753080" cy="345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F:\DCIM\100___02\IMG_0021.JPG"/>
          <p:cNvPicPr/>
          <p:nvPr/>
        </p:nvPicPr>
        <p:blipFill>
          <a:blip r:embed="rId2"/>
          <a:stretch/>
        </p:blipFill>
        <p:spPr>
          <a:xfrm>
            <a:off x="4648320" y="1052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Загадк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7" name="Picture 2" descr="D:\Documents and Settings\П_М\Рабочий стол\Новая папка (2)\IMG_0022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D:\Documents and Settings\П_М\Рабочий стол\Новая папка (2)\IMG_0029.JPG"/>
          <p:cNvPicPr/>
          <p:nvPr/>
        </p:nvPicPr>
        <p:blipFill>
          <a:blip r:embed="rId2"/>
          <a:stretch/>
        </p:blipFill>
        <p:spPr>
          <a:xfrm>
            <a:off x="4648320" y="1125360"/>
            <a:ext cx="403848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Частушки…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0" name="Picture 2" descr="F:\DCIM\100___02\IMG_0028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DCIM\100___02\IMG_0026.JPG"/>
          <p:cNvPicPr/>
          <p:nvPr/>
        </p:nvPicPr>
        <p:blipFill>
          <a:blip r:embed="rId2"/>
          <a:stretch/>
        </p:blipFill>
        <p:spPr>
          <a:xfrm>
            <a:off x="4648320" y="620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Конкурсы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3" name="Picture 2" descr="F:\DCIM\100___02\IMG_0023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F:\DCIM\100___02\IMG_0025.JPG"/>
          <p:cNvPicPr/>
          <p:nvPr/>
        </p:nvPicPr>
        <p:blipFill>
          <a:blip r:embed="rId2"/>
          <a:stretch/>
        </p:blipFill>
        <p:spPr>
          <a:xfrm>
            <a:off x="4648320" y="981000"/>
            <a:ext cx="40384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Принципы работы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2249640"/>
            <a:ext cx="8856720" cy="4324320"/>
          </a:xfrm>
          <a:prstGeom prst="rect">
            <a:avLst/>
          </a:prstGeom>
          <a:solidFill>
            <a:srgbClr val="8ad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запрещать, а направлять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управлять, а соуправлять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принуждать, а убежд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командовать, а организовыв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ограничивать, а предоставлять свободу выбора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5395"/>
                </a:solidFill>
                <a:latin typeface="Trebuchet MS"/>
              </a:rPr>
              <a:t>Результат воспитательной модели самоуправления -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формирование самостоятельной, коммуникативной, творческой  социально-адаптированной личности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Спасибо за внимание 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68360" y="907560"/>
            <a:ext cx="842472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Конвенция ООН о правах ребен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Статья 1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Государства-участники признают право ребенка на свободу ассоциации и свободу мирных собраний.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Конституция Р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Статья 3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Каждый имеет право на объединение, включая право создавать профессиональные союзы для защиты своих интересов. Свобода деятельности общественных объединений гарантируе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    </a:t>
            </a: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Главная функция детских организаций и объединений в том, чтобы оказать своим членам помощь в социальной адаптации к новым социально-экономическим условиям, чтобы дети участвовали в национально-культурном возрождении, в организации свободного времени и досуга, в сохранении и развитии духовных ценностей. 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ы самоуправления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педагогическое руководство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предметность деятельности, то есть органы самоуправления формируются для организации деятельности в коллективе и для коллектива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единое планирование, то есть создание единого плана воспитывающей деятельности, исполнителями которого являются сами органы самоуправления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выборность органов самоуправления, то есть в органы будут избираться классным собранием;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сменяемость функций руководства и подчинения, а также видов деятельности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построение самоуправления снизу вверх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участие всех учащихся в системе самоуправления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согласие, то есть после принятия решения действует правило обязательного его выполнения всеми участниками процесса.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1" name="Diagram 1"/>
          <p:cNvGrpSpPr/>
          <p:nvPr/>
        </p:nvGrpSpPr>
        <p:grpSpPr>
          <a:xfrm>
            <a:off x="468360" y="333360"/>
            <a:ext cx="8424720" cy="6524640"/>
            <a:chOff x="468360" y="333360"/>
            <a:chExt cx="8424720" cy="6524640"/>
          </a:xfrm>
        </p:grpSpPr>
        <p:pic>
          <p:nvPicPr>
            <p:cNvPr id="222" name="Схема 38" descr=""/>
            <p:cNvPicPr/>
            <p:nvPr/>
          </p:nvPicPr>
          <p:blipFill>
            <a:blip r:embed="rId1"/>
            <a:stretch/>
          </p:blipFill>
          <p:spPr>
            <a:xfrm>
              <a:off x="468360" y="333360"/>
              <a:ext cx="842472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17"/>
            <p:cNvSpPr/>
            <p:nvPr/>
          </p:nvSpPr>
          <p:spPr>
            <a:xfrm>
              <a:off x="892800" y="4744800"/>
              <a:ext cx="1542240" cy="1100160"/>
            </a:xfrm>
            <a:prstGeom prst="ellipse">
              <a:avLst/>
            </a:prstGeom>
            <a:solidFill>
              <a:srgbClr val="21b2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Классное собрание учащихся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4" name="Oval 16"/>
            <p:cNvSpPr/>
            <p:nvPr/>
          </p:nvSpPr>
          <p:spPr>
            <a:xfrm>
              <a:off x="6922440" y="4744800"/>
              <a:ext cx="1542240" cy="1100160"/>
            </a:xfrm>
            <a:prstGeom prst="ellipse">
              <a:avLst/>
            </a:prstGeom>
            <a:solidFill>
              <a:srgbClr val="20c9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Родительское 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собрание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1734120" y="4344480"/>
              <a:ext cx="3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7763400" y="434448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 flipV="1">
              <a:off x="5660280" y="5445000"/>
              <a:ext cx="126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2295000" y="5545080"/>
              <a:ext cx="140184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1032840" y="2243520"/>
              <a:ext cx="1261800" cy="300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есс-цент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032840" y="1743480"/>
              <a:ext cx="1261800" cy="299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ультмассовый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1032840" y="1343160"/>
              <a:ext cx="1261800" cy="29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портивный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1032840" y="942840"/>
              <a:ext cx="1261800" cy="299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рудовой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1032840" y="542880"/>
              <a:ext cx="1261800" cy="2998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Учебный 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 flipV="1">
              <a:off x="1734120" y="25434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1734120" y="204300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V="1">
              <a:off x="1734120" y="164340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Line 3"/>
            <p:cNvSpPr/>
            <p:nvPr/>
          </p:nvSpPr>
          <p:spPr>
            <a:xfrm flipV="1">
              <a:off x="1734120" y="124308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Line 2"/>
            <p:cNvSpPr/>
            <p:nvPr/>
          </p:nvSpPr>
          <p:spPr>
            <a:xfrm flipV="1">
              <a:off x="1734120" y="8427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Функции секторов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Учебный сектор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помощь в проверке дневников;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формирование команд к участию в викторинах, интеллектуальных марафонах;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организация помощи отстающим в учебе;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учет посещаем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Трудовой сектор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920" y="2397960"/>
            <a:ext cx="7561440" cy="350388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рганизация дежурства по классу,                                                    -участие в трудовых акциях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бота по оформлению кабин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озеленение, поддержание хорошег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состояния мебели, поддержание чистоты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Спортивный сектор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2249640"/>
            <a:ext cx="843588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тор спортивно-оздоровительнойработ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астие в спортивно-оздоровительных  мероприятиях класса и школ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команды к спортивны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язаниям, турнир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Культмассовый сектор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классных огонь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щешкольные и внутриклассные праздник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ещение театров, музеев, проведение  экскурс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7:57:11Z</dcterms:created>
  <dc:creator>Игорь</dc:creator>
  <dc:description/>
  <dc:language>en-US</dc:language>
  <cp:lastModifiedBy>Komp</cp:lastModifiedBy>
  <dcterms:modified xsi:type="dcterms:W3CDTF">2008-03-28T09:06:35Z</dcterms:modified>
  <cp:revision>40</cp:revision>
  <dc:subject/>
  <dc:title>Модель самоуправления в классном коллективе среднего звена </dc:title>
</cp:coreProperties>
</file>