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958-F9AA-4D8D-9924-ED067288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79F-2A53-43AF-9897-7B633067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63E-2DE9-4FE4-909A-E7FC2BD8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E58-A2B7-4BAD-B37B-9F8D6F23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3E23-67E6-43B0-A306-189B2B1E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FFA0-C442-4C36-B682-DA7803F9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18E7-43F3-42DA-A401-B26407B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D49-E2C9-472E-ACA9-0BBD5D41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F39-303E-4984-B65B-62FE24D1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78E8-4683-4141-B005-966E41C1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627-C82F-4CBD-B1C2-A6673482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8BC-0387-4BFB-B57A-5D7C7579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B955-92F2-4307-94C6-318D12E7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CD10-61B3-46BA-ACF9-7686E32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3993-DC1D-4D35-86E3-2A88EAE6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DBE1-6A9E-437C-845B-93E96725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BAA9-0C67-4020-B8CF-078E8F09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90C-4C4C-4456-9D33-F97B6659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623-CFAC-480A-A465-30C1F5D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2B6-3CDF-4177-B687-79B8485F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B2A-FC93-4C06-B586-88040FDB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702-E27F-41D3-B99A-CB3BB067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C32-6F28-4F46-9CB4-669EED79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7A3-F7AA-4854-BBE8-A29EEC8E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C70F-27FF-4B4A-A9E6-1F52E39858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52F9-13D2-4480-9A60-8BF1EAE1FD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иколай Васильевич Гоголь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20 марта (1апреля) 1809 - 21 февраля (4марта) 185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>
            <a:alphaModFix amt="28000"/>
          </a:blip>
          <a:stretch/>
        </p:blipFill>
        <p:spPr>
          <a:xfrm>
            <a:off x="2843280" y="549360"/>
            <a:ext cx="3611520" cy="46800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имназия высших наук в Нежине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десь Гоголь занимается живописью, участвует в спектаклях – как художник-декоратор и как актёр, пишет элегические стихотворения, трагедии, историческую поэму, пове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4038480" cy="23367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48320" y="33336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ив гимназию в 1828 году, Гоголь едет в Петербург. Испытывая денежные затруднения, делает первые литературные пробы: в начале 1829 года появляется стихотворение «Италия», а весной того же года поэма «Ганц Кохельгартен», изданная  под псевдонимом В. Алов. В июле 1829 года сжигает нераспроданные экземпляры и уезжает в Германию, откуда вскоре возвращ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740040" cy="56167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08400" y="609300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.В. Гоголь. Рис. Вит. Горяч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003280" y="260280"/>
            <a:ext cx="368316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онце 1829 года начинает служить в департаменте государственного хозяйства и публичных зданий Министерства внутренних д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апреля 1830 до марта 1831 служит в департаменте уделов (сначала писцом, потом помощником столоначальн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498920" cy="58327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826920" y="62373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с. Виталия Горяч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голь в Петербург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 время Гоголь усиленно занимается литературной работой. 1830 год печатает «Вечер накануне Ивана Купал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комство с Пушкиным, Жуковским, П.А. Плетнёв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териальное положение тяжёлое. Чтобы его поправить, даёт уроки, затем, по ходатайству П.А.Плетнёва, становится преподавателем истории в Патриотическом инстинту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2711520" cy="39607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355640" y="981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от период выходят в свет «Вечера на хуторе близ Диканьки» (1831-1832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л знаменит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857320" cy="28576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2163960" cy="29512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003640" y="836640"/>
            <a:ext cx="361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833 год самый напряжённый – мучительные поиски дальнейшего творческого пути. Занимается изучением истории – украинской и всемир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июне 1834 года был определён адъюнкт-профессором по кафедре всеобщей истории при Санкт- Петербургском университе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овременно он в глубокой тайне пишет повести, составившие впоследствии два его сборника «Миргород» и «Арабески»(183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2444760" cy="31669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0" y="1125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835 году заканчивает преподавательскую деятельность и занимается только литературной рабо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835 году начинает работать над «Ревизором». Премьера пьесы состоялась в Москве, в Малом теат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3797280" cy="25401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27320" y="4797360"/>
            <a:ext cx="41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нок Гоголя к последней сце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Ревизор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16000" y="764640"/>
            <a:ext cx="40388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июне 1836 года Гоголь уезжает за границу. Он прожил там в общей сложности 12 лет. Жил и в Германии, и во Франции, и в Итал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 границей Гоголь  работает над поэмой «Мёртвые души», сюжет которой был подсказан Пушкиным. В сентябре 1839 приезжает в Москву и приступает к чтению «Мёртвых душ». Всего было прочитано 6 глав. Восторг был всеобщ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2241360" cy="266364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57592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том уезжает в Вену, его постигает приступ тяжёлой нервической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конца сентября 1840 по август 1841 Гоголь живёт в Риме, где завершает первый том «Мёртвых душ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842 по 1845 живёт за границей в Италии, работает над вторым томом «Мёртвых душ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938320" cy="36576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6000" y="2421000"/>
            <a:ext cx="2833560" cy="40561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4408560" y="479520"/>
            <a:ext cx="30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чале 1845 у Гоголя появляются признаки нового душевного кризиса. В конце июня или в начале июля 1845  в состоянии резкого обострения болезни, Гоголь сжигает рукопись второго то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847 году в Петербурге были опубликованы «Выбранные места из переписки с друзьям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30680" cy="48358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Дом, в котором родился Гогол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4176720" cy="2521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960720" cy="2521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950760" y="5532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5676840"/>
            <a:ext cx="73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941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ликие Сорочинцы Миргородского уезда Полтавской губер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355640" y="765000"/>
            <a:ext cx="441324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нига «Выбранные места из переписки с друзьями» была подвергнута резкой критике. Все эти отклики настигли писателя в дороге в Германию: «Здоровье моё … потряслось от этой для меня сокрушительной истории по поводу моей книги. Дивлюсь, сам, как я еще остался жив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322440" cy="25239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859280" y="2492280"/>
            <a:ext cx="38275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оголь готовится к паломничеству по святым мест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48 – Иерусалим. Во Святом Граде Гоголь проводит ночь в алтаре у Гроба Господня. Но после Причащения с грустью признается себе: «Я не стал лучшим, тогда как все земное должно было во мне сгореть и остаться одно небесное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1981080" cy="20415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5402160" cy="20034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919160" y="2565360"/>
            <a:ext cx="15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ерусал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96600" y="572292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об Господ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427640" y="836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49-1850- живёт в Москв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ной 1850 года  Гоголь предпринимает первую и последнюю попытку жениться – делает предложение Анне Виельгорской, но получает отк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097440" cy="26892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4720" y="692280"/>
            <a:ext cx="44640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юне 1850 года впервые посещает Оптину пустынь. Всего Гоголь посещает трижды Оптину пустынь, встречается со старцами и уже не в первый раз в своей жизни изъявляет желание «поступить в монахи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09880" cy="25527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332000" y="3357720"/>
            <a:ext cx="2381040" cy="29430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января 1852 года Гоголь сообщает, что 2 том оконче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вый кризис в связи со смертью Е.Хомяковой (сестра Н.Языкова), человека духовно близкого Гого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3038760" cy="35733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04080" y="505944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. М. Хомяк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71640" y="836640"/>
            <a:ext cx="5815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рошо известна дружба Гоголя со священником Матфеем Константиновским в последние годы жизни. Именно перед самой кончиной, в январе 1852 года, отец Матфей посещал Гоголя, и Гоголь читал ему отдельные главы из 2 части поэмы «Мертвые души». Не все понравилось отцу Матфею, и после этой реакции и разговора Гоголь сжигает беловую рукопись 2 тома поэмы в кам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 февраля 1852 года Гоголь исповедовался, соборовался и причастил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ез три дня под утро перед самой смертью в полном сознании он сказал: «Как сладко умирать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000160" cy="244944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сква, Никитский бульвар, 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007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этом доме с 1848 по 1852 год прожил Н. В. Гоголь, здесь же, в феврале 1852 года он и скончался. В левом крыле дома находятся комнаты, в которых жил Николай Васильевич: спальня, где он работал, переписывая свои произведения. Работал Гоголь стоя, переписывал произведения сидя, знал все свои крупные сочинения наизусть. Часто можно было слышать, как он прогуливался по комнате и проговаривал свои произвед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388944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исьменный сто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30640" cy="41148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3816360" cy="30304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рнильница писате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933880" cy="41148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ртфель писател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502320" cy="4051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тец Н.В. Гогол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силий Афанасьевич Гоголь-Янов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1777-1825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ужил при Малороссийском почтамте, в 1805 году уволился и женился на Марии Ивановне Косяровской, матери Гог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416400" cy="41148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Комната, где скончался писател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4032360" cy="30988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859280" y="249228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1 февраля Гоголь умер в своей последней квартире в доме Талызина в Моск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2382840" cy="14824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251160" cy="44038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633240" y="4019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голь на смертном од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82760" y="566100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мертная маска Гог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хороны писателя состоялись при огромном стечении народа на кладбище  Свято-Данилова монастыря, а в 1931 останки Гоголя были перезахоронены на Новодевичьем кладбищ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могиле Гоголя написаны слова из пророка Иеремии: «Горьким словом моим посмеюся».По воспоминаниям близких ему людей, Гоголь каждый день читал главу из Библии и всегда держал при себе Евангелие, даже в дорог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1798920" cy="11952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3810240" cy="548640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ама Н.В. Гогол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ия Ивановна Косяров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ыла первой красавицей на Полтавщ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65160" y="1557360"/>
            <a:ext cx="3164040" cy="47512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асильевка (Яновщина)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Здесь прошли детские годы писател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2062080" cy="3097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240000" cy="210672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995640" y="4292640"/>
            <a:ext cx="2808360" cy="186696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971640" y="1484280"/>
            <a:ext cx="3240000" cy="17398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мья большая (шестеро детей), дружная, культурная: отец писал комедии, в доме устраивались театральные постановки, на которые приглашались гости. Сам Гоголь в детстве писал стихи, мать заботилась о религиозном воспитании сы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5832360" cy="368964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821680" y="5924520"/>
            <a:ext cx="37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оме – музее в Васильев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7272360" cy="46306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124000" y="573408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мната мате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5111640" cy="39880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2124000" y="5734080"/>
            <a:ext cx="47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мната пис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лтавское уездное училищ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обучал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818 по 1819 г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2962440" cy="3959280"/>
          </a:xfrm>
          <a:prstGeom prst="rect">
            <a:avLst/>
          </a:prstGeom>
          <a:ln w="57240">
            <a:solidFill>
              <a:srgbClr val="e5ffff"/>
            </a:solidFill>
            <a:miter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13:50Z</dcterms:created>
  <dc:creator>Customer</dc:creator>
  <dc:description/>
  <dc:language>en-US</dc:language>
  <cp:lastModifiedBy>Customer</cp:lastModifiedBy>
  <dcterms:modified xsi:type="dcterms:W3CDTF">2009-09-20T17:47:01Z</dcterms:modified>
  <cp:revision>5</cp:revision>
  <dc:subject/>
  <dc:title>Николай Васильевич Гоголь 20 марта (1апреля) 1809 - 21 февраля (4марта) 1852</dc:title>
</cp:coreProperties>
</file>