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740-7AF9-4403-A7D3-0A7280C5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BC3-0F43-4437-8407-A9294231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C44-E611-479D-B6B8-60FF9366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BCB-732B-4860-969D-1F74001F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6E6E-C8B8-4C0C-9FC3-B7C98499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DA88-C993-49A4-B4B1-F312DCFB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09D1-D617-48C9-82A8-0BA4CBAE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B273-C25F-4CF1-8A01-9ADBB419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8D77-C32C-46D9-B7DC-43EAB79C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3E91-12BB-424D-8491-F70D4366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5D48-1B23-42F0-B7E8-403DC8A7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520-D681-4931-9571-9AEFED93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CB8E-8CF8-4B95-9818-950B0EBA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126E-ADBC-44EE-AED6-C232EFF2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A8C1-2404-4620-93DB-3013E17A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6E6E-C37B-4840-AFD9-FC93DE83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E4D4-086B-4512-839D-89BAD975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A56-1CB6-46D6-A287-F576149A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451-5D1F-47E7-8E64-7FECB1E3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170-9D7D-477C-BE3C-21BA8473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AB1-17CC-40F2-B36F-4232DF81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516-BD50-43CA-8003-D0C7BB09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EF0-6287-40B2-849E-8FA76B44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763-F776-4CE4-8F72-38198082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9DF0-8655-401C-9FCF-A497975341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E69A-7176-460D-B247-65702D875B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508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иколай Васильевич Гоголь</a:t>
            </a:r>
            <a:br>
              <a:rPr sz="40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20 марта (1апреля) 1809 - 21 февраля (4марта) 1852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>
            <a:alphaModFix amt="28000"/>
          </a:blip>
          <a:stretch/>
        </p:blipFill>
        <p:spPr>
          <a:xfrm>
            <a:off x="2843280" y="549360"/>
            <a:ext cx="3611520" cy="46800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Гимназия высших наук в Нежине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десь Гоголь занимается живописью, участвует в спектаклях – как художник-декоратор и как актёр, пишет элегические стихотворения, трагедии, историческую поэму, пове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4038480" cy="233676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48320" y="333360"/>
            <a:ext cx="40384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ончив гимназию в 1828 году, Гоголь едет в Петербург. Испытывая денежные затруднения, делает первые литературные пробы: в начале 1829 года появляется стихотворение «Италия», а весной того же года поэма «Ганц Кохельгартен», изданная  под псевдонимом В. Алов. В июле 1829 года сжигает нераспроданные экземпляры и уезжает в Германию, откуда вскоре возвращ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740040" cy="561672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608400" y="609300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.В. Гоголь. Рис. Вит. Горяч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003280" y="260280"/>
            <a:ext cx="368316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конце 1829 года начинает служить в департаменте государственного хозяйства и публичных зданий Министерства внутренних д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апреля 1830 до марта 1831 служит в департаменте уделов (сначала писцом, потом помощником столоначальн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498920" cy="583272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826920" y="623736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ис. Виталия Горяч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оголь в Петербург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 время Гоголь усиленно занимается литературной работой. 1830 год печатает «Вечер накануне Ивана Купал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комство с Пушкиным, Жуковским, П.А. Плетнёвы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териальное положение тяжёлое. Чтобы его поправить, даёт уроки, затем, по ходатайству П.А.Плетнёва, становится преподавателем истории в Патриотическом инстинту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2711520" cy="396072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355640" y="981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этот период выходят в свет «Вечера на хуторе близ Диканьки» (1831-1832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гол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л знаменит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857320" cy="28576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050920" y="3429000"/>
            <a:ext cx="2163960" cy="29512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003640" y="836640"/>
            <a:ext cx="361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833 год самый напряжённый – мучительные поиски дальнейшего творческого пути. Занимается изучением истории – украинской и всемир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июне 1834 года был определён адъюнкт-профессором по кафедре всеобщей истории при Санкт- Петербургском университе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новременно он в глубокой тайне пишет повести, составившие впоследствии два его сборника «Миргород» и «Арабески»(183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2444760" cy="316692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0" y="1125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1835 году заканчивает преподавательскую деятельность и занимается только литературной работ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1835 году начинает работать над «Ревизором». Премьера пьесы состоялась в Москве, в Малом теат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797280" cy="254016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27320" y="4797360"/>
            <a:ext cx="41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нок Гоголя к последней сце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Ревизор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16000" y="764640"/>
            <a:ext cx="40388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июне 1836 года Гоголь уезжает за границу. Он прожил там в общей сложности 12 лет. Жил и в Германии, и во Франции, и в Итал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 границей Гоголь  работает над поэмой «Мёртвые души», сюжет которой был подсказан Пушкиным. В сентябре 1839 приезжает в Москву и приступает к чтению «Мёртвых душ». Всего было прочитано 6 глав. Восторг был всеобщ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32000" y="2276640"/>
            <a:ext cx="2241360" cy="266364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4005360"/>
            <a:ext cx="57592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том уезжает в Вену, его постигает приступ тяжёлой нервической боле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конца сентября 1840 по август 1841 Гоголь живёт в Риме, где завершает первый том «Мёртвых душ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1842 по 1845 живёт за границей в Италии, работает над вторым томом «Мёртвых душ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2938320" cy="36576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96000" y="2421000"/>
            <a:ext cx="2833560" cy="405612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4408560" y="479520"/>
            <a:ext cx="30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Ри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начале 1845 у Гоголя появляются признаки нового душевного кризиса. В конце июня или в начале июля 1845  в состоянии резкого обострения болезни, Гоголь сжигает рукопись второго то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1847 году в Петербурге были опубликованы «Выбранные места из переписки с друзьям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3730680" cy="48358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Дом, в котором родился Гоголь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4176720" cy="25210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3960720" cy="25210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950760" y="5532480"/>
            <a:ext cx="72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8200" y="5676840"/>
            <a:ext cx="736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9417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ликие Сорочинцы Миргородского уезда Полтавской губер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355640" y="765000"/>
            <a:ext cx="441324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нига «Выбранные места из переписки с друзьями» была подвергнута резкой критике. Все эти отклики настигли писателя в дороге в Германию: «Здоровье моё … потряслось от этой для меня сокрушительной истории по поводу моей книги. Дивлюсь, сам, как я еще остался жив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3322440" cy="252396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859280" y="2492280"/>
            <a:ext cx="382752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оголь готовится к паломничеству по святым мест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848 – Иерусалим. Во Святом Граде Гоголь проводит ночь в алтаре у Гроба Господня. Но после Причащения с грустью признается себе: «Я не стал лучшим, тогда как все земное должно было во мне сгореть и остаться одно небесное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92360" y="3213000"/>
            <a:ext cx="1981080" cy="204156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5402160" cy="20034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1919160" y="2565360"/>
            <a:ext cx="15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ерусал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96600" y="5722920"/>
            <a:ext cx="21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роб Господ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427640" y="836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49-1850- живёт в Москв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сной 1850 года  Гоголь предпринимает первую и последнюю попытку жениться – делает предложение Анне Виельгорской, но получает отка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7440" cy="26892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284720" y="692280"/>
            <a:ext cx="44640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июне 1850 года впервые посещает Оптину пустынь. Всего Гоголь посещает трижды Оптину пустынь, встречается со старцами и уже не в первый раз в своей жизни изъявляет желание «поступить в монахи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09880" cy="255276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332000" y="3357720"/>
            <a:ext cx="2381040" cy="29430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января 1852 года Гоголь сообщает, что 2 том оконче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вый кризис в связи со смертью Е.Хомяковой (сестра Н.Языкова), человека духовно близкого Гогол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3038760" cy="357336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04080" y="505944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. М. Хомяк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771640" y="836640"/>
            <a:ext cx="5815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орошо известна дружба Гоголя со священником Матфеем Константиновским в последние годы жизни. Именно перед самой кончиной, в январе 1852 года, отец Матфей посещал Гоголя, и Гоголь читал ему отдельные главы из 2 части поэмы «Мертвые души». Не все понравилось отцу Матфею, и после этой реакции и разговора Гоголь сжигает беловую рукопись 2 тома поэмы в ками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8 февраля 1852 года Гоголь исповедовался, соборовался и причастил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ерез три дня под утро перед самой смертью в полном сознании он сказал: «Как сладко умирать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2000160" cy="244944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осква, Никитский бульвар, 7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007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этом доме с 1848 по 1852 год прожил Н. В. Гоголь, здесь же, в феврале 1852 года он и скончался. В левом крыле дома находятся комнаты, в которых жил Николай Васильевич: спальня, где он работал, переписывая свои произведения. Работал Гоголь стоя, переписывал произведения сидя, знал все свои крупные сочинения наизусть. Часто можно было слышать, как он прогуливался по комнате и проговаривал свои произвед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3889440" cy="2684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исьменный сто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30640" cy="41148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95280" y="2492280"/>
            <a:ext cx="3816360" cy="30304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ернильница писате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933880" cy="41148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ртфель писател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502320" cy="40510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тец Н.В. Гогол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силий Афанасьевич Гоголь-Яновск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1777-1825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ужил при Малороссийском почтамте, в 1805 году уволился и женился на Марии Ивановне Косяровской, матери Гог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416400" cy="41148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Комната, где скончался писатель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4032360" cy="30988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4859280" y="249228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1 февраля Гоголь умер в своей последней квартире в доме Талызина в Моск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2382840" cy="14824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788000" y="981000"/>
            <a:ext cx="3251160" cy="44038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633240" y="4019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голь на смертном од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82760" y="566100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смертная маска Гого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хороны писателя состоялись при огромном стечении народа на кладбище  Свято-Данилова монастыря, а в 1931 останки Гоголя были перезахоронены на Новодевичьем кладбищ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могиле Гоголя написаны слова из пророка Иеремии: «Горьким словом моим посмеюся».По воспоминаниям близких ему людей, Гоголь каждый день читал главу из Библии и всегда держал при себе Евангелие, даже в дорог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724360" y="549360"/>
            <a:ext cx="1798920" cy="11952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39640" y="549360"/>
            <a:ext cx="3810240" cy="54864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ама Н.В. Гогол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рия Ивановна Косяров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ыла первой красавицей на Полтавщ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65160" y="1557360"/>
            <a:ext cx="3164040" cy="47512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асильевка (Яновщина)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Здесь прошли детские годы писател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2062080" cy="30970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240000" cy="210672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995640" y="4292640"/>
            <a:ext cx="2808360" cy="186696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971640" y="1484280"/>
            <a:ext cx="3240000" cy="17398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емья большая (шестеро детей), дружная, культурная: отец писал комедии, в доме устраивались театральные постановки, на которые приглашались гости. Сам Гоголь в детстве писал стихи, мать заботилась о религиозном воспитании сы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5832360" cy="368964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2821680" y="5924520"/>
            <a:ext cx="37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оме – музее в Васильев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7272360" cy="46306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2124000" y="5734080"/>
            <a:ext cx="47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мната мате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5111640" cy="39880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2124000" y="5734080"/>
            <a:ext cx="47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мната пис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лтавское уездное училищ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десь обучал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1818 по 1819 г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042920" y="1989000"/>
            <a:ext cx="2962440" cy="39592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2:13:50Z</dcterms:created>
  <dc:creator>Customer</dc:creator>
  <dc:description/>
  <dc:language>en-US</dc:language>
  <cp:lastModifiedBy>Customer</cp:lastModifiedBy>
  <dcterms:modified xsi:type="dcterms:W3CDTF">2009-09-20T17:47:01Z</dcterms:modified>
  <cp:revision>5</cp:revision>
  <dc:subject/>
  <dc:title>Николай Васильевич Гоголь 20 марта (1апреля) 1809 - 21 февраля (4марта) 1852</dc:title>
</cp:coreProperties>
</file>