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7.wmf" ContentType="image/x-wmf"/>
  <Override PartName="/ppt/media/image6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236B-F5C8-49B7-9D7C-1FC85205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CA9F-94E9-44CD-B372-D390229D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51A6-AF81-44AE-94E1-9D7788C5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FC48-F94D-448F-8880-1E6E0614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AD2D-EF60-4DEC-BC32-3FA756FF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39D2-DE21-4D5F-A6B3-FE35121A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EE06-798E-4707-8523-B6042DD7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0A1A-B617-4F41-AED0-CF1F59E1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5851-4E03-434D-BF42-5D8F4D4E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8688-B6DF-4A37-974A-06DD80FA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2278-378C-4A47-AC31-2BD0FDB0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F9AA-C3DC-4D0E-9E69-53278C75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F6FF-C852-4889-BFDC-029D2605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339D-54F9-46F9-9199-E2DB8874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68A6-62F6-4D4A-B406-2B89B236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02F0-89EB-43F1-A474-2CE609F4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02F7-F14D-48A6-8CA4-9CD0C970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044CF-7D09-4C30-A43F-CA109AFB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A85AE-31FD-403C-9267-141078B3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E6A33-9AC1-4956-902F-C6EA0FFD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EBB32-20FC-4F74-9641-309F0E31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87ED5-5051-4EC0-BA22-1C722065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FD7-2020-4D6F-92B8-A4FF867E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42345-CCBF-4923-8D70-D9679CAD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2664F-6818-42C9-9986-4114F44B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42F3E-AE8A-429D-886C-C6503632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C3DF7-2F2B-42EE-99C1-B657C771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EFD0F-B820-41BC-9409-657E7EED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AFB16-23AA-45BB-9EDE-4E26AECD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A0209-AF1B-45CE-ACD7-E4F626D6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F329-9F46-4DD6-8245-EAC60445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D72-563A-4896-A92D-F762BC2E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38B-8C1F-4606-9B01-D34232DE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6937-799D-44C2-88CB-035C5666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45A8-4557-40EB-9EC2-0F7FC13A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6C2-386C-4C6B-AAAE-05FF1EFD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568C-3E9B-45E6-B953-2963F0ADA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8EC6-0509-4BE5-8D58-F38F1325D89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50C6-DAEC-40A5-BF97-8689E86A68E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8000" y="1484280"/>
            <a:ext cx="84247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Тире в бессоюзном сложном предложени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      </a:t>
            </a: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Сформулируйте правил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Я гость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ы хозяин.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противопоставл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Сыр выпал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 ним была плутовка такова.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быстрая смена событ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Любишь кататься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би и саночки возить.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услов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Настанет утро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винемся в путь.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врем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Молвит слово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ловей поёт.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сравн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Хвалы приманчивы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их не пожелать!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следствие, выв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Запишите 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опорную схем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6407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ивопоставление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страя смена собы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ч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условие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(если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емя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ког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(как будт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едствие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(так что, поэтому, значи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84360" cy="17622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flipV="1">
            <a:off x="1403280" y="2707920"/>
            <a:ext cx="86508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403280" y="321264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403280" y="3715920"/>
            <a:ext cx="865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3716280"/>
            <a:ext cx="10094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03280" y="3789360"/>
            <a:ext cx="8650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03280" y="3789360"/>
            <a:ext cx="93672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72360" y="2781360"/>
            <a:ext cx="12240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00720" y="321300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03640" y="371628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643280" y="3716280"/>
            <a:ext cx="288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940360" y="3716280"/>
            <a:ext cx="1584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7093080" y="3573360"/>
            <a:ext cx="35856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08720" y="3213000"/>
            <a:ext cx="1008360" cy="115272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288000 h 1152720"/>
              <a:gd name="textAreaBottom" fmla="*/ 8647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345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Запомните интонацию 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в БСП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332000" y="148428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11280" y="1484280"/>
            <a:ext cx="719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403280" y="270828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32000" y="4076640"/>
            <a:ext cx="5760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4360" y="4149720"/>
            <a:ext cx="57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332000" y="537372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56000" y="270828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84360" y="5445000"/>
            <a:ext cx="647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50920" y="17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17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48000" y="17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50920" y="3068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76720" y="299736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48000" y="299736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24000" y="4292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4292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0920" y="5661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48000" y="4292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19640" y="5661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48000" y="5661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050920" y="4292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227640" y="1989000"/>
            <a:ext cx="1843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000"/>
                            </p:stCondLst>
                            <p:childTnLst>
                              <p:par>
                                <p:cTn id="7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50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Закрепим изученно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был готов любить весь мир - меня никто не поня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овторил приглашение – он ничего не отвеч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дали вилась пыль – Азамат скакал на лихом Карагё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робовал идти пешком – ноги подкоси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рел раздался – дым наполнил комн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ное озеро сверкает на солнце – переливается всеми цветами радуги волшебный крист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ман рассеялся – вершины вновь засверкали на сол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был скромен – меня обвинили в лукав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полните упр. 199 (стр.13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Проверим упражне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противопост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 условие или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)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) противопост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3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500"/>
                            </p:stCondLst>
                            <p:childTnLst>
                              <p:par>
                                <p:cTn id="7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1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5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9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3000"/>
                            </p:stCondLst>
                            <p:childTnLst>
                              <p:par>
                                <p:cTn id="7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3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3500"/>
                            </p:stCondLst>
                            <p:childTnLst>
                              <p:par>
                                <p:cTn id="7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7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4000"/>
                            </p:stCondLst>
                            <p:childTnLst>
                              <p:par>
                                <p:cTn id="7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1" dur="5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4500"/>
                            </p:stCondLst>
                            <p:childTnLst>
                              <p:par>
                                <p:cTn id="7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5" dur="500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1908000" y="1989000"/>
          <a:ext cx="5715000" cy="2768760"/>
        </p:xfrm>
        <a:graphic>
          <a:graphicData uri="http://schemas.openxmlformats.org/drawingml/2006/table">
            <a:tbl>
              <a:tblPr/>
              <a:tblGrid>
                <a:gridCol w="1428480"/>
                <a:gridCol w="1428840"/>
                <a:gridCol w="1428840"/>
                <a:gridCol w="14288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ивоп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стви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Начертите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68920" y="476280"/>
            <a:ext cx="88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Источник удаляет жажду –доброе слово оживляет серд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4000" y="112536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Не кричи о себе – пусть другие о тебе хоть тихо скаж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8000" y="1773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Наука даром не даётся – наука трудом берё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920" y="234936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Азбуку учат – на всю избу крич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0920" y="299736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Есть терпение – будет и ум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9280" y="3573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С глупым водиться – сам поглупе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9280" y="4221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С умным поговорить – воды нап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74960" y="27813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Проходят и болезни, и беда – привычки ост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всег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9480" y="620640"/>
            <a:ext cx="71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Прочёл хорошую книгу – встретился с д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5320" y="141300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Язык один, ушей пара – раз скажи, два послуш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0360" y="2133720"/>
            <a:ext cx="75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Не ищи безупречного друга – останешься о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8920" y="3716280"/>
            <a:ext cx="84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 Первый камень криво в землю врос – вся стена пош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ерек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6600" y="4724280"/>
            <a:ext cx="58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 Обидит друг – ляжет камнем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6760" y="5516640"/>
            <a:ext cx="766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 Умная голова сто голов кормит – худая и од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прокорм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66200" y="620640"/>
            <a:ext cx="65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 Будешь книги читать – будешь всё зн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70160" y="1268280"/>
            <a:ext cx="56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. Утром не встанешь – день проп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7280" y="1844640"/>
            <a:ext cx="74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. Хвастун правду скажет – ему никто не пове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5120" y="2421000"/>
            <a:ext cx="74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. Тьма свету не любит – злой доброго не терп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8360" y="2997360"/>
            <a:ext cx="56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. Ручка беленька – душа чёрнень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1840" y="3645000"/>
            <a:ext cx="864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. Счастливый шепотком толкует об удаче – несчаст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своём несчастье пла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6920" y="4653000"/>
            <a:ext cx="61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. Нет умного соседа – беседуй с кни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82296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Повторим изученно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77172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иш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ммат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ы 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задание  типа В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59280" y="1412640"/>
            <a:ext cx="3772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ажите количество грамматических основ в данных предлож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задание типа    В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411280" y="5157720"/>
            <a:ext cx="244800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50"/>
                            </p:stCondLst>
                            <p:childTnLst>
                              <p:par>
                                <p:cTn id="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700"/>
                            </p:stCondLst>
                            <p:childTnLst>
                              <p:par>
                                <p:cTn id="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85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700"/>
                            </p:stCondLst>
                            <p:childTnLst>
                              <p:par>
                                <p:cTn id="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700"/>
                            </p:stCondLst>
                            <p:childTnLst>
                              <p:par>
                                <p:cTn id="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5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5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3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1908000" y="1916280"/>
          <a:ext cx="5715000" cy="298584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428840"/>
                <a:gridCol w="1428480"/>
              </a:tblGrid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ивоп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стви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Проверим зад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50920" y="2924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909800" y="2997360"/>
            <a:ext cx="145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2,3,1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,14,17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,19,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02360" y="2943360"/>
            <a:ext cx="145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5,6,7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,12,13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,16,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50160" y="29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72360" y="299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590160" y="29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Подведём итог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ановка тире в БСП зависит от смысловых отношений между част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произнесении БСП со знаком тире голос повышается перед этим знаком и понижается в конце пред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Запишите 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домашнее зад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учить схему  в справочной тетрад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о на стр. 133-134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помнить случаи постановки тире в ПП (см. форзац учебник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. 2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СПАСИБО 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ЗА РАБОТУ НА УРОК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3635280" y="2924280"/>
            <a:ext cx="1295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0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Comic Sans MS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4465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1 вариан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1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ажно сохрани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2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опустил и повернул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3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икто не соприкоснул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4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еловек не может состоять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5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ладеть значит владе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6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ногие умели и умею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7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гудение и серебр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8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круги становятся слабе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9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и опасности существу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10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Москва показалась не безмолвной, а полной звук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00360" y="9810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2 вариан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1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2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3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4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я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5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6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7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8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9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10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17760" cy="1251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356000" y="4941720"/>
            <a:ext cx="838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Повторим 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изученное о БСП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167600" y="4221000"/>
            <a:ext cx="19764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Comic Sans MS"/>
              </a:rPr>
              <a:t>Повторим </a:t>
            </a: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Comic Sans MS"/>
              </a:rPr>
              <a:t>изученное о БСП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59640" y="1341360"/>
            <a:ext cx="2233440" cy="1224000"/>
          </a:xfrm>
          <a:custGeom>
            <a:avLst/>
            <a:gdLst>
              <a:gd name="textAreaLeft" fmla="*/ 279000 w 2233440"/>
              <a:gd name="textAreaRight" fmla="*/ 1954440 w 2233440"/>
              <a:gd name="textAreaTop" fmla="*/ 306000 h 1224000"/>
              <a:gd name="textAreaBottom" fmla="*/ 9180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32720" y="3429000"/>
            <a:ext cx="2233440" cy="1224000"/>
          </a:xfrm>
          <a:custGeom>
            <a:avLst/>
            <a:gdLst>
              <a:gd name="textAreaLeft" fmla="*/ 279000 w 2233440"/>
              <a:gd name="textAreaRight" fmla="*/ 1954440 w 2233440"/>
              <a:gd name="textAreaTop" fmla="*/ 306000 h 1224000"/>
              <a:gd name="textAreaBottom" fmla="*/ 9180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оето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32720" y="1557360"/>
            <a:ext cx="1942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я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ка с запя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Не забывай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знач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перечисление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яснение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а имен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причина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потому ч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полнение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ч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увидел, ч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56000" y="19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59640" y="1341360"/>
            <a:ext cx="2233440" cy="1224000"/>
          </a:xfrm>
          <a:custGeom>
            <a:avLst/>
            <a:gdLst>
              <a:gd name="textAreaLeft" fmla="*/ 279000 w 2233440"/>
              <a:gd name="textAreaRight" fmla="*/ 1954440 w 2233440"/>
              <a:gd name="textAreaTop" fmla="*/ 306000 h 1224000"/>
              <a:gd name="textAreaBottom" fmla="*/ 9180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66520" y="162864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я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12000" y="184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ка с запя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84360" y="4005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484360" y="3500280"/>
            <a:ext cx="5050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84360" y="4076640"/>
            <a:ext cx="432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32720" y="3429000"/>
            <a:ext cx="2233440" cy="1224000"/>
          </a:xfrm>
          <a:custGeom>
            <a:avLst/>
            <a:gdLst>
              <a:gd name="textAreaLeft" fmla="*/ 279000 w 2233440"/>
              <a:gd name="textAreaRight" fmla="*/ 1954440 w 2233440"/>
              <a:gd name="textAreaTop" fmla="*/ 306000 h 1224000"/>
              <a:gd name="textAreaBottom" fmla="*/ 9180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74000" y="388152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оето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Какой пунктуационный знак следует поставить вместо скобо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Я вошёл в хату( ) две лавки и стол да огромный сундук возле печи составляли всю её мебел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 Я не мог заснуть( )передо мной во мраке всё вертелся мальчик с белыми глаз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Она была хороша( ) высокая, тоненькая, глаза чёрные, как у горной серны, так и заглядывали к нам в душ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 Я взглянул на неё и испугался( ) её лицо выражало глубокое отчаяние, на глазах сверкали слёз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. Вот мои условия( ) вы нынче же публично откажитесь от своей клеветы и будете просить у меня извин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Comic Sans MS"/>
              </a:rPr>
              <a:t>Познакомимся с новым материало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Я гость,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 хозя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Сыр выпа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ним была плутовка так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Ес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любишь кататься ,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люби и саночки воз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Ког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станет утро, двинемся в пу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Молвит слово,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как буд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ловей по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Хвалы приманчивы,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так ч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ак их не пожелать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92720" y="1700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43480" y="1647720"/>
            <a:ext cx="27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47240" y="1576440"/>
            <a:ext cx="38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противопоставл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2160" y="3284640"/>
            <a:ext cx="17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услов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8320" y="2492280"/>
            <a:ext cx="44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быстрая смена событ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46160" y="3716280"/>
            <a:ext cx="14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врем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51640" y="443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472428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9800" y="4581360"/>
            <a:ext cx="21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сравн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00000" y="5589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0160" y="5465880"/>
            <a:ext cx="33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следствие, выв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8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1" dur="2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4" dur="2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7" dur="20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0" dur="20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5" dur="20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Comic Sans MS"/>
              </a:rPr>
              <a:t>Познакомимся с новым материало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Я гость ( )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ы хозяин.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противопоставление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Сыр выпал ( )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ним была плутовка такова.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быстрая смена событий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Любишь кататься ( )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би и саночки возить.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условие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Настанет утро (  ) двинемся в путь.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время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Молвит слово ( )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ловей поёт.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сравнение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Хвалы приманчивы ( ) как их не пожелать!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следствие, вывод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0:32:32Z</dcterms:created>
  <dc:creator>Customer</dc:creator>
  <dc:description/>
  <dc:language>en-US</dc:language>
  <cp:lastModifiedBy>root</cp:lastModifiedBy>
  <dcterms:modified xsi:type="dcterms:W3CDTF">2011-12-13T21:11:36Z</dcterms:modified>
  <cp:revision>14</cp:revision>
  <dc:subject/>
  <dc:title>Слайд 1</dc:title>
</cp:coreProperties>
</file>