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C56-D46F-4C2F-923A-7439A70A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81C-0FE6-4944-BDB9-61A22D5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A6F-D305-4BD1-8E9F-582C02A7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0A4-5649-4FF3-B3D6-25837D77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15C-0C01-47C4-8A72-EF23903E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3BB-5381-4D01-9B00-A3E771A4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718-8C53-4710-B1C7-BC981D9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954-21C0-4BE3-BEF9-AC682A48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C36-77DD-4BEE-A69B-D54A6B4A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CCE-04D4-4CCC-ADB2-18BF5CB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2B3-D022-4ECD-9B14-4CFCB27D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5D1-2D38-4808-BABE-CE26BDF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20F5-7DA6-43EB-9097-3D192DEB3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360" y="4723920"/>
            <a:ext cx="41749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гузина Татьяна Валикаевна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 филиала ООО МБОУ СОШ с. Бахтыбаево,с. Новокульчубаево Бирского района Р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2349360"/>
            <a:ext cx="691200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четания чк, чн,щ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сегодня замечательно работали. Я вами горжусь! А дома постарайтесь придумать слова на нашу новую орфограмму чн,чк,щн,р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иду на  урок в начальную школу: Русский язык. Книга 2: Книга для учителя.- М.: Издательство «Первое сентября», 2000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валько В.И. Школа физкультминуток /В. И. Ковалько.-М.: Вако,2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нетический разбор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7280" y="2349000"/>
            <a:ext cx="662472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сочетаниях ЧК, ЧН, НЩ, Р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ква мягкий знак не пиш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бразовать от слова ночь родственные сло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очь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чь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чн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ч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чни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чн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менить словосочет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им слов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м из кирпич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от из клубники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уп из овощей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уп из молок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тичка-невеличка ножки име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ходить не уме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чет сделать шажок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учается прыж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ть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-ча-ч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три хлопка в ладош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ка очень горяч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Четыре полуприсе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-чи-ч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Три хлопка над головой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ет печка калач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Четыре прыжка на мест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знай слово и запиши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не--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--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ме--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воре--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те—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ба--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2:10:38Z</dcterms:created>
  <dc:creator>UserXP</dc:creator>
  <dc:description/>
  <dc:language>en-US</dc:language>
  <cp:lastModifiedBy>UserXP</cp:lastModifiedBy>
  <dcterms:modified xsi:type="dcterms:W3CDTF">2007-01-17T00:38:29Z</dcterms:modified>
  <cp:revision>3</cp:revision>
  <dc:subject/>
  <dc:title>Слайд 1</dc:title>
</cp:coreProperties>
</file>