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A9CE-39F3-4E92-ADC7-4FD1E98E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618-B0D4-4894-BDD1-AE3E329A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2798-30F0-4D34-BAB4-D6E5B3BA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2BB2-1CDF-4FD9-BF28-EB05EC07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07C5-F5F5-47BD-A3E8-296F2DEF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25D-9E2E-40BC-A5A5-96FC14D0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FBE-3A4D-4CAE-A51E-F682BE28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085-7ED7-4688-95DC-C349EDC7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5B1A-7B35-4944-AFE1-C8FB15F6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0F8-F733-4F60-A4BD-D0C651FD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38F-4A69-4E61-B3DC-95D1379C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1356-3935-4D87-B10E-BC4D9589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BD01-23EC-412C-AF47-9D05B8EB1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284360" y="4723920"/>
            <a:ext cx="41749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зентацию подготови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гузина Татьяна Валикаевна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 филиала ООО МБОУ СОШ с. Бахтыбаево,с. Новокульчубаево Бирского района Р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2349360"/>
            <a:ext cx="691200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четания чк, чн,щн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сегодня замечательно работали. Я вами горжусь! А дома постарайтесь придумать слова на нашу новую орфограмму чн,чк,щн,рщ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иду на  урок в начальную школу: Русский язык. Книга 2: Книга для учителя.- М.: Издательство «Первое сентября», 2000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валько В.И. Школа физкультминуток /В. И. Ковалько.-М.: Вако,20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онетический разбор сл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7280" y="2349000"/>
            <a:ext cx="662472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 сочетаниях ЧК, ЧН, НЩ, РЩ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уква мягкий знак не пиш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68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68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бразовать от слова ночь родственные слов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очь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чь 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чн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ч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чни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чну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менить словосочета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им слов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ом из кирпича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пот из клубники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уп из овощей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уп из молока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тгадай загад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тичка-невеличка ножки име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 ходить не уме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очет сделать шажок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лучается прыж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култь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-ча-ч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три хлопка в ладош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чка очень горяч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Четыре полуприсе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-чи-ч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Три хлопка над головой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чет печка калач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Четыре прыжка на мест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знай слово и запиши 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коне--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--ч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ме--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воре--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те—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раба--щ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22:10:38Z</dcterms:created>
  <dc:creator>UserXP</dc:creator>
  <dc:description/>
  <dc:language>en-US</dc:language>
  <cp:lastModifiedBy>UserXP</cp:lastModifiedBy>
  <dcterms:modified xsi:type="dcterms:W3CDTF">2007-01-17T00:38:29Z</dcterms:modified>
  <cp:revision>3</cp:revision>
  <dc:subject/>
  <dc:title>Слайд 1</dc:title>
</cp:coreProperties>
</file>