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9EC-4929-4962-A89F-F6C5E731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C9F6-1DF7-4BAB-B9B2-E7184A6C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85B-A8D1-4021-BA1E-D0274A1C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0F00-E89F-4CAF-888A-9E4453F0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EA1D-14FD-49EE-A207-F8566046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B62C-2E7D-4969-94AF-D3F629F9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4BD9-716E-406C-8CD1-DF0A30D5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33F7-6924-48F0-86F1-2D2E7780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43C5-7546-4F70-9A04-1C2D153C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3938-F425-40CC-96B9-0A75FB78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1688-27B6-489B-B94C-D352957B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B3D-FDB5-46B8-98C0-E92E3C99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A787-FA7B-4B39-8EBB-7EED6EA77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404640"/>
            <a:ext cx="76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чебный модул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2647800"/>
            <a:ext cx="8280360" cy="308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Как правильно 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сать сочинение?"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Критерии оценивания ответа на задание С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800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К1 Формулировка проблем исходного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К2  Комментарий к сформулированно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робл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К3  Отражение позиции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К4  Аргументация собственного м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Вы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К1 Формулировка проблем исходного текст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Вступ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Формулировка пробл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Какой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тоит пе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авто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47920" y="476280"/>
            <a:ext cx="6508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дель для написания сочинения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916280"/>
            <a:ext cx="3960720" cy="31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В предложенном мне текс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ФИО авто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рассуждает о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569080" cy="579276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Рассуждения  автора  о (о чем?) ... очень глубоки и интерес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Глубокое понимание и душевный отклик вызвал у меня текст ….. о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Тема, заявленная …. достаточно интересна и актуаль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ри этом он поднимает проблему (чего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Так же интересна и проблема (чего?)...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однятая в тек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ублицист ставит проблему, актуальную во все врем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334800"/>
            <a:ext cx="8362800" cy="71784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2  Комментарий к сформулированной 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проблем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5329440" cy="478476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о мнению автора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однимая эту ... проблему, автор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- предлагает читателю поразмыслить над вопрос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- приводит образное сравнение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- проводит параллель между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- соединяет понятия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651280" y="1341000"/>
            <a:ext cx="3252600" cy="478476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Комментарии к пробл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Как автор отвечает на поставленный вопро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Какие аргументы приводи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35880" cy="5760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3  Отражение позиции автор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753080" cy="56880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озиция автора, на мой взгляд, таков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овершенно ясна позиция автора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Автор считает, что.. .... Он пишет: « ...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Автор не навязывает свою точку зрения, он приглашает читателя поразмышлять о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9280" y="981000"/>
            <a:ext cx="3600360" cy="56880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Формулировка позиции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К какому выводу приходит автор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Какой вывод можно сделать, опираясь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аргументы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авт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4608360" cy="640872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Хотя данная проблема трудна, нельзя не согласиться с автором в том, что..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Я. без сомнения, согласен/сна с автором в том, что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озволю себе не согласиться с автором в том, что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 качестве аргумента мне хочется привести ... (что?) ... (почему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И в этом нельзя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огласиться с … Во-первых, … Во-вторых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 данном произведении ... судьба героев утверждает ... поступки героя доказывают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Еще одним аргументом можно считать ... (что?) ...(почему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Я думаю, как и автор, что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03280" y="260280"/>
            <a:ext cx="3961080" cy="640872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4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Аргументация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собственного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м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Выражение собственного мнения. Аргументирование собственной поз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4871880" cy="572148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Таким образом, поднятая автором проблем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508720" y="404280"/>
            <a:ext cx="3311280" cy="572148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Вы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Заключ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7:10:59Z</dcterms:created>
  <dc:creator>Оля</dc:creator>
  <dc:description/>
  <dc:language>en-US</dc:language>
  <cp:lastModifiedBy>Оля</cp:lastModifiedBy>
  <dcterms:modified xsi:type="dcterms:W3CDTF">2011-03-16T07:10:59Z</dcterms:modified>
  <cp:revision>1</cp:revision>
  <dc:subject/>
  <dc:title>Слайд 1</dc:title>
</cp:coreProperties>
</file>