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14F-EB29-433C-84DB-732EB299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6E1-383B-4E75-9C4A-F6EE47A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AA8-F95B-4B40-A6B8-B335D871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DB0-560D-423F-A870-E41A9BA4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B6A-14CF-4B40-BF24-9D607D8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1EB-422A-4811-A4D3-D58BB72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D51-BC8F-4D41-904D-1004F7F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563-EEB5-41E1-8101-0818687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478-7D82-435C-8D62-4345363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230-E720-4006-9025-9F32E68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2A0-A899-43E9-899D-3DBB7B2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B08-AE45-4E53-B466-B13096D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1EED-6DC7-4ADE-839F-127111AA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ый моду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2647800"/>
            <a:ext cx="828036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Как правильно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ь сочинение?"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Критерии оценивания ответа на задание 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1 Формулировка проблем исходного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2  Комментарий к сформулирован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3  Отражение позици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4  Аргументация собственного 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К1 Формулировка проблем исходного текс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Всту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Формулировка пробл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о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оит 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47920" y="476280"/>
            <a:ext cx="6508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ь для написания сочинения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916280"/>
            <a:ext cx="396072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 предложенном мне тек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ФИО авто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суждает о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ассуждения  автора  о (о чем?) ... очень глубоки и интер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лубокое понимание и душевный отклик вызвал у меня текст ….. 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ма, заявленная …. достаточно интересна и актуа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и этом он поднимает проблему (чего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 же интересна и проблема (чего?)...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нятая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ублицист ставит проблему, актуальную во все вре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4800"/>
            <a:ext cx="8362800" cy="717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2  Комментарий к сформулированной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проблем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329440" cy="4784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 мнению автор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нимая эту ... проблему, автор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едлагает читателю поразмыслить над вопр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иводит образное сравнение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оводит параллель между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соединяет понятия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51280" y="1341000"/>
            <a:ext cx="3252600" cy="4784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Комментарии к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 автор отвечает на поставленный во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ие аргументы привод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76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3  Отражение позиции автор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753080" cy="5688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зиция автора, на мой взгляд, тако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вершенно ясна позиция автор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 считает, что.. .... Он пишет: « ...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 не навязывает свою точку зрения, он приглашает читателя поразмышлять о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9280" y="981000"/>
            <a:ext cx="3600360" cy="5688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Формулировка позици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 какому выводу приходит авт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ой вывод можно сделать, опираяс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аргумент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ав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608360" cy="64087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Хотя данная проблема трудна, нельзя не согласиться с автором в том, что..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. без сомнения, согласен/сна с автором в том, что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волю себе не согласиться с автором в том, что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качестве аргумента мне хочется привести ... (что?) ... (почему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в этом нельз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огласиться с … Во-первых, … Во-вторых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данном произведении ... судьба героев утверждает ... поступки героя доказыва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Еще одним аргументом можно считать ... (что?) ...(почему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 думаю, как и автор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3280" y="260280"/>
            <a:ext cx="3961080" cy="64087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4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ргументаци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обственног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Выражение собственного мнения. Аргументирование собственн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871880" cy="5721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Таким образом, поднятая автором проблем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404280"/>
            <a:ext cx="3311280" cy="5721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7:10:59Z</dcterms:created>
  <dc:creator>Оля</dc:creator>
  <dc:description/>
  <dc:language>en-US</dc:language>
  <cp:lastModifiedBy>Оля</cp:lastModifiedBy>
  <dcterms:modified xsi:type="dcterms:W3CDTF">2011-03-16T07:10:59Z</dcterms:modified>
  <cp:revision>1</cp:revision>
  <dc:subject/>
  <dc:title>Слайд 1</dc:title>
</cp:coreProperties>
</file>