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374-B773-406C-81A1-DC4AE983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054-3E85-4979-8DBA-703DD2D3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D78-8680-43F4-82F0-D3F1A20C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26F9-348D-4D33-A7F4-7D01DA94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C174-EBA7-4A8B-A3D2-8CC65DD2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C37C-841D-4F99-8539-DB3C90C9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A9D3-D066-438C-AE1F-1525ED53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13F3-2710-41FC-85CC-18196071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CF85-1219-44E2-94AB-31BBBABF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264E-B5E2-4836-BE8B-342515CE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8229-528B-40CE-96EB-7FF88705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ECB-4EF9-46B9-83AF-52148AF9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F86E-3FF1-4A56-AC8F-5306E916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18FF-EB49-4691-B640-A87834F0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9DEB-5256-4B10-AE8E-3706E6E0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87A5-8A45-4E4D-B88A-499DA0F0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DCE8-2674-4F71-9C1B-DF97C35C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AD9-1A4A-4912-A5D6-EA7CB453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453-BD8B-4214-99F4-6385969C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13D-E97A-4812-9CAD-A239501C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AC26-3C32-4376-A9BC-494CB6D4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0AA-2C35-448A-AFD1-B9335D55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26E-7E2D-4EE6-A776-882F7DD8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798-01F5-48D5-B44F-785E7B56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F066-9007-445F-B53D-A1C67F5EF0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0DA4-8ADE-4904-A8B3-ACFE03D52E6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2133360"/>
            <a:ext cx="8763120" cy="2152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Управление внедрением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ФГОС НОО в МОУ «Каслинская СОШ №27»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240" y="48006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Г.Свистунова, заместитель директора                                                     по УВР школы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туп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сканирование0007"/>
          <p:cNvPicPr/>
          <p:nvPr/>
        </p:nvPicPr>
        <p:blipFill>
          <a:blip r:embed="rId1"/>
          <a:srcRect l="1923" t="33571" r="53776" b="34267"/>
          <a:stretch/>
        </p:blipFill>
        <p:spPr>
          <a:xfrm>
            <a:off x="228600" y="152280"/>
            <a:ext cx="20574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Организационное обеспечение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ведения ФГОС НО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 методической работ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ершенствование профессиональной компетентности учителя при переходе на новый федеральный государственный образовательный стандарт начального общего образов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тодическ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ение нормативных документов и методической литературы по вопросам ФГОС НОО (ШМО, самообразовани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рсы повышения квалификации по теме «Совершенствование профессиональной компетентности учителя начальных классов в условиях перехода на стандарты второго поколения» (12 чел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рсовая подготовка руководителей (заместителей руководителей) ОУ к внедрению ФГОС «Педагогическая деятельность в условиях перехода на федеральные государственные стандарты общего образования» (2 чел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ение опыта учителей, работающих по ФГОС с 2010-2011 уч.года (по системе Интернет, в сети творческих учителей, посещение экспериментальных площадо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ктивное участие педагогов в методических семинарах, семинарах-практикумах школьного, районного, областного уров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ка и представление разделов ООП НОО на ШМО, РМ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тодическ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крытые уроки учителей с внедрением новой структуры поурочного планирования – технологической карты (УУД прописываются на каждом этапе уро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стер-классы учителей, включающие вопросы ФГОС (Дунаева С.А., Приходько Л.П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стие школьников в международном дистанционном интеллектуальном проекте «Эрудит марафон учащихся» (ЭМУ), основанном на компетентностном подходе (заложен в ФГОС второго поколения) – 3-хлетний опы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та педагогов в дистанционной методической лаборатории «Разработка компетентностно-ориентированных задани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стие (заочное) во Всероссийской научно-практической конференции «Актуальные проблемы модернизации начального образования в условиях введения ФГОС»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Материально-техническое обеспечение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ведения ФГОС НОО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бинеты с учебной и игровой зо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Р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креации для отдыха и подвижных иг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ктовый з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ло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дицинский каби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хоженный школьный дво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Информационное обеспечение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введения ФГОС НОО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ирование родителей и общественности о введение ФГОС НОО с 2011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дение родительских собраний будущих 1-х классов («Родительский лекторий» в ШБП и дале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мещение информации о ходе работ по обеспечению готовности к реализации ФГОС НОО на сайте школы разделы «ФГОС», «Родителям будущих первоклассников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учение мнения родительской общественности по вопросу введения стандартов нового поколения (анкетирование, опро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межуточный опыт работы начальной школ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спешная 3-хлетняя работа учителя- апробатора ФГОС 2 поколения (реализация внеурочной деятельности) Дунаевой Светланы Александровны – победителя конкурса «Учитель года - 2011».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а открытых уроках, внеклассных мероприятиях, мастер-классах показала, каким образом можно достичь 3-х уровней результатов и эффектов внеурочной деятельности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териалы из опыта работы по апробации ФГОС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поколения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2009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убликации в районном методическом сборник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Эксперимент в начальной школ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Л.П.Приходьк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учитель начальных классов, руководитель РМО «Эксперимент и инновации в начальной школе» - статья «Образовательные стандарты нового поколения – реалии сегодняшнего дн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.Г.Свистуно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заместитель директора по УВР – статья «Апробация федеральных государственных образовательных стандартов общего образования второго поколен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)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унаева  С.А.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читель начальных классов, апробатор ФГОС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коления – статья «Экологическое обучение и воспитание младших школьников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атериалы из опыта работы по апробации ФГОС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покол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010 г.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убликации в методическом сборнике федерального уровн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Актуальные проблемы модернизации начального образования в условиях введения федерального образовательного стандарта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)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.П.Голодно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учитель начальных классов – статья «Формирование и развитие духовно-нравственного воспитания младших школьников через реализацию программы «Многоцветные кружева Касле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.Г.Свистуно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учитель начальных классов – статья «Формирование коммуникативных универсальных учебных действий у младших школьников через реализацию программы «Мы вмест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)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.П.Приходьк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учитель начальных классов – статья «Развитие мышления учащихся начальных классов на уроках и во внеурочной деятельно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)  С.А.Дунае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учитель начальных классов – статья «Развитие младших школьников на уроках и во внеурочной деятельности на основе программы экологического образован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териалы из опыта работы по апробации ФГОС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покол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011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убликации в методическом сборнике федерального уровн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ведение федерального государственного  образовательного стандарта начальной школы на основе информационных и коммуникационных технологий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Т.Г. Свистунов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, зам. директора по УВР МОУ «Каслинская СОШ №27» - статья «Апробация федеральных государственных стандартов общего образования» (из опыта работы МОУ «Каслинская СОШ №27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Л.П. Приходьк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учитель начальных классов – статья «Комлексные итоговые работы для начальной школ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териалы из опыта работы по апробации ФГОС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покол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торская программа учителя начальных классов </a:t>
            </a:r>
            <a:r>
              <a:rPr b="1" i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В.П.Голоднов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бедителя номинации «Уникальный опыт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курса профессионального мастерства «Самый классный классный» кафедрой воспитания и дополнительного образования ЧИППКРО отправлена в Москву, в издательство «Просвещение» в качестве раздела учеб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грамма «Многоцветные кружева родного края»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лагается в качеств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нструктора для проектиров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ограммы внеурочной деятельности в О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лан-график работы школ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 подготовке к переходу на ФГОС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чального общего образова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 2010-2011 учебный г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ФГОС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поколения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чественно новый результат образования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Нормативно-правовое обеспечение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введения ФГОС НОО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кет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ормативных акт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регламентирующих введение ФГОС НОО в О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приказы федерального, регионального и муниципального уровн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кет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локальных акт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регламентирующих введение в ОУ ФГОС НО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приказы по ОУ, внесение изменений и дополнений в Устав ОУ, приведение в соответствие с требованиями ФГОС НОО локальных нормативных актов и должностных инструкций работников О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иказ по школе «Об обеспечении готовности к реализации ФГОС НОО»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Административная группа по подготовке к введению ФГОС  НО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 рабочие группы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-  разработка основной образовательной программы начального общего образования;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- разработка  и внесение изменений в локальную нормативно-правовую базу школы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- разработка модели взаимодействия с городскими организациями дополнительного образования дете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Содержание и организация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образовательного процесса на ступени начального образования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ая образовательная программа (ООП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учебный пла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неурочная деятельнос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8" descr="Рисунок3"/>
          <p:cNvPicPr/>
          <p:nvPr/>
        </p:nvPicPr>
        <p:blipFill>
          <a:blip r:embed="rId1"/>
          <a:stretch/>
        </p:blipFill>
        <p:spPr>
          <a:xfrm>
            <a:off x="2133720" y="1219320"/>
            <a:ext cx="4591080" cy="54100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чебный план основной образовательной  программы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чального общего образования МОУ «Каслинская СОШ №27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 2011-2015уч.г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лан внеурочной деятельности основной образовательной программы начального общего образования МОУ «Каслинская СОШ №27»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на 2011-2015уч.г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10000" t="18041" r="53128" b="8999"/>
          <a:stretch/>
        </p:blipFill>
        <p:spPr>
          <a:xfrm>
            <a:off x="2362320" y="1371600"/>
            <a:ext cx="4825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одель организации внеурочной деятельност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одель дополнительного образов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а основе институциональной (само общеобразовательное учреждение) и муниципальной системы дополнительного образования детей и учреждений культуры – Дом Детского творчества, ДК им.Захарова, Детская Центральная библиотека, Центральная библиотека, Каслинский музей художественного литья, кинотеатр «Россия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птимизационная модел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а основе оптимизации всех внутренних ресурсов образовательного учреждения – программа воспитывающей деятельности для младших школьников «Лукоморье», воспитательные программы классных руководителей и д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еречень учебник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МК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«Школа России» и «Гармония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бные пособия из серии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«Готовимся к мониторингу учебных достижений в новой форме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инновационного центра «РОСТ» г.Челябинска (русский язык, математика, комбинированные работы в начальной школе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05:43:10Z</dcterms:created>
  <dc:creator>Admin</dc:creator>
  <dc:description/>
  <dc:language>en-US</dc:language>
  <cp:lastModifiedBy>001</cp:lastModifiedBy>
  <dcterms:modified xsi:type="dcterms:W3CDTF">2011-10-06T09:06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