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364-6F77-4506-A9A8-28910132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CA6-6642-4893-A0EC-7268BF58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603-917A-4460-8533-677FDD82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49F-F5BD-4C04-BC3F-749D184B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0CB9-B3F3-4561-9F74-412F6B7D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8539-01CD-4DC1-B35D-689BBB62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2A9F-4C2C-4FE6-8D25-F49D0263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1E2E-F35F-4B5D-A73F-852519C4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00E4-539D-4D5D-9938-6C1F1A9E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1F5F-90E1-4146-AD82-30DB2CFD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CC2D-D3E3-4D09-8D03-3A3AE641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ADB-0C1A-473F-AA9B-60C227CC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8A14-0ED6-4676-8DB3-2240EC1F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343E-7980-4C76-8242-DC616303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7451-2332-4500-B69C-8310E521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9FE2-0A19-4107-A78B-9788C2A7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0CF4-B3F8-4FD5-9666-6E8DCDB9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500-8F8D-4732-9409-365132AD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5B7-5911-4A0C-BA1D-1E3422CE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4D8-5450-459D-A73D-5742A869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B07-5902-41F6-AD80-D9B001E2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F26-A355-4E32-B6D9-959CE543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06B-130B-42D7-9946-7D07180B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E80-A8CE-4585-B371-B91B3869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D035-AE44-4AD9-A83D-B3A95FC6EF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2194-6F39-4732-9520-D534DDBDB1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2133360"/>
            <a:ext cx="8763120" cy="2152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правление внедрением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ФГОС НОО в МОУ «Каслинская СОШ №27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240" y="48006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Г.Свистунова, заместитель директора                                                     по УВР школ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туп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сканирование0007"/>
          <p:cNvPicPr/>
          <p:nvPr/>
        </p:nvPicPr>
        <p:blipFill>
          <a:blip r:embed="rId1"/>
          <a:srcRect l="1923" t="33571" r="53776" b="34267"/>
          <a:stretch/>
        </p:blipFill>
        <p:spPr>
          <a:xfrm>
            <a:off x="228600" y="152280"/>
            <a:ext cx="2057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Организационное обеспечение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ведения ФГОС НО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 методической работ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ершенствование профессиональной компетентности учителя при переходе на новый федеральный государственный образовательный стандарт начального общего образ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тодическ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ение нормативных документов и методической литературы по вопросам ФГОС НОО (ШМО, самообразован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рсы повышения квалификации по теме «Совершенствование профессиональной компетентности учителя начальных классов в условиях перехода на стандарты второго поколения» (12 чел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рсовая подготовка руководителей (заместителей руководителей) ОУ к внедрению ФГОС «Педагогическая деятельность в условиях перехода на федеральные государственные стандарты общего образования» (2 чел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ение опыта учителей, работающих по ФГОС с 2010-2011 уч.года (по системе Интернет, в сети творческих учителей, посещение экспериментальных площадо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ктивное участие педагогов в методических семинарах, семинарах-практикумах школьного, районного, областного уров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ка и представление разделов ООП НОО на ШМО, РМ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тодическ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крытые уроки учителей с внедрением новой структуры поурочного планирования – технологической карты (УУД прописываются на каждом этапе уро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тер-классы учителей, включающие вопросы ФГОС (Дунаева С.А., Приходько Л.П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стие школьников в международном дистанционном интеллектуальном проекте «Эрудит марафон учащихся» (ЭМУ), основанном на компетентностном подходе (заложен в ФГОС второго поколения) – 3-хлетний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а педагогов в дистанционной методической лаборатории «Разработка компетентностно-ориентированных задани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стие (заочное) во Всероссийской научно-практической конференции «Актуальные проблемы модернизации начального образования в условиях введения ФГОС»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Материально-техническое обеспечение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ведения ФГОС НОО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бинеты с учебной и игровой зо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креации для отдыха и подвижных и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овый з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л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дицинский каби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хоженный школьный дво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Информационное обеспечение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введения ФГОС НОО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ирование родителей и общественности о введение ФГОС НОО с 2011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дение родительских собраний будущих 1-х классов («Родительский лекторий» в ШБП и дале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мещение информации о ходе работ по обеспечению готовности к реализации ФГОС НОО на сайте школы разделы «ФГОС», «Родителям будущих первоклассников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учение мнения родительской общественности по вопросу введения стандартов нового поколения (анкетирование, опро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межуточный опыт работы начальной школ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спешная 3-хлетняя работа учителя- апробатора ФГОС 2 поколения (реализация внеурочной деятельности) Дунаевой Светланы Александровны – победителя конкурса «Учитель года - 2011».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а открытых уроках, внеклассных мероприятиях, мастер-классах показала, каким образом можно достичь 3-х уровней результатов и эффектов внеурочной деятельности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териалы из опыта работы по апробации ФГОС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поколения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009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убликации в районном методическом сборник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Эксперимент в начальной школ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Л.П.Приходьк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учитель начальных классов, руководитель РМО «Эксперимент и инновации в начальной школе» - статья «Образовательные стандарты нового поколения – реалии сегодняшнего дн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.Г.Свисту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заместитель директора по УВР – статья «Апробация федеральных государственных образовательных стандартов общего образования второго поколен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унаева  С.А.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читель начальных классов, апробатор ФГОС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коления – статья «Экологическое обучение и воспитание младших школьник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атериалы из опыта работы по апробации ФГОС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поко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010 г.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убликации в методическом сборнике федерального уровн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Актуальные проблемы модернизации начального образования в условиях введения федерального образовательного стандарта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.П.Голодно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учитель начальных классов – статья «Формирование и развитие духовно-нравственного воспитания младших школьников через реализацию программы «Многоцветные кружева Касле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.Г.Свистуно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учитель начальных классов – статья «Формирование коммуникативных универсальных учебных действий у младших школьников через реализацию программы «Мы вмест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)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.П.Приходь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учитель начальных классов – статья «Развитие мышления учащихся начальных классов на уроках и во внеурочной деятель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)  С.А.Дунае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учитель начальных классов – статья «Развитие младших школьников на уроках и во внеурочной деятельности на основе программы экологического образован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териалы из опыта работы по апробации ФГОС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поко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011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убликации в методическом сборнике федерального уровн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ведение федерального государственного  образовательного стандарта начальной школы на основе информационных и коммуникационных технологий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Т.Г. Свистуно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, зам. директора по УВР МОУ «Каслинская СОШ №27» - статья «Апробация федеральных государственных стандартов общего образования» (из опыта работы МОУ «Каслинская СОШ №27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Л.П. Приходьк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учитель начальных классов – статья «Комлексные итоговые работы для начальной школ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териалы из опыта работы по апробации ФГОС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поко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ская программа учителя начальных классов </a:t>
            </a:r>
            <a:r>
              <a:rPr b="1" i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В.П.Голоднов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бедителя номинации «Уникальный опыт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курса профессионального мастерства «Самый классный классный» кафедрой воспитания и дополнительного образования ЧИППКРО отправлена в Москву, в издательство «Просвещение» в качестве раздела уче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грамма «Многоцветные кружева родного края»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лагается в качеств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нструктора для проектир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ограммы внеурочной деятельности в О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-график работы школ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 подготовке к переходу на ФГО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чального общего образова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 2010-2011 учебный г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ФГОС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поколения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чественно новый результат образовани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Нормативно-правовое обеспечение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введения ФГОС НОО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кет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ормативных акт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регламентирующих введение ФГОС НОО в О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приказы федерального, регионального и муниципального уровн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кет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локальных акт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регламентирующих введение в ОУ ФГОС НО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приказы по ОУ, внесение изменений и дополнений в Устав ОУ, приведение в соответствие с требованиями ФГОС НОО локальных нормативных актов и должностных инструкций работников О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иказ по школе «Об обеспечении готовности к реализации ФГОС НОО»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Административная группа по подготовке к введению ФГОС  НО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 рабочие групп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-  разработка основной образовательной программы начального общего образования;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- разработка  и внесение изменений в локальную нормативно-правовую базу школы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- разработка модели взаимодействия с городскими организациями дополнительного образования дете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одержание и организац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образовательного процесса на ступени начального образова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ая образовательная программа (ООП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учебный пла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неурочная деятельно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Рисунок3"/>
          <p:cNvPicPr/>
          <p:nvPr/>
        </p:nvPicPr>
        <p:blipFill>
          <a:blip r:embed="rId1"/>
          <a:stretch/>
        </p:blipFill>
        <p:spPr>
          <a:xfrm>
            <a:off x="2133720" y="1219320"/>
            <a:ext cx="4591080" cy="54100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чебный план основной образовательной  программы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чального общего образования МОУ «Каслинская СОШ №27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 2011-2015уч.г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лан внеурочной деятельности основной образовательной программы начального общего образования МОУ «Каслинская СОШ №27»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а 2011-2015уч.г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0000" t="18041" r="53128" b="8999"/>
          <a:stretch/>
        </p:blipFill>
        <p:spPr>
          <a:xfrm>
            <a:off x="2362320" y="1371600"/>
            <a:ext cx="4825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одель организации внеурочной деятельност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одель дополнительного образ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 основе институциональной (само общеобразовательное учреждение) и муниципальной системы дополнительного образования детей и учреждений культуры – Дом Детского творчества, ДК им.Захарова, Детская Центральная библиотека, Центральная библиотека, Каслинский музей художественного литья, кинотеатр «Россия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тимизационная модел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 основе оптимизации всех внутренних ресурсов образовательного учреждения – программа воспитывающей деятельности для младших школьников «Лукоморье», воспитательные программы классных руководителей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еречень учебник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К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Школа России» и «Гармония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бные пособия из сери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«Готовимся к мониторингу учебных достижений в новой форме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инновационного центра «РОСТ» г.Челябинска (русский язык, математика, комбинированные работы в начальной школ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05:43:10Z</dcterms:created>
  <dc:creator>Admin</dc:creator>
  <dc:description/>
  <dc:language>en-US</dc:language>
  <cp:lastModifiedBy>001</cp:lastModifiedBy>
  <dcterms:modified xsi:type="dcterms:W3CDTF">2011-10-06T09:06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