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oin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4C3-B253-4FB3-BE97-B211A550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DC8-AC9B-499C-AF76-2DA2E085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07E-3F48-4D75-B880-EFC46689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BE2-44A8-4439-B484-7542675B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E998-AC30-4BEC-B008-F2B35243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9F7-079C-429A-A113-D9814E09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B1EC-A148-4C81-BC58-5069FDB6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E41C-5D55-475A-B455-C8CB0A5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E31-8CA6-46AF-BE50-99A3154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165-6762-4DA8-931A-659F113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935B-2522-4350-8645-E5DBA7A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2D5-5D95-40E3-9DB2-89B1ACD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F7D-5190-4277-93D6-498FBC7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7D22-1F7C-44A3-B21E-3C337E6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CB1-08FE-4299-AE2D-20748D9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4B8B-5E2D-4B25-AAC7-F250DDA9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FD1-B252-4782-BF6E-1D4C0CD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BEC9-D8CB-4B35-A729-A4099635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34D1-3FE9-48F5-9B79-C102C2D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1CF4-BDE2-4BBB-8432-EDA63A1F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CA36-3089-4994-9A3E-16A26120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D5DD-DC13-4475-B4F1-FB4DDF89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16D-946C-4392-A980-AD2A2E2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23D6-E363-493B-83C9-2515E955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C29F-076C-4A70-B5C6-2E1D858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5366-68CA-46F2-92A8-875BED4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4341-DCEE-461E-887C-D600CC8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E1DD-49F7-40B6-8BB5-63C0E8DB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11C4-E7E2-4CE0-9574-CCA6C6FC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742E-B1E3-4287-8618-430B7351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5AED-EEC8-4106-B9E1-A271A833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DCC2-8B9C-4097-93FF-A1DBC1A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15A4-9882-4608-B10F-3BE67A1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807-1CBB-457A-BA64-6132EE9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7FF2-FDEE-4EDE-BC5C-710B6CB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285C-FAF5-4909-929A-0B635F0C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CF91-406E-4433-BF0A-729E8C40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0BBA-9148-4C70-B557-D77FF3D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05D8-2BDA-4F9F-82A0-9F8012F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0FCA-59CB-4429-A162-10FD2A2D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2EFE-0332-4E38-9639-31E2C0C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25B9-7AB4-415F-98B0-CE91ABDF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8983-9058-4CDC-849F-B22B087F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7844-AB2A-43ED-BDCE-0586E733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387-7A69-48E7-A9C0-3732A348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35E8-5F0B-4475-B774-A364301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BB4B-6C12-4E33-A427-A48D19F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E986-21A1-42E3-BF5B-447FCC2C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5A925-5D21-4762-B77D-4BE97CF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903F-FEF2-407C-9067-6E980588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EB10-A257-4DD3-9261-AE76EBE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7BCB-479A-4320-B1A4-ED914FA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70663-B846-41AF-BFA5-54D5D409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6A1F3-0E61-408B-BA66-FA64656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F5C9-AFF7-468B-A886-45E0BC32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9A9-522D-4777-AA12-3B27F20E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017F-815F-4AB1-AD30-74E0C37F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B78F-6425-42FF-BCAE-3C7CF46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F3470-F0D2-4441-83FF-32C0BF7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FD13-FAE4-4228-B746-60B89F75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3A30-6AC8-4D00-B455-393514C9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C659-43FB-42C7-B3BB-DFBBB856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8331-BE27-4B0E-B3A5-60EFB7A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F217-E4C1-4301-9591-26209C7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3FF84-53B7-4BEB-B051-14F4DE4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65A8-A435-4B78-AE96-F07F19A9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500-E336-4116-AE05-B26E0C0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F36F-883A-4088-80B0-1AB27AA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2D3C-EEF1-488D-9130-0025BD81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98743-DCAC-4F8F-8297-33908DA1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EE6-3704-401E-83E9-DB56775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F79-C6F2-4E21-82B6-4D2214A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B2BB-24B1-494F-B834-96A76B8B19B8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2E29-3DAA-4909-8AED-788DA5CA86DD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4b7f"/>
            </a:gs>
            <a:gs pos="100000">
              <a:srgbClr val="ff86c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8EE-7737-4B08-9BEA-06AF08D913BC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0F0-0678-4AAA-A1E8-D2CB4C5C5468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4b7f"/>
            </a:gs>
            <a:gs pos="100000">
              <a:srgbClr val="ff86c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33E8-ADA5-433A-B5C2-CE3DEA084FD9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6B6A-A259-4FED-87B1-29D59FA8604F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049-6AAB-4443-B95C-D93018838871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5CD-2AFF-4919-A880-4C3F14ACD05C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A21-1526-4BA1-A91B-057655E5DCF6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10D-C7D4-46D5-BC4E-17B2279C743C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7356-B167-4999-8034-3E335098B051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878-DCC8-4E62-B875-55570A01CC26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" Target="slide7.xml"/><Relationship Id="rId11" Type="http://schemas.openxmlformats.org/officeDocument/2006/relationships/image" Target="../media/image8.png"/><Relationship Id="rId12" Type="http://schemas.openxmlformats.org/officeDocument/2006/relationships/slide" Target="slide8.xml"/><Relationship Id="rId13" Type="http://schemas.openxmlformats.org/officeDocument/2006/relationships/image" Target="../media/image9.png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10.xml"/><Relationship Id="rId17" Type="http://schemas.openxmlformats.org/officeDocument/2006/relationships/image" Target="../media/image11.png"/><Relationship Id="rId18" Type="http://schemas.openxmlformats.org/officeDocument/2006/relationships/slide" Target="slide12.xml"/><Relationship Id="rId19" Type="http://schemas.openxmlformats.org/officeDocument/2006/relationships/image" Target="../media/image12.png"/><Relationship Id="rId20" Type="http://schemas.openxmlformats.org/officeDocument/2006/relationships/slide" Target="slide11.xml"/><Relationship Id="rId21" Type="http://schemas.openxmlformats.org/officeDocument/2006/relationships/image" Target="../media/image13.png"/><Relationship Id="rId22" Type="http://schemas.openxmlformats.org/officeDocument/2006/relationships/slide" Target="slide22.xml"/><Relationship Id="rId23" Type="http://schemas.openxmlformats.org/officeDocument/2006/relationships/image" Target="../media/image14.png"/><Relationship Id="rId24" Type="http://schemas.openxmlformats.org/officeDocument/2006/relationships/slide" Target="slide21.xml"/><Relationship Id="rId25" Type="http://schemas.openxmlformats.org/officeDocument/2006/relationships/image" Target="../media/image15.png"/><Relationship Id="rId26" Type="http://schemas.openxmlformats.org/officeDocument/2006/relationships/slide" Target="slide20.xml"/><Relationship Id="rId27" Type="http://schemas.openxmlformats.org/officeDocument/2006/relationships/image" Target="../media/image16.png"/><Relationship Id="rId28" Type="http://schemas.openxmlformats.org/officeDocument/2006/relationships/slide" Target="slide19.xml"/><Relationship Id="rId29" Type="http://schemas.openxmlformats.org/officeDocument/2006/relationships/image" Target="../media/image17.png"/><Relationship Id="rId30" Type="http://schemas.openxmlformats.org/officeDocument/2006/relationships/slide" Target="slide18.xml"/><Relationship Id="rId31" Type="http://schemas.openxmlformats.org/officeDocument/2006/relationships/image" Target="../media/image18.png"/><Relationship Id="rId32" Type="http://schemas.openxmlformats.org/officeDocument/2006/relationships/slide" Target="slide17.xml"/><Relationship Id="rId33" Type="http://schemas.openxmlformats.org/officeDocument/2006/relationships/image" Target="../media/image19.png"/><Relationship Id="rId34" Type="http://schemas.openxmlformats.org/officeDocument/2006/relationships/slide" Target="slide16.xml"/><Relationship Id="rId35" Type="http://schemas.openxmlformats.org/officeDocument/2006/relationships/image" Target="../media/image20.png"/><Relationship Id="rId36" Type="http://schemas.openxmlformats.org/officeDocument/2006/relationships/slide" Target="slide15.xml"/><Relationship Id="rId37" Type="http://schemas.openxmlformats.org/officeDocument/2006/relationships/image" Target="../media/image21.png"/><Relationship Id="rId38" Type="http://schemas.openxmlformats.org/officeDocument/2006/relationships/slide" Target="slide14.xml"/><Relationship Id="rId39" Type="http://schemas.openxmlformats.org/officeDocument/2006/relationships/image" Target="../media/image22.png"/><Relationship Id="rId40" Type="http://schemas.openxmlformats.org/officeDocument/2006/relationships/slide" Target="slide13.xml"/><Relationship Id="rId41" Type="http://schemas.openxmlformats.org/officeDocument/2006/relationships/image" Target="../media/image23.png"/><Relationship Id="rId4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93560" y="3114720"/>
            <a:ext cx="6931080" cy="1463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8720" y="4142880"/>
            <a:ext cx="2428920" cy="5000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одзаголовок 2"/>
          <p:cNvSpPr/>
          <p:nvPr/>
        </p:nvSpPr>
        <p:spPr>
          <a:xfrm>
            <a:off x="1000080" y="6072120"/>
            <a:ext cx="7286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МОУ Кесемская СОШ  Пауто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993600" y="1139760"/>
            <a:ext cx="64184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707-D3DE-40FA-BA1D-B32F5AD509DC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3904560" y="57168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y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918240" y="178596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3521520" y="278604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6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2729520" y="378612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1027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3449520" y="5429160"/>
            <a:ext cx="48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y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- 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любое чис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Управляющая кнопка: в начало 13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evt="onNext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9" dur="1" fill="hold"/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FB6-B318-4B6D-B3A3-4403819D0785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2866320" y="71424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1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70600" y="54291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641760" y="192888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18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evt="onNext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2" dur="1" fill="hold"/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359F-1FC1-444D-9071-65B867D31BC4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251520" y="571680"/>
            <a:ext cx="19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:9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7"/>
          <p:cNvSpPr/>
          <p:nvPr/>
        </p:nvSpPr>
        <p:spPr>
          <a:xfrm>
            <a:off x="3360600" y="542916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3834360" y="2071800"/>
            <a:ext cx="214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8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evt="onNext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5" dur="1" fill="hold"/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F34-4688-4AAB-AB3D-B2AB036EED6A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2835720" y="642960"/>
            <a:ext cx="39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92-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2756880" y="1857240"/>
            <a:ext cx="29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7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3960000" y="29289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7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2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evt="onNext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2" dur="1" fill="hold"/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C2A7-9DE6-4D0D-938C-2B0720A237DE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025080" y="571680"/>
            <a:ext cx="28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n-1=1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3271320" y="5429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3808800" y="185724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n=13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+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9"/>
          <p:cNvSpPr/>
          <p:nvPr/>
        </p:nvSpPr>
        <p:spPr>
          <a:xfrm>
            <a:off x="3764520" y="285768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n=1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4285440" y="3857760"/>
            <a:ext cx="23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1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: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Управляющая кнопка: в начало 12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evt="onNext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3" dur="1" fill="hold"/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91F7-F00F-44C3-A638-14199481489E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1892520" y="500040"/>
            <a:ext cx="45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(13+11)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3614040" y="1785960"/>
            <a:ext cx="29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4817160" y="27147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2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evt="onNext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0" dur="1" fill="hold"/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378C-5344-4700-B8B3-21668276E445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2772000" y="571680"/>
            <a:ext cx="32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-12=1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>
            <a:off x="3303360" y="5429160"/>
            <a:ext cx="18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3913200" y="1857240"/>
            <a:ext cx="33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18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+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9"/>
          <p:cNvSpPr/>
          <p:nvPr/>
        </p:nvSpPr>
        <p:spPr>
          <a:xfrm>
            <a:off x="3836160" y="292896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4285440" y="3929040"/>
            <a:ext cx="23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0: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Управляющая кнопка: в начало 12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evt="onNext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1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041-8243-4963-ACF8-F650B3FA2E6B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2820600" y="428760"/>
            <a:ext cx="27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0-4у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280320" y="542916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963600" y="1714680"/>
            <a:ext cx="27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у=40-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3917520" y="2857680"/>
            <a:ext cx="213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у=3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366080" y="3857760"/>
            <a:ext cx="23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32: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Управляющая кнопка: в начало 12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Next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2" dur="1" fill="hold"/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A4B-F5CA-4D57-A857-D487F36CD95B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2810520" y="500040"/>
            <a:ext cx="27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х-21=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3951360" y="1857240"/>
            <a:ext cx="292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х=9+2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3907080" y="271476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х=3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4356000" y="364320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30: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Управляющая кнопка: в начало 12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evt="onNext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3" dur="1" fill="hold"/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EC1-F72D-4952-84A2-9EAC5E848FF8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261880" y="571680"/>
            <a:ext cx="439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</a:t>
            </a:r>
            <a:r>
              <a:rPr b="1" lang="ru-RU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(32-26)=6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3313080" y="5429160"/>
            <a:ext cx="17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4234320" y="1857240"/>
            <a:ext cx="25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</a:t>
            </a:r>
            <a:r>
              <a:rPr b="1" lang="ru-RU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=6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5009040" y="2786040"/>
            <a:ext cx="23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60: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Управляющая кнопка: в начало 11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evt="onNext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0" dur="1" fill="hold"/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335240" y="2494080"/>
            <a:ext cx="6662520" cy="1461960"/>
          </a:xfrm>
          <a:prstGeom prst="rect">
            <a:avLst/>
          </a:prstGeom>
          <a:ln w="0">
            <a:noFill/>
          </a:ln>
        </p:spPr>
      </p:pic>
      <p:pic>
        <p:nvPicPr>
          <p:cNvPr id="259" name="TextBox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36360" y="1457280"/>
            <a:ext cx="1249200" cy="1219320"/>
          </a:xfrm>
          <a:prstGeom prst="rect">
            <a:avLst/>
          </a:prstGeom>
          <a:ln w="0">
            <a:noFill/>
          </a:ln>
        </p:spPr>
      </p:pic>
      <p:pic>
        <p:nvPicPr>
          <p:cNvPr id="260" name="TextBox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298520" y="384120"/>
            <a:ext cx="1176480" cy="107316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9360" y="835200"/>
            <a:ext cx="1230120" cy="116496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33720" y="85680"/>
            <a:ext cx="1090440" cy="98748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267000" y="19080"/>
            <a:ext cx="976320" cy="87156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267080" y="19080"/>
            <a:ext cx="974880" cy="87156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145120" y="85680"/>
            <a:ext cx="1090440" cy="987480"/>
          </a:xfrm>
          <a:prstGeom prst="rect">
            <a:avLst/>
          </a:prstGeom>
          <a:ln w="0">
            <a:noFill/>
          </a:ln>
        </p:spPr>
      </p:pic>
      <p:pic>
        <p:nvPicPr>
          <p:cNvPr id="266" name="TextBox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035760" y="311040"/>
            <a:ext cx="1182600" cy="10670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486560" y="1133640"/>
            <a:ext cx="1498680" cy="143820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877080" y="695160"/>
            <a:ext cx="1230120" cy="116388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656480" y="3170160"/>
            <a:ext cx="1328760" cy="1524240"/>
          </a:xfrm>
          <a:prstGeom prst="rect">
            <a:avLst/>
          </a:prstGeom>
          <a:ln w="0">
            <a:noFill/>
          </a:ln>
        </p:spPr>
      </p:pic>
      <p:pic>
        <p:nvPicPr>
          <p:cNvPr id="270" name="TextBox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864480" y="3992400"/>
            <a:ext cx="1498320" cy="1433520"/>
          </a:xfrm>
          <a:prstGeom prst="rect">
            <a:avLst/>
          </a:prstGeom>
          <a:ln w="0">
            <a:noFill/>
          </a:ln>
        </p:spPr>
      </p:pic>
      <p:pic>
        <p:nvPicPr>
          <p:cNvPr id="271" name="TextBox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022800" y="4608360"/>
            <a:ext cx="1494000" cy="118908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132520" y="491328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273" name="TextBox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194000" y="5089680"/>
            <a:ext cx="1316160" cy="866520"/>
          </a:xfrm>
          <a:prstGeom prst="rect">
            <a:avLst/>
          </a:prstGeom>
          <a:ln w="0">
            <a:noFill/>
          </a:ln>
        </p:spPr>
      </p:pic>
      <p:pic>
        <p:nvPicPr>
          <p:cNvPr id="274" name="TextBox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3267000" y="5089680"/>
            <a:ext cx="1311480" cy="866520"/>
          </a:xfrm>
          <a:prstGeom prst="rect">
            <a:avLst/>
          </a:prstGeom>
          <a:ln w="0">
            <a:noFill/>
          </a:ln>
        </p:spPr>
      </p:pic>
      <p:pic>
        <p:nvPicPr>
          <p:cNvPr id="275" name="TextBox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2219400" y="4913280"/>
            <a:ext cx="1419120" cy="1042920"/>
          </a:xfrm>
          <a:prstGeom prst="rect">
            <a:avLst/>
          </a:prstGeom>
          <a:ln w="0">
            <a:noFill/>
          </a:ln>
        </p:spPr>
      </p:pic>
      <p:pic>
        <p:nvPicPr>
          <p:cNvPr id="276" name="TextBox 2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1255680" y="4395960"/>
            <a:ext cx="1517760" cy="1334880"/>
          </a:xfrm>
          <a:prstGeom prst="rect">
            <a:avLst/>
          </a:prstGeom>
          <a:ln w="0">
            <a:noFill/>
          </a:ln>
        </p:spPr>
      </p:pic>
      <p:pic>
        <p:nvPicPr>
          <p:cNvPr id="277" name="TextBox 2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44600" y="3676680"/>
            <a:ext cx="1439640" cy="1498680"/>
          </a:xfrm>
          <a:prstGeom prst="rect">
            <a:avLst/>
          </a:prstGeom>
          <a:ln w="0">
            <a:noFill/>
          </a:ln>
        </p:spPr>
      </p:pic>
      <p:pic>
        <p:nvPicPr>
          <p:cNvPr id="278" name="TextBox 2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-66600" y="2816280"/>
            <a:ext cx="13287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A0D-5B78-47A6-84B6-21A8FDC258EF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2493360" y="500040"/>
            <a:ext cx="41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6-5х=46-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2414520" y="1785960"/>
            <a:ext cx="31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6-5х=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3557520" y="2643120"/>
            <a:ext cx="31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х=36-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3478680" y="335772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х=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11"/>
          <p:cNvSpPr/>
          <p:nvPr/>
        </p:nvSpPr>
        <p:spPr>
          <a:xfrm>
            <a:off x="3927240" y="42148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0: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в начало 13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evt="onNext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5" dur="1" fill="hold"/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765520" y="571680"/>
            <a:ext cx="292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4:4: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AD1-B093-413C-9224-EE656A848E7B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5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3427200" y="1714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16: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4570200" y="264312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6: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Управляющая кнопка: в начало 10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evt="onNext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2" dur="1" fill="hold"/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8885-88A7-4D11-A978-CD21F6B56D83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2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2381760" y="1000080"/>
            <a:ext cx="45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2-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1-1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2270160" y="1857240"/>
            <a:ext cx="31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2-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7"/>
          <p:cNvSpPr/>
          <p:nvPr/>
        </p:nvSpPr>
        <p:spPr>
          <a:xfrm>
            <a:off x="3413160" y="264312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32-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3367080" y="35002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4170600" y="4286160"/>
            <a:ext cx="251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5: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12"/>
          <p:cNvSpPr/>
          <p:nvPr/>
        </p:nvSpPr>
        <p:spPr>
          <a:xfrm>
            <a:off x="4056120" y="53578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Управляющая кнопка: в начало 15"/>
          <p:cNvSpPr/>
          <p:nvPr/>
        </p:nvSpPr>
        <p:spPr>
          <a:xfrm>
            <a:off x="7786800" y="607212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5389" y="10800"/>
                </a:moveTo>
                <a:lnTo>
                  <a:pt x="25895" y="3794"/>
                </a:lnTo>
                <a:lnTo>
                  <a:pt x="25895" y="17806"/>
                </a:lnTo>
                <a:close/>
              </a:path>
              <a:path fill="darken" w="37776" h="21600">
                <a:moveTo>
                  <a:pt x="11882" y="3794"/>
                </a:moveTo>
                <a:lnTo>
                  <a:pt x="13544" y="3794"/>
                </a:lnTo>
                <a:lnTo>
                  <a:pt x="13544" y="17806"/>
                </a:lnTo>
                <a:lnTo>
                  <a:pt x="11882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16"/>
          <p:cNvSpPr/>
          <p:nvPr/>
        </p:nvSpPr>
        <p:spPr>
          <a:xfrm>
            <a:off x="4429080" y="785880"/>
            <a:ext cx="500040" cy="5786280"/>
          </a:xfrm>
          <a:prstGeom prst="downArrow">
            <a:avLst>
              <a:gd name="adj1" fmla="val 23426"/>
              <a:gd name="adj2" fmla="val 49983"/>
            </a:avLst>
          </a:prstGeom>
          <a:solidFill>
            <a:srgbClr val="860eff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17"/>
          <p:cNvSpPr/>
          <p:nvPr/>
        </p:nvSpPr>
        <p:spPr>
          <a:xfrm>
            <a:off x="2104560" y="35712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ookman Old Style"/>
              </a:rPr>
              <a:t>Лев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18"/>
          <p:cNvSpPr/>
          <p:nvPr/>
        </p:nvSpPr>
        <p:spPr>
          <a:xfrm>
            <a:off x="5141520" y="3571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ookman Old Style"/>
              </a:rPr>
              <a:t>Прав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Box 19"/>
          <p:cNvSpPr/>
          <p:nvPr/>
        </p:nvSpPr>
        <p:spPr>
          <a:xfrm>
            <a:off x="45007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450"/>
                            </p:stCondLst>
                            <p:childTnLst>
                              <p:par>
                                <p:cTn id="7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950"/>
                            </p:stCondLst>
                            <p:childTnLst>
                              <p:par>
                                <p:cTn id="7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950"/>
                            </p:stCondLst>
                            <p:childTnLst>
                              <p:par>
                                <p:cTn id="78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86" dur="2000" fill="hold"/>
                                        <p:tgtEl>
                                          <p:spTgt spid="4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Next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8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BF68-D35A-4AD1-98AA-DE5F0FCB3DA5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668520" y="1071720"/>
            <a:ext cx="74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В презентации использованы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из газеты «Математика», рубрика «20 задач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3"/>
          <p:cNvSpPr/>
          <p:nvPr/>
        </p:nvSpPr>
        <p:spPr>
          <a:xfrm>
            <a:off x="1471320" y="3000240"/>
            <a:ext cx="595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Презентация составлен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Паутовой Татьяной Валентинов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учителем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МОУ Кесемской СО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Весьего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Твер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2011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EDEE-E15F-486D-BCED-9F959A935EA3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142920" y="2858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6e1e4e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 :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3"/>
          <p:cNvSpPr/>
          <p:nvPr/>
        </p:nvSpPr>
        <p:spPr>
          <a:xfrm>
            <a:off x="4987800" y="5643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20)  32-5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х=21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4997520" y="5143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9)  64:4:х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5038200" y="45007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8)  36-5х=46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4965840" y="385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7)  у</a:t>
            </a:r>
            <a:r>
              <a:rPr b="1" lang="ru-RU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(32-26)=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4987440" y="3214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6)  6х-21=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4991760" y="264312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5)  40-4у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5003280" y="207180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4)  3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n-12=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959720" y="15717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3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(13+11)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4988520" y="11430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2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7n-1=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4895640" y="64296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1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=92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958680" y="564372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0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:9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14"/>
          <p:cNvSpPr/>
          <p:nvPr/>
        </p:nvSpPr>
        <p:spPr>
          <a:xfrm>
            <a:off x="972360" y="514368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9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m=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15"/>
          <p:cNvSpPr/>
          <p:nvPr/>
        </p:nvSpPr>
        <p:spPr>
          <a:xfrm>
            <a:off x="1019880" y="45007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8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0:y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943920" y="38577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7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:0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961200" y="32148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6)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12:x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959760" y="2643120"/>
            <a:ext cx="16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5)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m:27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9"/>
          <p:cNvSpPr/>
          <p:nvPr/>
        </p:nvSpPr>
        <p:spPr>
          <a:xfrm>
            <a:off x="948240" y="20718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4) </a:t>
            </a:r>
            <a:r>
              <a:rPr b="1" i="1" lang="ru-RU" sz="2400" spc="-1" strike="noStrike">
                <a:solidFill>
                  <a:srgbClr val="6e1e4e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53163b"/>
                </a:solidFill>
                <a:latin typeface="Bookman Old Style"/>
              </a:rPr>
              <a:t>v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:1=</a:t>
            </a:r>
            <a:r>
              <a:rPr b="1" i="1" lang="en-US" sz="2400" spc="-1" strike="noStrike">
                <a:solidFill>
                  <a:srgbClr val="53163b"/>
                </a:solidFill>
                <a:latin typeface="Bookman Old Style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20"/>
          <p:cNvSpPr/>
          <p:nvPr/>
        </p:nvSpPr>
        <p:spPr>
          <a:xfrm>
            <a:off x="945000" y="15717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3)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6:n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21"/>
          <p:cNvSpPr/>
          <p:nvPr/>
        </p:nvSpPr>
        <p:spPr>
          <a:xfrm>
            <a:off x="857160" y="1071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2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m:4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Управляющая кнопка: в начало 22"/>
          <p:cNvSpPr/>
          <p:nvPr/>
        </p:nvSpPr>
        <p:spPr>
          <a:xfrm>
            <a:off x="7786800" y="607212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5389" y="10800"/>
                </a:moveTo>
                <a:lnTo>
                  <a:pt x="25895" y="3794"/>
                </a:lnTo>
                <a:lnTo>
                  <a:pt x="25895" y="17806"/>
                </a:lnTo>
                <a:close/>
              </a:path>
              <a:path fill="darken" w="37776" h="21600">
                <a:moveTo>
                  <a:pt x="11882" y="3794"/>
                </a:moveTo>
                <a:lnTo>
                  <a:pt x="13544" y="3794"/>
                </a:lnTo>
                <a:lnTo>
                  <a:pt x="13544" y="17806"/>
                </a:lnTo>
                <a:lnTo>
                  <a:pt x="11882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2380680" y="928800"/>
            <a:ext cx="319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1 :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0C1E-4CFF-4873-AF3A-68219E4D408A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3538440" y="1928880"/>
            <a:ext cx="28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 = 1: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Управляющая кнопка: в начало 11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evt="onNext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AD9-685C-498E-9CAB-614DFC5A07C2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3037320" y="857160"/>
            <a:ext cx="22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:4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3620160" y="178596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0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3270600" y="550080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Управляющая кнопка: в начало 12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Next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CF99-791F-4B7B-8BDC-309940559349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2967120" y="857160"/>
            <a:ext cx="200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6:n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3271320" y="5429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3681360" y="1857240"/>
            <a:ext cx="200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: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Next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2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C45-870E-433B-8DB5-C873F7557133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3781800" y="785880"/>
            <a:ext cx="20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v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:1=</a:t>
            </a: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3432960" y="542916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v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- 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любое чис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3888720" y="2071800"/>
            <a:ext cx="190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5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:1=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3367440" y="2928960"/>
            <a:ext cx="283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31</a:t>
            </a: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:1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3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3032280" y="3786120"/>
            <a:ext cx="35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237</a:t>
            </a: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:1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23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в начало 12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evt="onNext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3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4CA-D33A-42DF-85E3-9222630609C0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2927160" y="78588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:27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3303360" y="542916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3938040" y="192888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1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evt="onNext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6" dur="1" fill="hold"/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BB16-94DD-4744-A9F3-999B97FE61F9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2745720" y="785880"/>
            <a:ext cx="273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12:x=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3888360" y="20001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12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Next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9" dur="1" fill="hold"/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7389-ACF5-46DA-9480-486D4C6DAB8B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2894400" y="714240"/>
            <a:ext cx="19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:0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236880" y="21430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2393280" y="1928880"/>
            <a:ext cx="581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Делить на н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нельз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3115440" y="5429160"/>
            <a:ext cx="43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Нет корн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в начало 11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6" dur="1" fill="hold"/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evt="onNext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8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0:45:39Z</dcterms:created>
  <dc:creator>Admin</dc:creator>
  <dc:description/>
  <dc:language>en-US</dc:language>
  <cp:lastModifiedBy>Admin</cp:lastModifiedBy>
  <dcterms:modified xsi:type="dcterms:W3CDTF">2011-12-11T11:12:59Z</dcterms:modified>
  <cp:revision>4</cp:revision>
  <dc:subject/>
  <dc:title>УРАВНЕНИЯ</dc:title>
</cp:coreProperties>
</file>