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B5A-8D8D-4A0A-984A-D7D7F218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F799-103D-46FA-BC3A-13D21710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3B0-8D9C-410C-AFAE-E93CBCB6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291-ABFD-48F4-9296-D6136C82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859E-E157-4013-8416-39CBE566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0878-808D-42AB-B9DD-350D9C3F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C682-CA42-4B41-B815-3723C36C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BC2F-6E42-48C1-BF71-C8452731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0F43-02F7-421E-9119-634E30D9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AC1B-66CE-4C2A-ABE8-60A7A607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3A7C-BFEC-4300-A543-937E676B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4C6-A8C7-43E4-98EA-C44D39D0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134A-3714-4CB4-B91B-A29BC9FE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62D5-D820-48DA-9F0D-8BE8DB00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B85D-E4AA-40D4-A85B-7E81ED5D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C172-3BC8-47D8-92D1-EB58E1B7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E9DE-8B13-446D-9E2B-46E18D1E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2E4-FCB4-4D17-880A-236EA0A0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9B9-7AE7-4C43-9EB4-46F58121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286-9898-4711-9C94-48730BE1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53A-1EAE-4A1F-A7A7-FBAA63F0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22C-7C22-42D6-9197-94CFC57C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09E-1306-4CD0-9B2E-F6767263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95B-4030-4C39-9568-06F9078D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8EC8-25EE-4D51-8D26-6CBFD1A78A1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7DFC-DD77-45E5-98F4-03D056C09DF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schoolsearch?p=0&amp;text=&#1088;&#1080;&#1089;&#1091;&#1085;&#1082;&#1080;%20%20&#1057;&#1091;&#1090;&#1077;&#1077;&#1074;&#1072;%20%22&#1044;&#1103;&#1076;&#1103;%20&#1052;&#1080;&#1096;&#1072;%22&amp;spsite=publ.lib.ru&amp;clid=46021&amp;img_url=vokrugskazki.narod.ru%2FMedvedskaz%2Fmedvedi%2FDjadjaMisha.files%2Fimage001.jpg&amp;rpt=sim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1183" t="0" r="0" b="16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1665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0" b="80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333360"/>
            <a:ext cx="4319640" cy="575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2205000"/>
            <a:ext cx="1800000" cy="1728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16360" y="404640"/>
            <a:ext cx="3240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78040" y="336600"/>
            <a:ext cx="30052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те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189000"/>
            <a:ext cx="4319640" cy="575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16360" y="4365720"/>
            <a:ext cx="345600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ядя Ми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80000" y="1628640"/>
            <a:ext cx="1871640" cy="1871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85200" y="1484280"/>
            <a:ext cx="4007160" cy="3510720"/>
            <a:chOff x="3085200" y="1484280"/>
            <a:chExt cx="4007160" cy="3510720"/>
          </a:xfrm>
        </p:grpSpPr>
        <p:sp>
          <p:nvSpPr>
            <p:cNvPr id="190" name=""/>
            <p:cNvSpPr/>
            <p:nvPr/>
          </p:nvSpPr>
          <p:spPr>
            <a:xfrm>
              <a:off x="3085200" y="1484280"/>
              <a:ext cx="4007160" cy="351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0000" y="220500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765000"/>
            <a:ext cx="93492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720" y="1773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765000"/>
            <a:ext cx="93492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1773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1628640"/>
            <a:ext cx="1008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2276640"/>
            <a:ext cx="50508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-106200"/>
            <a:ext cx="9325080" cy="7102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6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Мёд в лесу медведь нашёл,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Мало мёду, много пчёл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765000"/>
            <a:ext cx="93492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1773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84360" y="1628640"/>
            <a:ext cx="1008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2276640"/>
            <a:ext cx="50508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3068640"/>
            <a:ext cx="10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995640" y="2923920"/>
            <a:ext cx="28908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765000"/>
            <a:ext cx="93492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773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84360" y="1628640"/>
            <a:ext cx="1008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35280" y="2276640"/>
            <a:ext cx="50508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3068640"/>
            <a:ext cx="10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95640" y="2923920"/>
            <a:ext cx="28908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3141720"/>
            <a:ext cx="115092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3640" y="299736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91856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"Эх, дядя Миша! " – пискнул Мышонок. Он хотел, видно, еще что-то сказать, да только махнул лапкой, свистнул и побежал дальше. А что тут скажеш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0"/>
            <a:ext cx="61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45" t="774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13332" r="8593" b="1134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11575" t="0" r="25366" b="98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335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0379" t="0" r="16954" b="168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4:10:00Z</dcterms:created>
  <dc:creator>Customer</dc:creator>
  <dc:description/>
  <dc:language>en-US</dc:language>
  <cp:lastModifiedBy>xawi</cp:lastModifiedBy>
  <dcterms:modified xsi:type="dcterms:W3CDTF">2011-12-14T15:07:07Z</dcterms:modified>
  <cp:revision>7</cp:revision>
  <dc:subject/>
  <dc:title>Слайд 1</dc:title>
</cp:coreProperties>
</file>