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692-08A7-48B7-8DEB-9977060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DD9-873F-4E1C-A072-6492022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B46-5D43-458B-B4D6-3BF56C2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2E0-1F49-4770-9852-5E056F94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FDD1-B5EE-4C6C-AB73-7FDB9B19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C9A7-074D-4261-9BAF-8E62B5B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1D1-0529-4617-A2DD-EF5097AF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8CC-72AB-4FF6-86C5-ECDCBB5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73C0-4968-4315-A9FD-81B677D7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E601-ABDE-4139-A6E7-879CA1CD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A3CD-D016-49EE-81E6-1EDBBB9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B1D-8948-4604-826F-43662E5C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258-41C7-4A0F-A56A-7909305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B531-3CC1-443D-BFEF-A539A59E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4BE-1D78-468C-A60D-581EB72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1376-A6DB-45CB-B5FB-0317AD45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DCC2-3A67-4E6B-BE34-85044A77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CB4-4B29-457B-A158-E580338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AF2-B69D-43E6-928F-8DDFA051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485-6987-464C-900B-9F3B5CC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371-2AFB-4B88-81F7-4D055465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163-F746-463A-8D7D-F4F690A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63F-3C6B-4D4E-8066-9596098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BF6-D98A-41D7-883B-25820E7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D086-D0B5-41A4-B9FC-B00F66A3A2E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6A97-7D25-4FA9-A404-29E864DC3F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choolsearch?p=0&amp;text=&#1088;&#1080;&#1089;&#1091;&#1085;&#1082;&#1080;%20%20&#1057;&#1091;&#1090;&#1077;&#1077;&#1074;&#1072;%20%22&#1044;&#1103;&#1076;&#1103;%20&#1052;&#1080;&#1096;&#1072;%22&amp;spsite=publ.lib.ru&amp;clid=46021&amp;img_url=vokrugskazki.narod.ru%2FMedvedskaz%2Fmedvedi%2FDjadjaMisha.files%2Fimage001.jpg&amp;rpt=sim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183" t="0" r="0" b="16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166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80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333360"/>
            <a:ext cx="4319640" cy="575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2205000"/>
            <a:ext cx="1800000" cy="1728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04640"/>
            <a:ext cx="32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78040" y="336600"/>
            <a:ext cx="30052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те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89000"/>
            <a:ext cx="4319640" cy="57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4365720"/>
            <a:ext cx="345600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ядя Ми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1628640"/>
            <a:ext cx="1871640" cy="187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85200" y="1484280"/>
            <a:ext cx="4007160" cy="3510720"/>
            <a:chOff x="3085200" y="1484280"/>
            <a:chExt cx="4007160" cy="3510720"/>
          </a:xfrm>
        </p:grpSpPr>
        <p:sp>
          <p:nvSpPr>
            <p:cNvPr id="190" name=""/>
            <p:cNvSpPr/>
            <p:nvPr/>
          </p:nvSpPr>
          <p:spPr>
            <a:xfrm>
              <a:off x="3085200" y="1484280"/>
              <a:ext cx="4007160" cy="351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220500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325080" cy="7102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6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Мёд в лесу медведь нашёл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Мало мёду, много пчёл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060640"/>
            <a:ext cx="7920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2133720"/>
            <a:ext cx="935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3640" y="907920"/>
            <a:ext cx="1008360" cy="79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59280" y="170028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765000"/>
            <a:ext cx="93492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773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1628640"/>
            <a:ext cx="100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27664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3068640"/>
            <a:ext cx="10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95640" y="292392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141720"/>
            <a:ext cx="115092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3640" y="29973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9185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"Эх, дядя Миша! " – пискнул Мышонок. Он хотел, видно, еще что-то сказать, да только махнул лапкой, свистнул и побежал дальше. А что тут скаж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345" t="774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3332" r="8593" b="1134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1575" t="0" r="25366" b="98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335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0379" t="0" r="16954" b="168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4:10:00Z</dcterms:created>
  <dc:creator>Customer</dc:creator>
  <dc:description/>
  <dc:language>en-US</dc:language>
  <cp:lastModifiedBy>xawi</cp:lastModifiedBy>
  <dcterms:modified xsi:type="dcterms:W3CDTF">2011-12-14T15:07:07Z</dcterms:modified>
  <cp:revision>7</cp:revision>
  <dc:subject/>
  <dc:title>Слайд 1</dc:title>
</cp:coreProperties>
</file>