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3C5AC-F575-41C2-962F-486C60312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6478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2208240" y="4315680"/>
            <a:ext cx="6478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C2AA3-9692-49A6-B4AE-3341C9999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08240" y="431568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5528160" y="431568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38AC0-FAA9-467D-9240-9883E147C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398840" y="228564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589440" y="228564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2208240" y="431568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4398840" y="431568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589440" y="431568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3B4C0-0436-4795-B94A-F59E87DEA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11ACD-577F-4837-A1A3-85EBABE7E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CF8CD-0D60-4400-BBE2-712E8ABDB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5CB78-0A79-4E7B-A687-EC2B4996A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4CB7F-B23D-4BA5-A9F7-A70C197B1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41F88-1F5E-4E2B-9C86-4C1B4AE66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1905120" y="380520"/>
            <a:ext cx="7162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E9A2C-C9A7-48CB-AAF5-B784FEE1E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2208240" y="431568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DE0F4-5157-43F0-A3E4-013D27AF9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E50B7-9785-4793-B3E3-690F2F6EC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5528160" y="431568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74723-F969-472F-B091-178097863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2208240" y="4315680"/>
            <a:ext cx="6478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2EED8-7564-47AF-84F9-F5C49557D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6478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2208240" y="4315680"/>
            <a:ext cx="6478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1F1DC-46DF-4286-8C7A-D851FCA94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2208240" y="431568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5528160" y="431568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66298-13BB-48DE-BE2E-AD448C3CC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398840" y="228564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589440" y="228564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2208240" y="431568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4398840" y="431568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589440" y="431568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4C5F1-6E68-452F-A663-F73279A7A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97B22-A043-4223-87E3-4ED2E11B2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C6829-BE1C-4F96-AD23-44F7F7098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8FC2A-DADE-4F7F-9D2C-DAC1D0BBC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1905120" y="380520"/>
            <a:ext cx="7162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63209-EE7C-4F53-9AF3-BE7571FB9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2208240" y="431568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D458D-6BCB-4E2B-A4CD-C22D688BD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528160" y="431568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DE22F-82C4-4F82-8587-6E5E0814C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2208240" y="4315680"/>
            <a:ext cx="6478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57C93-2A7F-4573-8922-60FF83A82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905120" y="1982880"/>
            <a:ext cx="7010280" cy="48751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52280" y="1295280"/>
            <a:ext cx="8763120" cy="152640"/>
          </a:xfrm>
          <a:prstGeom prst="rect">
            <a:avLst/>
          </a:prstGeom>
          <a:solidFill>
            <a:srgbClr val="ff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1" marL="698400" indent="-268560">
              <a:spcBef>
                <a:spcPts val="799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2" marL="1074240" indent="-214560">
              <a:spcBef>
                <a:spcPts val="799"/>
              </a:spcBef>
              <a:buClr>
                <a:srgbClr val="00ffcc"/>
              </a:buClr>
              <a:buSzPct val="6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3" marL="1504080" indent="-214560">
              <a:spcBef>
                <a:spcPts val="799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4" marL="1933920" indent="-214560">
              <a:spcBef>
                <a:spcPts val="799"/>
              </a:spcBef>
              <a:buClr>
                <a:srgbClr val="00ff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5" marL="1933920" indent="-214560">
              <a:spcBef>
                <a:spcPts val="799"/>
              </a:spcBef>
              <a:buClr>
                <a:srgbClr val="ffcc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6" marL="1933920" indent="-214560">
              <a:spcBef>
                <a:spcPts val="799"/>
              </a:spcBef>
              <a:buClr>
                <a:srgbClr val="ffcc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76320" y="228600"/>
            <a:ext cx="2133360" cy="6662880"/>
            <a:chOff x="76320" y="228600"/>
            <a:chExt cx="2133360" cy="6662880"/>
          </a:xfrm>
        </p:grpSpPr>
        <p:sp>
          <p:nvSpPr>
            <p:cNvPr id="5" name=""/>
            <p:cNvSpPr/>
            <p:nvPr/>
          </p:nvSpPr>
          <p:spPr>
            <a:xfrm>
              <a:off x="457200" y="457200"/>
              <a:ext cx="1066680" cy="121932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457200" y="1981080"/>
              <a:ext cx="1066680" cy="487548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04920" y="19051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8080" y="21337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33520" y="2514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990720" y="1828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457200" y="20574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80880" y="45720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219320" y="2438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38080" y="27432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914400" y="3124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480" y="3124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04920" y="28195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0880" y="3657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14400" y="3657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685800" y="3581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33520" y="4267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1295280" y="35053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1066680" y="4267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8080" y="46483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1143000" y="37339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04920" y="4038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19320" y="2971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28600" y="3124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990720" y="48769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80880" y="5181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09480" y="5181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33520" y="49528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219320" y="5181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80880" y="5867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457200" y="57150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914400" y="5410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38080" y="57913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1066680" y="57150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609480" y="62485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914400" y="617364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295280" y="639936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762120" y="6400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228600" y="6400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838080" y="4114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143000" y="21337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52280" y="2514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371600" y="44956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371600" y="26668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371600" y="50292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371600" y="5867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grpSp>
          <p:nvGrpSpPr>
            <p:cNvPr id="51" name=""/>
            <p:cNvGrpSpPr/>
            <p:nvPr/>
          </p:nvGrpSpPr>
          <p:grpSpPr>
            <a:xfrm>
              <a:off x="150840" y="230040"/>
              <a:ext cx="1600200" cy="1598760"/>
              <a:chOff x="150840" y="230040"/>
              <a:chExt cx="1600200" cy="1598760"/>
            </a:xfrm>
          </p:grpSpPr>
          <p:sp>
            <p:nvSpPr>
              <p:cNvPr id="52" name=""/>
              <p:cNvSpPr/>
              <p:nvPr/>
            </p:nvSpPr>
            <p:spPr>
              <a:xfrm>
                <a:off x="684360" y="45864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836640" y="99216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1293840" y="106992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370160" y="46188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536400" y="1295280"/>
                <a:ext cx="38124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222200" y="144792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531720" y="91440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065240" y="121932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684360" y="144792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988920" y="53496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141560" y="68724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608040" y="76356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303120" y="106848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227160" y="61128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50840" y="129708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1141560" y="23004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379440" y="30636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</p:grpSp>
        <p:sp>
          <p:nvSpPr>
            <p:cNvPr id="69" name=""/>
            <p:cNvSpPr/>
            <p:nvPr/>
          </p:nvSpPr>
          <p:spPr>
            <a:xfrm>
              <a:off x="304920" y="228600"/>
              <a:ext cx="1295280" cy="228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76320" y="380880"/>
              <a:ext cx="380880" cy="6499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52280" y="1295280"/>
              <a:ext cx="304920" cy="152640"/>
            </a:xfrm>
            <a:prstGeom prst="rect">
              <a:avLst/>
            </a:prstGeom>
            <a:solidFill>
              <a:srgbClr val="f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04920" y="1676520"/>
              <a:ext cx="1295280" cy="29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523880" y="304920"/>
              <a:ext cx="381240" cy="6586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523880" y="1295280"/>
              <a:ext cx="685800" cy="152640"/>
            </a:xfrm>
            <a:prstGeom prst="rect">
              <a:avLst/>
            </a:prstGeom>
            <a:solidFill>
              <a:srgbClr val="f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38080" y="2514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</p:grpSp>
      <p:sp>
        <p:nvSpPr>
          <p:cNvPr id="76" name="PlaceHolder 3"/>
          <p:cNvSpPr>
            <a:spLocks noGrp="1"/>
          </p:cNvSpPr>
          <p:nvPr>
            <p:ph type="dt" idx="1"/>
          </p:nvPr>
        </p:nvSpPr>
        <p:spPr>
          <a:xfrm>
            <a:off x="2558880" y="6470640"/>
            <a:ext cx="1346400" cy="38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9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9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ftr" idx="2"/>
          </p:nvPr>
        </p:nvSpPr>
        <p:spPr>
          <a:xfrm>
            <a:off x="3984480" y="6477120"/>
            <a:ext cx="354024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99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9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 type="sldNum" idx="3"/>
          </p:nvPr>
        </p:nvSpPr>
        <p:spPr>
          <a:xfrm>
            <a:off x="7571880" y="6477120"/>
            <a:ext cx="125100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9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ACD0B-FFE1-4DDE-988F-DDFF0C177E82}" type="slidenum">
              <a:rPr b="0" lang="en-US" sz="1400" spc="-1" strike="noStrike">
                <a:solidFill>
                  <a:srgbClr val="ffcc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286000" y="6029280"/>
            <a:ext cx="222120" cy="82728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905120" y="1982880"/>
            <a:ext cx="7010280" cy="48751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52280" y="1295280"/>
            <a:ext cx="8763120" cy="152640"/>
          </a:xfrm>
          <a:prstGeom prst="rect">
            <a:avLst/>
          </a:prstGeom>
          <a:solidFill>
            <a:srgbClr val="ff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99"/>
              </a:solidFill>
              <a:latin typeface="Arial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76320" y="228600"/>
            <a:ext cx="2133360" cy="6651720"/>
            <a:chOff x="76320" y="228600"/>
            <a:chExt cx="2133360" cy="6651720"/>
          </a:xfrm>
        </p:grpSpPr>
        <p:sp>
          <p:nvSpPr>
            <p:cNvPr id="119" name=""/>
            <p:cNvSpPr/>
            <p:nvPr/>
          </p:nvSpPr>
          <p:spPr>
            <a:xfrm>
              <a:off x="457200" y="457200"/>
              <a:ext cx="1066680" cy="121932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57200" y="1981080"/>
              <a:ext cx="1066680" cy="487548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04920" y="19051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838080" y="21337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33520" y="2514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990720" y="1828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7200" y="20574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80880" y="45720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219320" y="2438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838080" y="27432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914400" y="3124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09480" y="3124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04920" y="28195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80880" y="3657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914400" y="3657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85800" y="3581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33520" y="4267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295280" y="35053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066680" y="4267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838080" y="46483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143000" y="37339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04920" y="4038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19320" y="2971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28600" y="3124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990720" y="48769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80880" y="5181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09480" y="5181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33520" y="49528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219320" y="5181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80880" y="5867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57200" y="57150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914400" y="5410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38080" y="57913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066680" y="57150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09480" y="62485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617364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295280" y="639936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62120" y="6400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28600" y="6400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38080" y="4114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143000" y="21337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52280" y="2514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371600" y="44956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371600" y="26668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371600" y="50292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371600" y="5867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grpSp>
          <p:nvGrpSpPr>
            <p:cNvPr id="165" name=""/>
            <p:cNvGrpSpPr/>
            <p:nvPr/>
          </p:nvGrpSpPr>
          <p:grpSpPr>
            <a:xfrm>
              <a:off x="150840" y="230040"/>
              <a:ext cx="1600200" cy="1598760"/>
              <a:chOff x="150840" y="230040"/>
              <a:chExt cx="1600200" cy="1598760"/>
            </a:xfrm>
          </p:grpSpPr>
          <p:sp>
            <p:nvSpPr>
              <p:cNvPr id="166" name=""/>
              <p:cNvSpPr/>
              <p:nvPr/>
            </p:nvSpPr>
            <p:spPr>
              <a:xfrm>
                <a:off x="684360" y="45864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836640" y="99216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293840" y="106992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1370160" y="46188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536400" y="1295280"/>
                <a:ext cx="38124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1222200" y="144792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531720" y="91440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1065240" y="121932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684360" y="144792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988920" y="53496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1141560" y="68724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608040" y="76356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303120" y="106848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227160" y="61128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150840" y="129708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1141560" y="23004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379440" y="30636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</p:grpSp>
        <p:sp>
          <p:nvSpPr>
            <p:cNvPr id="183" name=""/>
            <p:cNvSpPr/>
            <p:nvPr/>
          </p:nvSpPr>
          <p:spPr>
            <a:xfrm>
              <a:off x="304920" y="228600"/>
              <a:ext cx="1295280" cy="228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6320" y="380880"/>
              <a:ext cx="380880" cy="648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52280" y="1295280"/>
              <a:ext cx="304920" cy="152640"/>
            </a:xfrm>
            <a:prstGeom prst="rect">
              <a:avLst/>
            </a:prstGeom>
            <a:solidFill>
              <a:srgbClr val="f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04920" y="1676520"/>
              <a:ext cx="1295280" cy="29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523880" y="304920"/>
              <a:ext cx="381240" cy="6575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523880" y="1295280"/>
              <a:ext cx="685800" cy="152640"/>
            </a:xfrm>
            <a:prstGeom prst="rect">
              <a:avLst/>
            </a:prstGeom>
            <a:solidFill>
              <a:srgbClr val="f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38080" y="2514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</p:grp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0" y="6029280"/>
            <a:ext cx="222120" cy="82728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4"/>
          </p:nvPr>
        </p:nvSpPr>
        <p:spPr>
          <a:xfrm>
            <a:off x="2558880" y="6470640"/>
            <a:ext cx="1346400" cy="38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9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9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ftr" idx="5"/>
          </p:nvPr>
        </p:nvSpPr>
        <p:spPr>
          <a:xfrm>
            <a:off x="3984480" y="6477120"/>
            <a:ext cx="354024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99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9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sldNum" idx="6"/>
          </p:nvPr>
        </p:nvSpPr>
        <p:spPr>
          <a:xfrm>
            <a:off x="7571880" y="6477120"/>
            <a:ext cx="125100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9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AA601-52E4-4EA4-9379-919B089EE887}" type="slidenum">
              <a:rPr b="0" lang="en-US" sz="1400" spc="-1" strike="noStrike">
                <a:solidFill>
                  <a:srgbClr val="ffcc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99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ffcc99"/>
              </a:solidFill>
              <a:latin typeface="Arial Narrow"/>
            </a:endParaRPr>
          </a:p>
          <a:p>
            <a:pPr lvl="2" marL="914400" algn="ctr">
              <a:spcBef>
                <a:spcPts val="601"/>
              </a:spcBef>
              <a:buClr>
                <a:srgbClr val="00ffcc"/>
              </a:buClr>
              <a:buSzPct val="65000"/>
              <a:buFont typeface="Wingdings" charset="2"/>
              <a:buChar char="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99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ffcc99"/>
              </a:solidFill>
              <a:latin typeface="Arial Narrow"/>
            </a:endParaRPr>
          </a:p>
          <a:p>
            <a:pPr lvl="3" marL="1371600" algn="ctr">
              <a:spcBef>
                <a:spcPts val="499"/>
              </a:spcBef>
              <a:buClr>
                <a:srgbClr val="00ffcc"/>
              </a:buClr>
              <a:buFont typeface="Arial Narrow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99"/>
                </a:solidFill>
                <a:latin typeface="Arial Narrow"/>
              </a:rPr>
              <a:t>Fourth Outline Level</a:t>
            </a:r>
            <a:endParaRPr b="0" lang="en-US" sz="2000" spc="-1" strike="noStrike">
              <a:solidFill>
                <a:srgbClr val="ffcc99"/>
              </a:solidFill>
              <a:latin typeface="Arial Narrow"/>
            </a:endParaRPr>
          </a:p>
          <a:p>
            <a:pPr lvl="4" marL="1828800" algn="ctr">
              <a:spcBef>
                <a:spcPts val="499"/>
              </a:spcBef>
              <a:buClr>
                <a:srgbClr val="00ffcc"/>
              </a:buClr>
              <a:buFont typeface="Arial Narrow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99"/>
                </a:solidFill>
                <a:latin typeface="Arial Narrow"/>
              </a:rPr>
              <a:t>Fifth Outline Level</a:t>
            </a:r>
            <a:endParaRPr b="0" lang="en-US" sz="2000" spc="-1" strike="noStrike">
              <a:solidFill>
                <a:srgbClr val="ffcc99"/>
              </a:solidFill>
              <a:latin typeface="Arial Narrow"/>
            </a:endParaRPr>
          </a:p>
          <a:p>
            <a:pPr lvl="5" marL="1828800">
              <a:spcBef>
                <a:spcPts val="499"/>
              </a:spcBef>
              <a:buClr>
                <a:srgbClr val="ffcc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99"/>
                </a:solidFill>
                <a:latin typeface="Arial Narrow"/>
              </a:rPr>
              <a:t>Sixth Outline Level</a:t>
            </a:r>
            <a:endParaRPr b="0" lang="en-US" sz="2000" spc="-1" strike="noStrike">
              <a:solidFill>
                <a:srgbClr val="ffcc99"/>
              </a:solidFill>
              <a:latin typeface="Arial Narrow"/>
            </a:endParaRPr>
          </a:p>
          <a:p>
            <a:pPr lvl="6" marL="1828800">
              <a:spcBef>
                <a:spcPts val="499"/>
              </a:spcBef>
              <a:buClr>
                <a:srgbClr val="ffcc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99"/>
                </a:solidFill>
                <a:latin typeface="Arial Narrow"/>
              </a:rPr>
              <a:t>Seventh Outline Level</a:t>
            </a:r>
            <a:endParaRPr b="0" lang="en-US" sz="2000" spc="-1" strike="noStrike">
              <a:solidFill>
                <a:srgbClr val="ffcc99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2562120" y="2286000"/>
            <a:ext cx="58197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05T06:40:33Z</dcterms:created>
  <dc:creator>*</dc:creator>
  <dc:description/>
  <dc:language>en-US</dc:language>
  <cp:lastModifiedBy>*</cp:lastModifiedBy>
  <dcterms:modified xsi:type="dcterms:W3CDTF">2010-07-05T06:41:07Z</dcterms:modified>
  <cp:revision>1</cp:revision>
  <dc:subject/>
  <dc:title>Слайд 1</dc:title>
</cp:coreProperties>
</file>