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EFD-E436-417B-93A2-D7FDCEE1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3E5-D361-4BB5-9FB1-E2CC1ECB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A13-28DB-45CA-948D-1FEE73E4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E12-934B-40BB-8DEE-5C11434A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DEDC-E6F5-4EA0-A88F-F1028C8B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752A-44D5-45E4-921E-B78ABF19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9137-5AC7-4134-AE7B-201F3234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AA0C-BC44-4C9F-B917-58875B49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6D9F-F401-4149-B8B1-4A391C0F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07CB-67DB-499C-87EF-6407E580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3A24-9BDF-428E-A0D7-EFF139C6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77C-47A0-49B9-9C69-35B4437C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826F-4570-41B3-AC60-7DD1AD0D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9F59-94E8-49E1-A6CB-E061A8D6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1499-175B-440F-BE8D-5B08D3A7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E8D7-0C40-457D-BD0B-6C7A48B1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39B1-8B2C-4E2C-AF9E-46501BD0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F8F-2707-49F8-9B52-48F43D29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BC8-7AE0-4C5E-86E3-FA0DAA2C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579-6F25-4503-818D-112241D2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1ED-9C27-4D99-B9A6-7C91C332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899-2891-4F47-833C-986A2AC8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FED-1635-4EB6-B7F8-4C838449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138-A9F1-4B9D-BF81-A6B3538C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7E7B-A25B-4B54-AE4B-309992C2D807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8C03-FDC1-4A45-8772-2753899A018E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06:40:33Z</dcterms:created>
  <dc:creator>*</dc:creator>
  <dc:description/>
  <dc:language>en-US</dc:language>
  <cp:lastModifiedBy>*</cp:lastModifiedBy>
  <dcterms:modified xsi:type="dcterms:W3CDTF">2010-07-05T06:41:07Z</dcterms:modified>
  <cp:revision>1</cp:revision>
  <dc:subject/>
  <dc:title>Слайд 1</dc:title>
</cp:coreProperties>
</file>