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9.gif" ContentType="image/gif"/>
  <Override PartName="/ppt/media/image10.gif" ContentType="image/gif"/>
  <Override PartName="/ppt/media/image11.gif" ContentType="image/gif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8CAB-F3FD-4BFB-8F99-B859C0F9F4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е педагога-психолога на КОК по вопросу «Адаптация первоклассник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состояние диагностируется тестом Люш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методической литературы по данному вопро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5018-FF2C-4B18-940E-054811A4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1B4-1ACA-4DE1-94A2-62E2C4EA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1D2-A364-440F-8815-58711648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494-0797-4C63-8C28-7F3B520D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B56C-8FF4-45B3-A4FE-80802846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9817-02F8-4697-84F4-D405DA57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1229-DFDC-488F-A42A-863CA0B0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B62D-053A-4E06-B069-82006711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07DF-551B-4417-AE14-6515382C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97F6-D447-42D2-8E53-575A831A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EF14-9434-47EC-BD69-C03F18B1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FD3-E7BB-412D-8205-AF5B9E87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7445-415A-4E0E-A24B-4596F933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90D4-50C7-4FE9-ADDF-09B1A79B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33FC-ADC6-4917-A3F6-8C6AE1BF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2153-624A-489D-8F81-2DE89651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B8B2-1158-4840-AB9A-76B04421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418-82EC-4459-A554-669811A5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93F-DE02-418E-B7EC-D1B0BF6B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677-47B4-482F-8E91-7B0D3A62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F00-339D-47C8-AFEC-2FAD5896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4DA-BDB9-47B9-92D3-3E718D32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53A-5990-431D-9908-A82F9542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9B6-08AD-4ADB-A303-2143EA17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C3AF-7996-477D-A6EE-D3DF8A35033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F490-B13D-4D55-9628-FFEE5FBAD4C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541440" y="2781360"/>
            <a:ext cx="100094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ыступление педагога-психолога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о теме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«Адаптация первоклассников»           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3529080" cy="201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155360" y="623736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ктябрь 2009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B386-35B8-4D77-B746-63AB7BDDFE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23120" y="743760"/>
            <a:ext cx="767880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Факторы, способствующие формированию и закреплению школьной тревожности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Учебные перегрузк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способность уч-ся справиться со школьной программо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адекватные ожидания со стороны родителей и учител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благоприятные отношения с педагогам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Регулярно повторяющиеся оценочно-экзаменацио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мена школьного коллектива и/или неприятие детским коллектив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7BC-C021-4BA2-A625-9124ED39AA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еблагоприятные отношения с учителя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Одинаковые требования к сильным и слабым ученика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Нетерпимость к нарушителям дисциплин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Склонность от ошибок учащегося переходить на личность в цел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Завышенные требования, предъявляемые ученик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Избирательное отношение к конкретному ребенк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6260-C00E-42BC-938B-91E68ACCDB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сихоэмоциональное состоя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-396720" y="2276640"/>
          <a:ext cx="954072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2276640"/>
                    <a:ext cx="9540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0DC-41F6-4AEF-95EA-E5957E58BA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уровень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изкая нервно-психическая устойчив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ысокая утомляемост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нимание легко отвлекается посторонними вещами, надолго может "застрять" на эмоциональном переживан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 связи с этим поведение непрогнозируемо и субъективно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еятельность ребенка реактивная и нецеленаправленна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Эмоциональный фон может быстро колебаться между восторженно-возбужденным состоянием и подавленностью, раздражительностью и бессилием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Часто испытывает тревогу, предчувствие неприятностей, бессилие и отсутствие желания что-либо делат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BD1-323C-4383-908E-E19BEAF93F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920" y="2637000"/>
            <a:ext cx="82296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наличия у дет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адекватной самооцен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мнение о себе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о своих возможностях и способностях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чертах своего характера и человеческих качествах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5280" y="260280"/>
            <a:ext cx="80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Century Schoolbook"/>
              </a:rPr>
              <a:t>Успешность адапт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Century Schoolboo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Century Schoolbook"/>
              </a:rPr>
              <a:t>во многом зависи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Century Schoolbook"/>
              <a:ea typeface="Century Schoolboo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164360" y="5229360"/>
            <a:ext cx="1824120" cy="142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635-71D6-44AB-873E-ADD18BA4D1B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егативная самооценка «-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а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Д. Алеш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б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Г. Никита, К. Макси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в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А. Егор, З. Алена, М. Серг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г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И. Елена, И. Дима, К. Ива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д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К. Максим, Ч. Вла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C17-ABE2-4DC1-AB6B-101639C0F2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Уровни адаптации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3960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окий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оложительное отношение к школ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рилежани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Внимательност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Выполнение поручений учител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чебный материал усваивается легко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Занимает благоприятное положение в класс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59280" y="2565360"/>
          <a:ext cx="3025440" cy="3968640"/>
        </p:xfrm>
        <a:graphic>
          <a:graphicData uri="http://schemas.openxmlformats.org/drawingml/2006/table">
            <a:tbl>
              <a:tblPr/>
              <a:tblGrid>
                <a:gridCol w="752040"/>
                <a:gridCol w="227340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 челове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б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 челове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 челове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г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 челове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д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 челове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2 человек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AC0-C29C-47E4-9B2D-678ECD2CB8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Уровни адаптации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3624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ий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осещение школы не вызывает отрицательных переживаний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ыполнение поручений при контроле учител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чебный материал понимается при хорошем изложении учител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ружит со многими одноклассника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284720" y="2492280"/>
          <a:ext cx="4032360" cy="3528720"/>
        </p:xfrm>
        <a:graphic>
          <a:graphicData uri="http://schemas.openxmlformats.org/drawingml/2006/table">
            <a:tbl>
              <a:tblPr/>
              <a:tblGrid>
                <a:gridCol w="646200"/>
                <a:gridCol w="338616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б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г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 челове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82C-7F09-40B5-BE14-348705BB85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Уровни адаптации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41400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зкий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трицательное отношение к школ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астые нарушения дисциплины, жалобы на здоровь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чебный материал усваивается фрагментарно. Требуется помощь учител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Близких друзей нет. Знает не всех одноклассник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876920" y="2492280"/>
          <a:ext cx="3439800" cy="3673440"/>
        </p:xfrm>
        <a:graphic>
          <a:graphicData uri="http://schemas.openxmlformats.org/drawingml/2006/table">
            <a:tbl>
              <a:tblPr/>
              <a:tblGrid>
                <a:gridCol w="722520"/>
                <a:gridCol w="271728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г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д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 уч-ся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F82-3405-441D-8467-20E1FF7CB9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80834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При анализе урока обращаем внимание на следующие </a:t>
            </a:r>
            <a:br>
              <a:rPr sz="3600"/>
            </a:b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аспекты урока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083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Число видов учебной деятельности, используемых учителе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редняя продолжительность и частота чередования различных видов учебной деятель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изкультминутки и физкультпауз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аличие у учащихся мотивации к учебной деятельности на урок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Благоприятный психологический климат на урок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реобладающее выражение лица учител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Момент наступления утомления учащихся и снижения их учебной актив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мп и особенности окончания урок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остояние и вид учеников, выходящих с урок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8ED-07E0-45B3-B596-3A04A07E10A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ействия, направленные на успешную адаптацию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ведение «ШБП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ведение родительских собраний  по теме «Адаптация первоклассников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ведение индивидуальных консуль-таций родителей по «Готовности к школе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ведение коррекционно-развивающих занятий с детьми «не готовыми к школьному обучению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43B-6954-4E92-A743-ABD98B5987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ависимость между этапом урока и отвлекаемостью де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6880" y="8700840"/>
            <a:ext cx="1868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*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90520" y="92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50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-290520" y="3025800"/>
          <a:ext cx="182520" cy="16146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1702800" y="630864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0-30 ми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98360" y="63086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35-45 ми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9840" y="3246480"/>
            <a:ext cx="10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6308640"/>
            <a:ext cx="14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30-35 ми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069-C54C-4129-BE69-9340ACDB11A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Позы учащихся и их чередование в зависимости от характера выполняемой работы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95280" y="2707920"/>
            <a:ext cx="633564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Степень естественности позы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школьников на уроке может служить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хорошим индикатором психологического воздействия учителя,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степени его авторитар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Механизм здоровьеразрушающего воздействия авторитарного учителя состоит, в частности, в том, что дети на его уроках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быточно напряжен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67640" y="1052640"/>
            <a:ext cx="1309680" cy="1366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1942920" cy="194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92F-B4C7-4745-85BC-C7152D53D242}" type="slidenum">
              <a:t>21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изкультминутки и физкультпауз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Физкультминутки и физкультпаузы являются обязательной составной частью урока. Необходимо обратить внимание на их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содержание и продолжительность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норма - на 15-20 минуте урока по 1 минуте из трех легких упражнений с 3-4 повторениями каждого), а также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моциональный климат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во время выполнения упражнений и наличие у школьников желания их выполнять.</a:t>
            </a:r>
            <a:r>
              <a:rPr b="0" lang="ru-RU" sz="31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03D1-03D5-418E-A874-ACBF4653E128}" type="slidenum">
              <a:t>22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1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2425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Благоприятный психологический климат на урок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43280" y="2707920"/>
            <a:ext cx="566568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2421000"/>
            <a:ext cx="64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Урок неполноценен, если на нем не было эмоционально-смысловых разрядок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улыбок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уместных остроумных шуток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использования поговорок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афоризмов с комментариями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музыкальных минуток и т.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1339920" cy="1915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667640" y="1268280"/>
            <a:ext cx="108108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195-5858-49FE-ABA5-7FB0AFDDB776}" type="slidenum">
              <a:t>23</a:t>
            </a:fld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0136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ЕГКОЙ ТЕБЕ УЧЕБЫ, ПЕРВОКЛАССНИК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4968720" cy="42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494-452F-40AF-8A53-652C9E702082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07552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епосредственно связано с понятие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3774960" cy="22111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09" name=""/>
          <p:cNvSpPr txBox="1"/>
          <p:nvPr/>
        </p:nvSpPr>
        <p:spPr>
          <a:xfrm>
            <a:off x="395280" y="333360"/>
            <a:ext cx="856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Century Schoolbook"/>
              </a:rPr>
              <a:t>Понятие адапт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Century Schoolbook"/>
              <a:ea typeface="Century Schoolboo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5013360"/>
            <a:ext cx="856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Century Schoolbook"/>
              </a:rPr>
              <a:t>"готовность ребенка к школе"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Century Schoolbook"/>
              <a:ea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598-FD1D-4B1B-8464-7EAF3B3E9E43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Общие результаты по методике </a:t>
            </a:r>
            <a:br>
              <a:rPr sz="2700"/>
            </a:b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«Готовность к школе» учащихся 1-х классов</a:t>
            </a:r>
            <a:endParaRPr b="1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11280" y="2060640"/>
          <a:ext cx="8204040" cy="46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82040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961-E0B3-49D9-BA60-A9D7C61281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6868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роявления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 дезадаптации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 младших школьников: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изкий уровень учебной мотивации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арушение познавательных процессов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высокая тревожность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арушения эмоционально-волевой сферы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еадекватная самооценк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трудности в общении со взрослыми и сверстник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C16-D67A-4384-B59B-9CE93FDDC9DA}" type="slidenum">
              <a:t>5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ревожн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2276640"/>
          <a:ext cx="864216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76640"/>
                    <a:ext cx="864216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3D3-1452-420C-B2D7-0D3471E2E0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98920" y="834120"/>
            <a:ext cx="87850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сокий уровень тревожност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а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К. Вова, В. Настя, К. Семе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б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С. Семен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в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К. Надя, К.Коля, С. Русла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г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З. Егор, К.Иван, К. Саша, И.Еле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д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Д. Денис, М. В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071-82A7-4AFE-8E3F-30422712F1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вязь между успеваемостью и тревожностью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561440" cy="45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EFC-4473-410F-90CC-D4AB2D6462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Типичные проявления школьной тревожност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784692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желание ходить в школу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Излишняя старательность при выполнении задани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каз от выполнения субъективно невыполнимых задани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здражительность и агрессивные проявлени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ссеянность, снижение концентрации внимания на уроках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теря контроля над физиологическими функциями в стрессогенных ситуациях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трах потерять или испортить школьные принадлеж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трах опоздать в школу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каз отвечать на уроке или ответы тихим голос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4DE-755A-444C-A795-18162774FA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51:08Z</dcterms:created>
  <dc:creator>Сухорученкова Н.Н.</dc:creator>
  <dc:description/>
  <dc:language>en-US</dc:language>
  <cp:lastModifiedBy>МАМА</cp:lastModifiedBy>
  <dcterms:modified xsi:type="dcterms:W3CDTF">2010-01-23T17:06:44Z</dcterms:modified>
  <cp:revision>255</cp:revision>
  <dc:subject/>
  <dc:title>Выступление психолога  по теме «Адаптация первоклассников»            </dc:title>
</cp:coreProperties>
</file>