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9.gif" ContentType="image/gif"/>
  <Override PartName="/ppt/media/image10.gif" ContentType="image/gif"/>
  <Override PartName="/ppt/media/image11.gif" ContentType="image/gif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A819-43BE-454B-9D24-6996453FAB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е педагога-психолога на КОК по вопросу «Адаптация первоклассник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состояние диагностируется тестом Люш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методической литературы по данному вопро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084-1E8F-4C13-8037-58C978E3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B67-170B-4C50-8637-669E4906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31D-8B8E-4586-8DFD-756479B2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7FE-FFFB-41D7-A078-57B97DAB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5B3D-CB2F-4075-B1DF-59993B5B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1C4A-2F8E-4648-B96C-DDB8167C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BDDB-1E89-4DC4-96A2-90D179A5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8887-ED8E-4F6F-A019-B3031E62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1F04-57A0-490B-BE59-EBE2D874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EA39-A74F-4391-B26D-B2C9CF26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491B-46DE-4D04-8C9C-C4325B76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010-4826-402B-8858-24641E24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120A-8663-4577-B644-F9DF82A2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0CE6-A3C0-4CA1-B454-E9675CED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737F-6991-434C-9BA7-3D22C558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0E03-1C89-46C0-A72D-64644597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D0A0-CA81-48C4-8142-C48AA882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9C8-0AE9-4FAA-BFB9-E660A460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BE4-26B9-4A0F-88C6-8EACC745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85D-E06F-410A-B8A8-0DFD289B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D99-5C02-456F-B736-10A214A9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9A9-F32B-4C07-A1E6-4989F955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749-7994-4CD9-BD5A-3FF8E751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D98-5BF4-49C6-A844-F30EFD47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30C9-2251-4923-961A-353C0C955B0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D3E6-B437-44A1-B03C-51D7164E366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541440" y="2781360"/>
            <a:ext cx="100094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ыступление педагога-психолога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о теме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«Адаптация первоклассников»           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3529080" cy="201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155360" y="623736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ктябрь 2009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20F9-2A7F-42F3-B6A3-1552A91B20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23120" y="743760"/>
            <a:ext cx="767880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Факторы, способствующие формированию и закреплению школьной тревожности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Учебные перегрузк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способность уч-ся справиться со школьной программо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адекватные ожидания со стороны родителей и учител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благоприятные отношения с педагогам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Регулярно повторяющиеся оценочно-экзаменацио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мена школьного коллектива и/или неприятие детским коллектив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2E2-D490-4B1A-927A-F90660564D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еблагоприятные отношения с учителя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Одинаковые требования к сильным и слабым ученика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Нетерпимость к нарушителям дисциплин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Склонность от ошибок учащегося переходить на личность в цел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Завышенные требования, предъявляемые ученик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Избирательное отношение к конкретному ребенк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141-035E-4DB5-8363-2E7CB08480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сихоэмоциональное состоя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-396720" y="2276640"/>
          <a:ext cx="954072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2276640"/>
                    <a:ext cx="9540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320-7912-4EC4-BE37-A562C9011F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уровень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изкая нервно-психическая устойчив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ысокая утомляемост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нимание легко отвлекается посторонними вещами, надолго может "застрять" на эмоциональном переживан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 связи с этим поведение непрогнозируемо и субъективно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еятельность ребенка реактивная и нецеленаправленна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моциональный фон может быстро колебаться между восторженно-возбужденным состоянием и подавленностью, раздражительностью и бессилием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Часто испытывает тревогу, предчувствие неприятностей, бессилие и отсутствие желания что-либо делат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008-78F3-4C07-8116-7194140816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920" y="2637000"/>
            <a:ext cx="82296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наличия у дет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адекватной самооцен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мнение о себе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о своих возможностях и способностях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чертах своего характера и человеческих качествах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5280" y="260280"/>
            <a:ext cx="80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Century Schoolbook"/>
              </a:rPr>
              <a:t>Успешность адапт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Century Schoolboo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Century Schoolbook"/>
              </a:rPr>
              <a:t>во многом зависи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Century Schoolbook"/>
              <a:ea typeface="Century Schoolboo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164360" y="5229360"/>
            <a:ext cx="1824120" cy="14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1B3-6FC2-4507-A75B-9E8D5131D37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егативная самооценка «-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а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Д. Алеш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б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Г. Никита, К. Макси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в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А. Егор, З. Алена, М. Серг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г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И. Елена, И. Дима, К. Ива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д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К. Максим, Ч. Вла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59C-BE15-47A3-A81F-44538944FA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Уровни адаптации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3960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окий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оложительное отношение к школ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рилежани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Внимательност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Выполнение поручений учител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чебный материал усваивается легко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Занимает благоприятное положение в класс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59280" y="2565360"/>
          <a:ext cx="3025440" cy="3968640"/>
        </p:xfrm>
        <a:graphic>
          <a:graphicData uri="http://schemas.openxmlformats.org/drawingml/2006/table">
            <a:tbl>
              <a:tblPr/>
              <a:tblGrid>
                <a:gridCol w="752040"/>
                <a:gridCol w="227340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 челове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б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 челове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 челове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г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 челове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д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 челове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2 человек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5F7-43A4-4960-A1FE-E303EC0EC5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Уровни адаптации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3624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ий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осещение школы не вызывает отрицательных переживаний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ыполнение поручений при контроле учител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чебный материал понимается при хорошем изложении учител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ружит со многими одноклассника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284720" y="2492280"/>
          <a:ext cx="4032360" cy="3528720"/>
        </p:xfrm>
        <a:graphic>
          <a:graphicData uri="http://schemas.openxmlformats.org/drawingml/2006/table">
            <a:tbl>
              <a:tblPr/>
              <a:tblGrid>
                <a:gridCol w="646200"/>
                <a:gridCol w="338616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б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г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 челове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B71-0F6F-48E9-8878-46F2EAB2CB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Уровни адаптации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1400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зкий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трицательное отношение к школ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астые нарушения дисциплины, жалобы на здоровь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чебный материал усваивается фрагментарно. Требуется помощь учител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Близких друзей нет. Знает не всех одноклассник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876920" y="2492280"/>
          <a:ext cx="3439800" cy="3673440"/>
        </p:xfrm>
        <a:graphic>
          <a:graphicData uri="http://schemas.openxmlformats.org/drawingml/2006/table">
            <a:tbl>
              <a:tblPr/>
              <a:tblGrid>
                <a:gridCol w="722520"/>
                <a:gridCol w="271728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г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д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 уч-ся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978-5A5B-4EA0-A174-B589240E19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80834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При анализе урока обращаем внимание на следующие </a:t>
            </a:r>
            <a:br>
              <a:rPr sz="3600"/>
            </a:b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аспекты урока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083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Число видов учебной деятельности, используемых учителе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редняя продолжительность и частота чередования различных видов учебной деятель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изкультминутки и физкультпауз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аличие у учащихся мотивации к учебной деятельности на урок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Благоприятный психологический климат на урок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реобладающее выражение лица учител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Момент наступления утомления учащихся и снижения их учебной актив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мп и особенности окончания урок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остояние и вид учеников, выходящих с урок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0FA-CED4-4F29-86C7-A58E131350B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ействия, направленные на успешную адаптацию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ведение «ШБП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ведение родительских собраний  по теме «Адаптация первоклассников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ведение индивидуальных консуль-таций родителей по «Готовности к школе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ведение коррекционно-развивающих занятий с детьми «не готовыми к школьному обучению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57E-54CA-440B-85F1-67FF67B420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ависимость между этапом урока и отвлекаемостью де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6880" y="8700840"/>
            <a:ext cx="1868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*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90520" y="92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50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-290520" y="3025800"/>
          <a:ext cx="182520" cy="16146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1702800" y="630864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0-30 ми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98360" y="63086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35-45 ми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9840" y="3246480"/>
            <a:ext cx="10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6308640"/>
            <a:ext cx="14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30-35 ми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BE1-F33D-404B-82CC-574B960405D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Позы учащихся и их чередование в зависимости от характера выполняемой работы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95280" y="2707920"/>
            <a:ext cx="633564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Степень естественности позы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школьников на уроке может служить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хорошим индикатором психологического воздействия учителя,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степени его авторитар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Механизм здоровьеразрушающего воздействия авторитарного учителя состоит, в частности, в том, что дети на его уроках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быточно напряжен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67640" y="1052640"/>
            <a:ext cx="1309680" cy="1366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1942920" cy="194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71E-3B43-48E6-9212-7BF0AFD1C8AD}" type="slidenum">
              <a:t>21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изкультминутки и физкультпауз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Физкультминутки и физкультпаузы являются обязательной составной частью урока. Необходимо обратить внимание на их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содержание и продолжительность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норма - на 15-20 минуте урока по 1 минуте из трех легких упражнений с 3-4 повторениями каждого), а также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моциональный климат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о время выполнения упражнений и наличие у школьников желания их выполнять.</a:t>
            </a:r>
            <a:r>
              <a:rPr b="0" lang="ru-RU" sz="31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A6D-00F8-4670-9586-1DCF20702903}" type="slidenum">
              <a:t>22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1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2425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Благоприятный психологический климат на урок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43280" y="2707920"/>
            <a:ext cx="566568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2421000"/>
            <a:ext cx="64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Урок неполноценен, если на нем не было эмоционально-смысловых разрядок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улыбок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уместных остроумных шуток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использования поговорок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афоризмов с комментариями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музыкальных минуток и т.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1339920" cy="1915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667640" y="1268280"/>
            <a:ext cx="108108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C8B-1AEE-42D8-AE55-C56EE4BDA3F2}" type="slidenum">
              <a:t>23</a:t>
            </a:fld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0136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ЕГКОЙ ТЕБЕ УЧЕБЫ, ПЕРВОКЛАССНИК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4968720" cy="42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BDA-E1E7-48DB-B544-6851471D7EE8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07552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епосредственно связано с понятие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3774960" cy="22111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09" name=""/>
          <p:cNvSpPr txBox="1"/>
          <p:nvPr/>
        </p:nvSpPr>
        <p:spPr>
          <a:xfrm>
            <a:off x="395280" y="333360"/>
            <a:ext cx="856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Century Schoolbook"/>
              </a:rPr>
              <a:t>Понятие адапт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Century Schoolbook"/>
              <a:ea typeface="Century Schoolboo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5013360"/>
            <a:ext cx="856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Century Schoolbook"/>
              </a:rPr>
              <a:t>"готовность ребенка к школе"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Century Schoolbook"/>
              <a:ea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A6A-2C1E-4998-B534-EEB35AC59B00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Общие результаты по методике </a:t>
            </a:r>
            <a:br>
              <a:rPr sz="2700"/>
            </a:b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«Готовность к школе» учащихся 1-х классов</a:t>
            </a:r>
            <a:endParaRPr b="1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11280" y="2060640"/>
          <a:ext cx="8204040" cy="46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82040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EE1-21EE-4FB4-81CC-1CC2625367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6868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роявления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 дезадаптации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младших школьников: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изкий уровень учебной мотивации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арушение познавательных процессов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высокая тревожность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арушения эмоционально-волевой сферы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еадекватная самооценк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трудности в общении со взрослыми и сверстник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EFD-22D4-48E7-924A-1CEC546D8118}" type="slidenum">
              <a:t>5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ревожн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2276640"/>
          <a:ext cx="864216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76640"/>
                    <a:ext cx="864216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8B4-AA1B-4995-9F36-B0AF298622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98920" y="834120"/>
            <a:ext cx="87850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сокий уровень тревожност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а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К. Вова, В. Настя, К. Семе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б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С. Семен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в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К. Надя, К.Коля, С. Русла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г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З. Егор, К.Иван, К. Саша, И.Еле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д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Д. Денис, М. В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B4B-99AD-43AA-96B6-A9E48E5BA3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вязь между успеваемостью и тревожностью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561440" cy="45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216-87E3-4D82-A5C5-89B88E7083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Типичные проявления школьной тревожност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784692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желание ходить в школу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Излишняя старательность при выполнении задани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каз от выполнения субъективно невыполнимых задани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здражительность и агрессивные проявлени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ссеянность, снижение концентрации внимания на уроках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теря контроля над физиологическими функциями в стрессогенных ситуациях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трах потерять или испортить школьные принадлеж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трах опоздать в школу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каз отвечать на уроке или ответы тихим голос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06E-32D6-4587-A4EB-DD016C9FA3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51:08Z</dcterms:created>
  <dc:creator>Сухорученкова Н.Н.</dc:creator>
  <dc:description/>
  <dc:language>en-US</dc:language>
  <cp:lastModifiedBy>МАМА</cp:lastModifiedBy>
  <dcterms:modified xsi:type="dcterms:W3CDTF">2010-01-23T17:06:44Z</dcterms:modified>
  <cp:revision>255</cp:revision>
  <dc:subject/>
  <dc:title>Выступление психолога  по теме «Адаптация первоклассников»            </dc:title>
</cp:coreProperties>
</file>