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31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6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021-CEA9-4ACC-AA34-C7990A6A8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– это обобщение материалов интернет ресурсов по данному вопр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авка книг для родительского собр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849-E97C-4FB9-BD7A-A4FEB277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AC4-6ED8-42EA-9296-B7E82F5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3E0-EE38-419F-8D52-909567E8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40E-9A80-490B-9ED7-6FA821D2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5EB2-DB6C-43E5-A765-CD757608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91D5-7DC6-47B5-86DC-C6BC7A74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606E-CE18-417C-ADE6-F0136906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1989-754F-4342-85EA-47890135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4D4D-86B2-40DD-9390-41FDA5D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97A9-3266-400F-BDFB-31D9D442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B617-5A14-4D6B-8E3D-6AC73C1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AAD-F52B-4F45-A8B5-0F31A39A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4DE4-11E3-448B-9E16-648564A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204B-EB4B-496B-99A0-A72C859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8989-08E1-42C5-AB36-9CF2B9FA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81C2-35D0-4D44-8F88-DA2D6C7D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6B42-0888-49F7-84B2-EB2D03B0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B31-9F28-4DCA-86FD-C14201EC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F41-E4CD-44E8-A385-3AEC441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751-0A9F-4840-91B6-0D720A27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C5E-8FC9-45F7-B4F1-51471FC2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4B3-51E0-4422-B2EC-C0F6B6DB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EF9-DC95-4942-A996-E49A92B7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8EC-437D-4397-95C0-B8CB6FE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C3E2-4729-40E2-8E46-1790DC0319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F1F-76AD-490F-BBAB-CBA3723E63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53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826920" y="549000"/>
            <a:ext cx="6769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e1ff"/>
                </a:solidFill>
                <a:latin typeface="Arial"/>
              </a:rPr>
              <a:t>Подготовка</a:t>
            </a:r>
            <a:br>
              <a:rPr sz="6000"/>
            </a:br>
            <a:r>
              <a:rPr b="1" i="1" lang="en-US" sz="6000" spc="-1" strike="noStrike">
                <a:solidFill>
                  <a:srgbClr val="afe1ff"/>
                </a:solidFill>
                <a:latin typeface="Arial"/>
              </a:rPr>
              <a:t>руки к</a:t>
            </a:r>
            <a:br>
              <a:rPr sz="6000"/>
            </a:br>
            <a:r>
              <a:rPr b="1" i="1" lang="en-US" sz="6000" spc="-1" strike="noStrike">
                <a:solidFill>
                  <a:srgbClr val="afe1ff"/>
                </a:solidFill>
                <a:latin typeface="Arial"/>
              </a:rPr>
              <a:t>письму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740720" y="4292640"/>
            <a:ext cx="12380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Сл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В зоопарке стоит слон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ши, хобот, серый он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ловой своей кивает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удто в гости приглашает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донь на себя. Средний палец впущен. С одной стороны он зажат мизинцем и безымянным, а с другой — указательным и большим. Шевелить средним пальцем. Качаем всей кистью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305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Ко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А у кошки ушки на макушке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бы лучше слышать мышь в ее норушке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едний и безымянный пальцы упираются в большой. Указательный и мизинец подняты ввер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130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Мы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Серенький комок сиди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бумажкой все шуршит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едний и безымянный пальцы упираются в большой. Указательный и мизинец согнуты в дуги и прижаты к среднему и безымянному пальца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14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Петуш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Петушок стоит весь яркий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ебешок он чистит лапкой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донь вверх указательный палец опирается на большой. Остальные пальцы растопырены в стороны и подняты ввер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160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татические зад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Живот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Крокоди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 и оттянуть назад (глаза). Средний и безымянный пальцы вытянуть вперед. Прямой большой палец прижать к ним снизу, образуя пасть крокоди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Куроч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Соединить концы большого и указательного пальцев (клюв). На клюв веерообразно накладываются друг на дружку остальные пальцы - это гребеш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ов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Большой палец и мизинец отведены в сторону (крылья совы), они могут двигаться при полете. Оставшиеся три пальца согнуты так, что подушечки прижаты к основанию пальцев (голов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ыш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, оттянуть назад, подушечки прижать к основанию пальцев (уши). Большой палец прижать к ладони, на него наложить средний и безымянный. Концы пальцев держать на весу, не прижимая к большому пальцу, - это мордочка мышки, которая при диалогах шевел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, оттянуть назад (глаза). Безымянный и средний согнуть, прижать к середине ладони. Большой палец горизонтально приложить к ногтям среднего и безымянного пальца (ро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Лошад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Повернуть руку ладонью к себе, большой палец поднять вверх. На ребро этой ладони сверху положить согнутые четыре пальца другой руки (грива). Два больших пальца подняты вверх (уши). Лошадь может потряхивать гривой, шевелить ушами, открывать и закрывать ро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Улитка с усикам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Положить правую руку на стол, поднять указательный палец и средний, и расставить их, левую руку положить сверх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Ежи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Ладони соединить, прямые пальцы выставить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Ко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Средний и безымянный пальцы правой руки прижать к ладони большим пальцем, указательный и мизинец слегка согнуть поднять руку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инезиологические упражнения, развивающие межполушарное взаимодейств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Лягушка»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ложить руки на стол. Одна рука сжата в кулак, ладонь другой лежит на плоскости стола. Одновременно и разнонаправлено менять положение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Замок»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крестить руки ладонями друг к другу, сцепить пальцы в замок, развернуть руки к себе. Двигать пальцем, который укажет взрослый, точно и четко. Нежелательны движения соседних пальцев. Прикасаться к пальцу нельзя. В упражнении должны участвовать все пальцы на обеих ру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инезиологические физминут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Колеч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очередно и как можно быстрее перебирайте пальцы рук, соединяя в кольцо с большим пальцем последовательно указательный, средний и т.д. Проба выполняется в прямом и в обратном (от мизинца к указательному пальцу) порядке. В  начале упражнение выполняется каждой рукой отдельно, затем сразу двум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1873440" cy="1676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500720" y="414972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443640" y="4149720"/>
            <a:ext cx="1800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Кулак-ребо-ладо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положения руки на плоскости стола, последовательно сменяют друг друга. Ладонь на плоскости, сжатая в кулак ладонь, ладонь ребром на плоскости стола, распрямленная ладонь на плоскости стола. Выполняется сначала правой рукой, потом -левой, затем -двумя руками вместе по 8-10 раз. Можно давать себе команды(кулак -ребро-ладон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2089440" cy="1584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3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Лезги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вую руку сложите в кулак, большой палец отставьте в сторону. кулак разверните пальцами к себе. Правой рукой прямой ладонью в горизонтальном положении прикоснитесь к мизинцу левой. После этого одновременно смените положение правой и левой рук. Повторить 6-8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700360" y="3933720"/>
            <a:ext cx="3887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Змей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рестите руки ладонями друг к другу, сцепите пальцы в замок. выверните руки к себе. Двигайте пальцем, который укажет ведущий. Палец должен двигаться точно и четко. Прикасаться к пальцу нельзя . Последовательно в упражнении должны участвовать все пальцы обеих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1872000" cy="1417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851280" y="4221000"/>
            <a:ext cx="1873080" cy="139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18734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Уже доказано, что развитие руки находится в тесной связи с развитием речи и мышления ребенка. Поэтому работа по развитию мелкой моторики должна начинаться задолго до поступления ребенка в школу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392360" cy="3287520"/>
          </a:xfrm>
          <a:prstGeom prst="rect">
            <a:avLst/>
          </a:prstGeom>
          <a:ln w="1908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гры с круп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84360" cy="2521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508720" y="1197000"/>
            <a:ext cx="3504960" cy="24573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чем ру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ыпаем круп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ждь, 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ормим пти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 по тарелоч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 игруш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Золуш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тгадай, какая крупа 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шоч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исуй домик, солнце и т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гры с бусинками,пуговицами, мелкими камешк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3600360" cy="23907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низыв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говицы, бусы, рожки и макароны, сушки, картонные кружочки, листья деревьев, ягоды ряб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ртины из пугов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кладывание букв, силуэ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ртировка по заданному призна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почки из цветных скре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524720" y="551664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гры с пластилином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744720" cy="23767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ртины из пласти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емные изд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щечки покрытые пластилином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я выкладывания на которых используются различные материалы: горох, фасоль, семена тыквы, арбуза, вишневые и сливовые косточки, различной величины пуговиц, палочк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ырезывание ножниц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уэтное вырезы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метричное вырезы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езание различных фигурок из старых открыток, журн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езание снежи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00000" y="5300640"/>
            <a:ext cx="1440000" cy="1273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627280" y="530064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284720" y="530064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940360" y="5300640"/>
            <a:ext cx="1241640" cy="1152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7451640" y="5300640"/>
            <a:ext cx="1168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Рисование, раскрашив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водка плоских фигур. Обводить можно все: дно стакана, перевернутое блюдце, собственную ладонь, плоскую игрушку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ование по опорным точка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рисовывание второй половины рису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унок по образцу, не отрывая руки от бума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451640" y="328464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15130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орисуй вторую половину Рисунок с зайце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195640" y="1600200"/>
            <a:ext cx="404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Раскрашивание картинок в книжках – раскрасках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733920" cy="4896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4010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Работа с бумагой.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ригами. Плете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ю точных движений и памяти помогают плетение ковриков из бумажных полос, складывание корабликов, фигурок зверей из бума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2270160" cy="1684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132000" y="4508640"/>
            <a:ext cx="2737080" cy="16570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7236000" y="404640"/>
            <a:ext cx="1584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иткопи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кладывание нитками контура рисунка на бархатной бумаге контрастного цв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284720" y="3357720"/>
            <a:ext cx="43606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Фигурки из палоче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Час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ы я на руку наде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время изредка смотре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Оч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ки помогают нам книги чит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сать, рисовать, готовить, вязать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Парохо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роход большой плы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н его вед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Телевиз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 телевизора скучно, друз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долго смотреть телевизор нельз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020000" y="2204640"/>
            <a:ext cx="1650960" cy="937080"/>
            <a:chOff x="7020000" y="2204640"/>
            <a:chExt cx="1650960" cy="937080"/>
          </a:xfrm>
        </p:grpSpPr>
        <p:sp>
          <p:nvSpPr>
            <p:cNvPr id="325" name=""/>
            <p:cNvSpPr/>
            <p:nvPr/>
          </p:nvSpPr>
          <p:spPr>
            <a:xfrm>
              <a:off x="7020000" y="268452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05640" y="268128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032600" y="2217240"/>
              <a:ext cx="46332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02400" y="2223720"/>
              <a:ext cx="209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997760" y="2204640"/>
              <a:ext cx="46332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61440" y="2211120"/>
              <a:ext cx="209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732720" y="3715920"/>
            <a:ext cx="1612800" cy="819720"/>
            <a:chOff x="6732720" y="3715920"/>
            <a:chExt cx="1612800" cy="819720"/>
          </a:xfrm>
        </p:grpSpPr>
        <p:sp>
          <p:nvSpPr>
            <p:cNvPr id="332" name=""/>
            <p:cNvSpPr/>
            <p:nvPr/>
          </p:nvSpPr>
          <p:spPr>
            <a:xfrm>
              <a:off x="696132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6128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5512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123400" y="4338360"/>
              <a:ext cx="22212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32720" y="4313160"/>
              <a:ext cx="21600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792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5824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5172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8160" y="431316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38960" y="3921120"/>
              <a:ext cx="409320" cy="38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494480" y="3734640"/>
              <a:ext cx="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3715920"/>
              <a:ext cx="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804000" y="1268280"/>
            <a:ext cx="1409760" cy="679680"/>
            <a:chOff x="6804000" y="1268280"/>
            <a:chExt cx="1409760" cy="679680"/>
          </a:xfrm>
        </p:grpSpPr>
        <p:sp>
          <p:nvSpPr>
            <p:cNvPr id="345" name=""/>
            <p:cNvSpPr/>
            <p:nvPr/>
          </p:nvSpPr>
          <p:spPr>
            <a:xfrm>
              <a:off x="7165800" y="1268280"/>
              <a:ext cx="679320" cy="679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64560" y="148428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58080" y="171936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10120" y="147780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04000" y="171288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470720" y="1363320"/>
              <a:ext cx="20952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70720" y="1573200"/>
              <a:ext cx="20304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596360" y="5084280"/>
            <a:ext cx="501480" cy="1048320"/>
            <a:chOff x="7596360" y="5084280"/>
            <a:chExt cx="501480" cy="1048320"/>
          </a:xfrm>
        </p:grpSpPr>
        <p:sp>
          <p:nvSpPr>
            <p:cNvPr id="353" name=""/>
            <p:cNvSpPr/>
            <p:nvPr/>
          </p:nvSpPr>
          <p:spPr>
            <a:xfrm>
              <a:off x="7612200" y="537048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856640" y="5084280"/>
              <a:ext cx="17784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684920" y="5128560"/>
              <a:ext cx="17748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596360" y="5815080"/>
              <a:ext cx="108000" cy="2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64640" y="5821560"/>
              <a:ext cx="101520" cy="31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одготовка руки к письму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чётные палочк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ира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рафы в Африке живу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рафы в Африке жу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у меня жираф из палочек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палочек, из выручал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м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м я строю во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в нем крыша и антен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в нем дверь и есть окошко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сть живет в нем наша ко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1976400" cy="1942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372360" y="4076640"/>
            <a:ext cx="1993680" cy="2160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фические упражнения. Штрихов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триховка - одно из важнейших упражнений. Овладевая механизмом письма, дети вырабатывают такую уверенность штриха, что когда они приступят к письму в тетрадях, у них это будет получаться как у человека, много писавш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а штрихов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триховать только в заданном направл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выходить за контуры фигу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блюдать параллельность ли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сближать штрихи, расстояние между ними должно быть 0,5 с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яются на нелинованной бумаг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сслабляющие (самомассаж кистей и пальцев рук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авливание сильно сжатыми четырьмя пальцами одной руки на основание большого пальца, середину ладони, основание пальцев другой руки. Затем положение рук меня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ладоней шестигранным карандашом с постепенным увеличением усил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ладоней движениями вверх-вни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боковых поверхностей сцепленных пальц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, затем растирание каждого пальца вдоль, затем попер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ецкий орех положить между ладонями, делать круговые движения, постепенно увеличивая нажим и темп. Можно выполнять упражнение с двумя грецкими орехами, перекатывая один через другой, одной рукой, затем друг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авливание незаточенным карандашом на болевые точки ладони, затем вращение карандаша вправо, вле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 кисти правой руки пальцами левой и наоборот, затем поочередное растир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лезные книги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1657080" cy="22323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655640" cy="216072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050920" y="1341360"/>
            <a:ext cx="1656000" cy="2303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3851280" y="1341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940360" y="3860640"/>
            <a:ext cx="1513080" cy="223380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3924360" y="3860640"/>
            <a:ext cx="1727280" cy="22323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7596360" y="1341360"/>
            <a:ext cx="1322280" cy="21589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9"/>
          <a:stretch/>
        </p:blipFill>
        <p:spPr>
          <a:xfrm>
            <a:off x="2268360" y="3860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0"/>
          <a:stretch/>
        </p:blipFill>
        <p:spPr>
          <a:xfrm>
            <a:off x="7596360" y="3789360"/>
            <a:ext cx="1296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57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e1ff"/>
                </a:solidFill>
                <a:latin typeface="Arial"/>
              </a:rPr>
              <a:t>Средства развития мелкой мотор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3716280"/>
            <a:ext cx="2521080" cy="1379520"/>
          </a:xfrm>
          <a:prstGeom prst="cloudCallout">
            <a:avLst>
              <a:gd name="adj1" fmla="val -6865"/>
              <a:gd name="adj2" fmla="val 1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56000" y="115920"/>
            <a:ext cx="2376720" cy="2374920"/>
          </a:xfrm>
          <a:prstGeom prst="cloudCallout">
            <a:avLst>
              <a:gd name="adj1" fmla="val -29157"/>
              <a:gd name="adj2" fmla="val 2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 с крупой, бусинками, пуговицами, каме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5013360"/>
            <a:ext cx="2447640" cy="1595520"/>
          </a:xfrm>
          <a:prstGeom prst="cloudCallout">
            <a:avLst>
              <a:gd name="adj1" fmla="val 36185"/>
              <a:gd name="adj2" fmla="val -24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 с пластили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5084640"/>
            <a:ext cx="2808360" cy="1584360"/>
          </a:xfrm>
          <a:prstGeom prst="cloudCallout">
            <a:avLst>
              <a:gd name="adj1" fmla="val 41351"/>
              <a:gd name="adj2" fmla="val -285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 с конструкторами и моза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3645000"/>
            <a:ext cx="2087640" cy="1224000"/>
          </a:xfrm>
          <a:prstGeom prst="cloudCallout">
            <a:avLst>
              <a:gd name="adj1" fmla="val -21560"/>
              <a:gd name="adj2" fmla="val 28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ние ножни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4076640"/>
            <a:ext cx="2879640" cy="936720"/>
          </a:xfrm>
          <a:prstGeom prst="cloudCallout">
            <a:avLst>
              <a:gd name="adj1" fmla="val 34620"/>
              <a:gd name="adj2" fmla="val 54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ование и раскраши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260280"/>
            <a:ext cx="2519280" cy="2087640"/>
          </a:xfrm>
          <a:prstGeom prst="cloudCallout">
            <a:avLst>
              <a:gd name="adj1" fmla="val 43949"/>
              <a:gd name="adj2" fmla="val -4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с бумагой. Складывание (оригами). Плетение. Аппликаци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5157720"/>
            <a:ext cx="2376360" cy="1440000"/>
          </a:xfrm>
          <a:prstGeom prst="cloudCallout">
            <a:avLst>
              <a:gd name="adj1" fmla="val 30893"/>
              <a:gd name="adj2" fmla="val -470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 с веревочкой, шнур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1484280"/>
            <a:ext cx="2376360" cy="1473120"/>
          </a:xfrm>
          <a:prstGeom prst="cloudCallout">
            <a:avLst>
              <a:gd name="adj1" fmla="val -37976"/>
              <a:gd name="adj2" fmla="val -161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ические упражнения. Штрихов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8360" y="1484280"/>
            <a:ext cx="1944720" cy="1440000"/>
          </a:xfrm>
          <a:prstGeom prst="cloudCallout">
            <a:avLst>
              <a:gd name="adj1" fmla="val -13430"/>
              <a:gd name="adj2" fmla="val 357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аж кистей рук и паль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158920" cy="12952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льч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ковая гимнаст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Пальчиковые игры" - это инсценировка каких-либо рифмованных историй, сказок при помощи пальц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исти рук приобретают хорошую подвижность, гибкость, исчезает скованность движений, что в дальнейшем облегчит приобретение навыков пись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Пальчиковые игры" очень эмоциональны и увлекательны. В ходе "пальчиковых игр" дети, повторяя движения взрослых, активизируют моторику рук. Тем самым вырабатываются ловкость, умение управлять своими движениями, концентрировать внимание на одном виде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инамические упражнения для пальцев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(потешки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"Апельсин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Мы делили апельсин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пельсин всего один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долька для кот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долька для еж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долька для улитки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долька для чиж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у, а волку кожура!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Начинать с мизинца, загибать попеременно все пальцы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Russian funny pictures and verses for children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«В гости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гости к пальчику большому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выставляются вверх большие пальцы обеих рук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риходили прямо к дому: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Ладони вместе, одноименные пальцы соприкасаются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казательный и средний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поочередно называемые пальцы соединяются с больши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 обеих руках одновременно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Безымянный и последний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ам мизинчик-малышок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пальцы сжаты в кулак, вверх выставляются только мизинцы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стучался на порог.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кулаки стучат друг о друга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месте пальчики - друзья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ритмичное сжимание пальцев в кулаки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руг без друга им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093080" y="4365720"/>
            <a:ext cx="1942920" cy="23763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"Засолка капусты"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ы капусту рубим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резкие движения прямыми кистями рук вниз и вверх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ы морковку трем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пальцы рук сжаты в кулаки, движение кулаков к себе и от себя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ы капусту солим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движение пальцев, имитирующее посыпание солью из щепотки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ы капусту жмем.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интенсивное сжимание пальцев рук в кулак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«Моя семь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папо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мамо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я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моя семь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гнуть пальцы в кулачок, затем по очереди разгибать их, начиная с большого пальца, а при словах «вот и вся моя семья» второй рукой охватить все пальцы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06:48:59Z</dcterms:created>
  <dc:creator>Сухорученкова Н.Н.</dc:creator>
  <dc:description/>
  <dc:language>en-US</dc:language>
  <cp:lastModifiedBy>МАМА</cp:lastModifiedBy>
  <dcterms:modified xsi:type="dcterms:W3CDTF">2010-01-23T17:05:01Z</dcterms:modified>
  <cp:revision>231</cp:revision>
  <dc:subject/>
  <dc:title>Слайд 1</dc:title>
</cp:coreProperties>
</file>