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1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6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005-85DB-4859-AF1D-D756214E7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– это обобщение материалов интернет ресурсов по да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авка книг для родительского собр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992-7F67-4EFE-B5E8-D1C4A843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B74-B0BB-4B0A-9958-F6B83BB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980-ACDB-4308-97E7-1D1B1469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6CD-A7BD-4F7B-A116-CFAC882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554-393A-4CF9-9D3A-C7E31BE0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067-A591-4C40-A27E-094E5714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396-4EE9-49E5-95B7-05D07D4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469B-27CD-492A-934F-B9113183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1C58-CD11-49A6-AD18-039F57F9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B3D-497E-4863-8021-881C8D9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DA4-3BEE-4382-8990-6EB33222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783-0259-4E9D-87D6-81E3FFE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350E-66F9-490C-9293-0F92777A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632-6757-4EF8-84E4-07F7B07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3B17-595C-43FE-9F39-8A3BC94C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0D4-DD53-4A9A-9750-0DEF8FF8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1AC3-B527-4F7C-A658-4D7EC8B2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E11-4281-45C6-BEE6-B0BBC6DA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817-E303-43B7-8B06-19127490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0EA-2BDB-48AD-A3C1-502D7BD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FB5-F86D-466A-B739-D213481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857-08CF-4AC5-9A7C-55FD404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22A-DF1C-46C6-9452-B99D4C3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F92-FF9E-44D0-BE3F-BA2A888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6AD9-C66E-452C-9F81-A0727C176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26B6-E9CC-4AE4-9115-886C65748E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26920" y="549000"/>
            <a:ext cx="676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Подготовка</a:t>
            </a:r>
            <a:br>
              <a:rPr sz="6000"/>
            </a:b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руки к</a:t>
            </a:r>
            <a:br>
              <a:rPr sz="6000"/>
            </a:br>
            <a:r>
              <a:rPr b="1" i="1" lang="en-US" sz="6000" spc="-1" strike="noStrike">
                <a:solidFill>
                  <a:srgbClr val="afe1ff"/>
                </a:solidFill>
                <a:latin typeface="Arial"/>
              </a:rPr>
              <a:t>письму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740720" y="4292640"/>
            <a:ext cx="12380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Сл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 зоопарке стоит слон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ши, хобот, серый он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ловой своей кивает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удто в гости приглашает»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донь на себя. Средний палец впущен. С одной стороны он зажат мизинцем и безымянным, а с другой — указательным и большим. Шевелить средним пальцем. Качаем всей кистью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Ко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А у кошки ушки на макушке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бы лучше слышать мышь в ее норушке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130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Мы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Серенький комок сиди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бумажкой все шуршит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едний и безымянный пальцы упираются в большой. Указательный и мизинец согнуты в дуги и прижаты к среднему и безымянному пальца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214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Петуш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Петушок стоит весь яркий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ебешок он чистит лапкой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донь вверх указательный палец опирается на большой. Остальные пальцы растопырены в стороны и подняты ввер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16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татические зад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рокодил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 и оттянуть назад (глаза). Средний и безымянный пальцы вытянуть вперед. Прямой большой палец прижать к ним снизу, образуя пасть крокоди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уроч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Соединить концы большого и указательного пальцев (клюв). На клюв веерообразно накладываются друг на дружку остальные пальцы - это гребешо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ов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Большой палец и мизинец отведены в сторону (крылья совы), они могут двигаться при полете. Оставшиеся три пальца согнуты так, что подушечки прижаты к основанию пальцев (голов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ы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, подушечки прижать к основанию пальцев (уши). Большой палец прижать к ладони, на него наложить средний и безымянный. Концы пальцев держать на весу, не прижимая к большому пальцу, - это мордочка мышки, которая при диалогах шевели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Указательный палец и мизинец согнуть, оттянуть назад (глаза). Безымянный и средний согнуть, прижать к середине ладони. Большой палец горизонтально приложить к ногтям среднего и безымянного пальца (ро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Лошадк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Повернуть руку ладонью к себе, большой палец поднять вверх. На ребро этой ладони сверху положить согнутые четыре пальца другой руки (грива). Два больших пальца подняты вверх (уши). Лошадь может потряхивать гривой, шевелить ушами, открывать и закрывать ро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литка с усикам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Положить правую руку на стол, поднять указательный палец и средний, и расставить их, левую руку положить сверх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Ежик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Ладони соединить, прямые пальцы выставить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о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Средний и безымянный пальцы правой руки прижать к ладони большим пальцем, указательный и мизинец слегка согнуть поднять руку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инезиологические упражнения, развивающие межполушарное взаимодейств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Лягушка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ложить руки на стол. Одна рука сжата в кулак, ладонь другой лежит на плоскости стола. Одновременно и разнонаправлено менять положение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Замок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крестить руки ладонями друг к другу, сцепить пальцы в замок, развернуть руки к себе. Двигать пальцем, который укажет взрослый, точно и четко. Нежелательны движения соседних пальцев. Прикасаться к пальцу нельзя. В упражнении должны участвовать все пальцы на обеих ру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инезиологические физминутк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Колеч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очередно и как можно быстрее перебирайте пальцы рук, соединяя в кольцо с большим пальцем последовательно указательный, средний и т.д. Проба выполняется в прямом и в обратном (от мизинца к указательному пальцу) порядке. В  начале упражнение выполняется каждой рукой отдельно, затем сразу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1676520" cy="1611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1873440" cy="1676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500720" y="414972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443640" y="414972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Кулак-ребо-ладо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ложения руки на плоскости стола, последовательно сменяют друг друга. Ладонь на плоскости, сжатая в кулак ладонь, ладонь ребром на плоскости стола, распрямленная ладонь на плоскости стола. Выполняется сначала правой рукой, потом -левой, затем -двумя руками вместе по 8-10 раз. Можно давать себе команды(кулак -ребро-ладон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208944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Лезги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вую руку сложите в кулак, большой палец отставьте в сторону. кулак разверните пальцами к себе. Правой рукой прямой ладонью в горизонтальном положении прикоснитесь к мизинцу левой. После этого одновременно смените положение правой и левой рук. Повторить 6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700360" y="3933720"/>
            <a:ext cx="3887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Змей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рестите руки ладонями друг к другу, сцепите пальцы в замок. выверните руки к себе. Двигайте пальцем, который укажет ведущий. Палец должен двигаться точно и четко. Прикасаться к пальцу нельзя . Последовательно в упражнении должны участвовать все пальцы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872000" cy="1417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851280" y="4221000"/>
            <a:ext cx="1873080" cy="139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873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392360" cy="328752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гры с круп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84360" cy="2521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508720" y="1197000"/>
            <a:ext cx="3504960" cy="24573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чем ру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ыпаем круп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ждь, 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ормим пти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 по тарелоч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 игруш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Золуш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тгадай, какая крупа 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шоч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исуй домик, солнце и т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гры с бусинками,пуговицами, мелкими камешк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3600360" cy="23907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низыв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говицы, бусы, рожки и макароны, сушки, картонные кружочки, листья деревьев, ягоды ряб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ртины из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кладывание букв, силуэ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ртировка по заданному призна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почки из цветных скреп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524720" y="551664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гры с пластилином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744720" cy="237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ртины из пластил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емные изд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щечки покрытые пластилино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выкладывания на которых используются различные материалы: горох, фасоль, семена тыквы, арбуза, вишневые и сливовые косточки, различной величины пуговиц, палоч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816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ырезывание ножниц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уэт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метричное вырезы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езание различных фигурок из старых открыток, журна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езание снежи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00000" y="5300640"/>
            <a:ext cx="1440000" cy="12733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627280" y="530064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284720" y="530064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940360" y="5300640"/>
            <a:ext cx="1241640" cy="1152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7451640" y="5300640"/>
            <a:ext cx="1168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исование, раскраши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одка плоских фигур. Обводить можно все: дно стакана, перевернутое блюдце, собственную ладонь, плоскую игрушку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ование по опорным точка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рисовывание второй половины рису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исунок по образцу, не отрывая руки от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451640" y="328464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15130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орисуй вторую половину Рисунок с зайц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404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аскрашивание картинок в книжках – раскрасках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733920" cy="4896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010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абота с бумагой.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ригами. Плете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ю точных движений и памяти помогают плетение ковриков из бумажных полос, складывание корабликов, фигурок зверей из бума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270160" cy="1684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132000" y="4508640"/>
            <a:ext cx="2737080" cy="1657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7236000" y="404640"/>
            <a:ext cx="158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иткопи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кладывание нитками контура рисунка на бархатной бумаге контрастного цв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284720" y="3357720"/>
            <a:ext cx="43606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Фигурки из палоче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Час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ы я на руку наде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время изредка смотре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Оч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ки помогают нам книги чи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ать, рисовать, готовить, вязать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Парох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ароход большой плы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н его вед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«Тел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 телевизора скучно, друз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долго смотреть телевизор нельз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020000" y="2204640"/>
            <a:ext cx="1650960" cy="937080"/>
            <a:chOff x="7020000" y="2204640"/>
            <a:chExt cx="1650960" cy="937080"/>
          </a:xfrm>
        </p:grpSpPr>
        <p:sp>
          <p:nvSpPr>
            <p:cNvPr id="325" name=""/>
            <p:cNvSpPr/>
            <p:nvPr/>
          </p:nvSpPr>
          <p:spPr>
            <a:xfrm>
              <a:off x="7020000" y="268452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05640" y="26812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032600" y="22172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02400" y="22237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997760" y="2204640"/>
              <a:ext cx="46332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61440" y="2211120"/>
              <a:ext cx="209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732720" y="3715920"/>
            <a:ext cx="1612800" cy="819720"/>
            <a:chOff x="6732720" y="3715920"/>
            <a:chExt cx="1612800" cy="819720"/>
          </a:xfrm>
        </p:grpSpPr>
        <p:sp>
          <p:nvSpPr>
            <p:cNvPr id="332" name=""/>
            <p:cNvSpPr/>
            <p:nvPr/>
          </p:nvSpPr>
          <p:spPr>
            <a:xfrm>
              <a:off x="69613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6128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55120" y="45356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123400" y="4338360"/>
              <a:ext cx="22212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32720" y="4313160"/>
              <a:ext cx="21600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79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5824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51720" y="430704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8160" y="4313160"/>
              <a:ext cx="35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8960" y="3921120"/>
              <a:ext cx="409320" cy="38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494480" y="373464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3715920"/>
              <a:ext cx="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804000" y="1268280"/>
            <a:ext cx="1409760" cy="679680"/>
            <a:chOff x="6804000" y="1268280"/>
            <a:chExt cx="1409760" cy="679680"/>
          </a:xfrm>
        </p:grpSpPr>
        <p:sp>
          <p:nvSpPr>
            <p:cNvPr id="345" name=""/>
            <p:cNvSpPr/>
            <p:nvPr/>
          </p:nvSpPr>
          <p:spPr>
            <a:xfrm>
              <a:off x="7165800" y="1268280"/>
              <a:ext cx="679320" cy="679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64560" y="14842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58080" y="171936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10120" y="147780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04000" y="1712880"/>
              <a:ext cx="3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470720" y="1363320"/>
              <a:ext cx="209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70720" y="1573200"/>
              <a:ext cx="203040" cy="20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596360" y="5084280"/>
            <a:ext cx="501480" cy="1048320"/>
            <a:chOff x="7596360" y="5084280"/>
            <a:chExt cx="501480" cy="1048320"/>
          </a:xfrm>
        </p:grpSpPr>
        <p:sp>
          <p:nvSpPr>
            <p:cNvPr id="353" name=""/>
            <p:cNvSpPr/>
            <p:nvPr/>
          </p:nvSpPr>
          <p:spPr>
            <a:xfrm>
              <a:off x="7612200" y="5370480"/>
              <a:ext cx="48564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856640" y="5084280"/>
              <a:ext cx="17784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684920" y="5128560"/>
              <a:ext cx="177480" cy="23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596360" y="5815080"/>
              <a:ext cx="10800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4640" y="5821560"/>
              <a:ext cx="101520" cy="31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чётные палочк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рафы в Африке живу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рафы в Африке жу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у меня жираф из палочек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палочек, из выручал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м     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м я строю во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нем крыша и антен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ь в нем дверь и есть окошк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сть живет в нем наша кош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1976400" cy="1942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1993680" cy="2160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фические упражнения. Штрихов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триховка - одно из важнейших упражнений. Овладевая механизмом письма, дети вырабатывают такую уверенность штриха, что когда они приступят к письму в тетрадях, у них это будет получаться как у человека, много писавш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а штрихов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триховать только в заданном на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выходить за контуры фигу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людать параллельность ли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сближать штрихи, расстояние между ними должно быть 0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яются на нелинованной бума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сслабляющие (самомассаж кистей и пальцев рук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сильно сжатыми четырьмя пальцами одной руки на основание большого пальца, середину ладони, основание пальцев другой руки. Затем положение рук меня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шестигранным карандашом с постепенным увеличением усил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ладоней движениями вверх-вни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рание боковых поверхностей сцепленных паль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, затем растирание каждого пальца вдоль, затем попер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ецкий орех положить между ладонями, делать круговые движения, постепенно увеличивая нажим и темп. Можно выполнять упражнение с двумя грецкими орехами, перекатывая один через другой, одной рукой, затем друг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авливание незаточенным карандашом на болевые точки ладони, затем вращение карандаша вправо, вле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кисти правой руки пальцами левой и наоборот, затем поочередное расти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пластили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41351"/>
              <a:gd name="adj2" fmla="val -2855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ние ножни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260280"/>
            <a:ext cx="2519280" cy="2087640"/>
          </a:xfrm>
          <a:prstGeom prst="cloudCallout">
            <a:avLst>
              <a:gd name="adj1" fmla="val 43949"/>
              <a:gd name="adj2" fmla="val -4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 бумагой. Складывание (оригами). Плетение. Аппликаци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льч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ковая гимнаст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Пальчиковые игры" - это инсценировка каких-либо рифмованных историй, сказок при помощи пальц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исти рук приобретают хорошую подвижность, гибкость, исчезает скованность движений, что в дальнейшем облегчит приобретение навыков пись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Пальчиковые игры" очень эмоциональны и увлекательны. В ходе "пальчиковых игр" дети, повторяя движения взрослых, активизируют моторику рук. Тем самым вырабатываются ловкость, умение управлять своими движениями, концентрировать внимание на одном виде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инамические упражнения для пальцев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(потешк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"Апельсин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Мы делили апельсин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пельсин всего один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ко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еж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улитки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долька для чиж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у, а волку кожура!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Начинать с мизинца, загибать попеременно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«В гости»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гости к пальчику большому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выставляются вверх большие пальцы обеих рук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риходили прямо к дому: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Ладони вместе, одноименные пальцы соприкасаются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казательный и средний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поочередно называемые пальцы соединяются с больш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обеих руках одновременно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езымянный и последний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ам мизинчик-малышок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пальцы сжаты в кулак, вверх выставляются только мизинцы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стучался на порог.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кулаки стучат друг о друга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месте пальчики - друзья,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ритмичное сжимание пальцев в кулаки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руг без друга им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093080" y="4365720"/>
            <a:ext cx="1942920" cy="237636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"Засолка капусты"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руби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резкие движения прямыми кистями рук вниз и вверх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морковку тре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пальцы рук сжаты в кулаки, движение кулаков к себе и от себя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солим,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движение пальцев, имитирующее посыпание солью из щепотки)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ы капусту жмем.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интенсивное сжимание пальцев рук в кулак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«Моя семь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пап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мамоч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пальчик – 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моя семь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гнуть пальцы в кулачок, затем по очереди разгибать их, начиная с большого пальца, а при словах «вот и вся моя семья» второй рукой охватить все пальцы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6:48:59Z</dcterms:created>
  <dc:creator>Сухорученкова Н.Н.</dc:creator>
  <dc:description/>
  <dc:language>en-US</dc:language>
  <cp:lastModifiedBy>МАМА</cp:lastModifiedBy>
  <dcterms:modified xsi:type="dcterms:W3CDTF">2010-01-23T17:05:01Z</dcterms:modified>
  <cp:revision>231</cp:revision>
  <dc:subject/>
  <dc:title>Слайд 1</dc:title>
</cp:coreProperties>
</file>