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wmf" ContentType="image/x-wmf"/>
  <Override PartName="/ppt/media/image7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6.wmf" ContentType="image/x-wmf"/>
  <Override PartName="/ppt/media/image19.jpeg" ContentType="image/jpeg"/>
  <Override PartName="/ppt/media/image4.gif" ContentType="image/gi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EC01-0A84-4AF0-B96A-D2216B9DA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задаются учителям и идет обсуждение. После обсуждения открываются следующие слай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этого слайда идут общие результаты диагностик по каждому классу в виде диа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64D-5E8C-4135-AC00-4A9C61BF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D05-93F4-4107-9C4F-B2CB64F0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DFB-299D-4BCB-A242-5D0A5C7D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DD3-ED67-4412-897E-0F27C69D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F33-C9B9-41EB-9761-BF80D4A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6BC-4A19-4A45-A077-1906A9AE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35F-1369-4B7B-9055-F1DB098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4ED-DA8F-4419-B55A-5C0C353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DD7-C05C-4FB1-A742-0815B8B6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649-2B50-4C51-A64A-FB6847F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C35-873E-4BF2-887B-E4616C3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4A5-721C-4B81-A43F-7FA5BEB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D7F-0605-4BEF-BA66-C57BADECA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1120" y="838080"/>
            <a:ext cx="4495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МО по тем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38480" y="22093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Д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дарен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58672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ю подготовила 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E2B-CF55-4154-A049-870D35EDF336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Плата за тала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828800"/>
            <a:ext cx="6840360" cy="82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речь и богатый словарный зап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о могут проявляться тольк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048120"/>
            <a:ext cx="7689960" cy="82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знате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ако часто не могут заучить легкий, но неинтерес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267080"/>
            <a:ext cx="776448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 к длительной интенсив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не способны к выполнению заданий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раниченных по времени, иногда безнадежно неорганизова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0972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DA0-7E46-4951-BD05-887202D03A39}" type="slidenum">
              <a:t>10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4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8040" y="3398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Плата за тала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447920"/>
            <a:ext cx="632448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фекцион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тремление к совершенству и жуткие переживания в случае неу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048120"/>
            <a:ext cx="648036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особенно важно совпадение стиля обучения и их познавательных особенносте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7543800" cy="1557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а и чувств у одаренных идет неравномерно, поэтому они стремятся использовать свои преимущества в интеллектуальной сфере для того, чтобы замаскирова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ую незрел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82880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430-AE2F-4BCC-A587-E2A3567E24A3}" type="slidenum">
              <a:t>11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Как Вы думаете, какого возраста   должны быть родители, чтобы у них родился одарённый ребёно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В каком возрасте может проявиться одаренность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2F8-4DA4-4708-9275-F0818702B2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339840"/>
            <a:ext cx="7120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ведения о родителях выдающихся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7922880" cy="4665600"/>
        </p:xfrm>
        <a:graphic>
          <a:graphicData uri="http://schemas.openxmlformats.org/drawingml/2006/table">
            <a:tbl>
              <a:tblPr/>
              <a:tblGrid>
                <a:gridCol w="2004480"/>
                <a:gridCol w="821160"/>
                <a:gridCol w="1183320"/>
                <a:gridCol w="2002680"/>
                <a:gridCol w="819720"/>
                <a:gridCol w="10915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76212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E99-083F-4734-8506-3C8A531252E3}" type="slidenum">
              <a:t>13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4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ннее прояв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летний Моцарт, четырехлетний Ф.Й.Гайд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летний Я.Л.Ф.Мендельсо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С.Прокофьев, выступивший композитором в 8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27A-1B0F-4744-A66E-182D9DA63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период отрочеств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. И. Тютчев поступил в университет в 15 лет. Будущий поэт освоил курс всего за два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. Д. Ландау, поступивший в университет в 13 лет, стал выдающимся физ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пломат, писатель и полиглот А. С. Грибоедов поступил в Московский университет в 11 ле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47242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2880" y="47242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Тютчев"/>
          <p:cNvPicPr/>
          <p:nvPr/>
        </p:nvPicPr>
        <p:blipFill>
          <a:blip r:embed="rId4"/>
          <a:stretch/>
        </p:blipFill>
        <p:spPr>
          <a:xfrm>
            <a:off x="7010280" y="47242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E2A-9E52-43E6-800C-A67EB856F8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релом возрас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 начал писать в 40 л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саков – в 5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Э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581280" y="396252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3962520"/>
            <a:ext cx="1981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9E1-B17E-4184-AC87-FA7A8D2E0C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6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46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96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6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езультаты диагностики интеллектуального уровня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ч-ся 1- 4 классов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мназии №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2007-2008 уч.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20040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00C-015F-4BAE-A644-E09CEB641477}" type="slidenum">
              <a:t>17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комендации уч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ся учи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25C-659D-42F9-8785-C3BD7EB20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8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88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88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8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88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88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88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комендации уч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йте детям научиться управлять процессом усвоения знан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935-08CD-4EDD-A5B6-7E559ED1F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31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иже перечислены личностные черты и деловые качест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оторые учитель встречает 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воих уче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ьте знаком «+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 свойства, которые 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ятся в учени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знаком «-» 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нра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62200" cy="60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D79-7A67-4880-AB3D-51493A4E4D8E}" type="slidenum">
              <a:t>2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сегда желающий подчиняться большинств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 официальному руководи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13372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65A-6640-4640-A521-7CAE95C47E64}" type="slidenum">
              <a:t>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VivaldiD CL"/>
              </a:rPr>
              <a:t>Каких «+» у Вас больш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74674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чётных «+» больше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рактике такие учителя встречаются ред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4419720"/>
            <a:ext cx="223344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EA9-9C1C-4F72-BA42-3BA768B2468B}" type="slidenum">
              <a:t>4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Сегодня одаренными детьми назыв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интеллектом выше сред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высоким уровнем творческих способ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, достигших успехов в опреде-ленных областях деятельности (юные музыканты, художники, математики, шахматис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, хорошо обучающихся в школе (академическая одарен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5F0-0363-4D41-9478-58B69B51B772}" type="slidenum">
              <a:t>5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развития одар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маленькие дети наделены с рождения определенными задатками и способ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не все они разви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скрытые возможности постепенно угасают вследствие невостребов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одаренных с годами резко снижается: если 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тнем возрасте их примерн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60‑70 %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 к четырнадцати годам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0‑40 %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 к семнадцати — тольк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5‑20 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2FC-8E2A-4E25-9EEA-710BA9F732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развития одар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ллектуальное развитие 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годам имеет положительное ускорение, которое сменяется отрицательным, а 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ам в основном завер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годам достигается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звития интелл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результатам диагностики интеллект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летних подростков и уч-ся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х классов существенно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ич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29400" y="5410080"/>
            <a:ext cx="2206800" cy="12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8DB-18EE-4106-A0A9-B5A0F207816D}" type="slidenum">
              <a:t>7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епень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верходаренные дети, таких называют гениями. Это самая малочисленная группа, к которой относят не более одного человека на десять тыся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тор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ысокоодаренные, или талантливые, примерно 2‑3 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рет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обственно одаренные (15‑25 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ьные дети входят в пределы нормы (70 %) и 2-5% относят к умственно отстал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F59-EBC3-4F5F-ACC3-D813180A2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Типы характеров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одаренных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й тип – подвижный, веселый, коммуникабельный, открытый, с хорошим речевым развитием, лидер, фант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й тип – замкнутый, тихий, размышляю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енчивый пугли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BF8-DCDA-4B11-8F32-22ABDFE0E5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8:23:34Z</dcterms:created>
  <dc:creator>Наташа</dc:creator>
  <dc:description/>
  <dc:language>en-US</dc:language>
  <cp:lastModifiedBy>МАМА</cp:lastModifiedBy>
  <dcterms:modified xsi:type="dcterms:W3CDTF">2009-10-12T13:08:54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