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wmf" ContentType="image/x-wmf"/>
  <Override PartName="/ppt/media/image7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6.wmf" ContentType="image/x-wmf"/>
  <Override PartName="/ppt/media/image19.jpeg" ContentType="image/jpeg"/>
  <Override PartName="/ppt/media/image4.gif" ContentType="image/gi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FBE-8C58-422F-84C0-60B9FC63B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задаются учителям и идет обсуждение. После обсуждения открываются следующие слай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этого слайда идут общие результаты диагностик по каждому классу в виде диагра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2EC-B560-40D7-B0D9-089B0ACF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41C-F122-406D-BF10-23C06F4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938-5C74-4243-ADAA-C3DF1AD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299-AA9F-4FD4-921F-788C3959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252-EFE7-47EB-A4DC-F529669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032-6FD1-4B8F-9926-80AF00CE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28D-BE34-4A46-85C9-DC561E49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AD0-E9FA-46FF-9177-13F76ED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7C4-B079-4524-9DA6-A131575C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E02-EF4A-4E2F-A0E4-F7216DE0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DA2-1736-4ED2-9DA4-12111F0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7F2-F24F-4D7C-AD4A-3B26AB9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43B7-5411-4F25-94F9-920C1E6C5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1120" y="838080"/>
            <a:ext cx="4495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ШМО по тем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38480" y="2209320"/>
            <a:ext cx="457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Д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дарен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58672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ю подготовила 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8C0-8680-4BEE-A7F1-184B4F5DDC9F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Плата за тала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828800"/>
            <a:ext cx="6840360" cy="82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речь и богатый словарный зап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о могут проявляться тольк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ной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048120"/>
            <a:ext cx="7689960" cy="82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бознате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ако часто не могут заучить легкий, но неинтерес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267080"/>
            <a:ext cx="776448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 к длительной интенсив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 не способны к выполнению заданий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граниченных по времени, иногда безнадежно неорганизова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0972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500-CA7F-41A1-AF88-68B01A964AA8}" type="slidenum">
              <a:t>10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4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8040" y="3398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Плата за тала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447920"/>
            <a:ext cx="632448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фекцион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тремление к совершенству и жуткие переживания в случае неу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048120"/>
            <a:ext cx="6480360" cy="1191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даренных особенно важно совпадение стиля обучения и их познавательных особенносте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7543800" cy="1557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ллекта и чувств у одаренных идет неравномерно, поэтому они стремятся использовать свои преимущества в интеллектуальной сфере для того, чтобы замаскирова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ую незрел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82880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DD5-E700-4673-BFE7-6C88E64ECA9D}" type="slidenum">
              <a:t>11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Как Вы думаете, какого возраста   должны быть родители, чтобы у них родился одарённый ребёнок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В каком возрасте может проявиться одаренность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CF7-A61B-4071-A77E-7765520FA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339840"/>
            <a:ext cx="7120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ведения о родителях выдающихся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844640"/>
          <a:ext cx="7922880" cy="4665600"/>
        </p:xfrm>
        <a:graphic>
          <a:graphicData uri="http://schemas.openxmlformats.org/drawingml/2006/table">
            <a:tbl>
              <a:tblPr/>
              <a:tblGrid>
                <a:gridCol w="2004480"/>
                <a:gridCol w="821160"/>
                <a:gridCol w="1183320"/>
                <a:gridCol w="2002680"/>
                <a:gridCol w="819720"/>
                <a:gridCol w="10915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е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рмо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к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ген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о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ко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   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 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       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  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   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      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   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      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хо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юль Ве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Винчи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ьз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ле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р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й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у 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опенгауэ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85960" cy="1057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24680" y="380880"/>
            <a:ext cx="76212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A5C-D250-4755-B5C5-13D018080A44}" type="slidenum">
              <a:t>13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4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400"/>
                            </p:stCondLst>
                            <p:childTnLst>
                              <p:par>
                                <p:cTn id="2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ннее прояв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летний Моцарт, четырехлетний Ф.Й.Гайд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илетний Я.Л.Ф.Мендельсо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С.Прокофьев, выступивший композитором в 8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826-9779-47E8-AB16-6B509A0E26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период отрочеств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. И. Тютчев поступил в университет в 15 лет. Будущий поэт освоил курс всего за два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. Д. Ландау, поступивший в университет в 13 лет, стал выдающимся физ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пломат, писатель и полиглот А. С. Грибоедов поступил в Московский университет в 11 ле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47242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52880" y="47242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Тютчев"/>
          <p:cNvPicPr/>
          <p:nvPr/>
        </p:nvPicPr>
        <p:blipFill>
          <a:blip r:embed="rId4"/>
          <a:stretch/>
        </p:blipFill>
        <p:spPr>
          <a:xfrm>
            <a:off x="7010280" y="47242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91E-3C9B-48E0-A841-F54A67080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ути развития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релом возрас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 начал писать в 40 л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саков – в 5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Э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581280" y="396252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72200" y="3962520"/>
            <a:ext cx="1981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846-BF70-4AD1-98FA-2823DF48B6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6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46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96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6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езультаты диагностики интеллектуального уровня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ч-ся 1- 4 классов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мназии №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2007-2008 уч.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20040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633-B0DC-4F23-848E-258EA3F35BE7}" type="slidenum">
              <a:t>17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комендации уч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ю не следует уделять слишком много вним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му обучению с ярко выраженным элементом соревновательности. Одаренный ребенок будет чащ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азываться победителем, что может выз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знь соучеников и не благоприятствует созданию атмосферы всеобщей заинтересованности, к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ся учи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е должен возводить одаренного ребенк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ьедестал или делать из него вундеркинда в глазах других учеников. Успехи его будут должным образом оценены, а неуместное выпячивание его исключительности достижений рождает чаще всего раздражение, ревность и отторжение вместо ожидаемой похвалы. Другая крайность — преднамеренное публичное принижение уникальных способностей и даже сарказм со стороны учителя,— конечно, недопусти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567-BC4E-41E6-8851-769234EBFE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8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88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88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8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88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88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88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екомендации уч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нимайтесь наставлениями, помогайте детям действовать независимо, не давайте прямых инструкций относительно того, чем они должны заниматься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держивайте инициативы и не делайте за них то, что они могут сделать самостоятельно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ите школьников прослеживать межпредметные связи и использовать знания, полученные при изучении других предме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учайте детей к навыкам самостоятельного решения проблем, исследования и анализа ситуаци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йте трудные ситуации, возникшие в школе или дома, как область приложения полученных навыков при решении задач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йте детям научиться управлять процессом усвоения знани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4C4-7210-48FE-BB58-E9972164FD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31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иже перечислены личностные черты и деловые качест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оторые учитель встречает 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воих уче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ьте знаком «+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 свойства, которые 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ятся в учени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знаком «-» 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нравя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62200" cy="603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9A9-C7CB-4C5C-8B5D-92CA2C1C5A40}" type="slidenum">
              <a:t>2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всегда желающий подчиняться большинств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 официальному руководи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133720" cy="22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108-928A-490D-B426-0757E1FA4C57}" type="slidenum">
              <a:t>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VivaldiD CL"/>
              </a:rPr>
              <a:t>Каких «+» у Вас больш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74674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чётных «+» больше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рактике такие учителя встречаются ред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4419720"/>
            <a:ext cx="2233440" cy="21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941-B46E-48A9-A807-13F8C29FCBE5}" type="slidenum">
              <a:t>4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Сегодня одаренными детьми назыв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интеллектом выше сред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высоким уровнем творческих способн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, достигших успехов в опреде-ленных областях деятельности (юные музыканты, художники, математики, шахматист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, хорошо обучающихся в школе (академическая одарен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953-D500-4322-A072-863C2F3ED713}" type="slidenum">
              <a:t>5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развития одар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маленькие дети наделены с рождения определенными задатками и способ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не все они разви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скрытые возможности постепенно угасают вследствие невостребов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 одаренных с годами резко снижается: если в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тнем возрасте их примерн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60‑70 %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 к четырнадцати годам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0‑40 %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 к семнадцати — тольк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5‑20 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99F-2CAD-4722-A886-E6D006F60B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развития одар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ллектуальное развитие 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годам имеет положительное ускорение, которое сменяется отрицательным, а 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ам в основном завер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годам достигается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азвития интелл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результатам диагностики интеллект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летних подростков и уч-ся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х классов существенно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ич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29400" y="5410080"/>
            <a:ext cx="2206800" cy="12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531-6218-4F5D-843C-6AA98559213A}" type="slidenum">
              <a:t>7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епень одар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верходаренные дети, таких называют гениями. Это самая малочисленная группа, к которой относят не более одного человека на десять тыся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тор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ысокоодаренные, или талантливые, примерно 2‑3 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рет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обственно одаренные (15‑25 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ьные дети входят в пределы нормы (70 %) и 2-5% относят к умственно отстал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AAE-016C-48EB-86F9-A07FACFBE6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Типы характеров</a:t>
            </a: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одаренных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й тип – подвижный, веселый, коммуникабельный, открытый, с хорошим речевым развитием, лидер, фанта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й тип – замкнутый, тихий, размышляю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тенчивый пугли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026-06EB-4923-9204-99DAC5170D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08:23:34Z</dcterms:created>
  <dc:creator>Наташа</dc:creator>
  <dc:description/>
  <dc:language>en-US</dc:language>
  <cp:lastModifiedBy>МАМА</cp:lastModifiedBy>
  <dcterms:modified xsi:type="dcterms:W3CDTF">2009-10-12T13:08:54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