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3510-8B25-4EDA-88C2-9022880E0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родительским собранием детям предлагается опросник «Чувства в школе», а на собрании родителям предлагается «рейтинг» чувств, которые дети преимущественно испытывают в школе.  Преобладающие чувства (отмечающиеся более чем у  45-50% детей класса) выделяются в списке другим цветом, например, красным. Осуществляется краткий 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Каждый родитель получает «открытое письмо» своего ребёнк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фотографий «Первые дни в 5 клас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Лашина О. Ваш ребенок – пятиклассник. Занятия родительского клуба  // Школьный психолог. Прил.к газ. Первое сентября. – 2006. - № 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166-ECE5-4819-A057-7A57E148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63B-2906-4AE1-9A4A-7A5208B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F47-7BB3-4975-9816-3539AC45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6AE-36DA-4BDE-BFC7-8E3CCCAA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AF1-E5D2-4AD1-B260-246C1808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4949-331D-4699-9AC3-4E7D5FA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A1F2-304D-4D6B-9C2A-4CD77BA9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E598-9759-4634-AB45-C3E0FBEE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BA85-2E95-4689-ADD9-54D343A3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B41D-AC05-4EBA-B4E3-F460AF9A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5969-641F-4327-8727-58BA791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7C6-639E-47B6-BFA0-E41C57B8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56E-1165-4143-A475-D76737E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8AB-82DA-4C2A-8E7F-8B267E1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1432-7826-4CE2-AB48-731DA664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814E-64FB-4D33-83DD-D2BB5121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00B-80F2-4189-97EA-16AD8389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31CA-CFEF-4098-8A3D-5C48CE16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B8DE-63D1-4711-B4BF-D2932F92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16F6-8544-4D0C-8BE2-9CDC48B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D1DE-2C35-4631-B93C-3AAFFAD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2194-C8F0-427F-AD06-65F46DA7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2F2-98F2-4ED0-9825-3C4746F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BB97-8C92-4D11-BA58-0A28851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A209-0FFF-4E89-A5AB-74401CE3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8702-5673-41E0-AD31-57FE4877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8F79-958D-46F5-99CB-646FF240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F3E7-557C-403A-AEF0-02E1A7F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E71E-F00F-4568-BE4C-724ABAC6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BE2E-9BDA-481C-BB1A-DAFEE6F7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6EE-051D-48F3-A1DD-EC2FC9F6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58D-331B-462A-9FD2-51FADC0A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E69-B239-4201-A8C8-84FFC10B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788-C05A-40F2-AF8D-D584A87D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C18-D988-4018-BB44-FA872BF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B30-83A9-40A2-ABE9-FDD78C3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CA5-D482-4C3A-827C-EDD06C81A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5321-41FB-48BA-BF52-62471E77684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66D-7649-4371-8DC0-C1E0792028F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"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 но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чёб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осник «Чувства в школ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251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числ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 выб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торые 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ее ча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пытываеш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кол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24360" y="1600200"/>
          <a:ext cx="4968720" cy="4276800"/>
        </p:xfrm>
        <a:graphic>
          <a:graphicData uri="http://schemas.openxmlformats.org/drawingml/2006/table">
            <a:tbl>
              <a:tblPr/>
              <a:tblGrid>
                <a:gridCol w="1652400"/>
                <a:gridCol w="700200"/>
                <a:gridCol w="2016000"/>
                <a:gridCol w="60012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л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ун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 в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вогу за будущ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ко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дар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-воренность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атию к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ра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приходить сю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03280" y="5372280"/>
            <a:ext cx="2514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Методика изучения удовлетворенностью учащихся школьной жизнь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чащимся предлагалось оценить степень их согласия с предложенными утвержден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следующей ш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– нет; 1 – не всегда; 2 – 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Я иду в школу с радостью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 школе у меня обычно хорошее настроен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У нас хороший классный руководител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У меня есть любимые школьные предме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Я привык к новым учителя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В начальной школе было лучш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летних каникулах я скучал по школ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Продолжи предложение: мне не нрав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или нравится) в школе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5289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73040" y="285840"/>
            <a:ext cx="82137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ы 5 «б» 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981000"/>
          <a:ext cx="8229600" cy="5440320"/>
        </p:xfrm>
        <a:graphic>
          <a:graphicData uri="http://schemas.openxmlformats.org/drawingml/2006/table">
            <a:tbl>
              <a:tblPr/>
              <a:tblGrid>
                <a:gridCol w="658800"/>
                <a:gridCol w="2633760"/>
                <a:gridCol w="1644480"/>
                <a:gridCol w="1646280"/>
                <a:gridCol w="16462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се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ду в школу с рад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у меня обычно хорошее на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ас хороший класс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меня есть любимые школьные предм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ивык к новым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чальной школе было луч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летних каникулах я скучал по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3040" y="285840"/>
            <a:ext cx="82137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ы 5 «в» 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981000"/>
          <a:ext cx="8229600" cy="5440320"/>
        </p:xfrm>
        <a:graphic>
          <a:graphicData uri="http://schemas.openxmlformats.org/drawingml/2006/table">
            <a:tbl>
              <a:tblPr/>
              <a:tblGrid>
                <a:gridCol w="658800"/>
                <a:gridCol w="2633760"/>
                <a:gridCol w="1644480"/>
                <a:gridCol w="1646280"/>
                <a:gridCol w="16462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се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ду в школу с рад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у меня обычно хорошее на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ас хороший класс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меня есть любимые школьные предм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ивык к новым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чальной школе было луч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летних каникулах я скучал по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пятиклассника уч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00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9000"/>
                            </p:stCondLst>
                            <p:childTnLst>
                              <p:par>
                                <p:cTn id="6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ная утомляем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риимчивость к промахам учите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адаптации к положению “худшего”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бовательность к соответствию слова де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ный интерес к спорт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лечение коллекционированием, увлечение музыкой и киноискус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Открытое письмо родителя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рогие 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я и учусь в 5 клас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жде всего, хочу сообщить, что я 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сравнивать с учёбой в 4 классе, то сейчас 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огда я 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ый интересный для меня предме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ещё я 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кроме этого я хочу рассказать  о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ым трудным для меня в 5 классе 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льше всего я хочу 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в большинстве случаев настроение у меня 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хочу сказать, что учителя, которые ведут уроки в 5 классе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наш классный руководитель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чу признаться, что у меня совсем нет времени на 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вот то, что заинтересовало меня, так это 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5 классе меня удивило 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я с гордостью могу сказать, что теперь умею 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аль, но меня торопя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епко 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та 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я 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308720" y="4581360"/>
            <a:ext cx="17272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6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6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ши де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887560" cy="2736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808360" cy="2665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435640" y="3933720"/>
            <a:ext cx="3168720" cy="2664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059280" y="3933720"/>
            <a:ext cx="2414520" cy="266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2590920" cy="2664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3132000" y="119700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056120" cy="3657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692360" y="18900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ими должны быть пятикласс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иклассник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е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общаться с продавцом, врачом и т. 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итерии готовности к обучению в средней шко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блемы со старше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огласованность, даже противоречивость требований отдельных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лабление или отсутствие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еобразие подросткового возраста.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Сухорученкова Н.Н.</dc:creator>
  <dc:description/>
  <dc:language>en-US</dc:language>
  <cp:lastModifiedBy>МАМА</cp:lastModifiedBy>
  <dcterms:modified xsi:type="dcterms:W3CDTF">2009-10-12T13:05:53Z</dcterms:modified>
  <cp:revision>142</cp:revision>
  <dc:subject/>
  <dc:title>Родительское собрание в 5 классе</dc:title>
</cp:coreProperties>
</file>