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wmf" ContentType="image/x-wmf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2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1199-74B2-48A9-AEC9-1D17C04475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родительским собранием детям предлагается опросник «Чувства в школе», а на собрании родителям предлагается «рейтинг» чувств, которые дети преимущественно испытывают в школе.  Преобладающие чувства (отмечающиеся более чем у  45-50% детей класса) выделяются в списке другим цветом, например, красным. Осуществляется краткий 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собранием проводится анкетиров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мся предлагается оценить степень их согласия с предложенными утверждениями. Родителям представляются результаты по всему классу в виде таблицы с процентными показ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Каждый родитель получает «открытое письмо» своего ребёнк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фотографий «Первые дни в 5 клас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Лашина О. Ваш ребенок – пятиклассник. Занятия родительского клуба  // Школьный психолог. Прил.к газ. Первое сентября. – 2006. - № 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одители отвечают на вопросы предыдущего слайда и заполняется сравнительная таб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3DB-122B-4B52-A606-AD703E0E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DB9-CE07-422F-9879-35F9E224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0D0-EAC1-42E2-8026-82E1776B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4E1-AD9A-43C5-91A6-D919DDC5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D8FC-AF14-4AE6-9D61-9E6EB73B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3BDB-F097-4E99-B2C9-5CF37ECE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89A5-6918-4995-879E-8E02BB11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EA91-A7E6-4800-9ADF-AED9B7A4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D611-4700-440C-9A30-1AF551BB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6EE4-AAAE-40F1-A4CE-8E8D48C0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4303-A64E-4BC9-8753-B5BC70D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6B8-A92A-4FAB-90D3-9AF43340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FE71-E70B-42DC-B2CD-FBEA6C4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02C6-A16C-4831-89F6-368B4531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72C6-C3E6-4E59-B7D4-DEBFB981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8953-9F0A-4A3F-B5F0-0FE05C06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BCCA-9998-425C-BC00-037501EA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BE92A-CF05-42CD-BA51-D3F451D6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B96DA-ED15-4FCB-9D61-2B6E27B0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FF298-815E-43BB-8E3C-90529170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0C4D-E286-41E5-A19F-7425212E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FCFC-7631-44C7-8EF6-37D9E1F7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2B9-23DD-4E17-9A51-4B930B20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4C191-FBD0-4C47-890A-6BFD2012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6EDD-EF76-4315-A293-C43BE8A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6481-477D-42DB-BF53-6FB92EA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2CCA-EEEC-4CA2-A635-3D005F25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8391-9BB5-4790-9EA7-0B47BCC4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379A8-39DD-40FD-B0C5-20641A87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BC3B-7316-428C-8A02-997F7313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DDE-CFAB-4F65-955E-21FE883A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C21-40B9-47E4-8913-E2A93FDD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D42-6004-4576-B576-A02FE438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020-7404-4B7D-B7E5-CB122BD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41D-6E40-4EAE-80BB-E79E95BC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167-4EF5-45A0-A975-9028231E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EE92-7DD4-49E3-A083-7F2B0690A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ad2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8394-DAB0-434C-B727-0B5B7A8436F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ad2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35C4-A6C4-4A2A-B1FC-7D718B54B19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Родительское собрание в 5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7416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"Адап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ятикласс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 нов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слов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чёбы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4056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зможные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теллектуальн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нарушение интеллектуальной деятельности. Отставание в развитии от свер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еден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муникативн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затруднения в общении со сверстниками и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мат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отклонения в здоровь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моциональн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моциональные трудности, тревоги по поводу переживания проблем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осник «Чувства в школ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3251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числ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увств выбе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торые 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ее ча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пытываеш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школ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924360" y="1600200"/>
          <a:ext cx="4968720" cy="4276800"/>
        </p:xfrm>
        <a:graphic>
          <a:graphicData uri="http://schemas.openxmlformats.org/drawingml/2006/table">
            <a:tbl>
              <a:tblPr/>
              <a:tblGrid>
                <a:gridCol w="1652400"/>
                <a:gridCol w="700200"/>
                <a:gridCol w="2016000"/>
                <a:gridCol w="60012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м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л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у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 уни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 в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вогу за будущ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око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дар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-воренность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патию к учит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ра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ние приходить сю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403280" y="5372280"/>
            <a:ext cx="25146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Методика изучения удовлетворенностью учащихся школьной жизнь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Учащимся предлагалось оценить степень их согласия с предложенными утверждени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следующей шка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– нет; 1 – не всегда; 2 – 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Я иду в школу с радостью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В школе у меня обычно хорошее настроени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У нас хороший классный руководител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У меня есть любимые школьные предме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Я привык к новым учителя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В начальной школе было лучш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летних каникулах я скучал по школ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Продолжи предложение: мне не нрав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или нравится) в школе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52892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73040" y="285840"/>
            <a:ext cx="82137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зультаты 5 «б» кла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" y="981000"/>
          <a:ext cx="8229600" cy="5440320"/>
        </p:xfrm>
        <a:graphic>
          <a:graphicData uri="http://schemas.openxmlformats.org/drawingml/2006/table">
            <a:tbl>
              <a:tblPr/>
              <a:tblGrid>
                <a:gridCol w="658800"/>
                <a:gridCol w="2633760"/>
                <a:gridCol w="1644480"/>
                <a:gridCol w="1646280"/>
                <a:gridCol w="16462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сег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ду в школу с рад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коле у меня обычно хорошее настро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ас хороший классный 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меня есть любимые школьные предм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ривык к новым учит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чальной школе было луч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летних каникулах я скучал по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3040" y="285840"/>
            <a:ext cx="82137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зультаты 5 «в» кла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981000"/>
          <a:ext cx="8229600" cy="5440320"/>
        </p:xfrm>
        <a:graphic>
          <a:graphicData uri="http://schemas.openxmlformats.org/drawingml/2006/table">
            <a:tbl>
              <a:tblPr/>
              <a:tblGrid>
                <a:gridCol w="658800"/>
                <a:gridCol w="2633760"/>
                <a:gridCol w="1644480"/>
                <a:gridCol w="1646280"/>
                <a:gridCol w="16462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сег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ду в школу с рад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коле у меня обычно хорошее настро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ас хороший классный 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меня есть любимые школьные предм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привык к новым учит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чальной школе было луч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летних каникулах я скучал по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условие школьного успеха пятиклассника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условное принятие ребенка, несмотря на те неудачи, с которыми он уже столкнулся или может столкнуть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ите ребенку выучить имена новых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учайте его к самостоятельности постеп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язательное знакомство с его одноклассниками и возможность общения ребят после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классу, быстро теряют к нему интерес, если чувствуют со стороны взрослых и сверстников насилие, сарказм и жесток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обоснованного контроля за его учебной деятель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м можно помо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здавайте условия для развит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смотря на кажущуюся взрослость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пятиклассника учит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ятикласснику уже не так интересна уч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лова поддерж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ы делаешь это очень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000" y="1600200"/>
            <a:ext cx="424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лова разоча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я тебя и твои способности. Я думаю. Ты смог бы сделать это гораздо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идея никогда не сможет быть ре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для тебя слишком трудно, поэтому я сам это сдел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5289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00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9000"/>
                            </p:stCondLst>
                            <p:childTnLst>
                              <p:par>
                                <p:cTn id="6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9500"/>
                            </p:stCondLst>
                            <p:childTnLst>
                              <p:par>
                                <p:cTn id="6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особы преодоления тревож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сравнивайте ребенка с окружающ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веряйте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ще хвалите его, но так, чтобы он знал, за 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монстрируйте образцы уверенного поведения, будьте во всем примером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предъявляйте к ребенку завышенных треб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райтесь делать ребенку меньше замеч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йте наказание лишь в крайних случа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унижайте ребенка, наказывая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аясь с ребенком, не подрывайте авторитет других значимых взрослых людей. Например, нельзя говорить ребенку: «Много ваша учительница понимает, лучше меня слушай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гите ему найти дело по д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44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ная утомляем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емление отмежеваться от всего подчеркнуто детског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риимчивость к промахам учител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оценка своих возможностей, реализация которых предполагается в отдаленном будуще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утствие адаптации к положению “худшего”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ебовательность к соответствию слова дел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ный интерес к спорту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лечение коллекционированием, увлечение музыкой и киноискусст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Открытое письмо родителя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рогие 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т я и учусь в 5 клас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жде всего, хочу сообщить, что я 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сравнивать с учёбой в 4 классе, то сейчас 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огда я 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ый интересный для меня предмет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ещё я 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кроме этого я хочу рассказать  о 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ым трудным для меня в 5 классе 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ольше всего я хочу 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в большинстве случаев настроение у меня 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щё хочу сказать, что учителя, которые ведут уроки в 5 классе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наш классный руководитель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чу признаться, что у меня совсем нет времени на 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вот то, что заинтересовало меня, так это 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5 классе меня удивило 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я с гордостью могу сказать, что теперь умею 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Жаль, но меня торопят 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епко 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та 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я 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308720" y="4581360"/>
            <a:ext cx="17272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6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2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68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ши де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887560" cy="2736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2808360" cy="2665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435640" y="3933720"/>
            <a:ext cx="3168720" cy="2664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3059280" y="3933720"/>
            <a:ext cx="2414520" cy="2664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468360" y="3933720"/>
            <a:ext cx="2590920" cy="2664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tretch/>
        </p:blipFill>
        <p:spPr>
          <a:xfrm>
            <a:off x="3132000" y="119700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ad2"/>
            </a:gs>
            <a:gs pos="100000">
              <a:srgbClr val="ebf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4056120" cy="3657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692360" y="189000"/>
            <a:ext cx="532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спе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ими должны быть пятиклассн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ятиклассники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ть общаться с одноклассниками, иметь свое мнение и формировать его с учетом мнения других, уметь поддерживать отно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ть правильно распределять и планировать свое время, проявлять самостоятельность в своих делах и в случае необходимости обещаться за помощью взросл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раться учиться, стремиться овладевать знаниями, уметь заниматься самостояте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ть дружить, иметь постоянного друга, общаться с мальчиками и девочками, самостоятельно разрешать возникающие конфлик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ть постоянные обязанности дома, выполнять их без напоминания, помогать родител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ть общаться с продавцом, врачом и т. д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ть предвидеть последствия своих действий, делать безопасный, правильный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3558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итерии готовности к обучению в средней школ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нность основных компонентов учебной деятельности, успешное усвоение программн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образования младшего школьного возраста – произвольность, рефлексия, мышление в понятиях (в соответствующих возрасту форма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о иной, более «взрослый» тип взаимоотношений с учителями и однокласс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род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учебных предметов изучалось Вашим ребёнком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ва недельная учебная нагрузка была у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учителей обучало Вашего ребёнка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времени в среднем тратил Ваш ребёнок на подготовку домашних заданий в 4 классе? В 5 клас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9447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557360"/>
          <a:ext cx="6337080" cy="5025960"/>
        </p:xfrm>
        <a:graphic>
          <a:graphicData uri="http://schemas.openxmlformats.org/drawingml/2006/table">
            <a:tbl>
              <a:tblPr/>
              <a:tblGrid>
                <a:gridCol w="619200"/>
                <a:gridCol w="2622240"/>
                <a:gridCol w="3095640"/>
              </a:tblGrid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9 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2,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23148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зникающие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чень много разных уч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привычное распис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о новых кабин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вые дети в класс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вый классный руководит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блемы со старшекласс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росший темп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росший объем работ в классе и д/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огласованность, даже противоречивость требований отдельных педаго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лабление или отсутствие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обходимость на каждом уроке приспосабливаться к своеобраз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мпу, особенностям речи учителей;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самостоятельность в работе с текс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изкий уровень развития реч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абое развитие навыков самостоятель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оеобразие подросткового возраста.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516720" y="4249800"/>
            <a:ext cx="22176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1150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Сухорученкова Н.Н.</dc:creator>
  <dc:description/>
  <dc:language>en-US</dc:language>
  <cp:lastModifiedBy>МАМА</cp:lastModifiedBy>
  <dcterms:modified xsi:type="dcterms:W3CDTF">2009-10-12T13:05:53Z</dcterms:modified>
  <cp:revision>142</cp:revision>
  <dc:subject/>
  <dc:title>Родительское собрание в 5 классе</dc:title>
</cp:coreProperties>
</file>