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7252-681A-4EB2-8AB4-519B02AB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D0AD-E0D1-48C1-BFDD-BE87A216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01F8-DD87-412D-BB4D-D304CECC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B664-52DD-43C0-8E21-C5C31326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B6ED-9912-4A4C-9E65-6D66533D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3B44-D157-4323-9219-3BF2562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463A-69BD-4419-9BBC-011E95CC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040F-6B18-4D45-A4CE-636070AE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BB04-AC42-4123-9282-694F240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4086-DF58-4AFA-8F6D-86589385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9106-9A0E-40CA-AE93-47913CC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84C1-4159-41CE-AF57-788D9B27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2CB5-0606-4C0D-ADF7-910A646F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B024-72AF-4E23-B7EC-DC39998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9BB6-B5E7-428E-9F2B-0AA0F345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08BE-8A07-4BB7-B146-98BC6081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8875-6D31-4D7E-9B6F-084A49F0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E0ABF-6EB8-48D4-9795-A6FAEC6F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AA66-3FAC-414A-98A6-0AC84FBF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6CB7-13BF-49DA-AB0C-D7C4B3F5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D51B-B608-4E08-839C-DA5F5345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A64F-98F9-4070-81A6-B522D048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1D63-25FE-4E08-9824-AE7940B7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B5B1-ADE0-4E20-9D3E-F439366F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B633-DFC3-4E93-9DBF-8D9AE24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FC68-967D-4320-82C0-30934F5D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69B5-167D-4C37-98FD-B731EC7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372B-36CF-4AE6-AF1C-964507A3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1669-2B81-4444-9275-9347D050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722E-E4B2-4CD4-BEAA-DBC4C498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93CE-5056-453C-9ECF-65992FD6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8860-2885-43CF-BD81-3E391ABA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6F313-D70B-4C07-BB70-3BFD42C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CFBE-6E0D-4492-8669-D7C3AB83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26A32-2C48-4A75-A1E8-EC245ADB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763E-2B59-479C-9A76-4B5D6293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3730-F9E8-4207-9E60-6B0EC82B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BE6F-967C-47DF-A7DB-1A3E794D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E8181-832A-44C5-BED4-94CDD53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1633-06F6-4116-9596-5B5FADE0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96F52-A6A3-481F-8261-A3A971F5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B27F5-D9F0-4130-B580-A2399B70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72E9-83E0-4E43-8EF8-CBFB9D30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788A-80DE-4C81-9704-90888CA7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B06B-E79C-45A9-9892-A0E21DD8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9049-19FD-4EE9-937D-D8428F7E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A2A9-7B1B-4EB5-B5DE-F63F2C8F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A978-ED12-4896-A153-3F985BE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FB3D-116B-4011-99E7-53FA65423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1092-812E-493F-BB58-822CA49CC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3180-C3F5-4B90-A10C-89E7D2D79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D1C3-63BC-461D-A81F-F6038DE4E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Афоризмы в пьесе М.Горького «На дне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полнила ученица 11 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левина Кс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ь: Шулепова Н.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атар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280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Не обижай человека – вот за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сякое время даёт свой за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асили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9640" y="4292640"/>
            <a:ext cx="8064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Насильно мил не буде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62800" cy="56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Ф.И.Шаляпин в интервью сотруднику «Санкт-Петербургских ведомостей» заявил: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«Я нахожу, что по красоте языка и по глубине содержания «На дне» напоминает «Снегурочку» Островского…» </a:t>
            </a: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Действительно, речь персонажей пьесы яркая, сочная, афористична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«На дне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2010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72010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у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8435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одна блоха – не плох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арику – где тепло, там и род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се мы на земле странник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арство-то, как оспа… и выздоровеет человек, а знаки-то остаю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з причины и прыщ не вскоч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 всё может… лишь бы захотел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мрёшь - отдохнё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 что веришь, то и е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юбить живых над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а приласкать – никогда не вред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 всегда правдой душу вылечи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д лежач камень вода не течё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сть – люди, а есть - челове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юрьма -  добру не научит, а человек -  научи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54991" t="56997" r="0" b="0"/>
          <a:stretch/>
        </p:blipFill>
        <p:spPr>
          <a:xfrm>
            <a:off x="6372360" y="1484280"/>
            <a:ext cx="23954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ат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2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ногим деньги легко достаются, да немногие с ними легко расстаю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огда труд – удовольствие, жизнь – хороша! Когда труд обязанность, жизнь – рабств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ертвецы – не слышат! Мертвецы не чувствуют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то такое правда? Человек – вот правд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Ложь – религия рабов и хозяев… Правда – бог свободного человек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 карете прошлого далеко не уедеш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еловек выше сыт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Дважды убить нельз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уществует только человек, всё же остальное – дело его рук и его моз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47257" t="0" r="3339" b="48694"/>
          <a:stretch/>
        </p:blipFill>
        <p:spPr>
          <a:xfrm>
            <a:off x="6877080" y="2276640"/>
            <a:ext cx="1924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убн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Шум - смерти не помех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наружи, как себя не раскрашивай, всё сотрё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се хотят порядка, да разума нехват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се люди живут… как щепки по воде плыву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олезнь боится слова, а смерть - н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аскрашивай, ворона, перья…валя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ыл честной, да позапрошлой вес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время уйти всегда лучш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 одна – не бедна, коли ум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остылё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419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ороша парочка, баран да яроч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Доброта – она превыше всех благ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еловек должен определять себя к месту, а не путаться зря на земл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ар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4920" y="4508640"/>
            <a:ext cx="6697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оиграл два двугривенных, а шум делаешь на трёшницу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У всех людей души серенькие…все подрумяниться желаю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56875" r="50589" b="0"/>
          <a:stretch/>
        </p:blipFill>
        <p:spPr>
          <a:xfrm>
            <a:off x="6877080" y="4149720"/>
            <a:ext cx="1738440" cy="2349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877080" y="1484280"/>
            <a:ext cx="1665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еп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ди от волка толк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 женщине – душа должна бы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ы – не гвоздь, я – не клещ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олчья жизнь – мало раду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 куда они – честь, совесть? На ноги, вместо сапогов, не наденешь ни чести, ни совест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жели людей по работе ценить…тогда лошадь лучше всякого человека…возит - мол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ктё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4000" y="5084640"/>
            <a:ext cx="80024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ез имени – нет челов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алант – эта вера в себя, в свою сил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443640" y="4076640"/>
            <a:ext cx="19526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лё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уда глаз глянет, туда меня и тян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ваш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000" y="4076640"/>
            <a:ext cx="554364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амуж бабе выйти – всё равно, что в прорубь зимой прыгнуть: один раз сделала – на всю жизнь памят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372360" y="3860640"/>
            <a:ext cx="22240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7:41:35Z</dcterms:created>
  <dc:creator>Игорь</dc:creator>
  <dc:description/>
  <dc:language>en-US</dc:language>
  <cp:lastModifiedBy>Игорь</cp:lastModifiedBy>
  <dcterms:modified xsi:type="dcterms:W3CDTF">2008-02-02T09:56:26Z</dcterms:modified>
  <cp:revision>4</cp:revision>
  <dc:subject/>
  <dc:title>Афоризмы в пьесе М.Горького «На дне»</dc:title>
</cp:coreProperties>
</file>