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C56D-F796-4C1D-9BA6-814F13D2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54FE-5329-4220-AB7E-310E126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ED82-5C5A-4ECF-9540-18DF04B9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720E-607B-45C6-B308-02DA1CCC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0F5-CC95-412A-B594-F1527B4F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F023-CF4C-496B-82F3-148E274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EE44-2950-42C5-93C6-BF49E62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CD4-797E-485D-8AC2-89D65E2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0582-D0D7-4CC9-8BDC-8906313F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15D-250B-4098-94E2-683A744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A55-A7DE-4DB3-ADBC-CD96475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0099-F125-4022-BB37-3807460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EA26-A4CC-4435-92E5-55DCFAB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9F8F-6E97-4421-AB70-A8218919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06C-11B4-4AFE-9DAF-8746866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2DC-B834-45EE-8CD8-CC68922F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090-BA7F-4A46-B447-7F472775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F253-06E7-4FA8-9CD6-846D39BE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A748-7ADA-4AFF-8707-1D18A47B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4E66-68E2-4270-8005-C659E727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6D41-F0AF-45B0-9123-175AA39A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631B-5EEC-429F-9EDB-E78CA467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927C-9818-4741-8003-17DBBFA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6BDD-FD85-4553-8AEC-0D2EB828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DE5D-B7B1-421C-AC77-1660DA0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A610-CDF0-4AF7-B00D-80F94C90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CB14-64D7-4F29-AAAB-DEB43091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55AF-14A2-4B9C-8774-6317AE1F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3FFB-FB07-461E-9497-A678C110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EE29-D99D-4DD1-A5AD-138F2A60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372B-248A-4793-8A88-CF28F64C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A1DF-28B2-4E3F-9F99-265E3EDA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CC32-200A-4047-B62A-7364401F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42D0-0E4E-4A35-B620-F7E1B61E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3533-24C7-439E-90AB-EB1AF89B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477D-1030-4A6C-8326-932A1637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445D-ADBF-49AF-8FE0-8959E1F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0A84-B14A-41EF-A9DF-78F20C0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69B6-E90C-4319-8848-F839864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7830-D599-4503-8A8F-6CF0C2F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ECCA-6A8A-44DB-A49A-57B6D7EC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64AB-6B3F-4E52-B574-0A5454A5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C0FA-D518-469B-A40A-C0AB5F1F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FB8E-896E-49CF-95A7-FF2B10C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7D03-BF70-4383-BC01-8E8D7AD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8467-8AC2-42DA-B342-DAC6FFB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620B-A79A-4DCD-B6B4-7527D1D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44F8-593E-4ECA-9ABA-FEA66EF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9FA6-E53C-4A3E-A7E0-E043E6744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117-D2F0-4768-95AD-DADD8F13F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3DB-D0B3-4F0E-9568-BFD666384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8ED-602B-441A-A406-487296FF7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Афоризмы в пьесе М.Горького «На дне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ила ученица 11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левина Кс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: Шулепова Н.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ата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е обижай человека – вот за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сякое время даёт свой за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сили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9640" y="4292640"/>
            <a:ext cx="8064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сильно мил не буде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28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Ф.И.Шаляпин в интервью сотруднику «Санкт-Петербургских ведомостей» заявил: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«Я нахожу, что по красоте языка и по глубине содержания «На дне» напоминает «Снегурочку» Островского…» 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Действительно, речь персонажей пьесы яркая, сочная, афористична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«На дне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201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2010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8435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одна блоха – не пло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арику – где тепло, там и род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се мы на земле странник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рство-то, как оспа… и выздоровеет человек, а знаки-то ост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з причины и прыщ не вскоч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 всё может… лишь бы захоте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мрёшь - отдохнё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 что веришь, то и е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бить живых над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а приласкать – никогда не вред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всегда правдой душу вылечи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д лежач камень вода не течё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сть – люди, а есть - челове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юрьма -  добру не научит, а человек -  науч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54991" t="56997" r="0" b="0"/>
          <a:stretch/>
        </p:blipFill>
        <p:spPr>
          <a:xfrm>
            <a:off x="6372360" y="1484280"/>
            <a:ext cx="23954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ат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2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ногим деньги легко достаются, да немногие с ними легко расст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огда труд – удовольствие, жизнь – хороша! Когда труд обязанность, жизнь – рабств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ертвецы – не слышат! Мертвецы не чувствую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то такое правда? Человек – вот прав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ожь – религия рабов и хозяев… Правда – бог свободного человек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 карете прошлого далеко не уеде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еловек выше сыт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важды убить нельз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уществует только человек, всё же остальное – дело его рук и его моз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47257" t="0" r="3339" b="48694"/>
          <a:stretch/>
        </p:blipFill>
        <p:spPr>
          <a:xfrm>
            <a:off x="6877080" y="2276640"/>
            <a:ext cx="192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уб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ум - смерти не поме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наружи, как себя не раскрашивай, всё сотрё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се хотят порядка, да разума нехват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се люди живут… как щепки по воде плыву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олезнь боится слова, а смерть - н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скрашивай, ворона, перья…валя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ыл честной, да позапрошлой вес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время уйти всегда лучш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 одна – не бедна, коли ум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остылё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9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ороша парочка, баран да яр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оброта – она превыше всех благ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еловек должен определять себя к месту, а не путаться зря на земл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ар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4920" y="4508640"/>
            <a:ext cx="6697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оиграл два двугривенных, а шум делаешь на трёшницу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У всех людей души серенькие…все подрумяниться желаю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56875" r="50589" b="0"/>
          <a:stretch/>
        </p:blipFill>
        <p:spPr>
          <a:xfrm>
            <a:off x="6877080" y="4149720"/>
            <a:ext cx="1738440" cy="234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1665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еп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ди от волка толк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женщине – душа должна бы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– не гвоздь, я – не кле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лчья жизнь – мало раду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 куда они – честь, совесть? На ноги, вместо сапогов, не наденешь ни чести, ни совест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жели людей по работе ценить…тогда лошадь лучше всякого человека…возит - мол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ктё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4000" y="5084640"/>
            <a:ext cx="8002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ез имени – нет чело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алант – эта вера в себя, в свою сил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19526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лё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уда глаз глянет, туда меня и тян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ваш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000" y="4076640"/>
            <a:ext cx="554364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муж бабе выйти – всё равно, что в прорубь зимой прыгнуть: один раз сделала – на всю жизнь памят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224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7:41:35Z</dcterms:created>
  <dc:creator>Игорь</dc:creator>
  <dc:description/>
  <dc:language>en-US</dc:language>
  <cp:lastModifiedBy>Игорь</cp:lastModifiedBy>
  <dcterms:modified xsi:type="dcterms:W3CDTF">2008-02-02T09:56:26Z</dcterms:modified>
  <cp:revision>4</cp:revision>
  <dc:subject/>
  <dc:title>Афоризмы в пьесе М.Горького «На дне»</dc:title>
</cp:coreProperties>
</file>