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6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BF0-8596-4202-9013-133850CC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6437-E287-4891-AE8F-4B57ED37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029B-DF2F-4456-8EE6-CFDCAEC2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9D1B-A5C5-4E8F-9DEF-98F6024A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0116-5D13-4650-9677-680FE9DC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ED5-E597-4DC3-BCDF-432DCA49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FC5A-F7D2-4EA6-BCBF-FC0B6810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F12F-D399-428F-B0FB-3BF528EF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4442-9FF8-4031-B0C4-25E89171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CAF1-BB94-4C0B-9E95-0FC77343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4EC9-FCC6-405C-B0BC-F809AE90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6C61-4C8D-42D4-804B-E2C151CF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CDD9-B3B3-47DD-B457-551A00649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У «Тундутовская СОШ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Открытый урок по    литературе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на тем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« Великая сила любв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в сказке Г.Х. Андерсена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«Снежная королева»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-224147" r="0" b="-228829"/>
          <a:stretch/>
        </p:blipFill>
        <p:spPr>
          <a:xfrm>
            <a:off x="4067280" y="2584440"/>
            <a:ext cx="1428480" cy="598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 "/>
          <p:cNvPicPr/>
          <p:nvPr/>
        </p:nvPicPr>
        <p:blipFill>
          <a:blip r:embed="rId3"/>
          <a:stretch/>
        </p:blipFill>
        <p:spPr>
          <a:xfrm>
            <a:off x="5796000" y="51577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908000" y="5229360"/>
            <a:ext cx="1428840" cy="742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с текст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Красота живого сердц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обедила красоту льд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>
            <a:lum contrast="2000"/>
          </a:blip>
          <a:srcRect l="-25170" t="-25170" r="-25170" b="-25170"/>
          <a:stretch/>
        </p:blipFill>
        <p:spPr>
          <a:xfrm>
            <a:off x="3348000" y="3429000"/>
            <a:ext cx="21495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тог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Ребята, учитесь ценить красоту живого человеческого сердца, крепкую дружбу и самоотверженную любовь, ту силу, победить которую не может даже волшебст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Спасибо, за работу на уро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14288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Ганс Христиан Андерсе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528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ыдающийся писате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 века, сумевший отразить своё время, выразить своё отношение к вещам, свои мысли, чувства, своё мировоззрение не в романах, рассказах, драмах, а только в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казка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портрет Андерсена"/>
          <p:cNvPicPr/>
          <p:nvPr/>
        </p:nvPicPr>
        <p:blipFill>
          <a:blip r:embed="rId2"/>
          <a:stretch/>
        </p:blipFill>
        <p:spPr>
          <a:xfrm>
            <a:off x="755640" y="1773360"/>
            <a:ext cx="3170160" cy="396072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6">
            <a:hlinkClick r:id="" action="ppaction://hlinkshowjump?jump=nextslide"/>
          </p:cNvPr>
          <p:cNvSpPr/>
          <p:nvPr/>
        </p:nvSpPr>
        <p:spPr>
          <a:xfrm>
            <a:off x="8028000" y="623736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8" h="21600">
                <a:moveTo>
                  <a:pt x="12803" y="3794"/>
                </a:moveTo>
                <a:lnTo>
                  <a:pt x="26815" y="10800"/>
                </a:lnTo>
                <a:lnTo>
                  <a:pt x="12803" y="17806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>
            <a:hlinkClick r:id="" action="ppaction://hlinkshowjump?jump=previousslide"/>
          </p:cNvPr>
          <p:cNvSpPr/>
          <p:nvPr/>
        </p:nvSpPr>
        <p:spPr>
          <a:xfrm>
            <a:off x="179280" y="6308640"/>
            <a:ext cx="647640" cy="433440"/>
          </a:xfrm>
          <a:custGeom>
            <a:avLst/>
            <a:gdLst>
              <a:gd name="textAreaLeft" fmla="*/ 28080 w 647640"/>
              <a:gd name="textAreaRight" fmla="*/ 619560 w 647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10800"/>
                </a:moveTo>
                <a:lnTo>
                  <a:pt x="23139" y="3794"/>
                </a:lnTo>
                <a:lnTo>
                  <a:pt x="23139" y="1780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Дания"/>
          <p:cNvPicPr/>
          <p:nvPr/>
        </p:nvPicPr>
        <p:blipFill>
          <a:blip r:embed="rId2"/>
          <a:srcRect l="0" t="0" r="90" b="12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4">
            <a:hlinkClick r:id="" action="ppaction://hlinkshowjump?jump=nextslide"/>
          </p:cNvPr>
          <p:cNvSpPr/>
          <p:nvPr/>
        </p:nvSpPr>
        <p:spPr>
          <a:xfrm>
            <a:off x="8172360" y="6308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>
            <a:hlinkClick r:id="" action="ppaction://hlinkshowjump?jump=previousslide"/>
          </p:cNvPr>
          <p:cNvSpPr/>
          <p:nvPr/>
        </p:nvSpPr>
        <p:spPr>
          <a:xfrm>
            <a:off x="179280" y="6308640"/>
            <a:ext cx="827280" cy="360360"/>
          </a:xfrm>
          <a:custGeom>
            <a:avLst/>
            <a:gdLst>
              <a:gd name="textAreaLeft" fmla="*/ 23040 w 827280"/>
              <a:gd name="textAreaRight" fmla="*/ 804240 w 827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9559" h="21600">
                <a:moveTo>
                  <a:pt x="0" y="0"/>
                </a:moveTo>
                <a:lnTo>
                  <a:pt x="49559" y="0"/>
                </a:lnTo>
                <a:lnTo>
                  <a:pt x="49559" y="21600"/>
                </a:lnTo>
                <a:lnTo>
                  <a:pt x="0" y="21600"/>
                </a:lnTo>
                <a:close/>
              </a:path>
              <a:path fill="lightenLess" w="49559" h="21600">
                <a:moveTo>
                  <a:pt x="0" y="0"/>
                </a:moveTo>
                <a:lnTo>
                  <a:pt x="49559" y="0"/>
                </a:lnTo>
                <a:lnTo>
                  <a:pt x="48159" y="1400"/>
                </a:lnTo>
                <a:lnTo>
                  <a:pt x="1400" y="1400"/>
                </a:lnTo>
                <a:close/>
              </a:path>
              <a:path fill="darken" w="49559" h="21600">
                <a:moveTo>
                  <a:pt x="49559" y="0"/>
                </a:moveTo>
                <a:lnTo>
                  <a:pt x="49559" y="21600"/>
                </a:lnTo>
                <a:lnTo>
                  <a:pt x="48159" y="20200"/>
                </a:lnTo>
                <a:lnTo>
                  <a:pt x="48159" y="1400"/>
                </a:lnTo>
                <a:close/>
              </a:path>
              <a:path fill="darkenLess" w="49559" h="21600">
                <a:moveTo>
                  <a:pt x="495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159" y="20200"/>
                </a:lnTo>
                <a:close/>
              </a:path>
              <a:path fill="lighten" w="495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559" h="21600">
                <a:moveTo>
                  <a:pt x="17773" y="10800"/>
                </a:moveTo>
                <a:lnTo>
                  <a:pt x="31786" y="3794"/>
                </a:lnTo>
                <a:lnTo>
                  <a:pt x="31786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Ганс Христиан Андерсен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700280"/>
            <a:ext cx="4038480" cy="45259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1600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апреля 1805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0 ска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5г.-ЮНЕС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5" descr="мой любимый сказочник"/>
          <p:cNvPicPr/>
          <p:nvPr/>
        </p:nvPicPr>
        <p:blipFill>
          <a:blip r:embed="rId2"/>
          <a:stretch/>
        </p:blipFill>
        <p:spPr>
          <a:xfrm>
            <a:off x="1187280" y="2276640"/>
            <a:ext cx="2675160" cy="3384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0" name="AutoShape 16">
            <a:hlinkClick r:id="" action="ppaction://hlinkshowjump?jump=previousslide"/>
          </p:cNvPr>
          <p:cNvSpPr/>
          <p:nvPr/>
        </p:nvSpPr>
        <p:spPr>
          <a:xfrm>
            <a:off x="179280" y="6308640"/>
            <a:ext cx="720720" cy="433440"/>
          </a:xfrm>
          <a:custGeom>
            <a:avLst/>
            <a:gdLst>
              <a:gd name="textAreaLeft" fmla="*/ 28080 w 720720"/>
              <a:gd name="textAreaRight" fmla="*/ 692640 w 720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5904" h="21600">
                <a:moveTo>
                  <a:pt x="0" y="0"/>
                </a:moveTo>
                <a:lnTo>
                  <a:pt x="35904" y="0"/>
                </a:lnTo>
                <a:lnTo>
                  <a:pt x="35904" y="21600"/>
                </a:lnTo>
                <a:lnTo>
                  <a:pt x="0" y="21600"/>
                </a:lnTo>
                <a:close/>
              </a:path>
              <a:path fill="lightenLess" w="35904" h="21600">
                <a:moveTo>
                  <a:pt x="0" y="0"/>
                </a:moveTo>
                <a:lnTo>
                  <a:pt x="35904" y="0"/>
                </a:lnTo>
                <a:lnTo>
                  <a:pt x="34504" y="1400"/>
                </a:lnTo>
                <a:lnTo>
                  <a:pt x="1400" y="1400"/>
                </a:lnTo>
                <a:close/>
              </a:path>
              <a:path fill="darken" w="35904" h="21600">
                <a:moveTo>
                  <a:pt x="35904" y="0"/>
                </a:moveTo>
                <a:lnTo>
                  <a:pt x="35904" y="21600"/>
                </a:lnTo>
                <a:lnTo>
                  <a:pt x="34504" y="20200"/>
                </a:lnTo>
                <a:lnTo>
                  <a:pt x="34504" y="1400"/>
                </a:lnTo>
                <a:close/>
              </a:path>
              <a:path fill="darkenLess" w="35904" h="21600">
                <a:moveTo>
                  <a:pt x="35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4" y="20200"/>
                </a:lnTo>
                <a:close/>
              </a:path>
              <a:path fill="lighten" w="35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4" h="21600">
                <a:moveTo>
                  <a:pt x="10946" y="10800"/>
                </a:moveTo>
                <a:lnTo>
                  <a:pt x="24959" y="3794"/>
                </a:lnTo>
                <a:lnTo>
                  <a:pt x="24959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7">
            <a:hlinkClick r:id="" action="ppaction://hlinkshowjump?jump=nextslide"/>
          </p:cNvPr>
          <p:cNvSpPr/>
          <p:nvPr/>
        </p:nvSpPr>
        <p:spPr>
          <a:xfrm>
            <a:off x="8101080" y="630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cc00"/>
                </a:solidFill>
                <a:uFillTx/>
                <a:latin typeface="Monotype Corsiva"/>
              </a:rPr>
              <a:t>Золотой фонд сказок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4"/>
          <p:cNvSpPr/>
          <p:nvPr/>
        </p:nvSpPr>
        <p:spPr>
          <a:xfrm>
            <a:off x="179280" y="3716280"/>
            <a:ext cx="165744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96360" y="422100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гн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026800" y="5234760"/>
            <a:ext cx="1272240" cy="1069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лов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3780000" y="3933720"/>
            <a:ext cx="1800000" cy="1656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9"/>
          <p:cNvSpPr/>
          <p:nvPr/>
        </p:nvSpPr>
        <p:spPr>
          <a:xfrm>
            <a:off x="5796000" y="5157720"/>
            <a:ext cx="165744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0"/>
          <p:cNvSpPr/>
          <p:nvPr/>
        </p:nvSpPr>
        <p:spPr>
          <a:xfrm>
            <a:off x="7020000" y="3645000"/>
            <a:ext cx="165744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3780000" y="4508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юймов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5867280" y="55897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нцесса на горош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7288200" y="37083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2"/>
          <p:cNvSpPr/>
          <p:nvPr/>
        </p:nvSpPr>
        <p:spPr>
          <a:xfrm>
            <a:off x="7308720" y="3933720"/>
            <a:ext cx="11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вое платье кор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3"/>
          <p:cNvSpPr/>
          <p:nvPr/>
        </p:nvSpPr>
        <p:spPr>
          <a:xfrm>
            <a:off x="2050920" y="2781360"/>
            <a:ext cx="165744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4"/>
          <p:cNvSpPr/>
          <p:nvPr/>
        </p:nvSpPr>
        <p:spPr>
          <a:xfrm>
            <a:off x="3780000" y="1341360"/>
            <a:ext cx="16570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5"/>
          <p:cNvSpPr/>
          <p:nvPr/>
        </p:nvSpPr>
        <p:spPr>
          <a:xfrm>
            <a:off x="5292720" y="2637000"/>
            <a:ext cx="165744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6"/>
          <p:cNvSpPr/>
          <p:nvPr/>
        </p:nvSpPr>
        <p:spPr>
          <a:xfrm>
            <a:off x="7020000" y="1484280"/>
            <a:ext cx="165744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7"/>
          <p:cNvSpPr/>
          <p:nvPr/>
        </p:nvSpPr>
        <p:spPr>
          <a:xfrm>
            <a:off x="395280" y="1341360"/>
            <a:ext cx="165744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8"/>
          <p:cNvSpPr/>
          <p:nvPr/>
        </p:nvSpPr>
        <p:spPr>
          <a:xfrm>
            <a:off x="1023840" y="1474920"/>
            <a:ext cx="1100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9"/>
          <p:cNvSpPr/>
          <p:nvPr/>
        </p:nvSpPr>
        <p:spPr>
          <a:xfrm>
            <a:off x="324000" y="1628640"/>
            <a:ext cx="18000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Стойкий оловянный солдатик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0"/>
          <p:cNvSpPr/>
          <p:nvPr/>
        </p:nvSpPr>
        <p:spPr>
          <a:xfrm>
            <a:off x="3851280" y="177336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икие леб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2"/>
          <p:cNvSpPr/>
          <p:nvPr/>
        </p:nvSpPr>
        <p:spPr>
          <a:xfrm>
            <a:off x="6948360" y="184464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ежная корол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2247840" y="2916360"/>
            <a:ext cx="1244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4"/>
          <p:cNvSpPr/>
          <p:nvPr/>
        </p:nvSpPr>
        <p:spPr>
          <a:xfrm>
            <a:off x="2178000" y="330840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виноп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5"/>
          <p:cNvSpPr/>
          <p:nvPr/>
        </p:nvSpPr>
        <p:spPr>
          <a:xfrm>
            <a:off x="5289840" y="3187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ле-Лукой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6">
            <a:hlinkClick r:id="" action="ppaction://hlinkshowjump?jump=previousslide"/>
          </p:cNvPr>
          <p:cNvSpPr/>
          <p:nvPr/>
        </p:nvSpPr>
        <p:spPr>
          <a:xfrm>
            <a:off x="179280" y="6381720"/>
            <a:ext cx="684360" cy="287280"/>
          </a:xfrm>
          <a:custGeom>
            <a:avLst/>
            <a:gdLst>
              <a:gd name="textAreaLeft" fmla="*/ 18360 w 684360"/>
              <a:gd name="textAreaRight" fmla="*/ 666000 w 684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1418" h="21600">
                <a:moveTo>
                  <a:pt x="0" y="0"/>
                </a:moveTo>
                <a:lnTo>
                  <a:pt x="51418" y="0"/>
                </a:lnTo>
                <a:lnTo>
                  <a:pt x="51418" y="21600"/>
                </a:lnTo>
                <a:lnTo>
                  <a:pt x="0" y="21600"/>
                </a:lnTo>
                <a:close/>
              </a:path>
              <a:path fill="lightenLess" w="51418" h="21600">
                <a:moveTo>
                  <a:pt x="0" y="0"/>
                </a:moveTo>
                <a:lnTo>
                  <a:pt x="51418" y="0"/>
                </a:lnTo>
                <a:lnTo>
                  <a:pt x="50018" y="1400"/>
                </a:lnTo>
                <a:lnTo>
                  <a:pt x="1400" y="1400"/>
                </a:lnTo>
                <a:close/>
              </a:path>
              <a:path fill="darken" w="51418" h="21600">
                <a:moveTo>
                  <a:pt x="51418" y="0"/>
                </a:moveTo>
                <a:lnTo>
                  <a:pt x="51418" y="21600"/>
                </a:lnTo>
                <a:lnTo>
                  <a:pt x="50018" y="20200"/>
                </a:lnTo>
                <a:lnTo>
                  <a:pt x="50018" y="1400"/>
                </a:lnTo>
                <a:close/>
              </a:path>
              <a:path fill="darkenLess" w="51418" h="21600">
                <a:moveTo>
                  <a:pt x="51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018" y="20200"/>
                </a:lnTo>
                <a:close/>
              </a:path>
              <a:path fill="lighten" w="51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418" h="21600">
                <a:moveTo>
                  <a:pt x="18703" y="10800"/>
                </a:moveTo>
                <a:lnTo>
                  <a:pt x="32716" y="3794"/>
                </a:lnTo>
                <a:lnTo>
                  <a:pt x="32716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7">
            <a:hlinkClick r:id="" action="ppaction://hlinkshowjump?jump=nextslide"/>
          </p:cNvPr>
          <p:cNvSpPr/>
          <p:nvPr/>
        </p:nvSpPr>
        <p:spPr>
          <a:xfrm>
            <a:off x="8244000" y="6381720"/>
            <a:ext cx="720720" cy="289080"/>
          </a:xfrm>
          <a:custGeom>
            <a:avLst/>
            <a:gdLst>
              <a:gd name="textAreaLeft" fmla="*/ 18720 w 720720"/>
              <a:gd name="textAreaRight" fmla="*/ 702000 w 720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3812" h="21600">
                <a:moveTo>
                  <a:pt x="0" y="0"/>
                </a:moveTo>
                <a:lnTo>
                  <a:pt x="53812" y="0"/>
                </a:lnTo>
                <a:lnTo>
                  <a:pt x="53812" y="21600"/>
                </a:lnTo>
                <a:lnTo>
                  <a:pt x="0" y="21600"/>
                </a:lnTo>
                <a:close/>
              </a:path>
              <a:path fill="lightenLess" w="53812" h="21600">
                <a:moveTo>
                  <a:pt x="0" y="0"/>
                </a:moveTo>
                <a:lnTo>
                  <a:pt x="53812" y="0"/>
                </a:lnTo>
                <a:lnTo>
                  <a:pt x="52412" y="1400"/>
                </a:lnTo>
                <a:lnTo>
                  <a:pt x="1400" y="1400"/>
                </a:lnTo>
                <a:close/>
              </a:path>
              <a:path fill="darken" w="53812" h="21600">
                <a:moveTo>
                  <a:pt x="53812" y="0"/>
                </a:moveTo>
                <a:lnTo>
                  <a:pt x="53812" y="21600"/>
                </a:lnTo>
                <a:lnTo>
                  <a:pt x="52412" y="20200"/>
                </a:lnTo>
                <a:lnTo>
                  <a:pt x="52412" y="1400"/>
                </a:lnTo>
                <a:close/>
              </a:path>
              <a:path fill="darkenLess" w="53812" h="21600">
                <a:moveTo>
                  <a:pt x="53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12" y="20200"/>
                </a:lnTo>
                <a:close/>
              </a:path>
              <a:path fill="lighten" w="53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812" h="21600">
                <a:moveTo>
                  <a:pt x="19899" y="3794"/>
                </a:moveTo>
                <a:lnTo>
                  <a:pt x="33912" y="10800"/>
                </a:lnTo>
                <a:lnTo>
                  <a:pt x="1989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азка  «Снежная королев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Картинка 5 из 7967"/>
          <p:cNvPicPr/>
          <p:nvPr/>
        </p:nvPicPr>
        <p:blipFill>
          <a:blip r:embed="rId2"/>
          <a:stretch/>
        </p:blipFill>
        <p:spPr>
          <a:xfrm>
            <a:off x="2484360" y="2421000"/>
            <a:ext cx="42861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с текст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бята, опишите  Снежную королев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вайте зачитаем фрагмент, в котором дано описание Снежной короле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чем ассоциируется у вас Снежная короле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с текст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чему маленькая хрупкая девочка победила злую волшебниц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препятствия встречаются на пути у Гер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р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стар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ворон и в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)принц и прин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) маленькая разбой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)лапландка и ф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-50391" t="-51773" r="-50391" b="-51773"/>
          <a:stretch/>
        </p:blipFill>
        <p:spPr>
          <a:xfrm>
            <a:off x="4643280" y="2708280"/>
            <a:ext cx="369576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бота с тексто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очему же Герда победила Снежную королев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7:17:11Z</dcterms:created>
  <dc:creator>NAME</dc:creator>
  <dc:description>viki.rdf.ru</dc:description>
  <dc:language>en-US</dc:language>
  <cp:lastModifiedBy>Admin</cp:lastModifiedBy>
  <dcterms:modified xsi:type="dcterms:W3CDTF">2011-05-10T16:56:10Z</dcterms:modified>
  <cp:revision>38</cp:revision>
  <dc:subject/>
  <dc:title>Ганс Христиан Андерсе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c0c000000000001024140</vt:lpwstr>
  </property>
</Properties>
</file>