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8A5-877B-46FD-998D-41CB537B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282-4089-4403-A015-99DF6856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D9C-76F3-4EDF-8374-B58BC86E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01C-D3F3-4B56-9011-13D629A4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F2E-63C7-4398-B6E8-8C8C5268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788-3EBC-47A7-8C30-09F5723D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185-D76D-44EF-9565-B3831AB3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3D4-DD01-4D5A-9536-E8519B35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A7A-A654-47EA-9CB5-DA29C08D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AEA-6A36-47B1-AC97-3E2AA66B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643-8456-4DF7-83B2-752148FB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D18-592C-48BB-8C5E-36A06115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6571-9364-4E1C-BFB5-D59AA4980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У «Тундутовская СО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ткрытый урок по    литературе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 Великая сила люб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 сказке Г.Х. Андерсена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Снежная королев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-224147" r="0" b="-228829"/>
          <a:stretch/>
        </p:blipFill>
        <p:spPr>
          <a:xfrm>
            <a:off x="4067280" y="2584440"/>
            <a:ext cx="1428480" cy="598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 "/>
          <p:cNvPicPr/>
          <p:nvPr/>
        </p:nvPicPr>
        <p:blipFill>
          <a:blip r:embed="rId3"/>
          <a:stretch/>
        </p:blipFill>
        <p:spPr>
          <a:xfrm>
            <a:off x="5796000" y="51577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5229360"/>
            <a:ext cx="1428840" cy="74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Красота живого серд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бедила красоту ль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lum contrast="2000"/>
          </a:blip>
          <a:srcRect l="-25170" t="-25170" r="-25170" b="-25170"/>
          <a:stretch/>
        </p:blipFill>
        <p:spPr>
          <a:xfrm>
            <a:off x="3348000" y="342900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Ребята, учитесь ценить красоту живого человеческого сердца, крепкую дружбу и самоотверженную любовь, ту силу, победить которую не может даже волшеб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пасибо, за работу на уро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1428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Ганс Христиан Андерс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дающийся писа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 века, сумевший отразить своё время, выразить своё отношение к вещам, свои мысли, чувства, своё мировоззрение не в романах, рассказах, драмах, а только в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казк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портрет Андерсена"/>
          <p:cNvPicPr/>
          <p:nvPr/>
        </p:nvPicPr>
        <p:blipFill>
          <a:blip r:embed="rId2"/>
          <a:stretch/>
        </p:blipFill>
        <p:spPr>
          <a:xfrm>
            <a:off x="755640" y="1773360"/>
            <a:ext cx="3170160" cy="39607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6">
            <a:hlinkClick r:id="" action="ppaction://hlinkshowjump?jump=nextslide"/>
          </p:cNvPr>
          <p:cNvSpPr/>
          <p:nvPr/>
        </p:nvSpPr>
        <p:spPr>
          <a:xfrm>
            <a:off x="8028000" y="6237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" action="ppaction://hlinkshowjump?jump=previousslide"/>
          </p:cNvPr>
          <p:cNvSpPr/>
          <p:nvPr/>
        </p:nvSpPr>
        <p:spPr>
          <a:xfrm>
            <a:off x="179280" y="6308640"/>
            <a:ext cx="647640" cy="43344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Дания"/>
          <p:cNvPicPr/>
          <p:nvPr/>
        </p:nvPicPr>
        <p:blipFill>
          <a:blip r:embed="rId2"/>
          <a:srcRect l="0" t="0" r="90" b="12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>
            <a:hlinkClick r:id="" action="ppaction://hlinkshowjump?jump=nextslide"/>
          </p:cNvPr>
          <p:cNvSpPr/>
          <p:nvPr/>
        </p:nvSpPr>
        <p:spPr>
          <a:xfrm>
            <a:off x="8172360" y="6308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>
            <a:hlinkClick r:id="" action="ppaction://hlinkshowjump?jump=previousslide"/>
          </p:cNvPr>
          <p:cNvSpPr/>
          <p:nvPr/>
        </p:nvSpPr>
        <p:spPr>
          <a:xfrm>
            <a:off x="179280" y="6308640"/>
            <a:ext cx="827280" cy="360360"/>
          </a:xfrm>
          <a:custGeom>
            <a:avLst/>
            <a:gdLst>
              <a:gd name="textAreaLeft" fmla="*/ 23040 w 827280"/>
              <a:gd name="textAreaRight" fmla="*/ 804240 w 827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59" h="21600">
                <a:moveTo>
                  <a:pt x="0" y="0"/>
                </a:moveTo>
                <a:lnTo>
                  <a:pt x="49559" y="0"/>
                </a:lnTo>
                <a:lnTo>
                  <a:pt x="49559" y="21600"/>
                </a:lnTo>
                <a:lnTo>
                  <a:pt x="0" y="21600"/>
                </a:lnTo>
                <a:close/>
              </a:path>
              <a:path fill="lightenLess" w="49559" h="21600">
                <a:moveTo>
                  <a:pt x="0" y="0"/>
                </a:moveTo>
                <a:lnTo>
                  <a:pt x="49559" y="0"/>
                </a:lnTo>
                <a:lnTo>
                  <a:pt x="48159" y="1400"/>
                </a:lnTo>
                <a:lnTo>
                  <a:pt x="1400" y="1400"/>
                </a:lnTo>
                <a:close/>
              </a:path>
              <a:path fill="darken" w="49559" h="21600">
                <a:moveTo>
                  <a:pt x="49559" y="0"/>
                </a:moveTo>
                <a:lnTo>
                  <a:pt x="49559" y="21600"/>
                </a:lnTo>
                <a:lnTo>
                  <a:pt x="48159" y="20200"/>
                </a:lnTo>
                <a:lnTo>
                  <a:pt x="48159" y="1400"/>
                </a:lnTo>
                <a:close/>
              </a:path>
              <a:path fill="darkenLess" w="49559" h="21600">
                <a:moveTo>
                  <a:pt x="49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59" y="20200"/>
                </a:lnTo>
                <a:close/>
              </a:path>
              <a:path fill="lighten" w="49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59" h="21600">
                <a:moveTo>
                  <a:pt x="17773" y="10800"/>
                </a:moveTo>
                <a:lnTo>
                  <a:pt x="31786" y="3794"/>
                </a:lnTo>
                <a:lnTo>
                  <a:pt x="3178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Ганс Христиан Андерсе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апреля 180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 ска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г.-ЮНЕ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мой любимый сказочник"/>
          <p:cNvPicPr/>
          <p:nvPr/>
        </p:nvPicPr>
        <p:blipFill>
          <a:blip r:embed="rId2"/>
          <a:stretch/>
        </p:blipFill>
        <p:spPr>
          <a:xfrm>
            <a:off x="1187280" y="2276640"/>
            <a:ext cx="2675160" cy="3384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0" name="AutoShape 16">
            <a:hlinkClick r:id="" action="ppaction://hlinkshowjump?jump=previousslide"/>
          </p:cNvPr>
          <p:cNvSpPr/>
          <p:nvPr/>
        </p:nvSpPr>
        <p:spPr>
          <a:xfrm>
            <a:off x="179280" y="630864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>
            <a:hlinkClick r:id="" action="ppaction://hlinkshowjump?jump=nextslide"/>
          </p:cNvPr>
          <p:cNvSpPr/>
          <p:nvPr/>
        </p:nvSpPr>
        <p:spPr>
          <a:xfrm>
            <a:off x="810108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00"/>
                </a:solidFill>
                <a:uFillTx/>
                <a:latin typeface="Monotype Corsiva"/>
              </a:rPr>
              <a:t>Золотой фонд сказок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"/>
          <p:cNvSpPr/>
          <p:nvPr/>
        </p:nvSpPr>
        <p:spPr>
          <a:xfrm>
            <a:off x="179280" y="371628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6360" y="42210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гн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26800" y="5234760"/>
            <a:ext cx="1272240" cy="1069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лов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3780000" y="3933720"/>
            <a:ext cx="1800000" cy="1656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5796000" y="515772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7020000" y="364500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780000" y="450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юймо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867280" y="5589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цесса на горо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7288200" y="3708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7308720" y="3933720"/>
            <a:ext cx="11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платье ко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3"/>
          <p:cNvSpPr/>
          <p:nvPr/>
        </p:nvSpPr>
        <p:spPr>
          <a:xfrm>
            <a:off x="2050920" y="278136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4"/>
          <p:cNvSpPr/>
          <p:nvPr/>
        </p:nvSpPr>
        <p:spPr>
          <a:xfrm>
            <a:off x="3780000" y="1341360"/>
            <a:ext cx="16570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5"/>
          <p:cNvSpPr/>
          <p:nvPr/>
        </p:nvSpPr>
        <p:spPr>
          <a:xfrm>
            <a:off x="5292720" y="263700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6"/>
          <p:cNvSpPr/>
          <p:nvPr/>
        </p:nvSpPr>
        <p:spPr>
          <a:xfrm>
            <a:off x="7020000" y="148428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7"/>
          <p:cNvSpPr/>
          <p:nvPr/>
        </p:nvSpPr>
        <p:spPr>
          <a:xfrm>
            <a:off x="395280" y="134136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1023840" y="147492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324000" y="1628640"/>
            <a:ext cx="180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Стойкий оловянный солдати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3851280" y="17733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ие леб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6948360" y="1844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жная коро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2247840" y="2916360"/>
            <a:ext cx="124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2178000" y="33084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но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289840" y="3187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е-Лукой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>
            <a:hlinkClick r:id="" action="ppaction://hlinkshowjump?jump=previousslide"/>
          </p:cNvPr>
          <p:cNvSpPr/>
          <p:nvPr/>
        </p:nvSpPr>
        <p:spPr>
          <a:xfrm>
            <a:off x="179280" y="6381720"/>
            <a:ext cx="684360" cy="287280"/>
          </a:xfrm>
          <a:custGeom>
            <a:avLst/>
            <a:gdLst>
              <a:gd name="textAreaLeft" fmla="*/ 18360 w 684360"/>
              <a:gd name="textAreaRight" fmla="*/ 666000 w 684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1418" h="21600">
                <a:moveTo>
                  <a:pt x="0" y="0"/>
                </a:moveTo>
                <a:lnTo>
                  <a:pt x="51418" y="0"/>
                </a:lnTo>
                <a:lnTo>
                  <a:pt x="51418" y="21600"/>
                </a:lnTo>
                <a:lnTo>
                  <a:pt x="0" y="21600"/>
                </a:lnTo>
                <a:close/>
              </a:path>
              <a:path fill="lightenLess" w="51418" h="21600">
                <a:moveTo>
                  <a:pt x="0" y="0"/>
                </a:moveTo>
                <a:lnTo>
                  <a:pt x="51418" y="0"/>
                </a:lnTo>
                <a:lnTo>
                  <a:pt x="50018" y="1400"/>
                </a:lnTo>
                <a:lnTo>
                  <a:pt x="1400" y="1400"/>
                </a:lnTo>
                <a:close/>
              </a:path>
              <a:path fill="darken" w="51418" h="21600">
                <a:moveTo>
                  <a:pt x="51418" y="0"/>
                </a:moveTo>
                <a:lnTo>
                  <a:pt x="51418" y="21600"/>
                </a:lnTo>
                <a:lnTo>
                  <a:pt x="50018" y="20200"/>
                </a:lnTo>
                <a:lnTo>
                  <a:pt x="50018" y="1400"/>
                </a:lnTo>
                <a:close/>
              </a:path>
              <a:path fill="darkenLess" w="51418" h="21600">
                <a:moveTo>
                  <a:pt x="51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018" y="20200"/>
                </a:lnTo>
                <a:close/>
              </a:path>
              <a:path fill="lighten" w="51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418" h="21600">
                <a:moveTo>
                  <a:pt x="18703" y="10800"/>
                </a:moveTo>
                <a:lnTo>
                  <a:pt x="32716" y="3794"/>
                </a:lnTo>
                <a:lnTo>
                  <a:pt x="32716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28908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812" h="21600">
                <a:moveTo>
                  <a:pt x="0" y="0"/>
                </a:moveTo>
                <a:lnTo>
                  <a:pt x="53812" y="0"/>
                </a:lnTo>
                <a:lnTo>
                  <a:pt x="53812" y="21600"/>
                </a:lnTo>
                <a:lnTo>
                  <a:pt x="0" y="21600"/>
                </a:lnTo>
                <a:close/>
              </a:path>
              <a:path fill="lightenLess" w="53812" h="21600">
                <a:moveTo>
                  <a:pt x="0" y="0"/>
                </a:moveTo>
                <a:lnTo>
                  <a:pt x="53812" y="0"/>
                </a:lnTo>
                <a:lnTo>
                  <a:pt x="52412" y="1400"/>
                </a:lnTo>
                <a:lnTo>
                  <a:pt x="1400" y="1400"/>
                </a:lnTo>
                <a:close/>
              </a:path>
              <a:path fill="darken" w="53812" h="21600">
                <a:moveTo>
                  <a:pt x="53812" y="0"/>
                </a:moveTo>
                <a:lnTo>
                  <a:pt x="53812" y="21600"/>
                </a:lnTo>
                <a:lnTo>
                  <a:pt x="52412" y="20200"/>
                </a:lnTo>
                <a:lnTo>
                  <a:pt x="52412" y="1400"/>
                </a:lnTo>
                <a:close/>
              </a:path>
              <a:path fill="darkenLess" w="53812" h="21600">
                <a:moveTo>
                  <a:pt x="53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12" y="20200"/>
                </a:lnTo>
                <a:close/>
              </a:path>
              <a:path fill="lighten" w="53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12" h="21600">
                <a:moveTo>
                  <a:pt x="19899" y="3794"/>
                </a:moveTo>
                <a:lnTo>
                  <a:pt x="33912" y="10800"/>
                </a:lnTo>
                <a:lnTo>
                  <a:pt x="1989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азка  «Снежная короле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Картинка 5 из 7967"/>
          <p:cNvPicPr/>
          <p:nvPr/>
        </p:nvPicPr>
        <p:blipFill>
          <a:blip r:embed="rId2"/>
          <a:stretch/>
        </p:blipFill>
        <p:spPr>
          <a:xfrm>
            <a:off x="2484360" y="2421000"/>
            <a:ext cx="42861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текс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ята, опишите  Снежную короле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айте зачитаем фрагмент, в котором дано описание Снежной короле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чем ассоциируется у вас Снежная короле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текс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маленькая хрупкая девочка победила злую волшебниц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препятствия встречаются на пути у Гер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стар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ворон и 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принц и прин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) маленькая разбой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)лапландка и ф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-50391" t="-51773" r="-50391" b="-51773"/>
          <a:stretch/>
        </p:blipFill>
        <p:spPr>
          <a:xfrm>
            <a:off x="4643280" y="2708280"/>
            <a:ext cx="36957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чему же Герда победила Снежную королев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7:17:11Z</dcterms:created>
  <dc:creator>NAME</dc:creator>
  <dc:description>viki.rdf.ru</dc:description>
  <dc:language>en-US</dc:language>
  <cp:lastModifiedBy>Admin</cp:lastModifiedBy>
  <dcterms:modified xsi:type="dcterms:W3CDTF">2011-05-10T16:56:10Z</dcterms:modified>
  <cp:revision>38</cp:revision>
  <dc:subject/>
  <dc:title>Ганс Христиан Андерс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c000000000001024140</vt:lpwstr>
  </property>
</Properties>
</file>