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6C2-D756-4DED-8F8D-2C91F7B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4A6-C3F9-42CA-B3EB-58ECB0F7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A59-7754-4ABD-9804-25A5AA12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CFC-AC48-419B-BF9B-068A49BC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573A-DA05-463C-9860-BF21C38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52A0-1EBE-4711-9680-5362F4BB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F40B-DFE8-4732-AB8E-2B4E9C0F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1C5-E6D5-4E07-97D1-0DDC54B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B01-D009-4B58-9D2F-E699A702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C10-B8E1-4523-9CD0-B42F9887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2CEE-9859-4597-A876-B0546E2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714-0F92-4664-9AC6-64E7FC19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BAC-C31C-4C85-85BC-0C8166B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D36-7FBE-4DD0-9E26-A7CD675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141-1741-42D5-BB24-E311EFE2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B6E7-633D-429F-BB19-186FF758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E0B-6E87-46FE-8F96-F6A3384C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6774-4309-47AB-B85D-6B55A00D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9C50-2931-4B6B-9839-3FF8E3F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C4D6-BFCE-4CEE-871A-5075093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E19C-4992-4B7F-9F7F-C405285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58BA-555D-4111-9DF1-46E644C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588-C8CE-4325-A729-AFB71A07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146F-F11F-48B6-898B-3F158B6F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8E2B-3CA5-4B89-A756-F58F2A4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A700-352B-4C62-A0F5-F2117F1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CEA2-C45A-44B1-BF94-DF6F74B2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4B03-BF81-4B35-BB7D-E95CAB4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0B26-4C93-46F3-BDE8-08D7255F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2A81-6FAE-4131-9812-4D31A2DF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B559-959C-4224-9A09-50324FC4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3E6A-875B-43A0-8D2D-42C55FD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B7C0-9912-49D8-9B6C-B16A20E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4DA-E532-4994-812A-C2FB3522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F277-7E6F-4555-ADA3-9950F28F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6491-637B-4AC6-8637-D7A97018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12DA-70E1-4BD1-BC32-194BE844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F864-2158-4E3B-B033-D50713F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6749-1445-44EB-8A63-C7C8B1D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8563-6BB1-4035-9E37-486710F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7505-AD68-45B3-BA16-3608028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EDA5-7381-4BC5-9C03-CABE6A7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67C6-A7AF-4469-BB8E-70153562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761-3E85-417C-B188-1088529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E84-245B-4E9C-81BA-7EEE0B5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908-C617-49DF-A3A2-8CB2E85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4DB-D965-408A-9793-8C254927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AB3-0BAA-43DA-998B-937B99A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D276-E739-4398-886C-9722BE56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CC2-92CD-4030-9967-27FFE997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7C8-2620-4B3A-AE5B-191F67B2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6929-A8D6-4E05-9146-B720D709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71400" y="478584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илова Галина Борис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-СОШ № 17 г.Клин Москов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Admin\Мои документы\Мои рисунки\post-26471-1249031791.jpg"/>
          <p:cNvPicPr/>
          <p:nvPr/>
        </p:nvPicPr>
        <p:blipFill>
          <a:blip r:embed="rId1"/>
          <a:stretch/>
        </p:blipFill>
        <p:spPr>
          <a:xfrm>
            <a:off x="3786120" y="428760"/>
            <a:ext cx="50403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3285720"/>
            <a:ext cx="868212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барсука производится при помощи особых собак, называем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пущенная в нору такса, добравшись до барсука, начинает на него лаять и даже грызться с 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Admin\Мои документы\Мои рисунки\iCA12C46C.jpg"/>
          <p:cNvPicPr/>
          <p:nvPr/>
        </p:nvPicPr>
        <p:blipFill>
          <a:blip r:embed="rId1"/>
          <a:stretch/>
        </p:blipFill>
        <p:spPr>
          <a:xfrm>
            <a:off x="4786200" y="214200"/>
            <a:ext cx="4006800" cy="264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Documents and Settings\Admin\Мои документы\Мои рисунки\iCA9JHQKE.jpg"/>
          <p:cNvPicPr/>
          <p:nvPr/>
        </p:nvPicPr>
        <p:blipFill>
          <a:blip r:embed="rId2"/>
          <a:stretch/>
        </p:blipFill>
        <p:spPr>
          <a:xfrm>
            <a:off x="428760" y="214200"/>
            <a:ext cx="424332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!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ад познакомить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Documents and Settings\Admin\Мои документы\Мои рисунки\iCACRT6PT.jpg"/>
          <p:cNvPicPr/>
          <p:nvPr/>
        </p:nvPicPr>
        <p:blipFill>
          <a:blip r:embed="rId1"/>
          <a:stretch/>
        </p:blipFill>
        <p:spPr>
          <a:xfrm>
            <a:off x="2286000" y="2357280"/>
            <a:ext cx="4068720" cy="40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lmults.org/multik.php?id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1%D0%B0%D1%80%D1%81%D1%83%D0%BA+&amp;rpt=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циклопедический словарь Ф.А. Брокгауза и И.А. Ефрона. — С.-Пб.: Брокгауз-Ефрон. 1890—19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з Википедии — свободной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zooclub.ru/wild/hish/12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69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dic.nsf/brokgauz_efron/9812/%D0%91%D0%B0%D1%80%D1%81%D1%83%D0%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3280" y="1000080"/>
            <a:ext cx="437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les meles), хищное млекопитающее семейства куньих. Длина тела до 9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ит до 3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аска спины и боков обычно серебристо-серая; низ тела черноватый; по бокам головы тёмные полосы, тянущиеся от носа к ушам. На пальцах — длинные тупые когти, приспособленные к ры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Admin\Мои документы\Мои рисунки\racc24.jpg"/>
          <p:cNvPicPr/>
          <p:nvPr/>
        </p:nvPicPr>
        <p:blipFill>
          <a:blip r:embed="rId1"/>
          <a:stretch/>
        </p:blipFill>
        <p:spPr>
          <a:xfrm>
            <a:off x="428760" y="50004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828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барсук в глубоких норах, которые роет по склонам песчаных холмов, лесных оврагов и балок. Периодически норы чистятся барсуками, старая подстилка выбрасывается наружу. Нередко норы барсуков занимают другие звери: лисицы, енотовидные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C:\Documents and Settings\Admin\Мои документы\Мои рисунки\badger21.jpg"/>
          <p:cNvPicPr/>
          <p:nvPr/>
        </p:nvPicPr>
        <p:blipFill>
          <a:blip r:embed="rId1"/>
          <a:stretch/>
        </p:blipFill>
        <p:spPr>
          <a:xfrm>
            <a:off x="1928880" y="357120"/>
            <a:ext cx="531000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 ведёт ночной образ жизни, хотя нередко его можно видеть и в светлое время суток — утром до 8, вечером — после 5—6 час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Admin\Мои документы\Мои рисунки\s16991952.jpg"/>
          <p:cNvPicPr/>
          <p:nvPr/>
        </p:nvPicPr>
        <p:blipFill>
          <a:blip r:embed="rId1"/>
          <a:stretch/>
        </p:blipFill>
        <p:spPr>
          <a:xfrm>
            <a:off x="1857240" y="1841400"/>
            <a:ext cx="542952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5800" y="285480"/>
            <a:ext cx="46818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сук всеяден. Питается он мышевидными грызунами, лягушками, ящерицами, птицами и их яйцами, насекомыми и их личинками, моллюсками, дождевыми червями, грибами, ягодами, орехами и травой. Во время охоты барсуку приходится обходить большие территории, обшаривая поваленные деревья, отдирая кору деревьев и пней в поисках червей и насекомых. Иногда за одну охоту барсук добывает 50—70 и больше лягушек, сотни насекомых и дождевых червей. Однако в сутки он съедает всего 0,5 кг пищи и лишь к осени сильно отъедается и нагуливает жир, который служит ему источником питания в течение зимнего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Admin\Мои документы\Мои рисунки\GRVLIN~1.JPG"/>
          <p:cNvPicPr/>
          <p:nvPr/>
        </p:nvPicPr>
        <p:blipFill>
          <a:blip r:embed="rId1"/>
          <a:stretch/>
        </p:blipFill>
        <p:spPr>
          <a:xfrm>
            <a:off x="428760" y="642960"/>
            <a:ext cx="3714480" cy="55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714240"/>
            <a:ext cx="4143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иму он впадает в спячку, причем свертывается и кладет голову между задними ногами. В теплые зимние дни он охотно выходит из норы и греется на солнце. Трусость, недоверчивость и глупость — отличительные признаки барсука; кроме того, он очень чистоплотен. Этим часто пользуется лисица, которая, забравшись в барсучью нору, обливает ее своею вонючей мочой и тем заставляет хозяина покинуть свое жилье, которым и овладевает. Зимой самка мечет 2—5 детены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Documents and Settings\Admin\Мои документы\Мои рисунки\F-animals%20(44).gif"/>
          <p:cNvPicPr/>
          <p:nvPr/>
        </p:nvPicPr>
        <p:blipFill>
          <a:blip r:embed="rId1"/>
          <a:stretch/>
        </p:blipFill>
        <p:spPr>
          <a:xfrm>
            <a:off x="4572000" y="1143000"/>
            <a:ext cx="4286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400" y="4285800"/>
            <a:ext cx="8226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зверь очень осторожен. Охотится он ночью. Потому летом, даже обнаружив где-нибудь в густом лесу, на холме с крутыми склонами жилище барсука, увидеть его самого не очень-то просто. Прежде чем выйти из норы, он осторожно выглядывает, прислушивается, принюхивается и, если почувствует хоть что-то подозрительное, снова пряч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\Мои документы\Мои рисунки\Badger_Meles_meles.jpg"/>
          <p:cNvPicPr/>
          <p:nvPr/>
        </p:nvPicPr>
        <p:blipFill>
          <a:blip r:embed="rId1"/>
          <a:stretch/>
        </p:blipFill>
        <p:spPr>
          <a:xfrm>
            <a:off x="1714680" y="500040"/>
            <a:ext cx="57150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 барсука похож на хрюканье свиньи. Раздраженный барсук сильно кус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Admin\Мои документы\Мои рисунки\untitled.bmp"/>
          <p:cNvPicPr/>
          <p:nvPr/>
        </p:nvPicPr>
        <p:blipFill>
          <a:blip r:embed="rId1"/>
          <a:stretch/>
        </p:blipFill>
        <p:spPr>
          <a:xfrm>
            <a:off x="1676520" y="1600200"/>
            <a:ext cx="5784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1428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чтожая насекомых-вредителей, особенно личинок майского жука, барсуки приносят большую пользу сельскому хозяйству. Шкура барсука малоценна; волос используется для изготовления кистей. Жир барсука обладает целебными свойствами, мясо съедоб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Documents and Settings\Admin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500040" y="228600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Documents and Settings\Admin\Мои документы\Мои рисунки\iCAGNSPWA.jpg"/>
          <p:cNvPicPr/>
          <p:nvPr/>
        </p:nvPicPr>
        <p:blipFill>
          <a:blip r:embed="rId2"/>
          <a:stretch/>
        </p:blipFill>
        <p:spPr>
          <a:xfrm>
            <a:off x="5572080" y="2714760"/>
            <a:ext cx="23576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03:22Z</dcterms:created>
  <dc:creator>Admin</dc:creator>
  <dc:description/>
  <dc:language>en-US</dc:language>
  <cp:lastModifiedBy>Admin</cp:lastModifiedBy>
  <dcterms:modified xsi:type="dcterms:W3CDTF">2011-12-15T15:24:07Z</dcterms:modified>
  <cp:revision>13</cp:revision>
  <dc:subject/>
  <dc:title>Барсук </dc:title>
</cp:coreProperties>
</file>