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BC8-728C-4E45-B55F-5210D6A7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861-B8AD-41C9-AA52-03201CE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157-6BE1-43EE-8CB0-A3DA67C4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34-AB74-4E9F-A604-A2F454FF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8493-B0DE-4702-8DC4-16C43027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0F7B-AD72-48FE-8D10-F38967D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2260-B903-4390-B704-AC126B85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39B8-EB94-4C05-8012-44B08F0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2FE-9D3B-49E3-BE6E-D3B2D4EC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185B-D74F-453B-8FE4-C675927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A125-E4EE-4F08-81F0-F626E65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9EA-3622-41B4-9137-285B621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38FE-B96A-4F18-A022-7C98113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A61A-7164-40C5-9F09-91219A5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FF1D-DBE4-4102-B7D2-14885EC2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1C6B-7382-4C16-9194-631D3D16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412-E952-467A-82D2-B42D70AC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6346A-44BB-4307-87A5-A6BCCAD1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87DE-7C75-4A01-A6C0-EC50D6A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C8D8-CFE5-4A2D-AB8B-C1943CB2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AE9C-CF92-46FD-9587-41A10C0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6A58-C525-49C2-AA0C-12A1FDC1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462-6BB4-47F4-A4FC-8D0997DD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CE4C-6DC5-4965-A16F-E0E5834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472F-9F6F-4B22-8A29-544E0DC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63BE-B0E0-4536-8BA8-ED3DCAD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1C7E-7BA1-492B-9F9C-FA9A1A1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E5F3-3E04-4637-AA96-FB578B9D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91BE-E2BD-4621-9FA9-93C83516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57D0-A659-423B-B744-CD8C28F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01AA-B725-4288-A64B-7CBD6000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E209-7E87-43C7-8B51-3BD6762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9E064-17DF-44FE-81AD-21B5E94E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C0B-1DDF-4BD2-B02D-4F66198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1F03-B9B6-432D-B275-F54C2E83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E3F0-52D1-4F94-8059-D5461F48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64D7-52A7-4748-B0AB-A12AFE0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D02A-52F1-42B7-9560-0EF4D66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0287-52A7-4B8F-B85E-791FDAE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2D42-4206-4B87-BBA0-8BAF235F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001C4-4778-436D-81B1-C213DB1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1B21-0B2F-4217-9B63-3DE11618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DF15-0E0B-4E2C-9CC3-8B25A518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223-8132-404D-B933-9BD51D4E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685-7869-401B-A6C6-7EAF1B36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ACA-179B-4EDB-8ECC-40677CD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8A0-04D0-440D-B62B-7BF0F65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DE9-23C5-48B4-B6BC-2A599DD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774-AB58-4F1C-A981-7E3D7EBA4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6C1-7254-4EFA-B55C-D47D16BA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1FE-1F0A-4E86-891D-1B45B32D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180-E3DD-4AC5-85A2-E99FBF51E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71400" y="478584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илова Галина Борис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-СОШ № 17 г.Клин Москов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Admin\Мои документы\Мои рисунки\post-26471-1249031791.jpg"/>
          <p:cNvPicPr/>
          <p:nvPr/>
        </p:nvPicPr>
        <p:blipFill>
          <a:blip r:embed="rId1"/>
          <a:stretch/>
        </p:blipFill>
        <p:spPr>
          <a:xfrm>
            <a:off x="3786120" y="428760"/>
            <a:ext cx="50403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3285720"/>
            <a:ext cx="868212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барсука производится при помощи особых собак, называем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с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пущенная в нору такса, добравшись до барсука, начинает на него лаять и даже грызться с 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Admin\Мои документы\Мои рисунки\iCA12C46C.jpg"/>
          <p:cNvPicPr/>
          <p:nvPr/>
        </p:nvPicPr>
        <p:blipFill>
          <a:blip r:embed="rId1"/>
          <a:stretch/>
        </p:blipFill>
        <p:spPr>
          <a:xfrm>
            <a:off x="4786200" y="214200"/>
            <a:ext cx="4006800" cy="264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Documents and Settings\Admin\Мои документы\Мои рисунки\iCA9JHQKE.jpg"/>
          <p:cNvPicPr/>
          <p:nvPr/>
        </p:nvPicPr>
        <p:blipFill>
          <a:blip r:embed="rId2"/>
          <a:stretch/>
        </p:blipFill>
        <p:spPr>
          <a:xfrm>
            <a:off x="428760" y="214200"/>
            <a:ext cx="424332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!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ад познакомить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Documents and Settings\Admin\Мои документы\Мои рисунки\iCACRT6PT.jpg"/>
          <p:cNvPicPr/>
          <p:nvPr/>
        </p:nvPicPr>
        <p:blipFill>
          <a:blip r:embed="rId1"/>
          <a:stretch/>
        </p:blipFill>
        <p:spPr>
          <a:xfrm>
            <a:off x="2286000" y="2357280"/>
            <a:ext cx="4068720" cy="40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lmults.org/multik.php?id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1%D0%B0%D1%80%D1%81%D1%83%D0%BA+&amp;rpt=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циклопедический словарь Ф.А. Брокгауза и И.А. Ефрона. — С.-Пб.: Брокгауз-Ефрон. 1890—19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из Википедии — свободной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zooclub.ru/wild/hish/12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69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dic.nsf/brokgauz_efron/9812/%D0%91%D0%B0%D1%80%D1%81%D1%83%D0%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3280" y="1000080"/>
            <a:ext cx="437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les meles), хищное млекопитающее семейства куньих. Длина тела до 9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ит до 3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раска спины и боков обычно серебристо-серая; низ тела черноватый; по бокам головы тёмные полосы, тянущиеся от носа к ушам. На пальцах — длинные тупые когти, приспособленные к ры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Admin\Мои документы\Мои рисунки\racc24.jpg"/>
          <p:cNvPicPr/>
          <p:nvPr/>
        </p:nvPicPr>
        <p:blipFill>
          <a:blip r:embed="rId1"/>
          <a:stretch/>
        </p:blipFill>
        <p:spPr>
          <a:xfrm>
            <a:off x="428760" y="50004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828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барсук в глубоких норах, которые роет по склонам песчаных холмов, лесных оврагов и балок. Периодически норы чистятся барсуками, старая подстилка выбрасывается наружу. Нередко норы барсуков занимают другие звери: лисицы, енотовидные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C:\Documents and Settings\Admin\Мои документы\Мои рисунки\badger21.jpg"/>
          <p:cNvPicPr/>
          <p:nvPr/>
        </p:nvPicPr>
        <p:blipFill>
          <a:blip r:embed="rId1"/>
          <a:stretch/>
        </p:blipFill>
        <p:spPr>
          <a:xfrm>
            <a:off x="1928880" y="357120"/>
            <a:ext cx="531000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сук ведёт ночной образ жизни, хотя нередко его можно видеть и в светлое время суток — утром до 8, вечером — после 5—6 час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Admin\Мои документы\Мои рисунки\s16991952.jpg"/>
          <p:cNvPicPr/>
          <p:nvPr/>
        </p:nvPicPr>
        <p:blipFill>
          <a:blip r:embed="rId1"/>
          <a:stretch/>
        </p:blipFill>
        <p:spPr>
          <a:xfrm>
            <a:off x="1857240" y="1841400"/>
            <a:ext cx="5429520" cy="48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5800" y="285480"/>
            <a:ext cx="46818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сук всеяден. Питается он мышевидными грызунами, лягушками, ящерицами, птицами и их яйцами, насекомыми и их личинками, моллюсками, дождевыми червями, грибами, ягодами, орехами и травой. Во время охоты барсуку приходится обходить большие территории, обшаривая поваленные деревья, отдирая кору деревьев и пней в поисках червей и насекомых. Иногда за одну охоту барсук добывает 50—70 и больше лягушек, сотни насекомых и дождевых червей. Однако в сутки он съедает всего 0,5 кг пищи и лишь к осени сильно отъедается и нагуливает жир, который служит ему источником питания в течение зимнего 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Admin\Мои документы\Мои рисунки\GRVLIN~1.JPG"/>
          <p:cNvPicPr/>
          <p:nvPr/>
        </p:nvPicPr>
        <p:blipFill>
          <a:blip r:embed="rId1"/>
          <a:stretch/>
        </p:blipFill>
        <p:spPr>
          <a:xfrm>
            <a:off x="428760" y="642960"/>
            <a:ext cx="3714480" cy="55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714240"/>
            <a:ext cx="41432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иму он впадает в спячку, причем свертывается и кладет голову между задними ногами. В теплые зимние дни он охотно выходит из норы и греется на солнце. Трусость, недоверчивость и глупость — отличительные признаки барсука; кроме того, он очень чистоплотен. Этим часто пользуется лисица, которая, забравшись в барсучью нору, обливает ее своею вонючей мочой и тем заставляет хозяина покинуть свое жилье, которым и овладевает. Зимой самка мечет 2—5 детены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Documents and Settings\Admin\Мои документы\Мои рисунки\F-animals%20(44).gif"/>
          <p:cNvPicPr/>
          <p:nvPr/>
        </p:nvPicPr>
        <p:blipFill>
          <a:blip r:embed="rId1"/>
          <a:stretch/>
        </p:blipFill>
        <p:spPr>
          <a:xfrm>
            <a:off x="4572000" y="1143000"/>
            <a:ext cx="428616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5400" y="4285800"/>
            <a:ext cx="82263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зверь очень осторожен. Охотится он ночью. Потому летом, даже обнаружив где-нибудь в густом лесу, на холме с крутыми склонами жилище барсука, увидеть его самого не очень-то просто. Прежде чем выйти из норы, он осторожно выглядывает, прислушивается, принюхивается и, если почувствует хоть что-то подозрительное, снова пряч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\Мои документы\Мои рисунки\Badger_Meles_meles.jpg"/>
          <p:cNvPicPr/>
          <p:nvPr/>
        </p:nvPicPr>
        <p:blipFill>
          <a:blip r:embed="rId1"/>
          <a:stretch/>
        </p:blipFill>
        <p:spPr>
          <a:xfrm>
            <a:off x="1714680" y="500040"/>
            <a:ext cx="57150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 барсука похож на хрюканье свиньи. Раздраженный барсук сильно кус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Admin\Мои документы\Мои рисунки\untitled.bmp"/>
          <p:cNvPicPr/>
          <p:nvPr/>
        </p:nvPicPr>
        <p:blipFill>
          <a:blip r:embed="rId1"/>
          <a:stretch/>
        </p:blipFill>
        <p:spPr>
          <a:xfrm>
            <a:off x="1676520" y="1600200"/>
            <a:ext cx="5784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1428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чтожая насекомых-вредителей, особенно личинок майского жука, барсуки приносят большую пользу сельскому хозяйству. Шкура барсука малоценна; волос используется для изготовления кистей. Жир барсука обладает целебными свойствами, мясо съедоб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Documents and Settings\Admin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500040" y="228600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C:\Documents and Settings\Admin\Мои документы\Мои рисунки\iCAGNSPWA.jpg"/>
          <p:cNvPicPr/>
          <p:nvPr/>
        </p:nvPicPr>
        <p:blipFill>
          <a:blip r:embed="rId2"/>
          <a:stretch/>
        </p:blipFill>
        <p:spPr>
          <a:xfrm>
            <a:off x="5572080" y="2714760"/>
            <a:ext cx="23576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03:22Z</dcterms:created>
  <dc:creator>Admin</dc:creator>
  <dc:description/>
  <dc:language>en-US</dc:language>
  <cp:lastModifiedBy>Admin</cp:lastModifiedBy>
  <dcterms:modified xsi:type="dcterms:W3CDTF">2011-12-15T15:24:07Z</dcterms:modified>
  <cp:revision>13</cp:revision>
  <dc:subject/>
  <dc:title>Барсук </dc:title>
</cp:coreProperties>
</file>