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672-2A5A-43F6-96B4-8F55131F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2D5-2618-40FF-8F43-D98F8C60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6D0-5D3D-4298-BECA-1CFFFC8A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C54-84FB-4DC0-A332-97951F70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3333-DCAB-4560-9669-686281BB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1435-EB38-4255-8A94-5CE1E49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4F0F-1895-4EAA-A3A7-C3F5898D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4C6B-C297-40E5-96C9-2102702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E508-7AB1-4946-B429-28877FDE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1806-A7E6-4F1C-B85B-0CAA2DAE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A3DF-B987-4EAB-AC76-A161F63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DDA-930C-4C61-A3F1-1ABF0495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5B8-89E4-4110-A214-5058AF5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1B2-B248-4FAC-8517-E9F4252D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EE2-B558-4684-AA7F-1715CE37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61AD-17B3-4FBC-BA1D-FB666AEF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317E-D1E8-426B-BBCC-90D5598D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592-C985-41AB-A9FF-6468104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272-26DB-4E02-8CE0-47A3C82F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4A9-B446-4211-9719-B1967610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E5E-2319-4FE7-81B0-4D3CF5F0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691-7F27-4089-9BE6-B642B31C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396-46A9-4D53-83C1-FA0F196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4C9-B2C6-4439-88FB-401EB74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CFDE-B112-4DC3-8772-D88D36A3DA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A759-4A03-4B89-B97A-31F9992522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слайд1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000" y="907560"/>
            <a:ext cx="8218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9d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887480" y="2081160"/>
            <a:ext cx="592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211"/>
          <p:cNvPicPr/>
          <p:nvPr/>
        </p:nvPicPr>
        <p:blipFill>
          <a:blip r:embed="rId1"/>
          <a:stretch/>
        </p:blipFill>
        <p:spPr>
          <a:xfrm>
            <a:off x="611280" y="692280"/>
            <a:ext cx="3456000" cy="49687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4175280" y="1441440"/>
            <a:ext cx="496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Булгаков отозван с фронта и отправлен в сельскую больницу Смоленской губернии. Результатом данной врачебной практики становятся «Записки юного врач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5076720" y="1644480"/>
            <a:ext cx="374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18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Булгаков возвращается в Киев, а через год он был призван в Добровольческую армию А. И. Деникина. Когда деникинцы отступали,     больной Булгаков, в тифу, был оставлен во Владикавказе и начал   сотрудничать с большевиками, чтобы не умереть с голоду</a:t>
            </a:r>
            <a:r>
              <a:rPr b="0" i="1" lang="ru-RU" sz="2000" spc="-1" strike="noStrike">
                <a:solidFill>
                  <a:srgbClr val="0059dc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4" descr="Андреевский спуск (Киев) в конце 19 века"/>
          <p:cNvPicPr/>
          <p:nvPr/>
        </p:nvPicPr>
        <p:blipFill>
          <a:blip r:embed="rId1"/>
          <a:stretch/>
        </p:blipFill>
        <p:spPr>
          <a:xfrm>
            <a:off x="250920" y="3429000"/>
            <a:ext cx="4752720" cy="3313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доревкв"/>
          <p:cNvPicPr/>
          <p:nvPr/>
        </p:nvPicPr>
        <p:blipFill>
          <a:blip r:embed="rId2"/>
          <a:stretch/>
        </p:blipFill>
        <p:spPr>
          <a:xfrm>
            <a:off x="250920" y="115920"/>
            <a:ext cx="4752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00720" y="3650040"/>
            <a:ext cx="43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0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Этот год стал переломным: врачебная практика была оставлена,  а основной деятельностью становится литерату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5" descr="050_pishmash"/>
          <p:cNvPicPr/>
          <p:nvPr/>
        </p:nvPicPr>
        <p:blipFill>
          <a:blip r:embed="rId1"/>
          <a:stretch/>
        </p:blipFill>
        <p:spPr>
          <a:xfrm>
            <a:off x="4786200" y="476280"/>
            <a:ext cx="3889440" cy="2819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041_shkaf"/>
          <p:cNvPicPr/>
          <p:nvPr/>
        </p:nvPicPr>
        <p:blipFill>
          <a:blip r:embed="rId2"/>
          <a:stretch/>
        </p:blipFill>
        <p:spPr>
          <a:xfrm>
            <a:off x="250920" y="476280"/>
            <a:ext cx="40464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500720" y="487584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1 – 1922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1921 году писатель попадает в Москву. В период  с 1921-1922 г. , Булгаков не имел постоянн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лужбы, голода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Picture 7" descr="Строит_гостин_Метрополь"/>
          <p:cNvPicPr/>
          <p:nvPr/>
        </p:nvPicPr>
        <p:blipFill>
          <a:blip r:embed="rId1"/>
          <a:stretch/>
        </p:blipFill>
        <p:spPr>
          <a:xfrm>
            <a:off x="179280" y="3492360"/>
            <a:ext cx="4392720" cy="3032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Москва2"/>
          <p:cNvPicPr/>
          <p:nvPr/>
        </p:nvPicPr>
        <p:blipFill>
          <a:blip r:embed="rId2"/>
          <a:stretch/>
        </p:blipFill>
        <p:spPr>
          <a:xfrm>
            <a:off x="250920" y="260280"/>
            <a:ext cx="4414680" cy="2881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продавец лимонада на Моисеевской площади"/>
          <p:cNvPicPr/>
          <p:nvPr/>
        </p:nvPicPr>
        <p:blipFill>
          <a:blip r:embed="rId3"/>
          <a:stretch/>
        </p:blipFill>
        <p:spPr>
          <a:xfrm>
            <a:off x="5292720" y="287280"/>
            <a:ext cx="3086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021_kol3"/>
          <p:cNvPicPr/>
          <p:nvPr/>
        </p:nvPicPr>
        <p:blipFill>
          <a:blip r:embed="rId1"/>
          <a:stretch/>
        </p:blipFill>
        <p:spPr>
          <a:xfrm>
            <a:off x="1403280" y="260280"/>
            <a:ext cx="6335640" cy="46087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395280" y="517572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2-1924 г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Arial"/>
              </a:rPr>
              <a:t>работает над романом «Белая гвардия», главы из которого при жизни писателя лишь единожды были опубликованы в журнале «Россия» в Герман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bulgakov"/>
          <p:cNvPicPr/>
          <p:nvPr/>
        </p:nvPicPr>
        <p:blipFill>
          <a:blip r:embed="rId1"/>
          <a:stretch/>
        </p:blipFill>
        <p:spPr>
          <a:xfrm>
            <a:off x="900000" y="549360"/>
            <a:ext cx="3152880" cy="331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395280" y="532800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4 г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Знакомство с Любовью Евгеньевной Белозерской и женитьба на ней после расторжения первого бра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Picture 10" descr="Любовь Евгеньевна Белозерская_вторая жена"/>
          <p:cNvPicPr/>
          <p:nvPr/>
        </p:nvPicPr>
        <p:blipFill>
          <a:blip r:embed="rId2"/>
          <a:stretch/>
        </p:blipFill>
        <p:spPr>
          <a:xfrm>
            <a:off x="5570640" y="549360"/>
            <a:ext cx="3033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2843280" y="381636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3-1925 гг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ознаменован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в творчестве Булгако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оявлением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сатирических повесте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Дьяволиада»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«Роковые яйца»,  «Собачье сердце».</a:t>
            </a:r>
            <a:r>
              <a:rPr b="0" lang="ru-RU" sz="2000" spc="-1" strike="noStrike">
                <a:solidFill>
                  <a:srgbClr val="0059d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Picture 12" descr="сердце"/>
          <p:cNvPicPr/>
          <p:nvPr/>
        </p:nvPicPr>
        <p:blipFill>
          <a:blip r:embed="rId1"/>
          <a:stretch/>
        </p:blipFill>
        <p:spPr>
          <a:xfrm>
            <a:off x="108000" y="115920"/>
            <a:ext cx="3887640" cy="3317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proffessora"/>
          <p:cNvPicPr/>
          <p:nvPr/>
        </p:nvPicPr>
        <p:blipFill>
          <a:blip r:embed="rId2"/>
          <a:stretch/>
        </p:blipFill>
        <p:spPr>
          <a:xfrm>
            <a:off x="6084720" y="4005360"/>
            <a:ext cx="2951280" cy="2450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8" descr="сердце2"/>
          <p:cNvPicPr/>
          <p:nvPr/>
        </p:nvPicPr>
        <p:blipFill>
          <a:blip r:embed="rId3"/>
          <a:stretch/>
        </p:blipFill>
        <p:spPr>
          <a:xfrm>
            <a:off x="5003640" y="115920"/>
            <a:ext cx="4032360" cy="3349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9" descr="сердце3"/>
          <p:cNvPicPr/>
          <p:nvPr/>
        </p:nvPicPr>
        <p:blipFill>
          <a:blip r:embed="rId4"/>
          <a:stretch/>
        </p:blipFill>
        <p:spPr>
          <a:xfrm>
            <a:off x="92160" y="3933720"/>
            <a:ext cx="29671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395280" y="502668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bd13f"/>
                </a:solidFill>
                <a:uFillTx/>
                <a:latin typeface="Arial"/>
              </a:rPr>
              <a:t>1926 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bd13f"/>
                </a:solidFill>
                <a:latin typeface="Arial"/>
              </a:rPr>
              <a:t>На сцене МХАТа ставится пьеса «Дни Турбиных», которая претерпела множество нападок и притеснений. Ни одна пьеса из созданных в это время не была поставлена: ни «Зойкина квартира», ни «Бег», ни «Кабала святош»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мхат1"/>
          <p:cNvPicPr/>
          <p:nvPr/>
        </p:nvPicPr>
        <p:blipFill>
          <a:blip r:embed="rId1"/>
          <a:stretch/>
        </p:blipFill>
        <p:spPr>
          <a:xfrm>
            <a:off x="971640" y="260280"/>
            <a:ext cx="712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68360" y="-8604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30 г. </a:t>
            </a:r>
            <a:br>
              <a:rPr sz="2000"/>
            </a:b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28 марта 1930 гг. Булгаков пишет обращение к правительству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« Я прошу принять во внимание, что невозможность писать равносильна для меня погребению заживо. 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Я обращаюсь к гуманности советской власти и прошу меня, писателя, который не может быть полезен у себя, в отечестве, великодушно отпустить на свободу.</a:t>
            </a:r>
            <a:br>
              <a:rPr sz="2800"/>
            </a:br>
            <a:r>
              <a:rPr b="1" lang="ru-RU" sz="2800" spc="-1" strike="noStrike">
                <a:solidFill>
                  <a:srgbClr val="66ff33"/>
                </a:solidFill>
                <a:latin typeface="Monotype Corsiva"/>
              </a:rPr>
              <a:t>     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- нищета, улица и гибель ».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915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После звонка Сталина писатель был принят во МХАТ, где проработал 6 лет режиссером-ассисте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484360" y="450756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66ff33"/>
                </a:solidFill>
                <a:uFillTx/>
                <a:latin typeface="Arial"/>
              </a:rPr>
              <a:t>1928 -1940 гг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продолжается работа над романом «Мастер и Маргарит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5" name="Picture 5" descr="045_book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KOT-02"/>
          <p:cNvPicPr/>
          <p:nvPr/>
        </p:nvPicPr>
        <p:blipFill>
          <a:blip r:embed="rId2"/>
          <a:stretch/>
        </p:blipFill>
        <p:spPr>
          <a:xfrm>
            <a:off x="4932360" y="260280"/>
            <a:ext cx="3960720" cy="27226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055_mim"/>
          <p:cNvPicPr/>
          <p:nvPr/>
        </p:nvPicPr>
        <p:blipFill>
          <a:blip r:embed="rId3"/>
          <a:stretch/>
        </p:blipFill>
        <p:spPr>
          <a:xfrm>
            <a:off x="6443640" y="3789360"/>
            <a:ext cx="2170080" cy="273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3" descr="031_kartina"/>
          <p:cNvPicPr/>
          <p:nvPr/>
        </p:nvPicPr>
        <p:blipFill>
          <a:blip r:embed="rId4"/>
          <a:stretch/>
        </p:blipFill>
        <p:spPr>
          <a:xfrm>
            <a:off x="250920" y="3789360"/>
            <a:ext cx="200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ahoma"/>
              </a:rPr>
              <a:t>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Булгаков не менял своих взглядов по моде или по выгоде. Но он напряженно думал обо всем, что видел перед собой. И мысль его…  была наклонна к анализу живого, не заморочена догмами или предвзятостью и подкреплена ответственностью свидетеля и летописца великих и трагических событий в жизни родины. На всех перекатах судьбы Булгаков оставался верен законам достоинства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66ff33"/>
                </a:solidFill>
                <a:latin typeface="Times New Roman"/>
              </a:rPr>
              <a:t>В.Я. Лакш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366840" y="504720"/>
            <a:ext cx="4133880" cy="5977080"/>
          </a:xfrm>
          <a:prstGeom prst="rect">
            <a:avLst/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4643280" y="1052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6ff33"/>
                </a:solidFill>
                <a:uFillTx/>
                <a:latin typeface="Arial"/>
              </a:rPr>
              <a:t>10 марта 1940 год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Arial"/>
              </a:rPr>
              <a:t>Булгаков скончался от нефросклероза</a:t>
            </a:r>
            <a:r>
              <a:rPr b="0" i="1" lang="ru-RU" sz="2000" spc="-1" strike="noStrike">
                <a:solidFill>
                  <a:srgbClr val="66ff33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4" descr="bul1"/>
          <p:cNvPicPr/>
          <p:nvPr/>
        </p:nvPicPr>
        <p:blipFill>
          <a:blip r:embed="rId1"/>
          <a:stretch/>
        </p:blipFill>
        <p:spPr>
          <a:xfrm>
            <a:off x="534960" y="620640"/>
            <a:ext cx="38210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495680" y="333360"/>
            <a:ext cx="46483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3/15  мая* в семье преподавателя Киевской Духовной Академии Афанасия Ивановича Булгакова и его жены Варвары Михайловны (в девичестве - Покровской) в Киеве родился первый ребенок - сын, Михаил Афанасьевич Булгаков. Место рождения - дом священника о. Матвея Бутовского (Воздвиженская ул., 2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Picture 4" descr="father"/>
          <p:cNvPicPr/>
          <p:nvPr/>
        </p:nvPicPr>
        <p:blipFill>
          <a:blip r:embed="rId1"/>
          <a:stretch/>
        </p:blipFill>
        <p:spPr>
          <a:xfrm>
            <a:off x="324000" y="620640"/>
            <a:ext cx="1882800" cy="2521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слайд2"/>
          <p:cNvPicPr/>
          <p:nvPr/>
        </p:nvPicPr>
        <p:blipFill>
          <a:blip r:embed="rId2"/>
          <a:stretch/>
        </p:blipFill>
        <p:spPr>
          <a:xfrm>
            <a:off x="179280" y="3427560"/>
            <a:ext cx="4392720" cy="305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mother"/>
          <p:cNvPicPr/>
          <p:nvPr/>
        </p:nvPicPr>
        <p:blipFill>
          <a:blip r:embed="rId3"/>
          <a:stretch/>
        </p:blipFill>
        <p:spPr>
          <a:xfrm>
            <a:off x="2556000" y="692280"/>
            <a:ext cx="1944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716000" y="110016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imes New Roman"/>
              </a:rPr>
              <a:t>1891 г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66ff33"/>
                </a:solidFill>
                <a:latin typeface="Times New Roman"/>
              </a:rPr>
              <a:t>18 мая - крещен по православному обряду в Крестовоздвиженской церкви (на Подоле) священником о. М. Бутовским. Имя дано в честь хранителя города Киева архангела Михаила. Крестными родителями стали ординарный профессор КДА Николай Иванович Петров и бабка Булгакова по отцовской линии Олимпиада Федоровна Булгак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церковь2"/>
          <p:cNvPicPr/>
          <p:nvPr/>
        </p:nvPicPr>
        <p:blipFill>
          <a:blip r:embed="rId1"/>
          <a:stretch/>
        </p:blipFill>
        <p:spPr>
          <a:xfrm>
            <a:off x="468360" y="1054080"/>
            <a:ext cx="4495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788000" y="907920"/>
            <a:ext cx="417672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01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2 августа - после окончания приготовительного класса начинает учебу в первом классе Первой киевской мужской Александровской гимназии (Бибиковский бульвар,14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7" descr="гимназия"/>
          <p:cNvPicPr/>
          <p:nvPr/>
        </p:nvPicPr>
        <p:blipFill>
          <a:blip r:embed="rId1"/>
          <a:stretch/>
        </p:blipFill>
        <p:spPr>
          <a:xfrm>
            <a:off x="468360" y="334800"/>
            <a:ext cx="4248000" cy="3052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гимназия2"/>
          <p:cNvPicPr/>
          <p:nvPr/>
        </p:nvPicPr>
        <p:blipFill>
          <a:blip r:embed="rId2"/>
          <a:stretch/>
        </p:blipFill>
        <p:spPr>
          <a:xfrm>
            <a:off x="468360" y="3645000"/>
            <a:ext cx="424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5021280" y="1627200"/>
            <a:ext cx="3735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Май - Булгаков оканчивает Первую Александровскую гимназ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Tahoma"/>
              </a:rPr>
              <a:t>8 июня - получает аттестат зрел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5" descr="gimnazist"/>
          <p:cNvPicPr/>
          <p:nvPr/>
        </p:nvPicPr>
        <p:blipFill>
          <a:blip r:embed="rId1"/>
          <a:stretch/>
        </p:blipFill>
        <p:spPr>
          <a:xfrm>
            <a:off x="455760" y="477720"/>
            <a:ext cx="4070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9280" y="981000"/>
            <a:ext cx="428472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09 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21 августа - Булгаков зачисляется студентом медицинского факультета Киевского университет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универ"/>
          <p:cNvPicPr/>
          <p:nvPr/>
        </p:nvPicPr>
        <p:blipFill>
          <a:blip r:embed="rId1"/>
          <a:stretch/>
        </p:blipFill>
        <p:spPr>
          <a:xfrm>
            <a:off x="250920" y="1052640"/>
            <a:ext cx="496872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140000" y="2923920"/>
            <a:ext cx="50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ff33"/>
                </a:solidFill>
                <a:uFillTx/>
                <a:latin typeface="Tahoma"/>
              </a:rPr>
              <a:t>1913 г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26 апреля - венчание Булгакова с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Т. Н. Лаппа в Киево-Подоль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церкви Николы Доброго. Венчал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друг семьи Булгаковых оте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лександр Глаго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прель - Булгаков и Т.Н. Лап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снимают квартиру на Рейтарс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сень - переезжают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Андреевский  спуск, 3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подол"/>
          <p:cNvPicPr/>
          <p:nvPr/>
        </p:nvPicPr>
        <p:blipFill>
          <a:blip r:embed="rId1"/>
          <a:stretch/>
        </p:blipFill>
        <p:spPr>
          <a:xfrm>
            <a:off x="4716360" y="225360"/>
            <a:ext cx="4248360" cy="2482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0001SM"/>
          <p:cNvPicPr/>
          <p:nvPr/>
        </p:nvPicPr>
        <p:blipFill>
          <a:blip r:embed="rId2"/>
          <a:stretch/>
        </p:blipFill>
        <p:spPr>
          <a:xfrm>
            <a:off x="165240" y="260280"/>
            <a:ext cx="3975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79000" y="4581360"/>
            <a:ext cx="8425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1916 г.</a:t>
            </a:r>
            <a:br>
              <a:rPr sz="2400"/>
            </a:br>
            <a:r>
              <a:rPr b="1" i="1" lang="ru-RU" sz="24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Окончание университета, служба госпитальным врачом хирургом. Призыв на военную службу.</a:t>
            </a:r>
            <a:r>
              <a:rPr b="1" i="1" lang="ru-RU" sz="2000" spc="-1" strike="noStrike">
                <a:solidFill>
                  <a:srgbClr val="0059d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5" descr="anglichanin"/>
          <p:cNvPicPr/>
          <p:nvPr/>
        </p:nvPicPr>
        <p:blipFill>
          <a:blip r:embed="rId1"/>
          <a:stretch/>
        </p:blipFill>
        <p:spPr>
          <a:xfrm>
            <a:off x="5634000" y="476280"/>
            <a:ext cx="3114720" cy="424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051_diplom"/>
          <p:cNvPicPr/>
          <p:nvPr/>
        </p:nvPicPr>
        <p:blipFill>
          <a:blip r:embed="rId2"/>
          <a:stretch/>
        </p:blipFill>
        <p:spPr>
          <a:xfrm>
            <a:off x="590400" y="476280"/>
            <a:ext cx="3189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8:27:24Z</dcterms:created>
  <dc:creator>WWW</dc:creator>
  <dc:description/>
  <dc:language>en-US</dc:language>
  <cp:lastModifiedBy>роман</cp:lastModifiedBy>
  <dcterms:modified xsi:type="dcterms:W3CDTF">2011-12-15T17:47:04Z</dcterms:modified>
  <cp:revision>97</cp:revision>
  <dc:subject/>
  <dc:title>Слайд 1</dc:title>
</cp:coreProperties>
</file>