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200-B963-422A-ABB8-32D359FA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68D-10EE-43AE-8C3E-2D8158C9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880-8172-449B-8D43-1DB78A96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DCA-4818-4B84-BF95-29AF6C99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2D50-ED34-47BF-8A5B-EB335042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E35B-C0D9-4C8E-AEB0-307C911E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8962-8876-4BFC-B366-6A24D91C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51B1-9D1B-4774-A8C1-4AE3F423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9A9C-44B3-4114-98C2-70F67F27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54D7-06FC-4FBE-A68A-1B2F289A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C380-FB62-4EB8-ACB4-5682F12F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389-F5A2-468A-B743-21ED6FA9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7D36-D648-4F33-B7C5-6B133574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0816-A89B-4809-8886-C5BB0E99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A989-B2FC-44BA-8F04-A6615C46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8000-5813-4D37-B01D-5E4B647F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98AD-8B3E-4B2E-818B-F67BFFB8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E34-8333-4B15-A876-6903C0C8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39E-0B43-4C3C-819E-42D0CC68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D51-2BEF-4B19-B9A7-05CBC085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2A6-6D25-4708-8A6C-0423CE14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4A7-A3C6-4B48-BC9F-E08E2C99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F97-9762-44C9-A5E7-CD78665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B4B-DD6F-47AD-9F0D-92B418CD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DDFD-5C8C-4ADE-ACD2-56C4F77F640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A975-303D-42E7-BFA2-18548687AFE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harla.ru/uploads/images/d/c/6/1/10/e7c73317a3.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voyrebenok.ru/images/drawings/pyatachok/b/9.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psdmania.ru/uploads/posts/2011-05/1306204184_1.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tattmight.com/albums/userpics/1/20/Piglet.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Число и цифра 6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к уроку математи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тавлена учителем начальных класс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харевой С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692360" y="1773360"/>
            <a:ext cx="6696000" cy="1584360"/>
            <a:chOff x="1692360" y="1773360"/>
            <a:chExt cx="6696000" cy="1584360"/>
          </a:xfrm>
        </p:grpSpPr>
        <p:sp>
          <p:nvSpPr>
            <p:cNvPr id="229" name=""/>
            <p:cNvSpPr/>
            <p:nvPr/>
          </p:nvSpPr>
          <p:spPr>
            <a:xfrm>
              <a:off x="1692360" y="1773360"/>
              <a:ext cx="6696000" cy="158436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782000" y="2099880"/>
              <a:ext cx="2991600" cy="437040"/>
              <a:chOff x="1782000" y="2099880"/>
              <a:chExt cx="2991600" cy="437040"/>
            </a:xfrm>
          </p:grpSpPr>
          <p:sp>
            <p:nvSpPr>
              <p:cNvPr id="231" name=""/>
              <p:cNvSpPr/>
              <p:nvPr/>
            </p:nvSpPr>
            <p:spPr>
              <a:xfrm>
                <a:off x="2153880" y="224280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3120" y="224352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78080" y="224532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4360" y="22388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79520" y="22460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782000" y="2099880"/>
                <a:ext cx="2873160" cy="149400"/>
                <a:chOff x="1782000" y="2099880"/>
                <a:chExt cx="2873160" cy="14940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1782000" y="2169360"/>
                  <a:ext cx="28713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2267280" y="210600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2768040" y="2099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3268440" y="2107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3759120" y="2107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1782000" y="210600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4192200" y="2107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4655160" y="211392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4530960" y="224280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61520" y="2110320"/>
              <a:ext cx="2991600" cy="437040"/>
              <a:chOff x="4961520" y="2110320"/>
              <a:chExt cx="2991600" cy="437040"/>
            </a:xfrm>
          </p:grpSpPr>
          <p:sp>
            <p:nvSpPr>
              <p:cNvPr id="247" name=""/>
              <p:cNvSpPr/>
              <p:nvPr/>
            </p:nvSpPr>
            <p:spPr>
              <a:xfrm>
                <a:off x="5333400" y="22532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22640" y="225396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57600" y="225576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33880" y="224928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59040" y="225648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961520" y="2110320"/>
                <a:ext cx="2873160" cy="149400"/>
                <a:chOff x="4961520" y="2110320"/>
                <a:chExt cx="2873160" cy="1494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4961520" y="2179800"/>
                  <a:ext cx="28713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5446800" y="2116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5947560" y="211032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6447960" y="2117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6938640" y="2117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4961520" y="2116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7371720" y="2117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7834680" y="212436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7710480" y="22532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646360" y="2724480"/>
              <a:ext cx="1667160" cy="468000"/>
              <a:chOff x="2646360" y="2724480"/>
              <a:chExt cx="1667160" cy="468000"/>
            </a:xfrm>
          </p:grpSpPr>
          <p:sp>
            <p:nvSpPr>
              <p:cNvPr id="263" name=""/>
              <p:cNvSpPr/>
              <p:nvPr/>
            </p:nvSpPr>
            <p:spPr>
              <a:xfrm>
                <a:off x="2646360" y="2724480"/>
                <a:ext cx="1387080" cy="44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+ 3 + 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60640" y="2729160"/>
                <a:ext cx="452880" cy="463320"/>
              </a:xfrm>
              <a:prstGeom prst="rect">
                <a:avLst/>
              </a:prstGeom>
              <a:noFill/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484600" y="2712240"/>
              <a:ext cx="1667520" cy="468000"/>
              <a:chOff x="5484600" y="2712240"/>
              <a:chExt cx="1667520" cy="468000"/>
            </a:xfrm>
          </p:grpSpPr>
          <p:sp>
            <p:nvSpPr>
              <p:cNvPr id="266" name=""/>
              <p:cNvSpPr/>
              <p:nvPr/>
            </p:nvSpPr>
            <p:spPr>
              <a:xfrm>
                <a:off x="5484600" y="2712240"/>
                <a:ext cx="1387440" cy="44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 – 3 – 2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99240" y="2716920"/>
                <a:ext cx="452880" cy="463320"/>
              </a:xfrm>
              <a:prstGeom prst="rect">
                <a:avLst/>
              </a:prstGeom>
              <a:noFill/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8" name="Рисунок 11" descr="Картинка 12 из 18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760" y="0"/>
            <a:ext cx="12906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68400" y="1527120"/>
            <a:ext cx="1523880" cy="1676520"/>
          </a:xfrm>
          <a:prstGeom prst="rect">
            <a:avLst/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25920" y="1382760"/>
            <a:ext cx="1523880" cy="1676520"/>
          </a:xfrm>
          <a:prstGeom prst="rect">
            <a:avLst/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7960" y="1230480"/>
            <a:ext cx="1524240" cy="1676160"/>
          </a:xfrm>
          <a:prstGeom prst="rect">
            <a:avLst/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92080" y="115920"/>
            <a:ext cx="1676520" cy="1411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49600" y="0"/>
            <a:ext cx="1676520" cy="1382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2000" y="620640"/>
            <a:ext cx="1676160" cy="6098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83120" y="1916280"/>
            <a:ext cx="6094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01920" y="2212920"/>
            <a:ext cx="3808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01920" y="2365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30520" y="2365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83120" y="2144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87680" y="2144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45160" y="1763640"/>
            <a:ext cx="6098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45160" y="199224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0080" y="19922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328464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трёх домиках живут            ,               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игра и РУ живут в домиках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ольшими окнами. Пятачок и Тигр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ивут в  домиках с высокой крыш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то в каком домике жив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5" descr="Картинка 14 из 42526"/>
          <p:cNvPicPr/>
          <p:nvPr/>
        </p:nvPicPr>
        <p:blipFill>
          <a:blip r:embed="rId1"/>
          <a:srcRect l="19347" t="0" r="16073" b="0"/>
          <a:stretch/>
        </p:blipFill>
        <p:spPr>
          <a:xfrm>
            <a:off x="4716360" y="3068640"/>
            <a:ext cx="766800" cy="118728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0" descr="Картинка 3 из 270"/>
          <p:cNvPicPr/>
          <p:nvPr/>
        </p:nvPicPr>
        <p:blipFill>
          <a:blip r:embed="rId2"/>
          <a:stretch/>
        </p:blipFill>
        <p:spPr>
          <a:xfrm>
            <a:off x="6084720" y="2997360"/>
            <a:ext cx="998640" cy="120168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8" descr="Картинка 9 из 5358"/>
          <p:cNvPicPr/>
          <p:nvPr/>
        </p:nvPicPr>
        <p:blipFill>
          <a:blip r:embed="rId3"/>
          <a:stretch/>
        </p:blipFill>
        <p:spPr>
          <a:xfrm>
            <a:off x="7956720" y="2997360"/>
            <a:ext cx="96012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-0.41736 -0.38842 E">
                                      <p:cBhvr>
                                        <p:cTn id="9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-0.35434 -0.35695 E">
                                      <p:cBhvr>
                                        <p:cTn id="9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0158 -0.35695 E">
                                      <p:cBhvr>
                                        <p:cTn id="10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1403280" y="1916280"/>
            <a:ext cx="6192000" cy="2375640"/>
            <a:chOff x="1403280" y="1916280"/>
            <a:chExt cx="6192000" cy="2375640"/>
          </a:xfrm>
        </p:grpSpPr>
        <p:grpSp>
          <p:nvGrpSpPr>
            <p:cNvPr id="289" name=""/>
            <p:cNvGrpSpPr/>
            <p:nvPr/>
          </p:nvGrpSpPr>
          <p:grpSpPr>
            <a:xfrm>
              <a:off x="1988280" y="2386080"/>
              <a:ext cx="1703160" cy="1439640"/>
              <a:chOff x="1988280" y="2386080"/>
              <a:chExt cx="1703160" cy="1439640"/>
            </a:xfrm>
          </p:grpSpPr>
          <p:sp>
            <p:nvSpPr>
              <p:cNvPr id="290" name=""/>
              <p:cNvSpPr/>
              <p:nvPr/>
            </p:nvSpPr>
            <p:spPr>
              <a:xfrm>
                <a:off x="1988280" y="2386080"/>
                <a:ext cx="1703160" cy="1439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6600" y="2710080"/>
                <a:ext cx="375120" cy="32184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19400" y="2697480"/>
                <a:ext cx="374760" cy="32220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861640" y="2859480"/>
                <a:ext cx="6120" cy="54504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2491920" y="3074760"/>
                <a:ext cx="753120" cy="64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5" y="9370"/>
                    </a:moveTo>
                    <a:arcTo wR="10800" hR="10800" stAng="-10343570" swAng="10343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5" y="9370"/>
                    </a:moveTo>
                    <a:arcTo wR="10800" hR="10800" stAng="-10343570" swAng="10343570"/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1403280" y="1916280"/>
              <a:ext cx="2910600" cy="23328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685040" y="1959480"/>
              <a:ext cx="2910240" cy="2332440"/>
              <a:chOff x="4685040" y="1959480"/>
              <a:chExt cx="2910240" cy="23324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330160" y="2432880"/>
                <a:ext cx="1703160" cy="1439280"/>
                <a:chOff x="5330160" y="2432880"/>
                <a:chExt cx="1703160" cy="1439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330160" y="2432880"/>
                  <a:ext cx="1703160" cy="1439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568840" y="2756520"/>
                  <a:ext cx="374760" cy="32184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461280" y="2743920"/>
                  <a:ext cx="375120" cy="32184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6203520" y="2905920"/>
                  <a:ext cx="6120" cy="545040"/>
                </a:xfrm>
                <a:prstGeom prst="line">
                  <a:avLst/>
                </a:prstGeom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895720" y="3574800"/>
                  <a:ext cx="713880" cy="17640"/>
                </a:xfrm>
                <a:prstGeom prst="line">
                  <a:avLst/>
                </a:prstGeom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4685040" y="1959480"/>
                <a:ext cx="2910240" cy="2332440"/>
              </a:xfrm>
              <a:prstGeom prst="rect">
                <a:avLst/>
              </a:prstGeom>
              <a:noFill/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76280" cy="1955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21125" t="-5188" r="10438" b="0"/>
          <a:stretch/>
        </p:blipFill>
        <p:spPr>
          <a:xfrm>
            <a:off x="1258920" y="2421000"/>
            <a:ext cx="103032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708360" y="2492280"/>
            <a:ext cx="1513080" cy="1579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219640" y="2349360"/>
            <a:ext cx="1224000" cy="1689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667640" y="2205000"/>
            <a:ext cx="1295280" cy="1928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516720" y="242100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2484360" y="2349360"/>
            <a:ext cx="9381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0.42327 -0.02084 E">
                                      <p:cBhvr>
                                        <p:cTn id="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1481E-006 L -0.43993 -0.01042 E">
                                      <p:cBhvr>
                                        <p:cTn id="1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528 L 0.60833 -0.0257 E">
                                      <p:cBhvr>
                                        <p:cTn id="1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0.59062 0.01042 E">
                                      <p:cBhvr>
                                        <p:cTn id="1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088 L 0.30711 0.02176 E">
                                      <p:cBhvr>
                                        <p:cTn id="2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-0.00185 L -0.33281 -0.00185 E">
                                      <p:cBhvr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Работаем в пар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77720" y="2056680"/>
            <a:ext cx="5943960" cy="2328120"/>
            <a:chOff x="1377720" y="2056680"/>
            <a:chExt cx="5943960" cy="2328120"/>
          </a:xfrm>
        </p:grpSpPr>
        <p:sp>
          <p:nvSpPr>
            <p:cNvPr id="162" name=""/>
            <p:cNvSpPr/>
            <p:nvPr/>
          </p:nvSpPr>
          <p:spPr>
            <a:xfrm>
              <a:off x="1377720" y="2056680"/>
              <a:ext cx="2437920" cy="2328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7200" y="2677680"/>
              <a:ext cx="304920" cy="465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1600" y="2677680"/>
              <a:ext cx="304920" cy="465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759800">
              <a:off x="1724760" y="2550960"/>
              <a:ext cx="1524600" cy="12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74" y="70"/>
                  </a:moveTo>
                  <a:arcTo wR="10800" hR="10800" stAng="-5791188" swAng="5791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9574" y="70"/>
                  </a:moveTo>
                  <a:arcTo wR="10800" hR="10800" stAng="-5791188" swAng="57911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82680" y="2056680"/>
              <a:ext cx="2439000" cy="2328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92880" y="2677680"/>
              <a:ext cx="303840" cy="465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7280" y="2677680"/>
              <a:ext cx="303840" cy="465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759800">
              <a:off x="5316120" y="2550960"/>
              <a:ext cx="1524600" cy="12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74" y="70"/>
                  </a:moveTo>
                  <a:arcTo wR="10800" hR="10800" stAng="-5791188" swAng="5791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9574" y="70"/>
                  </a:moveTo>
                  <a:arcTo wR="10800" hR="10800" stAng="-5791188" swAng="57911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496360" cy="1726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8496360" cy="1727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80000" y="3068640"/>
            <a:ext cx="28728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3068640"/>
            <a:ext cx="30024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3068640"/>
            <a:ext cx="30024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3068640"/>
            <a:ext cx="28908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8920" y="3068640"/>
            <a:ext cx="28908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83640" y="3068640"/>
            <a:ext cx="28872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360" y="3068640"/>
            <a:ext cx="30168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3280" y="306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068640"/>
            <a:ext cx="2890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306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3068640"/>
            <a:ext cx="2890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Картинка 14 из 8417"/>
          <p:cNvPicPr/>
          <p:nvPr/>
        </p:nvPicPr>
        <p:blipFill>
          <a:blip r:embed="rId3"/>
          <a:stretch/>
        </p:blipFill>
        <p:spPr>
          <a:xfrm>
            <a:off x="5580000" y="4292640"/>
            <a:ext cx="30434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6" descr="Картинка 36 из 12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3360"/>
            <a:ext cx="2233440" cy="259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92360" y="2852640"/>
            <a:ext cx="114300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486900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522936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924280"/>
            <a:ext cx="1143000" cy="2057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9880" y="501336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6320" y="535140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61080" y="2779560"/>
            <a:ext cx="114300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3080" y="486900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21440" y="515628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7080" y="2779560"/>
            <a:ext cx="1143000" cy="2057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81680" y="486900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520704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3080" y="2852640"/>
            <a:ext cx="1143000" cy="20574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57680" y="4941720"/>
            <a:ext cx="228600" cy="343080"/>
          </a:xfrm>
          <a:prstGeom prst="triangle">
            <a:avLst>
              <a:gd name="adj" fmla="val 50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24480" y="528012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87640" y="2924280"/>
            <a:ext cx="1143000" cy="205740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2240" y="501336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98680" y="5351400"/>
            <a:ext cx="41940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2.22222E-006 L 0.41025 -0.00301 E">
                                      <p:cBhvr>
                                        <p:cTn id="8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0648 L 0.41129 0.00648 E">
                                      <p:cBhvr>
                                        <p:cTn id="8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1 -0.01111 L 0.41545 -0.01111 E">
                                      <p:cBhvr>
                                        <p:cTn id="8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27010" t="0" r="0" b="0"/>
          <a:stretch/>
        </p:blipFill>
        <p:spPr>
          <a:xfrm>
            <a:off x="1619280" y="1052640"/>
            <a:ext cx="6516720" cy="457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25413" t="6276" r="0" b="0"/>
          <a:stretch/>
        </p:blipFill>
        <p:spPr>
          <a:xfrm>
            <a:off x="1042920" y="836640"/>
            <a:ext cx="7524720" cy="484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2628720" y="3212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7440" y="3715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7440" y="4220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8720" y="4723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25413" t="7870" r="0" b="0"/>
          <a:stretch/>
        </p:blipFill>
        <p:spPr>
          <a:xfrm>
            <a:off x="900000" y="981000"/>
            <a:ext cx="7417080" cy="4695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2413080" y="3212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3080" y="371556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3080" y="4220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13080" y="4723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97440" y="314100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7440" y="33570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2160" y="3428280"/>
            <a:ext cx="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7800" y="1988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93080" cy="470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428360" y="349920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77800" y="349920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0360" y="53726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53726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88000" y="53726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+ 1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0720" y="630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7440" y="630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7" descr="Картинка 9 из 45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835280" cy="20606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Картинка 14 из 4252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63640" y="189000"/>
            <a:ext cx="1114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22:27Z</dcterms:created>
  <dc:creator>Светлана</dc:creator>
  <dc:description/>
  <dc:language>en-US</dc:language>
  <cp:lastModifiedBy>Светлана</cp:lastModifiedBy>
  <dcterms:modified xsi:type="dcterms:W3CDTF">2011-11-26T13:57:34Z</dcterms:modified>
  <cp:revision>12</cp:revision>
  <dc:subject/>
  <dc:title>Слайд 1</dc:title>
</cp:coreProperties>
</file>