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AFE0-D27B-44C4-A455-7690BF6F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03C4-B445-43A0-81C4-E66B1E00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C4A8-F47A-4904-9560-3FDE698B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43F6-2099-455F-9504-3CD4D0CC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56D8-AC9D-4484-BF25-6D94FE77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17DD-A1C9-4EDA-B354-993E849E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3CD7-B811-4305-96EF-982B3161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A8DF-A4D2-4FE4-9157-3AE65DEB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43B1-BBA9-40C5-95B7-4B87AB8C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B973-9B29-43ED-92F2-92805F34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38E8-0FDB-4DC2-9435-EDF13574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ECED-280A-45D1-AA59-5E3AC767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59BA-8CCC-454D-9F68-4DF11559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F6D3-EB25-416E-90F1-099B2122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BDCF-05A2-4498-AFFE-B9D42587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7491-D7AB-44B1-94FA-D4B9AB9C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5A0E-620A-4480-BA00-8BEF7334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3F74-4945-4140-B6EF-3B6280A4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9CBF-64BD-474A-8A28-B78DB0AC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026C-B2D8-4A0D-9539-2C9D26B4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6B14-908C-4809-AFF9-F22D970C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4B55-0341-4D88-B793-4D77FA73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A236-1B0F-4D55-93BE-B9764386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B4B4-9483-4A93-B5BE-B461BB82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E33F-E552-4DE6-8974-414E1248AFB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A88C-672F-4483-BE79-A11C90BAE6E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harla.ru/uploads/images/d/c/6/1/10/e7c73317a3.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voyrebenok.ru/images/drawings/pyatachok/b/9.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psdmania.ru/uploads/posts/2011-05/1306204184_1.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www.tattmight.com/albums/userpics/1/20/Piglet.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Число и цифра 6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зентация к уроку математи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ставлена учителем начальных классов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ахаревой С.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1692360" y="1773360"/>
            <a:ext cx="6696000" cy="1584360"/>
            <a:chOff x="1692360" y="1773360"/>
            <a:chExt cx="6696000" cy="1584360"/>
          </a:xfrm>
        </p:grpSpPr>
        <p:sp>
          <p:nvSpPr>
            <p:cNvPr id="229" name=""/>
            <p:cNvSpPr/>
            <p:nvPr/>
          </p:nvSpPr>
          <p:spPr>
            <a:xfrm>
              <a:off x="1692360" y="1773360"/>
              <a:ext cx="6696000" cy="158436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1782000" y="2099880"/>
              <a:ext cx="2991600" cy="437040"/>
              <a:chOff x="1782000" y="2099880"/>
              <a:chExt cx="2991600" cy="437040"/>
            </a:xfrm>
          </p:grpSpPr>
          <p:sp>
            <p:nvSpPr>
              <p:cNvPr id="231" name=""/>
              <p:cNvSpPr/>
              <p:nvPr/>
            </p:nvSpPr>
            <p:spPr>
              <a:xfrm>
                <a:off x="2153880" y="224280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643120" y="224352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178080" y="224532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4360" y="223884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079520" y="224604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1782000" y="2099880"/>
                <a:ext cx="2873160" cy="149400"/>
                <a:chOff x="1782000" y="2099880"/>
                <a:chExt cx="2873160" cy="149400"/>
              </a:xfrm>
            </p:grpSpPr>
            <p:sp>
              <p:nvSpPr>
                <p:cNvPr id="237" name=""/>
                <p:cNvSpPr/>
                <p:nvPr/>
              </p:nvSpPr>
              <p:spPr>
                <a:xfrm flipV="1">
                  <a:off x="1782000" y="2169360"/>
                  <a:ext cx="287136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2267280" y="210600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>
                  <a:off x="2768040" y="209988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3268440" y="210744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>
                  <a:off x="3759120" y="210744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V="1">
                  <a:off x="1782000" y="210600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4192200" y="210744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V="1">
                  <a:off x="4655160" y="211392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"/>
              <p:cNvSpPr/>
              <p:nvPr/>
            </p:nvSpPr>
            <p:spPr>
              <a:xfrm>
                <a:off x="4530960" y="224280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961520" y="2110320"/>
              <a:ext cx="2991600" cy="437040"/>
              <a:chOff x="4961520" y="2110320"/>
              <a:chExt cx="2991600" cy="437040"/>
            </a:xfrm>
          </p:grpSpPr>
          <p:sp>
            <p:nvSpPr>
              <p:cNvPr id="247" name=""/>
              <p:cNvSpPr/>
              <p:nvPr/>
            </p:nvSpPr>
            <p:spPr>
              <a:xfrm>
                <a:off x="5333400" y="225324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822640" y="225396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57600" y="225576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833880" y="224928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259040" y="225648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961520" y="2110320"/>
                <a:ext cx="2873160" cy="149400"/>
                <a:chOff x="4961520" y="2110320"/>
                <a:chExt cx="2873160" cy="149400"/>
              </a:xfrm>
            </p:grpSpPr>
            <p:sp>
              <p:nvSpPr>
                <p:cNvPr id="253" name=""/>
                <p:cNvSpPr/>
                <p:nvPr/>
              </p:nvSpPr>
              <p:spPr>
                <a:xfrm flipV="1">
                  <a:off x="4961520" y="2179800"/>
                  <a:ext cx="287136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5446800" y="211644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V="1">
                  <a:off x="5947560" y="211032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V="1">
                  <a:off x="6447960" y="211788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V="1">
                  <a:off x="6938640" y="211788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V="1">
                  <a:off x="4961520" y="211644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V="1">
                  <a:off x="7371720" y="211788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V="1">
                  <a:off x="7834680" y="2124360"/>
                  <a:ext cx="0" cy="13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>
                <a:off x="7710480" y="2253240"/>
                <a:ext cx="24264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646360" y="2724480"/>
              <a:ext cx="1667160" cy="468000"/>
              <a:chOff x="2646360" y="2724480"/>
              <a:chExt cx="1667160" cy="468000"/>
            </a:xfrm>
          </p:grpSpPr>
          <p:sp>
            <p:nvSpPr>
              <p:cNvPr id="263" name=""/>
              <p:cNvSpPr/>
              <p:nvPr/>
            </p:nvSpPr>
            <p:spPr>
              <a:xfrm>
                <a:off x="2646360" y="2724480"/>
                <a:ext cx="1387080" cy="44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 + 3 + 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860640" y="2729160"/>
                <a:ext cx="452880" cy="463320"/>
              </a:xfrm>
              <a:prstGeom prst="rect">
                <a:avLst/>
              </a:prstGeom>
              <a:noFill/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5484600" y="2712240"/>
              <a:ext cx="1667520" cy="468000"/>
              <a:chOff x="5484600" y="2712240"/>
              <a:chExt cx="1667520" cy="468000"/>
            </a:xfrm>
          </p:grpSpPr>
          <p:sp>
            <p:nvSpPr>
              <p:cNvPr id="266" name=""/>
              <p:cNvSpPr/>
              <p:nvPr/>
            </p:nvSpPr>
            <p:spPr>
              <a:xfrm>
                <a:off x="5484600" y="2712240"/>
                <a:ext cx="1387440" cy="44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 – 3 – 2 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699240" y="2716920"/>
                <a:ext cx="452880" cy="463320"/>
              </a:xfrm>
              <a:prstGeom prst="rect">
                <a:avLst/>
              </a:prstGeom>
              <a:noFill/>
              <a:ln w="190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8" name="Рисунок 11" descr="Картинка 12 из 18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3760" y="0"/>
            <a:ext cx="12906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968400" y="1527120"/>
            <a:ext cx="1523880" cy="1676520"/>
          </a:xfrm>
          <a:prstGeom prst="rect">
            <a:avLst/>
          </a:prstGeom>
          <a:noFill/>
          <a:ln w="381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25920" y="1382760"/>
            <a:ext cx="1523880" cy="1676520"/>
          </a:xfrm>
          <a:prstGeom prst="rect">
            <a:avLst/>
          </a:prstGeom>
          <a:noFill/>
          <a:ln w="381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87960" y="1230480"/>
            <a:ext cx="1524240" cy="1676160"/>
          </a:xfrm>
          <a:prstGeom prst="rect">
            <a:avLst/>
          </a:prstGeom>
          <a:noFill/>
          <a:ln w="381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92080" y="115920"/>
            <a:ext cx="1676520" cy="14112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49600" y="0"/>
            <a:ext cx="1676520" cy="138276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12000" y="620640"/>
            <a:ext cx="1676160" cy="6098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83120" y="1916280"/>
            <a:ext cx="6094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01920" y="2212920"/>
            <a:ext cx="38088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01920" y="23652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30520" y="2365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83120" y="2144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87680" y="2144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45160" y="1763640"/>
            <a:ext cx="60984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45160" y="199224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0080" y="199224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3284640"/>
            <a:ext cx="822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трёх домиках живут            ,                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игра и РУ живут в домиках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ольшими окнами. Пятачок и Тигра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живут в  домиках с высокой крыш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то в каком домике жив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Рисунок 5" descr="Картинка 14 из 42526"/>
          <p:cNvPicPr/>
          <p:nvPr/>
        </p:nvPicPr>
        <p:blipFill>
          <a:blip r:embed="rId1"/>
          <a:srcRect l="19347" t="0" r="16073" b="0"/>
          <a:stretch/>
        </p:blipFill>
        <p:spPr>
          <a:xfrm>
            <a:off x="4716360" y="3068640"/>
            <a:ext cx="766800" cy="118728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10" descr="Картинка 3 из 270"/>
          <p:cNvPicPr/>
          <p:nvPr/>
        </p:nvPicPr>
        <p:blipFill>
          <a:blip r:embed="rId2"/>
          <a:stretch/>
        </p:blipFill>
        <p:spPr>
          <a:xfrm>
            <a:off x="6084720" y="2997360"/>
            <a:ext cx="998640" cy="120168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8" descr="Картинка 9 из 5358"/>
          <p:cNvPicPr/>
          <p:nvPr/>
        </p:nvPicPr>
        <p:blipFill>
          <a:blip r:embed="rId3"/>
          <a:stretch/>
        </p:blipFill>
        <p:spPr>
          <a:xfrm>
            <a:off x="7956720" y="2997360"/>
            <a:ext cx="960120" cy="14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33333E-006 L -0.41736 -0.38842 E">
                                      <p:cBhvr>
                                        <p:cTn id="93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-0.35434 -0.35695 E">
                                      <p:cBhvr>
                                        <p:cTn id="97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0.0158 -0.35695 E">
                                      <p:cBhvr>
                                        <p:cTn id="101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1403280" y="1916280"/>
            <a:ext cx="6192000" cy="2375640"/>
            <a:chOff x="1403280" y="1916280"/>
            <a:chExt cx="6192000" cy="2375640"/>
          </a:xfrm>
        </p:grpSpPr>
        <p:grpSp>
          <p:nvGrpSpPr>
            <p:cNvPr id="289" name=""/>
            <p:cNvGrpSpPr/>
            <p:nvPr/>
          </p:nvGrpSpPr>
          <p:grpSpPr>
            <a:xfrm>
              <a:off x="1988280" y="2386080"/>
              <a:ext cx="1703160" cy="1439640"/>
              <a:chOff x="1988280" y="2386080"/>
              <a:chExt cx="1703160" cy="1439640"/>
            </a:xfrm>
          </p:grpSpPr>
          <p:sp>
            <p:nvSpPr>
              <p:cNvPr id="290" name=""/>
              <p:cNvSpPr/>
              <p:nvPr/>
            </p:nvSpPr>
            <p:spPr>
              <a:xfrm>
                <a:off x="1988280" y="2386080"/>
                <a:ext cx="1703160" cy="1439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26600" y="2710080"/>
                <a:ext cx="375120" cy="321840"/>
              </a:xfrm>
              <a:prstGeom prst="ellipse">
                <a:avLst/>
              </a:prstGeom>
              <a:solidFill>
                <a:srgbClr val="66ccff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119400" y="2697480"/>
                <a:ext cx="374760" cy="322200"/>
              </a:xfrm>
              <a:prstGeom prst="ellipse">
                <a:avLst/>
              </a:prstGeom>
              <a:solidFill>
                <a:srgbClr val="66ccff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2861640" y="2859480"/>
                <a:ext cx="6120" cy="54504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2491920" y="3074760"/>
                <a:ext cx="753120" cy="64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5" y="9370"/>
                    </a:moveTo>
                    <a:arcTo wR="10800" hR="10800" stAng="-10343570" swAng="103435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5" y="9370"/>
                    </a:moveTo>
                    <a:arcTo wR="10800" hR="10800" stAng="-10343570" swAng="10343570"/>
                  </a:path>
                </a:pathLst>
              </a:custGeom>
              <a:noFill/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1403280" y="1916280"/>
              <a:ext cx="2910600" cy="233280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4685040" y="1959480"/>
              <a:ext cx="2910240" cy="2332440"/>
              <a:chOff x="4685040" y="1959480"/>
              <a:chExt cx="2910240" cy="233244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5330160" y="2432880"/>
                <a:ext cx="1703160" cy="1439280"/>
                <a:chOff x="5330160" y="2432880"/>
                <a:chExt cx="1703160" cy="1439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330160" y="2432880"/>
                  <a:ext cx="1703160" cy="14392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568840" y="2756520"/>
                  <a:ext cx="374760" cy="321840"/>
                </a:xfrm>
                <a:prstGeom prst="ellipse">
                  <a:avLst/>
                </a:prstGeom>
                <a:solidFill>
                  <a:srgbClr val="66ccff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461280" y="2743920"/>
                  <a:ext cx="375120" cy="321840"/>
                </a:xfrm>
                <a:prstGeom prst="ellipse">
                  <a:avLst/>
                </a:prstGeom>
                <a:solidFill>
                  <a:srgbClr val="66ccff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>
                  <a:off x="6203520" y="2905920"/>
                  <a:ext cx="6120" cy="545040"/>
                </a:xfrm>
                <a:prstGeom prst="line">
                  <a:avLst/>
                </a:prstGeom>
                <a:ln w="284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5895720" y="3574800"/>
                  <a:ext cx="713880" cy="17640"/>
                </a:xfrm>
                <a:prstGeom prst="line">
                  <a:avLst/>
                </a:prstGeom>
                <a:ln w="284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3" name=""/>
              <p:cNvSpPr/>
              <p:nvPr/>
            </p:nvSpPr>
            <p:spPr>
              <a:xfrm>
                <a:off x="4685040" y="1959480"/>
                <a:ext cx="2910240" cy="2332440"/>
              </a:xfrm>
              <a:prstGeom prst="rect">
                <a:avLst/>
              </a:prstGeom>
              <a:noFill/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1376280" cy="1955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rcRect l="21125" t="-5188" r="10438" b="0"/>
          <a:stretch/>
        </p:blipFill>
        <p:spPr>
          <a:xfrm>
            <a:off x="1258920" y="2421000"/>
            <a:ext cx="1030320" cy="1584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708360" y="2492280"/>
            <a:ext cx="1513080" cy="1579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5219640" y="2349360"/>
            <a:ext cx="1224000" cy="1689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7667640" y="2205000"/>
            <a:ext cx="1295280" cy="1928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6516720" y="242100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2484360" y="2349360"/>
            <a:ext cx="93816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0.42327 -0.02084 E">
                                      <p:cBhvr>
                                        <p:cTn id="6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81481E-006 L -0.43993 -0.01042 E">
                                      <p:cBhvr>
                                        <p:cTn id="10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1528 L 0.60833 -0.0257 E">
                                      <p:cBhvr>
                                        <p:cTn id="14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48148E-006 L -0.59062 0.01042 E">
                                      <p:cBhvr>
                                        <p:cTn id="1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1 0.01088 L 0.30711 0.02176 E">
                                      <p:cBhvr>
                                        <p:cTn id="28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73 -0.00185 L -0.33281 -0.00185 E">
                                      <p:cBhvr>
                                        <p:cTn id="32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Работаем в пар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377720" y="2056680"/>
            <a:ext cx="5943960" cy="2328120"/>
            <a:chOff x="1377720" y="2056680"/>
            <a:chExt cx="5943960" cy="2328120"/>
          </a:xfrm>
        </p:grpSpPr>
        <p:sp>
          <p:nvSpPr>
            <p:cNvPr id="162" name=""/>
            <p:cNvSpPr/>
            <p:nvPr/>
          </p:nvSpPr>
          <p:spPr>
            <a:xfrm>
              <a:off x="1377720" y="2056680"/>
              <a:ext cx="2437920" cy="23281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87200" y="2677680"/>
              <a:ext cx="304920" cy="465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01600" y="2677680"/>
              <a:ext cx="304920" cy="465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1759800">
              <a:off x="1724760" y="2550960"/>
              <a:ext cx="1524600" cy="12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574" y="70"/>
                  </a:moveTo>
                  <a:arcTo wR="10800" hR="10800" stAng="-5791188" swAng="5791188"/>
                  <a:lnTo>
                    <a:pt x="10800" y="10800"/>
                  </a:lnTo>
                  <a:close/>
                </a:path>
                <a:path fill="none" w="21600" h="21600">
                  <a:moveTo>
                    <a:pt x="9574" y="70"/>
                  </a:moveTo>
                  <a:arcTo wR="10800" hR="10800" stAng="-5791188" swAng="5791188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82680" y="2056680"/>
              <a:ext cx="2439000" cy="23281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92880" y="2677680"/>
              <a:ext cx="303840" cy="465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07280" y="2677680"/>
              <a:ext cx="303840" cy="465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 rot="1759800">
              <a:off x="5316120" y="2550960"/>
              <a:ext cx="1524600" cy="12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574" y="70"/>
                  </a:moveTo>
                  <a:arcTo wR="10800" hR="10800" stAng="-5791188" swAng="5791188"/>
                  <a:lnTo>
                    <a:pt x="10800" y="10800"/>
                  </a:lnTo>
                  <a:close/>
                </a:path>
                <a:path fill="none" w="21600" h="21600">
                  <a:moveTo>
                    <a:pt x="9574" y="70"/>
                  </a:moveTo>
                  <a:arcTo wR="10800" hR="10800" stAng="-5791188" swAng="5791188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8496360" cy="1726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8496360" cy="1727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580000" y="3068640"/>
            <a:ext cx="287280" cy="287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3068640"/>
            <a:ext cx="300240" cy="287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3068640"/>
            <a:ext cx="300240" cy="287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59280" y="3068640"/>
            <a:ext cx="289080" cy="287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98920" y="3068640"/>
            <a:ext cx="289080" cy="287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883640" y="3068640"/>
            <a:ext cx="288720" cy="287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64360" y="3068640"/>
            <a:ext cx="301680" cy="287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3280" y="306864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43640" y="3068640"/>
            <a:ext cx="2890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19640" y="306864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2560" y="3068640"/>
            <a:ext cx="2890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Картинка 14 из 8417"/>
          <p:cNvPicPr/>
          <p:nvPr/>
        </p:nvPicPr>
        <p:blipFill>
          <a:blip r:embed="rId3"/>
          <a:stretch/>
        </p:blipFill>
        <p:spPr>
          <a:xfrm>
            <a:off x="5580000" y="4292640"/>
            <a:ext cx="30434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6" descr="Картинка 36 из 12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333360"/>
            <a:ext cx="2233440" cy="2592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92360" y="2852640"/>
            <a:ext cx="1143000" cy="2057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95640" y="4869000"/>
            <a:ext cx="228600" cy="342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24000" y="5229360"/>
            <a:ext cx="419040" cy="914400"/>
          </a:xfrm>
          <a:custGeom>
            <a:avLst/>
            <a:gdLst/>
            <a:ahLst/>
            <a:rect l="l" t="t" r="r" b="b"/>
            <a:pathLst>
              <a:path w="660" h="1440">
                <a:moveTo>
                  <a:pt x="390" y="0"/>
                </a:moveTo>
                <a:cubicBezTo>
                  <a:pt x="195" y="105"/>
                  <a:pt x="0" y="210"/>
                  <a:pt x="30" y="360"/>
                </a:cubicBezTo>
                <a:cubicBezTo>
                  <a:pt x="60" y="510"/>
                  <a:pt x="480" y="780"/>
                  <a:pt x="570" y="900"/>
                </a:cubicBezTo>
                <a:cubicBezTo>
                  <a:pt x="660" y="1020"/>
                  <a:pt x="600" y="1050"/>
                  <a:pt x="570" y="1080"/>
                </a:cubicBezTo>
                <a:cubicBezTo>
                  <a:pt x="540" y="1110"/>
                  <a:pt x="450" y="1050"/>
                  <a:pt x="390" y="1080"/>
                </a:cubicBezTo>
                <a:cubicBezTo>
                  <a:pt x="330" y="1110"/>
                  <a:pt x="240" y="1200"/>
                  <a:pt x="210" y="1260"/>
                </a:cubicBezTo>
                <a:cubicBezTo>
                  <a:pt x="180" y="1320"/>
                  <a:pt x="210" y="1410"/>
                  <a:pt x="210" y="14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2924280"/>
            <a:ext cx="1143000" cy="2057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9880" y="5013360"/>
            <a:ext cx="228600" cy="342720"/>
          </a:xfrm>
          <a:prstGeom prst="triangle">
            <a:avLst>
              <a:gd name="adj" fmla="val 50000"/>
            </a:avLst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6320" y="5351400"/>
            <a:ext cx="419040" cy="914400"/>
          </a:xfrm>
          <a:custGeom>
            <a:avLst/>
            <a:gdLst/>
            <a:ahLst/>
            <a:rect l="l" t="t" r="r" b="b"/>
            <a:pathLst>
              <a:path w="660" h="1440">
                <a:moveTo>
                  <a:pt x="390" y="0"/>
                </a:moveTo>
                <a:cubicBezTo>
                  <a:pt x="195" y="105"/>
                  <a:pt x="0" y="210"/>
                  <a:pt x="30" y="360"/>
                </a:cubicBezTo>
                <a:cubicBezTo>
                  <a:pt x="60" y="510"/>
                  <a:pt x="480" y="780"/>
                  <a:pt x="570" y="900"/>
                </a:cubicBezTo>
                <a:cubicBezTo>
                  <a:pt x="660" y="1020"/>
                  <a:pt x="600" y="1050"/>
                  <a:pt x="570" y="1080"/>
                </a:cubicBezTo>
                <a:cubicBezTo>
                  <a:pt x="540" y="1110"/>
                  <a:pt x="450" y="1050"/>
                  <a:pt x="390" y="1080"/>
                </a:cubicBezTo>
                <a:cubicBezTo>
                  <a:pt x="330" y="1110"/>
                  <a:pt x="240" y="1200"/>
                  <a:pt x="210" y="1260"/>
                </a:cubicBezTo>
                <a:cubicBezTo>
                  <a:pt x="180" y="1320"/>
                  <a:pt x="210" y="1410"/>
                  <a:pt x="210" y="14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61080" y="2779560"/>
            <a:ext cx="1143000" cy="20574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93080" y="4869000"/>
            <a:ext cx="228600" cy="342720"/>
          </a:xfrm>
          <a:prstGeom prst="triangle">
            <a:avLst>
              <a:gd name="adj" fmla="val 50000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21440" y="5156280"/>
            <a:ext cx="419040" cy="914400"/>
          </a:xfrm>
          <a:custGeom>
            <a:avLst/>
            <a:gdLst/>
            <a:ahLst/>
            <a:rect l="l" t="t" r="r" b="b"/>
            <a:pathLst>
              <a:path w="660" h="1440">
                <a:moveTo>
                  <a:pt x="390" y="0"/>
                </a:moveTo>
                <a:cubicBezTo>
                  <a:pt x="195" y="105"/>
                  <a:pt x="0" y="210"/>
                  <a:pt x="30" y="360"/>
                </a:cubicBezTo>
                <a:cubicBezTo>
                  <a:pt x="60" y="510"/>
                  <a:pt x="480" y="780"/>
                  <a:pt x="570" y="900"/>
                </a:cubicBezTo>
                <a:cubicBezTo>
                  <a:pt x="660" y="1020"/>
                  <a:pt x="600" y="1050"/>
                  <a:pt x="570" y="1080"/>
                </a:cubicBezTo>
                <a:cubicBezTo>
                  <a:pt x="540" y="1110"/>
                  <a:pt x="450" y="1050"/>
                  <a:pt x="390" y="1080"/>
                </a:cubicBezTo>
                <a:cubicBezTo>
                  <a:pt x="330" y="1110"/>
                  <a:pt x="240" y="1200"/>
                  <a:pt x="210" y="1260"/>
                </a:cubicBezTo>
                <a:cubicBezTo>
                  <a:pt x="180" y="1320"/>
                  <a:pt x="210" y="1410"/>
                  <a:pt x="210" y="14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7080" y="2779560"/>
            <a:ext cx="1143000" cy="2057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81680" y="4869000"/>
            <a:ext cx="228600" cy="342720"/>
          </a:xfrm>
          <a:prstGeom prst="triangle">
            <a:avLst>
              <a:gd name="adj" fmla="val 50000"/>
            </a:avLst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48480" y="5207040"/>
            <a:ext cx="419040" cy="914400"/>
          </a:xfrm>
          <a:custGeom>
            <a:avLst/>
            <a:gdLst/>
            <a:ahLst/>
            <a:rect l="l" t="t" r="r" b="b"/>
            <a:pathLst>
              <a:path w="660" h="1440">
                <a:moveTo>
                  <a:pt x="390" y="0"/>
                </a:moveTo>
                <a:cubicBezTo>
                  <a:pt x="195" y="105"/>
                  <a:pt x="0" y="210"/>
                  <a:pt x="30" y="360"/>
                </a:cubicBezTo>
                <a:cubicBezTo>
                  <a:pt x="60" y="510"/>
                  <a:pt x="480" y="780"/>
                  <a:pt x="570" y="900"/>
                </a:cubicBezTo>
                <a:cubicBezTo>
                  <a:pt x="660" y="1020"/>
                  <a:pt x="600" y="1050"/>
                  <a:pt x="570" y="1080"/>
                </a:cubicBezTo>
                <a:cubicBezTo>
                  <a:pt x="540" y="1110"/>
                  <a:pt x="450" y="1050"/>
                  <a:pt x="390" y="1080"/>
                </a:cubicBezTo>
                <a:cubicBezTo>
                  <a:pt x="330" y="1110"/>
                  <a:pt x="240" y="1200"/>
                  <a:pt x="210" y="1260"/>
                </a:cubicBezTo>
                <a:cubicBezTo>
                  <a:pt x="180" y="1320"/>
                  <a:pt x="210" y="1410"/>
                  <a:pt x="210" y="14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13080" y="2852640"/>
            <a:ext cx="1143000" cy="2057400"/>
          </a:xfrm>
          <a:prstGeom prst="ellipse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57680" y="4941720"/>
            <a:ext cx="228600" cy="343080"/>
          </a:xfrm>
          <a:prstGeom prst="triangle">
            <a:avLst>
              <a:gd name="adj" fmla="val 50000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24480" y="5280120"/>
            <a:ext cx="419040" cy="914400"/>
          </a:xfrm>
          <a:custGeom>
            <a:avLst/>
            <a:gdLst/>
            <a:ahLst/>
            <a:rect l="l" t="t" r="r" b="b"/>
            <a:pathLst>
              <a:path w="660" h="1440">
                <a:moveTo>
                  <a:pt x="390" y="0"/>
                </a:moveTo>
                <a:cubicBezTo>
                  <a:pt x="195" y="105"/>
                  <a:pt x="0" y="210"/>
                  <a:pt x="30" y="360"/>
                </a:cubicBezTo>
                <a:cubicBezTo>
                  <a:pt x="60" y="510"/>
                  <a:pt x="480" y="780"/>
                  <a:pt x="570" y="900"/>
                </a:cubicBezTo>
                <a:cubicBezTo>
                  <a:pt x="660" y="1020"/>
                  <a:pt x="600" y="1050"/>
                  <a:pt x="570" y="1080"/>
                </a:cubicBezTo>
                <a:cubicBezTo>
                  <a:pt x="540" y="1110"/>
                  <a:pt x="450" y="1050"/>
                  <a:pt x="390" y="1080"/>
                </a:cubicBezTo>
                <a:cubicBezTo>
                  <a:pt x="330" y="1110"/>
                  <a:pt x="240" y="1200"/>
                  <a:pt x="210" y="1260"/>
                </a:cubicBezTo>
                <a:cubicBezTo>
                  <a:pt x="180" y="1320"/>
                  <a:pt x="210" y="1410"/>
                  <a:pt x="210" y="14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87640" y="2924280"/>
            <a:ext cx="1143000" cy="205740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32240" y="5013360"/>
            <a:ext cx="228600" cy="342720"/>
          </a:xfrm>
          <a:prstGeom prst="triangle">
            <a:avLst>
              <a:gd name="adj" fmla="val 50000"/>
            </a:avLst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98680" y="5351400"/>
            <a:ext cx="419400" cy="914400"/>
          </a:xfrm>
          <a:custGeom>
            <a:avLst/>
            <a:gdLst/>
            <a:ahLst/>
            <a:rect l="l" t="t" r="r" b="b"/>
            <a:pathLst>
              <a:path w="660" h="1440">
                <a:moveTo>
                  <a:pt x="390" y="0"/>
                </a:moveTo>
                <a:cubicBezTo>
                  <a:pt x="195" y="105"/>
                  <a:pt x="0" y="210"/>
                  <a:pt x="30" y="360"/>
                </a:cubicBezTo>
                <a:cubicBezTo>
                  <a:pt x="60" y="510"/>
                  <a:pt x="480" y="780"/>
                  <a:pt x="570" y="900"/>
                </a:cubicBezTo>
                <a:cubicBezTo>
                  <a:pt x="660" y="1020"/>
                  <a:pt x="600" y="1050"/>
                  <a:pt x="570" y="1080"/>
                </a:cubicBezTo>
                <a:cubicBezTo>
                  <a:pt x="540" y="1110"/>
                  <a:pt x="450" y="1050"/>
                  <a:pt x="390" y="1080"/>
                </a:cubicBezTo>
                <a:cubicBezTo>
                  <a:pt x="330" y="1110"/>
                  <a:pt x="240" y="1200"/>
                  <a:pt x="210" y="1260"/>
                </a:cubicBezTo>
                <a:cubicBezTo>
                  <a:pt x="180" y="1320"/>
                  <a:pt x="210" y="1410"/>
                  <a:pt x="210" y="14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76 -2.22222E-006 L 0.41025 -0.00301 E">
                                      <p:cBhvr>
                                        <p:cTn id="83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0648 L 0.41129 0.00648 E">
                                      <p:cBhvr>
                                        <p:cTn id="85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31 -0.01111 L 0.41545 -0.01111 E">
                                      <p:cBhvr>
                                        <p:cTn id="87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rcRect l="27010" t="0" r="0" b="0"/>
          <a:stretch/>
        </p:blipFill>
        <p:spPr>
          <a:xfrm>
            <a:off x="1619280" y="1052640"/>
            <a:ext cx="6516720" cy="4576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25413" t="6276" r="0" b="0"/>
          <a:stretch/>
        </p:blipFill>
        <p:spPr>
          <a:xfrm>
            <a:off x="1042920" y="836640"/>
            <a:ext cx="7524720" cy="4846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05" name=""/>
          <p:cNvSpPr/>
          <p:nvPr/>
        </p:nvSpPr>
        <p:spPr>
          <a:xfrm>
            <a:off x="2628720" y="321228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57440" y="371556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57440" y="422028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628720" y="472356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rcRect l="25413" t="7870" r="0" b="0"/>
          <a:stretch/>
        </p:blipFill>
        <p:spPr>
          <a:xfrm>
            <a:off x="900000" y="981000"/>
            <a:ext cx="7417080" cy="4695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2413080" y="321228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13080" y="371556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13080" y="422028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13080" y="472356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97440" y="314100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37440" y="335700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02160" y="3428280"/>
            <a:ext cx="44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57800" y="198828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7993080" cy="4706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4428360" y="349920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77800" y="349920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80360" y="537264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537264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88000" y="537264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+ 1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20720" y="6307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97440" y="6307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7" descr="Картинка 9 из 456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835280" cy="206064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5" descr="Картинка 14 из 4252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63640" y="189000"/>
            <a:ext cx="11145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7:22:27Z</dcterms:created>
  <dc:creator>Светлана</dc:creator>
  <dc:description/>
  <dc:language>en-US</dc:language>
  <cp:lastModifiedBy>Светлана</cp:lastModifiedBy>
  <dcterms:modified xsi:type="dcterms:W3CDTF">2011-11-26T13:57:34Z</dcterms:modified>
  <cp:revision>12</cp:revision>
  <dc:subject/>
  <dc:title>Слайд 1</dc:title>
</cp:coreProperties>
</file>