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suction.wav" ContentType="audio/x-wav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coin.wav" ContentType="audio/x-wav"/>
  <Override PartName="/ppt/media/image10.jpeg" ContentType="image/jpeg"/>
  <Override PartName="/ppt/media/image8.jpeg" ContentType="image/jpeg"/>
  <Override PartName="/ppt/media/image1.jpeg" ContentType="image/jpeg"/>
  <Override PartName="/ppt/media/image4.wmf" ContentType="image/x-wmf"/>
  <Override PartName="/ppt/media/image6.jpeg" ContentType="image/jpeg"/>
  <Override PartName="/ppt/media/type.wav" ContentType="audio/x-wav"/>
  <Override PartName="/ppt/media/image22.jpeg" ContentType="image/jpeg"/>
  <Override PartName="/ppt/media/image12.jpeg" ContentType="image/jpeg"/>
  <Override PartName="/ppt/media/image33.wmf" ContentType="image/x-wmf"/>
  <Override PartName="/ppt/media/bomb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media/push.wav" ContentType="audio/x-wav"/>
  <Override PartName="/ppt/media/image3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1.png" ContentType="image/png"/>
  <Override PartName="/ppt/media/image24.jpeg" ContentType="image/jpeg"/>
  <Override PartName="/ppt/media/drumroll.wav" ContentType="audio/x-wav"/>
  <Override PartName="/ppt/media/image3.jpeg" ContentType="image/jpeg"/>
  <Override PartName="/ppt/media/image30.png" ContentType="image/png"/>
  <Override PartName="/ppt/media/image13.jpeg" ContentType="image/jpeg"/>
  <Override PartName="/ppt/media/wind.wav" ContentType="audio/x-wav"/>
  <Override PartName="/ppt/media/image29.png" ContentType="image/png"/>
  <Override PartName="/ppt/media/chimes.wav" ContentType="audio/x-wav"/>
  <Override PartName="/ppt/media/image21.jpeg" ContentType="image/jpeg"/>
  <Override PartName="/ppt/media/breeze.wav" ContentType="audio/x-wav"/>
  <Override PartName="/ppt/media/camera.wav" ContentType="audio/x-wav"/>
  <Override PartName="/ppt/media/image16.jpeg" ContentType="image/jpeg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92F-EC3A-4BCD-947B-B9E4625A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928-4225-4C18-BDB2-370857B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63D-7855-4773-9BE3-7F361580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097-4EC6-41BC-9DA7-5CCDD0E9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827-9DC7-4EA5-8567-A80D7116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1D3-3ADC-4F14-A3ED-417F112C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52E-169D-43D6-908B-E7C1C117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ADD-5FF0-4670-83FD-5D08AC06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547-38F2-4D28-8E1E-73C1A901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318-EE91-4074-B316-4913C80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EA4-AC92-4909-A79F-49F7F89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89A-0786-497F-B64A-7C4A4C99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011-C5BF-4E02-AC06-BCC3075593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севая и центральная симметрии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шкирменски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ца 8 класса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знецова Д.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ишкова Х.Д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10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имметрия в технике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2033445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d"/>
    <p:sndAc>
      <p:stSnd>
        <p:snd r:embed="rId2" name="push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426350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8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244b7a0714236bdd36917d1695b36ce"/>
          <p:cNvPicPr/>
          <p:nvPr/>
        </p:nvPicPr>
        <p:blipFill>
          <a:blip r:embed="rId2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быту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JH11226"/>
          <p:cNvPicPr/>
          <p:nvPr/>
        </p:nvPicPr>
        <p:blipFill>
          <a:blip r:embed="rId1"/>
          <a:stretch/>
        </p:blipFill>
        <p:spPr>
          <a:xfrm rot="19201800">
            <a:off x="914040" y="167616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Изображение155пап"/>
          <p:cNvPicPr/>
          <p:nvPr/>
        </p:nvPicPr>
        <p:blipFill>
          <a:blip r:embed="rId2"/>
          <a:stretch/>
        </p:blipFill>
        <p:spPr>
          <a:xfrm>
            <a:off x="4495680" y="2133720"/>
            <a:ext cx="3886200" cy="3297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d"/>
    <p:sndAc>
      <p:stSnd>
        <p:snd r:embed="rId3" name="suction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 flipH="1">
            <a:off x="11201040" y="4572000"/>
            <a:ext cx="228600" cy="19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2555 - копияненк"/>
          <p:cNvPicPr/>
          <p:nvPr/>
        </p:nvPicPr>
        <p:blipFill>
          <a:blip r:embed="rId2"/>
          <a:stretch/>
        </p:blipFill>
        <p:spPr>
          <a:xfrm rot="20479200">
            <a:off x="533160" y="1447560"/>
            <a:ext cx="3776400" cy="419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2555 - копияпапа"/>
          <p:cNvPicPr/>
          <p:nvPr/>
        </p:nvPicPr>
        <p:blipFill>
          <a:blip r:embed="rId3"/>
          <a:stretch/>
        </p:blipFill>
        <p:spPr>
          <a:xfrm rot="1645200">
            <a:off x="4800240" y="2742840"/>
            <a:ext cx="28987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  <p:sndAc>
      <p:stSnd>
        <p:snd r:embed="rId4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keramika55621"/>
          <p:cNvPicPr/>
          <p:nvPr/>
        </p:nvPicPr>
        <p:blipFill>
          <a:blip r:embed="rId1"/>
          <a:stretch/>
        </p:blipFill>
        <p:spPr>
          <a:xfrm>
            <a:off x="304920" y="685800"/>
            <a:ext cx="340992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55825250_brosh_s_rubinami"/>
          <p:cNvPicPr/>
          <p:nvPr/>
        </p:nvPicPr>
        <p:blipFill>
          <a:blip r:embed="rId2"/>
          <a:stretch/>
        </p:blipFill>
        <p:spPr>
          <a:xfrm>
            <a:off x="4191120" y="1600200"/>
            <a:ext cx="4324320" cy="4275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литератур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линдром- это абсолютное проявление симметрии в литерату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а луна канул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а роза упала на лапу Азор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рочитать слова в обратном порядке, то получится та же самая фр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in" orient="vert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архитектур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5" descr="1244167611_taj07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  <p:sndAc>
      <p:stSnd>
        <p:snd r:embed="rId2" name="bomb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Picture 5" descr="abm49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  <p:sndAc>
      <p:stSnd>
        <p:snd r:embed="rId2" name="breez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image-original"/>
          <p:cNvPicPr/>
          <p:nvPr/>
        </p:nvPicPr>
        <p:blipFill>
          <a:blip r:embed="rId1"/>
          <a:stretch/>
        </p:blipFill>
        <p:spPr>
          <a:xfrm>
            <a:off x="1828800" y="38160"/>
            <a:ext cx="6324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я у чело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24280" y="1676160"/>
            <a:ext cx="3353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ло человека построено                                 по принципу двухсторонней                        сим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post-1264693524"/>
          <p:cNvPicPr/>
          <p:nvPr/>
        </p:nvPicPr>
        <p:blipFill>
          <a:blip r:embed="rId1"/>
          <a:stretch/>
        </p:blipFill>
        <p:spPr>
          <a:xfrm>
            <a:off x="152280" y="1143000"/>
            <a:ext cx="3870360" cy="556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d"/>
    <p:sndAc>
      <p:stSnd>
        <p:snd r:embed="rId2" name="lase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я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метр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то пропорциональность или гармония в расположении одинаковых предметов какой-либо группы или частей в одном предмете, причем гармоничное расположение определяется одной или несколькими воображаемыми зеркальными плоскостя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s320x240"/>
          <p:cNvPicPr/>
          <p:nvPr/>
        </p:nvPicPr>
        <p:blipFill>
          <a:blip r:embed="rId1"/>
          <a:stretch/>
        </p:blipFill>
        <p:spPr>
          <a:xfrm>
            <a:off x="2209680" y="1523880"/>
            <a:ext cx="429120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7080"/>
            <a:ext cx="6937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3" descr="M:\Extra\Новая папка (2)\8.jpeg"/>
          <p:cNvPicPr/>
          <p:nvPr/>
        </p:nvPicPr>
        <p:blipFill>
          <a:blip r:embed="rId1"/>
          <a:stretch/>
        </p:blipFill>
        <p:spPr>
          <a:xfrm rot="21020400">
            <a:off x="4343400" y="3173400"/>
            <a:ext cx="4019400" cy="314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M:\Extra\Новая папка (2)\ы.jpeg"/>
          <p:cNvPicPr/>
          <p:nvPr/>
        </p:nvPicPr>
        <p:blipFill>
          <a:blip r:embed="rId2"/>
          <a:stretch/>
        </p:blipFill>
        <p:spPr>
          <a:xfrm rot="621000">
            <a:off x="936720" y="847800"/>
            <a:ext cx="4637160" cy="3214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севая симметрия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krug"/>
          <p:cNvPicPr/>
          <p:nvPr/>
        </p:nvPicPr>
        <p:blipFill>
          <a:blip r:embed="rId1"/>
          <a:stretch/>
        </p:blipFill>
        <p:spPr>
          <a:xfrm>
            <a:off x="380880" y="1828800"/>
            <a:ext cx="320040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entagram"/>
          <p:cNvPicPr/>
          <p:nvPr/>
        </p:nvPicPr>
        <p:blipFill>
          <a:blip r:embed="rId2"/>
          <a:stretch/>
        </p:blipFill>
        <p:spPr>
          <a:xfrm>
            <a:off x="411480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r"/>
    <p:sndAc>
      <p:stSnd>
        <p:snd r:embed="rId3" name="wind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ИММЕТРИИ В ФИЗИК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99400" y="942840"/>
            <a:ext cx="54000" cy="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6453360" cy="4448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74"/>
          <p:cNvPicPr/>
          <p:nvPr/>
        </p:nvPicPr>
        <p:blipFill>
          <a:blip r:embed="rId1"/>
          <a:stretch/>
        </p:blipFill>
        <p:spPr>
          <a:xfrm>
            <a:off x="1219320" y="213372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36840" y="-4160520"/>
            <a:ext cx="317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метрия очень широко распространена в природе и в творениях человека. Всё учение о кристаллах (Кристаллография) основано на теории симметри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стительном мире также очень распространена симметрия и обнаруживается в расположении органов цветка, частей его листа и даже ветвей. В животном мире симметрия наблюдается не так строго, но также очень распространена. С наружной симметрией стоит в согласии и внутреннее строение животных, растений и кристал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76160"/>
            <a:ext cx="373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метричным называется такой объект, который можно как-то изменять, получая в результате то же, с чего нач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1315926761_s_newleaves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  <p:sndAc>
      <p:stSnd>
        <p:snd r:embed="rId2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одержани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имметрия в природ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имметрия в технике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Симметрия в быту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Симметрия в литератур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Симметрия в архитектур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Симметрия у челове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Осевая симметрия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Симметрия в природе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Серов_12345"/>
          <p:cNvPicPr/>
          <p:nvPr/>
        </p:nvPicPr>
        <p:blipFill>
          <a:blip r:embed="rId1"/>
          <a:stretch/>
        </p:blipFill>
        <p:spPr>
          <a:xfrm>
            <a:off x="228600" y="2133720"/>
            <a:ext cx="441972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5087880" cy="51404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  <p:sndAc>
      <p:stSnd>
        <p:snd r:embed="rId3" name="wind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6808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  <p:sndAc>
      <p:stSnd>
        <p:snd r:embed="rId2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180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abm49z"/>
          <p:cNvPicPr/>
          <p:nvPr/>
        </p:nvPicPr>
        <p:blipFill>
          <a:blip r:embed="rId1"/>
          <a:stretch/>
        </p:blipFill>
        <p:spPr>
          <a:xfrm>
            <a:off x="10896480" y="2514600"/>
            <a:ext cx="304920" cy="26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ic_89"/>
          <p:cNvPicPr/>
          <p:nvPr/>
        </p:nvPicPr>
        <p:blipFill>
          <a:blip r:embed="rId2"/>
          <a:stretch/>
        </p:blipFill>
        <p:spPr>
          <a:xfrm>
            <a:off x="10667880" y="1600200"/>
            <a:ext cx="228600" cy="17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symmetry"/>
          <p:cNvPicPr/>
          <p:nvPr/>
        </p:nvPicPr>
        <p:blipFill>
          <a:blip r:embed="rId3"/>
          <a:stretch/>
        </p:blipFill>
        <p:spPr>
          <a:xfrm rot="666600">
            <a:off x="533160" y="167616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30-06-49"/>
          <p:cNvPicPr/>
          <p:nvPr/>
        </p:nvPicPr>
        <p:blipFill>
          <a:blip r:embed="rId4"/>
          <a:stretch/>
        </p:blipFill>
        <p:spPr>
          <a:xfrm rot="20892600">
            <a:off x="4775040" y="1315800"/>
            <a:ext cx="3521160" cy="5333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d"/>
    <p:sndAc>
      <p:stSnd>
        <p:snd r:embed="rId5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180px-Snechinka"/>
          <p:cNvPicPr/>
          <p:nvPr/>
        </p:nvPicPr>
        <p:blipFill>
          <a:blip r:embed="rId1"/>
          <a:stretch/>
        </p:blipFill>
        <p:spPr>
          <a:xfrm>
            <a:off x="304920" y="1752480"/>
            <a:ext cx="264312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4-156"/>
          <p:cNvPicPr/>
          <p:nvPr/>
        </p:nvPicPr>
        <p:blipFill>
          <a:blip r:embed="rId2"/>
          <a:stretch/>
        </p:blipFill>
        <p:spPr>
          <a:xfrm>
            <a:off x="2971800" y="1371600"/>
            <a:ext cx="5410080" cy="405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5:25:19Z</dcterms:created>
  <dc:creator>Альбинчик</dc:creator>
  <dc:description/>
  <dc:language>en-US</dc:language>
  <cp:lastModifiedBy>шишкова</cp:lastModifiedBy>
  <dcterms:modified xsi:type="dcterms:W3CDTF">2011-12-15T15:44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