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11.jpeg" ContentType="image/jpeg"/>
  <Override PartName="/ppt/media/image9.jpeg" ContentType="image/jpeg"/>
  <Override PartName="/ppt/media/image14.jpeg" ContentType="image/jpeg"/>
  <Override PartName="/ppt/media/image5.gif" ContentType="image/gif"/>
  <Override PartName="/ppt/media/image6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CB3B-4D1A-4A48-862B-2BC0E0CE73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C716-CAF5-460F-A309-2D7AABE179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1837-C8CE-4374-AADC-DC232290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D870-4784-4D45-89F2-0C52285D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4B87-55FE-44FF-B250-DC4691328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DADC-B65D-42DB-8661-E8F2AC5D9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723C-B2C3-41B2-B99E-12790107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D302-E3FF-4C72-9CD1-51BF60EB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F166-7E86-45F0-BDFD-5B40D212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22D2-D622-478E-9B36-CE0091F1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0A6B-9857-4F6E-8D24-F9C0855B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1D7A-FF8D-48AC-AA92-A0D4B7DF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E7C5-9300-4980-9312-2A738A19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7B78-B2F0-479A-8E76-9217DFDE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19A0-41F0-4353-A7BD-CA00F508B4E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056A-EA2D-4736-AF72-9A9DEBA4B7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886880" cy="314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Эколого-образовательный проект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r>
              <a:rPr b="0" lang="en-US" sz="7200" spc="-1" strike="noStrike">
                <a:solidFill>
                  <a:srgbClr val="00ffff"/>
                </a:solidFill>
                <a:latin typeface="Calibri"/>
              </a:rPr>
              <a:t>«Волшебный  мир камней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57800"/>
            <a:ext cx="640080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c4414"/>
                </a:solidFill>
                <a:latin typeface="Calibri"/>
              </a:rPr>
              <a:t>Подготовил</a:t>
            </a:r>
            <a:r>
              <a:rPr b="0" lang="en-US" sz="4000" spc="-1" strike="noStrike">
                <a:solidFill>
                  <a:srgbClr val="bc4414"/>
                </a:solidFill>
                <a:latin typeface="Arial"/>
              </a:rPr>
              <a:t>а</a:t>
            </a:r>
            <a:r>
              <a:rPr b="0" lang="en-US" sz="4000" spc="-1" strike="noStrike">
                <a:solidFill>
                  <a:srgbClr val="bc4414"/>
                </a:solidFill>
                <a:latin typeface="Calibri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Коваленко А.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Скругленный прямоугольник 3"/>
          <p:cNvSpPr/>
          <p:nvPr/>
        </p:nvSpPr>
        <p:spPr>
          <a:xfrm>
            <a:off x="142920" y="142920"/>
            <a:ext cx="8786880" cy="6429240"/>
          </a:xfrm>
          <a:prstGeom prst="roundRect">
            <a:avLst>
              <a:gd name="adj" fmla="val 16667"/>
            </a:avLst>
          </a:prstGeom>
          <a:noFill/>
          <a:ln w="123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I:\Документы Нина\презентации слайдов 2\анимашки с инета\File045.gif"/>
          <p:cNvPicPr/>
          <p:nvPr/>
        </p:nvPicPr>
        <p:blipFill>
          <a:blip r:embed="rId2"/>
          <a:stretch/>
        </p:blipFill>
        <p:spPr>
          <a:xfrm>
            <a:off x="714240" y="471492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2A31-946D-4D0D-9A85-291D69D7E85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60C3-1DD3-46D3-962A-264EC9BB00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ая прямоугольная выноска 5"/>
          <p:cNvSpPr/>
          <p:nvPr/>
        </p:nvSpPr>
        <p:spPr>
          <a:xfrm>
            <a:off x="500040" y="285840"/>
            <a:ext cx="2500200" cy="26431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04a7b"/>
                </a:solidFill>
                <a:latin typeface="Calibri"/>
              </a:rPr>
              <a:t>ЧТЕНИЕ ХУДОЖЕСТВЕННОЙ ЛИТЕРАТУР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4a7b"/>
                </a:solidFill>
                <a:latin typeface="Calibri"/>
              </a:rPr>
              <a:t>П.Баж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Данила-мастер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Серебряное копытц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Медной горы хозяй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 </a:t>
            </a:r>
            <a:r>
              <a:rPr b="1" lang="ru-RU" sz="1200" spc="-1" strike="noStrike">
                <a:solidFill>
                  <a:srgbClr val="604a7b"/>
                </a:solidFill>
                <a:latin typeface="Calibri"/>
              </a:rPr>
              <a:t>Ф.Крив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Сказка о полезных ископаемы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Сказка об угольк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Сказки минерального царств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4a7b"/>
                </a:solidFill>
                <a:latin typeface="Calibri"/>
              </a:rPr>
              <a:t>А.Дитр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Легенда </a:t>
            </a:r>
            <a:r>
              <a:rPr b="1" i="1" lang="ru-RU" sz="1400" spc="-1" strike="noStrike">
                <a:solidFill>
                  <a:srgbClr val="604a7b"/>
                </a:solidFill>
                <a:latin typeface="Calibri"/>
              </a:rPr>
              <a:t>об эхо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894640" y="416880"/>
            <a:ext cx="2712240" cy="328104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3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СЛУШАНИЕ  И  ОБСУЖДЕНИЕ МУЗЫКАЛЬНЫХ  ЗАРИСОВОК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4a7b"/>
                </a:solidFill>
                <a:latin typeface="Calibri"/>
              </a:rPr>
              <a:t>В.Самой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Самоцвет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Алмаз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Хрустальная статуэт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Музыкальная картинка к сказке о Даниле мастер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4a7b"/>
                </a:solidFill>
                <a:latin typeface="Calibri"/>
              </a:rPr>
              <a:t>Э.Гри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Гномы в подземном царств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Шествие гномов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4a7b"/>
                </a:solidFill>
                <a:latin typeface="Calibri"/>
              </a:rPr>
              <a:t>М.Мусоргск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04a7b"/>
                </a:solidFill>
                <a:latin typeface="Calibri"/>
              </a:rPr>
              <a:t>«Картинки с выставк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кругленная прямоугольная выноска 7"/>
          <p:cNvSpPr/>
          <p:nvPr/>
        </p:nvSpPr>
        <p:spPr>
          <a:xfrm>
            <a:off x="1428840" y="3000240"/>
            <a:ext cx="1842840" cy="21434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04a7b"/>
                </a:solidFill>
                <a:latin typeface="Calibri"/>
              </a:rPr>
              <a:t>РАЗВЛЕ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4a7b"/>
                </a:solidFill>
                <a:latin typeface="Calibri"/>
              </a:rPr>
              <a:t>«В гостях у хозяйки Медной гор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ая прямоугольная выноска 8"/>
          <p:cNvSpPr/>
          <p:nvPr/>
        </p:nvSpPr>
        <p:spPr>
          <a:xfrm>
            <a:off x="4500720" y="3929040"/>
            <a:ext cx="1842840" cy="21430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04a7b"/>
                </a:solidFill>
                <a:latin typeface="Calibri"/>
              </a:rPr>
              <a:t>ЭКСКУР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04a7b"/>
                </a:solidFill>
                <a:latin typeface="Calibri"/>
              </a:rPr>
              <a:t>В парк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04a7b"/>
                </a:solidFill>
                <a:latin typeface="Calibri"/>
              </a:rPr>
              <a:t>« Удивительное  под ногам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8527-EDFA-43D1-9E11-52468335E0D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4BCE-E0C3-4235-AF33-3AE0D531FD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ая прямоугольная выноска 5"/>
          <p:cNvSpPr/>
          <p:nvPr/>
        </p:nvSpPr>
        <p:spPr>
          <a:xfrm>
            <a:off x="324000" y="1484280"/>
            <a:ext cx="2714400" cy="4500720"/>
          </a:xfrm>
          <a:prstGeom prst="wedgeRoundRectCallout">
            <a:avLst>
              <a:gd name="adj1" fmla="val -20833"/>
              <a:gd name="adj2" fmla="val 56976"/>
              <a:gd name="adj3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04a7b"/>
                </a:solidFill>
                <a:latin typeface="Calibri"/>
              </a:rPr>
              <a:t>ИГРОВАЯ ДЕЯТЕЛЬНОСТЬ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604a7b"/>
                </a:solidFill>
                <a:latin typeface="Calibri"/>
              </a:rPr>
              <a:t>Сюжетно-ролевые игр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Мы геолог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Турист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Ювелирный магазин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Муз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4a7b"/>
                </a:solidFill>
                <a:latin typeface="Calibri"/>
              </a:rPr>
              <a:t>Дидактические игр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Камеше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Сколько камешков в другой рук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Помоги гномика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Найди одинаковые камеш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Оживи камеш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Волшебные картин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Камень, ножницы, бумаг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Остров сокровищ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Найди сундучо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Шаш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4a7b"/>
                </a:solidFill>
                <a:latin typeface="Calibri"/>
              </a:rPr>
              <a:t>Подвижные игр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Ловишки с камешко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Выбей камеше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392160" y="1425960"/>
            <a:ext cx="2288880" cy="211680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 fontScale="90000"/>
          </a:bodyPr>
          <a:p>
            <a:pPr marL="308520" indent="-308520">
              <a:spcBef>
                <a:spcPts val="3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04a7b"/>
                </a:solidFill>
                <a:latin typeface="Calibri"/>
              </a:rPr>
              <a:t>РАССМАТРИВАНИЕ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Иллюстраций в энциклопед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Изделий, сделанных из кам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Иллюстраций к сказкам П.Баж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Буклета открыток «Поэма о природ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кругленная прямоугольная выноска 7"/>
          <p:cNvSpPr/>
          <p:nvPr/>
        </p:nvSpPr>
        <p:spPr>
          <a:xfrm>
            <a:off x="3635280" y="3789360"/>
            <a:ext cx="2557440" cy="23572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04a7b"/>
                </a:solidFill>
                <a:latin typeface="Calibri"/>
              </a:rPr>
              <a:t>СОЗДАНИЕ КОЛЛЕКЦИЙ КАМНЕЙ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04a7b"/>
                </a:solidFill>
                <a:latin typeface="Calibri"/>
              </a:rPr>
              <a:t>Полезные ископаем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04a7b"/>
                </a:solidFill>
                <a:latin typeface="Calibri"/>
              </a:rPr>
              <a:t>Горные пор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04a7b"/>
                </a:solidFill>
                <a:latin typeface="Calibri"/>
              </a:rPr>
              <a:t>Минера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04a7b"/>
                </a:solidFill>
                <a:latin typeface="Calibri"/>
              </a:rPr>
              <a:t>Полудрагоценные кам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04a7b"/>
                </a:solidFill>
                <a:latin typeface="Calibri"/>
              </a:rPr>
              <a:t>Камни-талисм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d69b"/>
                </a:solidFill>
                <a:latin typeface="Calibri"/>
              </a:rPr>
              <a:t>Для реализации проекта была создана развивающая среда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формлен центр «Науки и природы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ащённый познавательными пособиями, иллюстративными материалами и оборудованием для эксперементальной деятельност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обрана научная и художественная литератур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рана коллекция камне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формлены мини-центры «Играем с камешками», «Мастерская природ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384E-1AFF-44ED-AA75-1E74CD50349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793E-952E-4FB3-A51A-EF59A65D21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ЭКСПЕРИМЕН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F877-F6EC-4345-BCD8-2FD30697407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101A-3DF3-48F8-827C-53424FEE7C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N:\Дети-сад -фото\DSC01435.JPG"/>
          <p:cNvPicPr/>
          <p:nvPr/>
        </p:nvPicPr>
        <p:blipFill>
          <a:blip r:embed="rId2"/>
          <a:stretch/>
        </p:blipFill>
        <p:spPr>
          <a:xfrm>
            <a:off x="142920" y="2347920"/>
            <a:ext cx="4352760" cy="3224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N:\Дети-сад -фото\DSC01437.JPG"/>
          <p:cNvPicPr/>
          <p:nvPr/>
        </p:nvPicPr>
        <p:blipFill>
          <a:blip r:embed="rId3"/>
          <a:stretch/>
        </p:blipFill>
        <p:spPr>
          <a:xfrm>
            <a:off x="4648320" y="2347920"/>
            <a:ext cx="4138560" cy="3224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6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ПОЗНАВАТЕЛЬНЫЕ МИНУТ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502D-8F51-4355-9B70-7921BA15D43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E91C-E296-491A-9314-9D0FA50B67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N:\Дети-сад -фото\DSC01436.JPG"/>
          <p:cNvPicPr/>
          <p:nvPr/>
        </p:nvPicPr>
        <p:blipFill>
          <a:blip r:embed="rId2"/>
          <a:stretch/>
        </p:blipFill>
        <p:spPr>
          <a:xfrm>
            <a:off x="285840" y="2347920"/>
            <a:ext cx="4209840" cy="3152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N:\Дети-сад -фото\DSC01438.JPG"/>
          <p:cNvPicPr/>
          <p:nvPr/>
        </p:nvPicPr>
        <p:blipFill>
          <a:blip r:embed="rId3"/>
          <a:stretch/>
        </p:blipFill>
        <p:spPr>
          <a:xfrm>
            <a:off x="4648320" y="2347920"/>
            <a:ext cx="4281480" cy="3152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b99a"/>
                </a:solidFill>
                <a:latin typeface="Calibri"/>
              </a:rPr>
              <a:t>В «МАСТЕРСКОЙ  ПРИРОДЫ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8E58-8D0F-43D4-B19C-40F979169E8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3A68-64CE-4DE5-BA89-354F574A9E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N:\Дети-сад -фото\DSC01434.JPG"/>
          <p:cNvPicPr/>
          <p:nvPr/>
        </p:nvPicPr>
        <p:blipFill>
          <a:blip r:embed="rId2"/>
          <a:stretch/>
        </p:blipFill>
        <p:spPr>
          <a:xfrm>
            <a:off x="214200" y="2143080"/>
            <a:ext cx="4281480" cy="3233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N:\Дети-сад -фото\DSC01440.JPG"/>
          <p:cNvPicPr/>
          <p:nvPr/>
        </p:nvPicPr>
        <p:blipFill>
          <a:blip r:embed="rId3"/>
          <a:stretch/>
        </p:blipFill>
        <p:spPr>
          <a:xfrm>
            <a:off x="4648320" y="2143080"/>
            <a:ext cx="4352760" cy="3233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Calibri"/>
              </a:rPr>
              <a:t>ЭТИ ВОЛШЕБНЫЕ КАМ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N:\Дети-сад -фото\DSC01432.JPG"/>
          <p:cNvPicPr/>
          <p:nvPr/>
        </p:nvPicPr>
        <p:blipFill>
          <a:blip r:embed="rId2"/>
          <a:stretch/>
        </p:blipFill>
        <p:spPr>
          <a:xfrm rot="745800">
            <a:off x="214200" y="2000160"/>
            <a:ext cx="4281480" cy="3376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N:\Дети-сад -фото\DSC01433.JPG"/>
          <p:cNvPicPr/>
          <p:nvPr/>
        </p:nvPicPr>
        <p:blipFill>
          <a:blip r:embed="rId3"/>
          <a:stretch/>
        </p:blipFill>
        <p:spPr>
          <a:xfrm rot="1056600">
            <a:off x="4647960" y="2000160"/>
            <a:ext cx="4352760" cy="3376800"/>
          </a:xfrm>
          <a:prstGeom prst="rect">
            <a:avLst/>
          </a:prstGeom>
          <a:ln w="0">
            <a:noFill/>
          </a:ln>
        </p:spPr>
      </p:pic>
      <p:sp>
        <p:nvSpPr>
          <p:cNvPr id="13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6BCE-089D-4725-AE6C-F0FA4D063C9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DF1B-D823-4AC4-BC8D-58C74672CE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7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f0"/>
                </a:solidFill>
                <a:latin typeface="Calibri"/>
              </a:rPr>
              <a:t>Через красивое – к человечному – такова закономерность воспитания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.А.Сухомлин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F8D6-9623-40D4-BED4-A74A0C3D669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1338-2435-4DA0-BC72-90738F502B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2d050"/>
                </a:solidFill>
                <a:latin typeface="Calibri"/>
              </a:rPr>
              <a:t>Экологическая проблема взаимодействия человека и природ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6533-CCDC-4626-A7A9-5F279F71CBC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AEA9-EFB2-4BCC-8F57-47D8ED5C5E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I:\Документы Нина\презентации слайдов 2\анимашки с инета\067b.gif"/>
          <p:cNvPicPr/>
          <p:nvPr/>
        </p:nvPicPr>
        <p:blipFill>
          <a:blip r:embed="rId2"/>
          <a:stretch/>
        </p:blipFill>
        <p:spPr>
          <a:xfrm>
            <a:off x="3214800" y="3214800"/>
            <a:ext cx="2428920" cy="2452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000"/>
                </a:solidFill>
                <a:latin typeface="Calibri"/>
              </a:rPr>
              <a:t>Основная идея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пираясь на эмоционально – чувственную сферу ребёнка вызвать интерес к окружающему нас миру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учить по-настоящему понимать природ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ценить ее красоту и неповторимо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чувствовать свою неразрывную связь с н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хранять и заботиться о 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0325-5D02-4AF5-84E9-F247F3C7B87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613B-C82D-44DF-8210-D2AA6E0929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3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99ff"/>
                </a:solidFill>
                <a:latin typeface="Calibri"/>
              </a:rPr>
              <a:t>Основная цель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оздать условия для формирования основ научных представлений об окружающем мире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формировать у детей представление о необходимости бережного и созидательного отношения к природ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овлечь родителей  воспитанников в эколого-образовательное пространство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AAAA-676A-4E4E-8C91-3D8C2DB7DE7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CC2A-7797-4131-81C4-9C567B380E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43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1859c"/>
                </a:solidFill>
                <a:latin typeface="Calibri"/>
              </a:rPr>
              <a:t>Принципы работы над проектом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оритет общечеловеческих ценностей – развитие его лич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ношение к человеку как части природ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гиональность и опора на объекты ближайшего окружения, учёт природных, культурных, особенностей регион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тегративность знаний – установление взаимосвязей в природном и  социальном окружении, формировании у детей целостной картины мир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риативность обучающих и воспитательных средст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ребёнка в деятельности (создание условий для проведения экспериментов, игровой, творческой, исследовательской деятельности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ора на эмоционально – чувственную сферу ребён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личностных качеств ребёнка: активность, любознательность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FCFC-1011-4EB1-AE4C-4AAF3C48344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5537-B69C-4DBE-8FF3-277F927C11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49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Calibri"/>
              </a:rPr>
              <a:t>Основные задачи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знакомить с внешним обликом планеты Земля, её строение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ть представление о происхождении камней, их роли в жизни людей, их эстетической цен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вести к пониманию того, что жизнь человека на земле зависит от окружающей среды и что человек  должен заботиться об её охран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вать у детей такие способы познания, как наблюдение, обследование, эксперементирование, сравнение и сопоставление, поиск информации в энциклопедиях и другой детской литератур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ктивизировать познавательные процесс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вать воображение, учить видеть необычное  в  обычном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ть эстетическое и нравственное отношение к миру, экологическое созна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81D5-6F4A-4BE9-A574-75F0B822A62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68E2-5B2B-4E86-858F-1DC9EBC9CA86}" type="slidenum">
              <a:rPr b="0" lang="ru-RU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F32D-768C-47AA-B5A8-EE643E51D77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2198-4C62-4F37-8C76-EDF92240D7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I:\Документы Нина\презентации слайдов 2\анимашки с инета\8b1747ac230d8b3e41b4a1330d0f9b8e.gif"/>
          <p:cNvPicPr/>
          <p:nvPr/>
        </p:nvPicPr>
        <p:blipFill>
          <a:blip r:embed="rId2"/>
          <a:stretch/>
        </p:blipFill>
        <p:spPr>
          <a:xfrm>
            <a:off x="7215120" y="4786200"/>
            <a:ext cx="1276560" cy="1371600"/>
          </a:xfrm>
          <a:prstGeom prst="rect">
            <a:avLst/>
          </a:prstGeom>
          <a:ln w="0">
            <a:noFill/>
          </a:ln>
        </p:spPr>
      </p:pic>
      <p:sp>
        <p:nvSpPr>
          <p:cNvPr id="79" name="Горизонтальный свиток 19"/>
          <p:cNvSpPr/>
          <p:nvPr/>
        </p:nvSpPr>
        <p:spPr>
          <a:xfrm>
            <a:off x="2928960" y="2000160"/>
            <a:ext cx="3286080" cy="1319400"/>
          </a:xfrm>
          <a:prstGeom prst="horizontalScroll">
            <a:avLst>
              <a:gd name="adj" fmla="val 12500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ed5"/>
                </a:solidFill>
                <a:latin typeface="Calibri"/>
              </a:rPr>
              <a:t>Этапы реализации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21"/>
          <p:cNvCxnSpPr/>
          <p:nvPr/>
        </p:nvCxnSpPr>
        <p:spPr>
          <a:xfrm flipV="1">
            <a:off x="5714640" y="1642320"/>
            <a:ext cx="5007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1" name="Блок-схема: документ 23"/>
          <p:cNvSpPr/>
          <p:nvPr/>
        </p:nvSpPr>
        <p:spPr>
          <a:xfrm>
            <a:off x="6500880" y="785880"/>
            <a:ext cx="2286000" cy="3071880"/>
          </a:xfrm>
          <a:prstGeom prst="flowChartDocumen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Второй эта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8ed5"/>
                </a:solidFill>
                <a:latin typeface="Calibri"/>
              </a:rPr>
              <a:t>Проведение познавательных, экологических минуток, занятий, экскурсий, чтение художественной литератур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558ed5"/>
                </a:solidFill>
                <a:latin typeface="Calibri"/>
              </a:rPr>
              <a:t>экспериментальная деятельнос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558ed5"/>
                </a:solidFill>
                <a:latin typeface="Calibri"/>
              </a:rPr>
              <a:t>создание коллекции камней 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8ed5"/>
                </a:solidFill>
                <a:latin typeface="Calibri"/>
              </a:rPr>
              <a:t>Мини  центров «Играем с камешками», «Мастерская природ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8ed5"/>
                </a:solidFill>
                <a:latin typeface="Calibri"/>
              </a:rPr>
              <a:t>Вовлечение родителей в участие в проек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Блок-схема: документ 26"/>
          <p:cNvSpPr/>
          <p:nvPr/>
        </p:nvSpPr>
        <p:spPr>
          <a:xfrm>
            <a:off x="357120" y="785880"/>
            <a:ext cx="2286000" cy="3214800"/>
          </a:xfrm>
          <a:prstGeom prst="flowChartDocumen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Первый эта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558ed5"/>
                </a:solidFill>
                <a:latin typeface="Calibri"/>
              </a:rPr>
              <a:t>создание центра «Науки и природ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8ed5"/>
                </a:solidFill>
                <a:latin typeface="Calibri"/>
              </a:rPr>
              <a:t>Оснащение центра познавательными и иллюстративными пособиями и оборудованием для эксперименталь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558ed5"/>
                </a:solidFill>
                <a:latin typeface="Calibri"/>
              </a:rPr>
              <a:t>Подбор научной и художественной литерату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8ed5"/>
                </a:solidFill>
                <a:latin typeface="Calibri"/>
              </a:rPr>
              <a:t>Разработка перспективного плана  работы по проек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Прямая со стрелкой 28"/>
          <p:cNvCxnSpPr/>
          <p:nvPr/>
        </p:nvCxnSpPr>
        <p:spPr>
          <a:xfrm flipH="1" flipV="1">
            <a:off x="2857320" y="1642320"/>
            <a:ext cx="42912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Блок-схема: документ 34"/>
          <p:cNvSpPr/>
          <p:nvPr/>
        </p:nvSpPr>
        <p:spPr>
          <a:xfrm>
            <a:off x="3357720" y="3643200"/>
            <a:ext cx="2428560" cy="3000600"/>
          </a:xfrm>
          <a:prstGeom prst="flowChartDocumen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Третий этап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Мониторинг самостоятельной эксперементальной игровой продуктивной деятельности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проведение интеллектуальной игры – викторины «Счастливый камешек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Развлечение «В гостях у Хозяйки Медной горы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Подведение итогов по работе над проек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36"/>
          <p:cNvCxnSpPr/>
          <p:nvPr/>
        </p:nvCxnSpPr>
        <p:spPr>
          <a:xfrm flipH="1">
            <a:off x="4642560" y="3214800"/>
            <a:ext cx="252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9646"/>
                </a:solidFill>
                <a:latin typeface="Calibri"/>
              </a:rPr>
              <a:t>Работа с деть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238B-2B28-4571-A5C7-961D18BA9AE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6280-E63B-466E-927E-57BC04021E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ая прямоугольная выноска 7"/>
          <p:cNvSpPr/>
          <p:nvPr/>
        </p:nvSpPr>
        <p:spPr>
          <a:xfrm>
            <a:off x="714240" y="3500280"/>
            <a:ext cx="1771920" cy="2571840"/>
          </a:xfrm>
          <a:prstGeom prst="wedgeRoundRectCallout">
            <a:avLst>
              <a:gd name="adj1" fmla="val -19828"/>
              <a:gd name="adj2" fmla="val 63314"/>
              <a:gd name="adj3" fmla="val 16667"/>
            </a:avLst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ЭКОЛОГИЧЕСКИЕ ЭТЮ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Камень у доро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Горячий кам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Чей камень лучш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Камешек в ботин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ая прямоугольная выноска 9"/>
          <p:cNvSpPr/>
          <p:nvPr/>
        </p:nvSpPr>
        <p:spPr>
          <a:xfrm>
            <a:off x="6357960" y="1214280"/>
            <a:ext cx="2214720" cy="22860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ЭКСПЕРИМЕНТАЛЬНАЯ ДЕЯТЕЛЬНОСТЬ</a:t>
            </a:r>
            <a:r>
              <a:rPr b="1" i="1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Исследование кам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Исследование песка и гли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Почему камни разноцвет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Как вода камень разруш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ая прямоугольная выноска 10"/>
          <p:cNvSpPr/>
          <p:nvPr/>
        </p:nvSpPr>
        <p:spPr>
          <a:xfrm>
            <a:off x="571680" y="1143000"/>
            <a:ext cx="1928520" cy="20415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ЭКОЛОГИЧЕСКИЕ ЗАН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«Камн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«Удивительн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под ногам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ая прямоугольная выноска 11"/>
          <p:cNvSpPr/>
          <p:nvPr/>
        </p:nvSpPr>
        <p:spPr>
          <a:xfrm>
            <a:off x="6429240" y="3786120"/>
            <a:ext cx="2129040" cy="24289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ПРОДУКТИВНЫЕ ВИДЫ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Песочные картин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Ракушечные   фантаз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Каменистый с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Пейзаж из кам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ая прямоугольная выноска 12"/>
          <p:cNvSpPr/>
          <p:nvPr/>
        </p:nvSpPr>
        <p:spPr>
          <a:xfrm>
            <a:off x="3214800" y="1357200"/>
            <a:ext cx="2643120" cy="43578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ПОЗНАВАТЕЛЬНЫЕ МИНУТКИ</a:t>
            </a:r>
            <a:r>
              <a:rPr b="1" i="1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Что у Земли вну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Минеральное цар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Как образовались кам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Чем различают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минера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Кладовые зем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Камни для строитель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Камни в жизн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первобытных люд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Минералы в твоей жиз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Камни украшаю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Камни-витами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Камни леч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Камни обере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1:12:00Z</dcterms:created>
  <dc:creator>BAT2100</dc:creator>
  <dc:description>http://aida.ucoz.ru</dc:description>
  <dc:language>en-US</dc:language>
  <cp:lastModifiedBy>Admin</cp:lastModifiedBy>
  <dcterms:modified xsi:type="dcterms:W3CDTF">2011-12-15T16:30:47Z</dcterms:modified>
  <cp:revision>44</cp:revision>
  <dc:subject/>
  <dc:title>Эколого-образовательный проект    «Волшебный  мир камней»</dc:title>
</cp:coreProperties>
</file>