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693-D41C-4C1C-8C3A-74025B4C2F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2A4-096A-4940-97CA-56F4E781E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734-CAB7-42EF-A9AC-E1498EA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728-C0B0-45CC-B30C-EC81E6A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881-0829-4067-BFD2-E6C5FA5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3EC-D117-4B98-B2DF-F34BAE7D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AB1-8E10-42DF-94D3-C92257A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123-A0B3-4C83-BA59-7E10DBC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52F-82B3-4BAD-838A-B35EE27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C4D-6C62-421E-842B-D2196D2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2C8-8443-4E22-A010-B44B986E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D4B-D7A6-4F09-8B1E-4573C73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726-7A2F-4CDF-9B6E-3BAE94B9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BC5-734A-4D97-AE1C-59DEC70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481-0E38-4A2F-9D55-EEFAFA1F7FB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D11-F2FD-4D6D-9719-1184337F5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88688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Эколого-образовательный проек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en-US" sz="7200" spc="-1" strike="noStrike">
                <a:solidFill>
                  <a:srgbClr val="00ffff"/>
                </a:solidFill>
                <a:latin typeface="Calibri"/>
              </a:rPr>
              <a:t>«Волшебный  мир камней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c4414"/>
                </a:solidFill>
                <a:latin typeface="Calibri"/>
              </a:rPr>
              <a:t>Подготовил</a:t>
            </a:r>
            <a:r>
              <a:rPr b="0" lang="en-US" sz="4000" spc="-1" strike="noStrike">
                <a:solidFill>
                  <a:srgbClr val="bc4414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bc4414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оваленко А.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:\Документы Нина\презентации слайдов 2\анимашки с инета\File045.gif"/>
          <p:cNvPicPr/>
          <p:nvPr/>
        </p:nvPicPr>
        <p:blipFill>
          <a:blip r:embed="rId2"/>
          <a:stretch/>
        </p:blipFill>
        <p:spPr>
          <a:xfrm>
            <a:off x="714240" y="47149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B528-303F-4EB3-A9B9-9D8EBE1C19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FE2D-72FC-4F56-B32F-EDAA891D2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5"/>
          <p:cNvSpPr/>
          <p:nvPr/>
        </p:nvSpPr>
        <p:spPr>
          <a:xfrm>
            <a:off x="500040" y="285840"/>
            <a:ext cx="250020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04a7b"/>
                </a:solidFill>
                <a:latin typeface="Calibri"/>
              </a:rPr>
              <a:t>ЧТЕНИЕ ХУДОЖЕСТВЕННОЙ ЛИТЕРАТ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4a7b"/>
                </a:solidFill>
                <a:latin typeface="Calibri"/>
              </a:rPr>
              <a:t>П.Баж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Данила-маст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еребряное копытц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едной горы хозяй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Ф.Крив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а о полезных ископаемы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а об уголь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азки минерального цар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А.Дитр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Легенда </a:t>
            </a: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об эх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94640" y="416880"/>
            <a:ext cx="2712240" cy="32810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СЛУШАНИЕ  И  ОБСУЖДЕНИЕ МУЗЫКАЛЬНЫХ  ЗАРИСОВОК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.Само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амоцвет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Алмаз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Хрустальная статуэт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узыкальная картинка к сказке о Даниле масте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Э.Гри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Гномы в подземном цар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Шествие гномов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М.Мусорг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«Картинки с выстав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ая прямоугольная выноска 7"/>
          <p:cNvSpPr/>
          <p:nvPr/>
        </p:nvSpPr>
        <p:spPr>
          <a:xfrm>
            <a:off x="1428840" y="3000240"/>
            <a:ext cx="1842840" cy="2143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РАЗВЛ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«В гостях у хозяйки Медной го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ая прямоугольная выноска 8"/>
          <p:cNvSpPr/>
          <p:nvPr/>
        </p:nvSpPr>
        <p:spPr>
          <a:xfrm>
            <a:off x="4500720" y="3929040"/>
            <a:ext cx="1842840" cy="2143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ЭКСКУР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В пар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« Удивительное  под ног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CCA-C1F6-4C14-B5C6-B8E17031D7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30F-9969-4D7C-9C88-C3BCE7FE7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ая прямоугольная выноска 5"/>
          <p:cNvSpPr/>
          <p:nvPr/>
        </p:nvSpPr>
        <p:spPr>
          <a:xfrm>
            <a:off x="324000" y="1484280"/>
            <a:ext cx="2714400" cy="4500720"/>
          </a:xfrm>
          <a:prstGeom prst="wedgeRoundRectCallout">
            <a:avLst>
              <a:gd name="adj1" fmla="val -20833"/>
              <a:gd name="adj2" fmla="val 56976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ИГРОВАЯ ДЕЯТЕЛЬНОСТЬ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Сюжетно-ролевы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ы геолог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Турис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Ювелирный магазин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Муз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Дидактически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Камеш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Сколько камешков в другой ру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Помоги гноми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Найди одинаковые каме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Оживи каме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Волшебные картин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Камень, ножницы, бума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Остров сокровищ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Найди сундуч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Ша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4a7b"/>
                </a:solidFill>
                <a:latin typeface="Calibri"/>
              </a:rPr>
              <a:t>Подвижные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Ловишки с камешк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«Выбей камеш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92160" y="1425960"/>
            <a:ext cx="2288880" cy="21168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РАССМАТРИВАНИЕ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ллюстраций в энциклопе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зделий, сделанных из кам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Иллюстраций к сказкам П.Баж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04a7b"/>
                </a:solidFill>
                <a:latin typeface="Calibri"/>
              </a:rPr>
              <a:t>Буклета открыток «Поэма о природ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ая прямоугольная выноска 7"/>
          <p:cNvSpPr/>
          <p:nvPr/>
        </p:nvSpPr>
        <p:spPr>
          <a:xfrm>
            <a:off x="3635280" y="3789360"/>
            <a:ext cx="2557440" cy="2357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СОЗДАНИЕ КОЛЛЕКЦИЙ КАМНЕЙ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Полезные ископа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Горные по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Минер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Полудрагоценные кам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04a7b"/>
                </a:solidFill>
                <a:latin typeface="Calibri"/>
              </a:rPr>
              <a:t>Камни-талисм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d69b"/>
                </a:solidFill>
                <a:latin typeface="Calibri"/>
              </a:rPr>
              <a:t>Для реализации проекта была создана развивающая сред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 центр «Науки и природ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ащённый познавательными пособиями, иллюстративными материалами и оборудованием для эксперементальн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на научная и художественная литерату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на коллекция камн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ы мини-центры «Играем с камешками», «Мастерская прир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2125-9F82-4790-9C70-19759FDB5E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A994-7421-46C5-9ACF-490ED192D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ЭКСПЕРИ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CE78-2D75-45B9-BB58-69A43DAF1D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A69-933D-4FF0-B322-326124C34D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N:\Дети-сад -фото\DSC01435.JPG"/>
          <p:cNvPicPr/>
          <p:nvPr/>
        </p:nvPicPr>
        <p:blipFill>
          <a:blip r:embed="rId2"/>
          <a:stretch/>
        </p:blipFill>
        <p:spPr>
          <a:xfrm>
            <a:off x="142920" y="2347920"/>
            <a:ext cx="4352760" cy="3224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N:\Дети-сад -фото\DSC01437.JPG"/>
          <p:cNvPicPr/>
          <p:nvPr/>
        </p:nvPicPr>
        <p:blipFill>
          <a:blip r:embed="rId3"/>
          <a:stretch/>
        </p:blipFill>
        <p:spPr>
          <a:xfrm>
            <a:off x="4648320" y="2347920"/>
            <a:ext cx="4138560" cy="322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ПОЗНАВАТЕЛЬНЫЕ МИН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D7F-0DC2-437C-A35D-0E73882F93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9A8-81C3-4925-872D-5B7C3ADF4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N:\Дети-сад -фото\DSC01436.JPG"/>
          <p:cNvPicPr/>
          <p:nvPr/>
        </p:nvPicPr>
        <p:blipFill>
          <a:blip r:embed="rId2"/>
          <a:stretch/>
        </p:blipFill>
        <p:spPr>
          <a:xfrm>
            <a:off x="285840" y="2347920"/>
            <a:ext cx="4209840" cy="3152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:\Дети-сад -фото\DSC01438.JPG"/>
          <p:cNvPicPr/>
          <p:nvPr/>
        </p:nvPicPr>
        <p:blipFill>
          <a:blip r:embed="rId3"/>
          <a:stretch/>
        </p:blipFill>
        <p:spPr>
          <a:xfrm>
            <a:off x="4648320" y="2347920"/>
            <a:ext cx="4281480" cy="31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b99a"/>
                </a:solidFill>
                <a:latin typeface="Calibri"/>
              </a:rPr>
              <a:t>В «МАСТЕРСКОЙ  ПРИРОД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4B4-F146-478A-A711-4A271CEEAE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DEEB-5AF3-4163-A0E7-26BA293FE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N:\Дети-сад -фото\DSC01434.JPG"/>
          <p:cNvPicPr/>
          <p:nvPr/>
        </p:nvPicPr>
        <p:blipFill>
          <a:blip r:embed="rId2"/>
          <a:stretch/>
        </p:blipFill>
        <p:spPr>
          <a:xfrm>
            <a:off x="214200" y="2143080"/>
            <a:ext cx="4281480" cy="323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N:\Дети-сад -фото\DSC01440.JPG"/>
          <p:cNvPicPr/>
          <p:nvPr/>
        </p:nvPicPr>
        <p:blipFill>
          <a:blip r:embed="rId3"/>
          <a:stretch/>
        </p:blipFill>
        <p:spPr>
          <a:xfrm>
            <a:off x="4648320" y="2143080"/>
            <a:ext cx="435276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alibri"/>
              </a:rPr>
              <a:t>ЭТИ ВОЛШЕБНЫЕ КАМ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N:\Дети-сад -фото\DSC01432.JPG"/>
          <p:cNvPicPr/>
          <p:nvPr/>
        </p:nvPicPr>
        <p:blipFill>
          <a:blip r:embed="rId2"/>
          <a:stretch/>
        </p:blipFill>
        <p:spPr>
          <a:xfrm rot="745800">
            <a:off x="214200" y="2000160"/>
            <a:ext cx="4281480" cy="3376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N:\Дети-сад -фото\DSC01433.JPG"/>
          <p:cNvPicPr/>
          <p:nvPr/>
        </p:nvPicPr>
        <p:blipFill>
          <a:blip r:embed="rId3"/>
          <a:stretch/>
        </p:blipFill>
        <p:spPr>
          <a:xfrm rot="1056600">
            <a:off x="4647960" y="2000160"/>
            <a:ext cx="4352760" cy="3376800"/>
          </a:xfrm>
          <a:prstGeom prst="rect">
            <a:avLst/>
          </a:prstGeom>
          <a:ln w="0">
            <a:noFill/>
          </a:ln>
        </p:spPr>
      </p:pic>
      <p:sp>
        <p:nvSpPr>
          <p:cNvPr id="13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A93-2413-4091-95FF-1F9AD38F43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0DB2-CF4B-44EB-A575-34BF27DB0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Calibri"/>
              </a:rPr>
              <a:t>Через красивое – к человечному – такова закономерность воспитания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10FE-0A3D-48FC-8532-3291DAFC88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7BA-0E50-42D3-B8BA-571B979FC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2d050"/>
                </a:solidFill>
                <a:latin typeface="Calibri"/>
              </a:rPr>
              <a:t>Экологическая проблема взаимодействия человека и природ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00D-1953-403C-AD5A-EDAEBF9A31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5D90-C55F-4818-8E0C-B26554BEF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I:\Документы Нина\презентации слайдов 2\анимашки с инета\067b.gif"/>
          <p:cNvPicPr/>
          <p:nvPr/>
        </p:nvPicPr>
        <p:blipFill>
          <a:blip r:embed="rId2"/>
          <a:stretch/>
        </p:blipFill>
        <p:spPr>
          <a:xfrm>
            <a:off x="3214800" y="3214800"/>
            <a:ext cx="242892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Calibri"/>
              </a:rPr>
              <a:t>Основная идея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ираясь на эмоционально – чувственную сферу ребёнка вызвать интерес к окружающему нас мир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учить по-настоящему понимать природ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енить ее красоту и неповторим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увствовать свою неразрывную связь с н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хранять и заботиться 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0AD-CA4F-4B77-83C1-B22901A5D4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8DE-BCDE-4871-AD5B-7D0F8518C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99ff"/>
                </a:solidFill>
                <a:latin typeface="Calibri"/>
              </a:rPr>
              <a:t>Основная 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здать условия для формирования основ научных представлений об окружающем мир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формировать у детей представление о необходимости бережного и созидательного отношения к природ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влечь родителей  воспитанников в эколого-образовательное пространство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A58E-7044-4F36-B543-EAD4632F33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41E8-7703-44F0-A0CE-0DA892B12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4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1859c"/>
                </a:solidFill>
                <a:latin typeface="Calibri"/>
              </a:rPr>
              <a:t>Принци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ритет общечеловеческих ценностей – развитие его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шение к человеку как части приро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иональность и опора на объекты ближайшего окружения, учёт природных, культурных, особенностей регио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гративность знаний – установление взаимосвязей в природном и  социальном окружении, формировании у детей целостной картины мир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иативность обучающих и воспитательных средст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ебёнка в деятельности (создание условий для проведения экспериментов, игровой, творческой, исследовательской деятельност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ора на эмоционально – чувственную сферу ребё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личностных качеств ребёнка: активность, любознательност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9457-A4E9-4327-8533-B61A538395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2286-88AC-4F57-BBED-FFDB96A68D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4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ff"/>
                </a:solidFill>
                <a:latin typeface="Calibri"/>
              </a:rPr>
              <a:t>Основные задачи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ить с внешним обликом планеты Земля, её строение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представление о происхождении камней, их роли в жизни людей, их эстетической це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сти к пониманию того, что жизнь человека на земле зависит от окружающей среды и что человек  должен заботиться об её охр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у детей такие способы познания, как наблюдение, обследование, эксперементирование, сравнение и сопоставление, поиск информации в энциклопедиях и другой детской литерату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изировать познавательные процесс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воображение, учить видеть необычное  в  обычном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эстетическое и нравственное отношение к миру, экологическое созн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6992-E711-49F4-8F51-C78932B9A5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533-AC73-4400-9F9B-4DD6F0DBBF0E}" type="slidenum">
              <a:rPr b="0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BE05-11B2-4E24-B2D3-DEF1B76118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567-59D3-4AB4-A432-AF4F84D9E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I:\Документы Нина\презентации слайдов 2\анимашки с инета\8b1747ac230d8b3e41b4a1330d0f9b8e.gif"/>
          <p:cNvPicPr/>
          <p:nvPr/>
        </p:nvPicPr>
        <p:blipFill>
          <a:blip r:embed="rId2"/>
          <a:stretch/>
        </p:blipFill>
        <p:spPr>
          <a:xfrm>
            <a:off x="7215120" y="4786200"/>
            <a:ext cx="127656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Горизонтальный свиток 19"/>
          <p:cNvSpPr/>
          <p:nvPr/>
        </p:nvSpPr>
        <p:spPr>
          <a:xfrm>
            <a:off x="2928960" y="2000160"/>
            <a:ext cx="3286080" cy="1319400"/>
          </a:xfrm>
          <a:prstGeom prst="horizontalScroll">
            <a:avLst>
              <a:gd name="adj" fmla="val 125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Этап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1"/>
          <p:cNvCxnSpPr/>
          <p:nvPr/>
        </p:nvCxnSpPr>
        <p:spPr>
          <a:xfrm flipV="1">
            <a:off x="5714640" y="1642320"/>
            <a:ext cx="5007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Блок-схема: документ 23"/>
          <p:cNvSpPr/>
          <p:nvPr/>
        </p:nvSpPr>
        <p:spPr>
          <a:xfrm>
            <a:off x="6500880" y="785880"/>
            <a:ext cx="2286000" cy="3071880"/>
          </a:xfrm>
          <a:prstGeom prst="flowChartDocumen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торо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Проведение познавательных, экологических минуток, занятий, экскурсий, чтение художественной литератур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экспериментальная деятель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создание коллекции камней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Мини  центров «Играем с камешками», «Мастерская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Вовлечение родителей в участие в прое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документ 26"/>
          <p:cNvSpPr/>
          <p:nvPr/>
        </p:nvSpPr>
        <p:spPr>
          <a:xfrm>
            <a:off x="357120" y="785880"/>
            <a:ext cx="2286000" cy="3214800"/>
          </a:xfrm>
          <a:prstGeom prst="flowChartDocumen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Первый 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создание центра «Науки и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Оснащение центра познавательными и иллюстративными пособиями и оборудованием для эксперимент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Подбор научной и художественн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8ed5"/>
                </a:solidFill>
                <a:latin typeface="Calibri"/>
              </a:rPr>
              <a:t>Разработка перспективного плана  работы по проек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28"/>
          <p:cNvCxnSpPr/>
          <p:nvPr/>
        </p:nvCxnSpPr>
        <p:spPr>
          <a:xfrm flipH="1" flipV="1">
            <a:off x="2857320" y="1642320"/>
            <a:ext cx="4291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Блок-схема: документ 34"/>
          <p:cNvSpPr/>
          <p:nvPr/>
        </p:nvSpPr>
        <p:spPr>
          <a:xfrm>
            <a:off x="3357720" y="3643200"/>
            <a:ext cx="2428560" cy="3000600"/>
          </a:xfrm>
          <a:prstGeom prst="flowChartDocumen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Третий эта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ониторинг самостоятельной эксперементальной игровой продуктивной деятельности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проведение интеллектуальной игры – викторины «Счастливый камешек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Развлечение «В гостях у Хозяйки Медной гор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Подведение итогов по работе над про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6"/>
          <p:cNvCxnSpPr/>
          <p:nvPr/>
        </p:nvCxnSpPr>
        <p:spPr>
          <a:xfrm flipH="1">
            <a:off x="4642560" y="3214800"/>
            <a:ext cx="252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9646"/>
                </a:solidFill>
                <a:latin typeface="Calibri"/>
              </a:rPr>
              <a:t>Работа с дет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FBF-64CD-4260-A91B-43D444C7BA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82D2-DC64-43EC-AC64-2F94E1346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ая прямоугольная выноска 7"/>
          <p:cNvSpPr/>
          <p:nvPr/>
        </p:nvSpPr>
        <p:spPr>
          <a:xfrm>
            <a:off x="714240" y="3500280"/>
            <a:ext cx="1771920" cy="2571840"/>
          </a:xfrm>
          <a:prstGeom prst="wedgeRoundRectCallout">
            <a:avLst>
              <a:gd name="adj1" fmla="val -19828"/>
              <a:gd name="adj2" fmla="val 63314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ОЛОГИЧЕСКИЕ ЭТЮ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нь у дор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Горячий ка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ей камень луч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шек в ботин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ая прямоугольная выноска 9"/>
          <p:cNvSpPr/>
          <p:nvPr/>
        </p:nvSpPr>
        <p:spPr>
          <a:xfrm>
            <a:off x="6357960" y="1214280"/>
            <a:ext cx="221472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СПЕРИМЕНТАЛЬНАЯ ДЕЯТЕЛЬНОСТЬ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Исследование кам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Исследование песка и гл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чему камни разноцве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к вода камень разру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ая прямоугольная выноска 10"/>
          <p:cNvSpPr/>
          <p:nvPr/>
        </p:nvSpPr>
        <p:spPr>
          <a:xfrm>
            <a:off x="571680" y="1143000"/>
            <a:ext cx="1928520" cy="2041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ЭКОЛОГИЧЕСКИЕ ЗА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«Камн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«Удивите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д ногам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ая прямоугольная выноска 11"/>
          <p:cNvSpPr/>
          <p:nvPr/>
        </p:nvSpPr>
        <p:spPr>
          <a:xfrm>
            <a:off x="6429240" y="3786120"/>
            <a:ext cx="2129040" cy="242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РОДУКТИВНЫЕ ВИДЫ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сочные 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Ракушечные   фантаз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енистый 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йзаж из кам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ая прямоугольная выноска 12"/>
          <p:cNvSpPr/>
          <p:nvPr/>
        </p:nvSpPr>
        <p:spPr>
          <a:xfrm>
            <a:off x="3214800" y="1357200"/>
            <a:ext cx="2643120" cy="4357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ОЗНАВАТЕЛЬНЫЕ МИНУТКИ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то у Земли вну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ьное ца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к образовались кам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Чем различа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ладовы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для строи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в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первобытных лю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Минералы в твое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украша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-вита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леч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04a7b"/>
                </a:solidFill>
                <a:latin typeface="Calibri"/>
              </a:rPr>
              <a:t>Камни обере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1:12:00Z</dcterms:created>
  <dc:creator>BAT2100</dc:creator>
  <dc:description>http://aida.ucoz.ru</dc:description>
  <dc:language>en-US</dc:language>
  <cp:lastModifiedBy>Admin</cp:lastModifiedBy>
  <dcterms:modified xsi:type="dcterms:W3CDTF">2011-12-15T16:30:47Z</dcterms:modified>
  <cp:revision>44</cp:revision>
  <dc:subject/>
  <dc:title>Эколого-образовательный проект    «Волшебный  мир камней»</dc:title>
</cp:coreProperties>
</file>