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90.jpeg" ContentType="image/jpe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23.png" ContentType="image/png"/>
  <Override PartName="/ppt/media/image95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89.jpeg" ContentType="image/jpeg"/>
  <Override PartName="/ppt/media/image67.png" ContentType="image/png"/>
  <Override PartName="/ppt/media/image91.jpeg" ContentType="image/jpeg"/>
  <Override PartName="/ppt/media/image70.png" ContentType="image/png"/>
  <Override PartName="/ppt/media/image7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68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38.jpeg" ContentType="image/jpeg"/>
  <Override PartName="/ppt/media/image7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43.jpeg" ContentType="image/jpeg"/>
  <Override PartName="/ppt/media/image93.png" ContentType="image/png"/>
  <Override PartName="/ppt/media/image2.png" ContentType="image/png"/>
  <Override PartName="/ppt/media/image14.png" ContentType="image/png"/>
  <Override PartName="/ppt/media/image12.jpeg" ContentType="image/jpeg"/>
  <Override PartName="/ppt/media/image88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5.png" ContentType="image/png"/>
  <Override PartName="/ppt/media/image26.png" ContentType="image/pn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.gif" ContentType="image/gif"/>
  <Override PartName="/ppt/media/image16.png" ContentType="image/png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AB7-3B0F-48A0-9AC1-E51197485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93CC-3351-4F95-9F2B-B88550267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49EF-9CF4-4B8F-B148-7B04165AF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результатов эксперимента (по Чечель И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7E9-0576-4D01-86D1-24BDD7A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0D8-4BE0-4992-8C00-F489BE24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B61-9C86-4553-92D3-9A499E58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A80-AD0F-4BF3-83CB-C148E9C1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965-504F-4343-8476-AD93F2EF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653-5BC4-4406-B315-B25AE79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BED-94F6-4745-82FC-3CECCBA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3D8-83C2-47E1-BB3D-2B6507C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9B0-CFA9-4129-95D9-BD027DD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F13-492C-4080-BE11-3D37487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BC3-F2D0-4446-AB98-1EC2759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752-0C83-4FFE-B2BB-C302E0C3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146A-7845-4B80-A955-4D6BC7FAA9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s42.radikal.ru/i095/0904/ed/04fb7db861cf.jpg" TargetMode="External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hyperlink" Target="http://s42.radikal.ru/i095/0904/ed/04fb7db861cf.jpg" TargetMode="External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 развитие личности младшего школьника на основе усвоения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у выполнила: учитель МОУ СОШ № 7 Кузьмина С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843280" y="2565360"/>
            <a:ext cx="273672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Arial"/>
              </a:rPr>
              <a:t>Познавательные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9640" y="549360"/>
            <a:ext cx="27370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, включ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-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076720" y="404640"/>
            <a:ext cx="2951280" cy="13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, включ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во-символ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71640" y="4581360"/>
            <a:ext cx="27370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1332000" y="1916280"/>
            <a:ext cx="1944720" cy="1296360"/>
            <a:chOff x="1332000" y="1916280"/>
            <a:chExt cx="1944720" cy="1296360"/>
          </a:xfrm>
        </p:grpSpPr>
        <p:sp>
          <p:nvSpPr>
            <p:cNvPr id="71" name="Freeform 10"/>
            <p:cNvSpPr/>
            <p:nvPr/>
          </p:nvSpPr>
          <p:spPr>
            <a:xfrm>
              <a:off x="1333080" y="1920240"/>
              <a:ext cx="1125360" cy="85176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2693880" y="2603880"/>
              <a:ext cx="582840" cy="60876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995120" y="2832480"/>
              <a:ext cx="696240" cy="37908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332000" y="1916280"/>
              <a:ext cx="1944720" cy="11548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5580360" y="1700280"/>
            <a:ext cx="1642680" cy="2147760"/>
            <a:chOff x="5580360" y="1700280"/>
            <a:chExt cx="1642680" cy="2147760"/>
          </a:xfrm>
        </p:grpSpPr>
        <p:sp>
          <p:nvSpPr>
            <p:cNvPr id="76" name="Freeform 15"/>
            <p:cNvSpPr/>
            <p:nvPr/>
          </p:nvSpPr>
          <p:spPr>
            <a:xfrm rot="5400000">
              <a:off x="6057000" y="1783440"/>
              <a:ext cx="1242720" cy="1079280"/>
            </a:xfrm>
            <a:custGeom>
              <a:avLst/>
              <a:gdLst>
                <a:gd name="textAreaLeft" fmla="*/ 0 w 1242720"/>
                <a:gd name="textAreaRight" fmla="*/ 1243080 w 12427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5400000">
              <a:off x="5644080" y="3140280"/>
              <a:ext cx="643680" cy="7714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5400000">
              <a:off x="5437440" y="2576880"/>
              <a:ext cx="768960" cy="480240"/>
            </a:xfrm>
            <a:custGeom>
              <a:avLst/>
              <a:gdLst>
                <a:gd name="textAreaLeft" fmla="*/ 0 w 768960"/>
                <a:gd name="textAreaRight" fmla="*/ 769320 w 768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5400000">
              <a:off x="5417280" y="2042280"/>
              <a:ext cx="2147760" cy="146340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9"/>
          <p:cNvGrpSpPr/>
          <p:nvPr/>
        </p:nvGrpSpPr>
        <p:grpSpPr>
          <a:xfrm>
            <a:off x="3430080" y="3299040"/>
            <a:ext cx="1904040" cy="1445400"/>
            <a:chOff x="3430080" y="3299040"/>
            <a:chExt cx="1904040" cy="1445400"/>
          </a:xfrm>
        </p:grpSpPr>
        <p:sp>
          <p:nvSpPr>
            <p:cNvPr id="81" name="Freeform 20"/>
            <p:cNvSpPr/>
            <p:nvPr/>
          </p:nvSpPr>
          <p:spPr>
            <a:xfrm rot="11936400">
              <a:off x="4191120" y="3981240"/>
              <a:ext cx="999360" cy="614520"/>
            </a:xfrm>
            <a:custGeom>
              <a:avLst/>
              <a:gdLst>
                <a:gd name="textAreaLeft" fmla="*/ 0 w 999360"/>
                <a:gd name="textAreaRight" fmla="*/ 999720 w 99936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 rot="11936400">
              <a:off x="3648240" y="3371040"/>
              <a:ext cx="517680" cy="43920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 rot="11936400">
              <a:off x="4163760" y="3561840"/>
              <a:ext cx="618480" cy="2732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 rot="11936400">
              <a:off x="3518280" y="3653280"/>
              <a:ext cx="1727280" cy="8330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4500360"/>
            <a:ext cx="64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ласс в начале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класс в конце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500040" y="4572000"/>
            <a:ext cx="571680" cy="500040"/>
          </a:xfrm>
          <a:prstGeom prst="rect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00040" y="5214960"/>
            <a:ext cx="57168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4"/>
          <p:cNvSpPr/>
          <p:nvPr/>
        </p:nvSpPr>
        <p:spPr>
          <a:xfrm>
            <a:off x="35712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тестиро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500040" y="6072120"/>
            <a:ext cx="57168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11" descr=""/>
          <p:cNvPicPr/>
          <p:nvPr/>
        </p:nvPicPr>
        <p:blipFill>
          <a:blip r:embed="rId1"/>
          <a:stretch/>
        </p:blipFill>
        <p:spPr>
          <a:xfrm>
            <a:off x="0" y="0"/>
            <a:ext cx="6377040" cy="4516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4500360"/>
            <a:ext cx="64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ласс в начале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класс в конце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95280" y="4581360"/>
            <a:ext cx="571680" cy="500400"/>
          </a:xfrm>
          <a:prstGeom prst="rect">
            <a:avLst/>
          </a:prstGeom>
          <a:solidFill>
            <a:srgbClr val="33339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395280" y="5229360"/>
            <a:ext cx="57168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оловок 4"/>
          <p:cNvSpPr/>
          <p:nvPr/>
        </p:nvSpPr>
        <p:spPr>
          <a:xfrm>
            <a:off x="35712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тестиро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395280" y="6021360"/>
            <a:ext cx="57168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Диаграмма 11" descr=""/>
          <p:cNvPicPr/>
          <p:nvPr/>
        </p:nvPicPr>
        <p:blipFill>
          <a:blip r:embed="rId1"/>
          <a:stretch/>
        </p:blipFill>
        <p:spPr>
          <a:xfrm>
            <a:off x="1920960" y="1566720"/>
            <a:ext cx="4655880" cy="2938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вод вербально заданного текста на язык графики и обратные задания: по рисункам или схемам надо составить задачи или примеры.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84360" y="162864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197000"/>
            <a:ext cx="85694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entury Schoolbook"/>
              </a:rPr>
              <a:t>Какой чертеж соответствует зада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entury Schoolbook"/>
              </a:rPr>
              <a:t>Два мальчика бежали навстречу друг другу. Один пробежал до встречи 24 метра, а другой в 2 раза больше. Какое расстояние было между ними снача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Прямая со стрелкой 33"/>
          <p:cNvCxnSpPr/>
          <p:nvPr/>
        </p:nvCxnSpPr>
        <p:spPr>
          <a:xfrm>
            <a:off x="684000" y="2852280"/>
            <a:ext cx="122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2" name="Группа 53"/>
          <p:cNvGrpSpPr/>
          <p:nvPr/>
        </p:nvGrpSpPr>
        <p:grpSpPr>
          <a:xfrm>
            <a:off x="539640" y="3357360"/>
            <a:ext cx="4537080" cy="1079640"/>
            <a:chOff x="539640" y="3357360"/>
            <a:chExt cx="4537080" cy="1079640"/>
          </a:xfrm>
        </p:grpSpPr>
        <p:cxnSp>
          <p:nvCxnSpPr>
            <p:cNvPr id="103" name="Прямая со стрелкой 20"/>
            <p:cNvCxnSpPr/>
            <p:nvPr/>
          </p:nvCxnSpPr>
          <p:spPr>
            <a:xfrm>
              <a:off x="755280" y="3357360"/>
              <a:ext cx="1224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04" name="Группа 25"/>
            <p:cNvGrpSpPr/>
            <p:nvPr/>
          </p:nvGrpSpPr>
          <p:grpSpPr>
            <a:xfrm>
              <a:off x="539640" y="4077360"/>
              <a:ext cx="4537080" cy="359640"/>
              <a:chOff x="539640" y="4077360"/>
              <a:chExt cx="4537080" cy="359640"/>
            </a:xfrm>
          </p:grpSpPr>
          <p:sp>
            <p:nvSpPr>
              <p:cNvPr id="105" name="Прямая соединительная линия 26"/>
              <p:cNvSpPr/>
              <p:nvPr/>
            </p:nvSpPr>
            <p:spPr>
              <a:xfrm>
                <a:off x="539640" y="4221360"/>
                <a:ext cx="45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Прямая соединительная линия 27"/>
              <p:cNvSpPr/>
              <p:nvPr/>
            </p:nvSpPr>
            <p:spPr>
              <a:xfrm>
                <a:off x="539640" y="4077360"/>
                <a:ext cx="0" cy="35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28"/>
              <p:cNvSpPr/>
              <p:nvPr/>
            </p:nvSpPr>
            <p:spPr>
              <a:xfrm>
                <a:off x="5076720" y="4077360"/>
                <a:ext cx="0" cy="28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8" name="Прямая со стрелкой 34"/>
            <p:cNvCxnSpPr/>
            <p:nvPr/>
          </p:nvCxnSpPr>
          <p:spPr>
            <a:xfrm>
              <a:off x="539640" y="400500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9" name="Группа 52"/>
          <p:cNvGrpSpPr/>
          <p:nvPr/>
        </p:nvGrpSpPr>
        <p:grpSpPr>
          <a:xfrm>
            <a:off x="539280" y="2492280"/>
            <a:ext cx="4956480" cy="2129040"/>
            <a:chOff x="539280" y="2492280"/>
            <a:chExt cx="4956480" cy="2129040"/>
          </a:xfrm>
        </p:grpSpPr>
        <p:cxnSp>
          <p:nvCxnSpPr>
            <p:cNvPr id="110" name="Прямая со стрелкой 19"/>
            <p:cNvCxnSpPr/>
            <p:nvPr/>
          </p:nvCxnSpPr>
          <p:spPr>
            <a:xfrm flipH="1">
              <a:off x="3643560" y="3920040"/>
              <a:ext cx="1130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11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2842920" y="3436200"/>
              <a:ext cx="2652840" cy="47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2" name="Прямая со стрелкой 37"/>
            <p:cNvCxnSpPr/>
            <p:nvPr/>
          </p:nvCxnSpPr>
          <p:spPr>
            <a:xfrm>
              <a:off x="539280" y="4349880"/>
              <a:ext cx="423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13" name="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2197440" y="4149720"/>
              <a:ext cx="9259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Группа 51"/>
            <p:cNvGrpSpPr/>
            <p:nvPr/>
          </p:nvGrpSpPr>
          <p:grpSpPr>
            <a:xfrm>
              <a:off x="539640" y="2492280"/>
              <a:ext cx="4446000" cy="825480"/>
              <a:chOff x="539640" y="2492280"/>
              <a:chExt cx="4446000" cy="825480"/>
            </a:xfrm>
          </p:grpSpPr>
          <p:grpSp>
            <p:nvGrpSpPr>
              <p:cNvPr id="115" name="Группа 15"/>
              <p:cNvGrpSpPr/>
              <p:nvPr/>
            </p:nvGrpSpPr>
            <p:grpSpPr>
              <a:xfrm>
                <a:off x="636120" y="2874240"/>
                <a:ext cx="4349520" cy="327240"/>
                <a:chOff x="636120" y="2874240"/>
                <a:chExt cx="4349520" cy="327240"/>
              </a:xfrm>
            </p:grpSpPr>
            <p:sp>
              <p:nvSpPr>
                <p:cNvPr id="116" name="Прямая соединительная линия 9"/>
                <p:cNvSpPr/>
                <p:nvPr/>
              </p:nvSpPr>
              <p:spPr>
                <a:xfrm>
                  <a:off x="636120" y="3013920"/>
                  <a:ext cx="434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Прямая соединительная линия 11"/>
                <p:cNvSpPr/>
                <p:nvPr/>
              </p:nvSpPr>
              <p:spPr>
                <a:xfrm>
                  <a:off x="636120" y="287424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рямая соединительная линия 13"/>
                <p:cNvSpPr/>
                <p:nvPr/>
              </p:nvSpPr>
              <p:spPr>
                <a:xfrm>
                  <a:off x="4985640" y="2874240"/>
                  <a:ext cx="0" cy="26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" name="Прямоугольник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18800" y="2492280"/>
                <a:ext cx="90612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Прямоугольник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640" y="2885760"/>
                <a:ext cx="259524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Группа 62"/>
          <p:cNvGrpSpPr/>
          <p:nvPr/>
        </p:nvGrpSpPr>
        <p:grpSpPr>
          <a:xfrm>
            <a:off x="539640" y="4941720"/>
            <a:ext cx="4956120" cy="1181160"/>
            <a:chOff x="539640" y="4941720"/>
            <a:chExt cx="4956120" cy="1181160"/>
          </a:xfrm>
        </p:grpSpPr>
        <p:cxnSp>
          <p:nvCxnSpPr>
            <p:cNvPr id="122" name="Прямая со стрелкой 46"/>
            <p:cNvCxnSpPr/>
            <p:nvPr/>
          </p:nvCxnSpPr>
          <p:spPr>
            <a:xfrm>
              <a:off x="539640" y="5517720"/>
              <a:ext cx="792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grpSp>
          <p:nvGrpSpPr>
            <p:cNvPr id="123" name="Группа 61"/>
            <p:cNvGrpSpPr/>
            <p:nvPr/>
          </p:nvGrpSpPr>
          <p:grpSpPr>
            <a:xfrm>
              <a:off x="539640" y="4941720"/>
              <a:ext cx="4956120" cy="1181160"/>
              <a:chOff x="539640" y="4941720"/>
              <a:chExt cx="4956120" cy="1181160"/>
            </a:xfrm>
          </p:grpSpPr>
          <p:grpSp>
            <p:nvGrpSpPr>
              <p:cNvPr id="124" name="Группа 60"/>
              <p:cNvGrpSpPr/>
              <p:nvPr/>
            </p:nvGrpSpPr>
            <p:grpSpPr>
              <a:xfrm>
                <a:off x="539640" y="5445000"/>
                <a:ext cx="4535640" cy="432000"/>
                <a:chOff x="539640" y="5445000"/>
                <a:chExt cx="4535640" cy="432000"/>
              </a:xfrm>
            </p:grpSpPr>
            <p:grpSp>
              <p:nvGrpSpPr>
                <p:cNvPr id="125" name="Группа 41"/>
                <p:cNvGrpSpPr/>
                <p:nvPr/>
              </p:nvGrpSpPr>
              <p:grpSpPr>
                <a:xfrm>
                  <a:off x="539640" y="5517720"/>
                  <a:ext cx="4535640" cy="359280"/>
                  <a:chOff x="539640" y="5517720"/>
                  <a:chExt cx="4535640" cy="359280"/>
                </a:xfrm>
              </p:grpSpPr>
              <p:sp>
                <p:nvSpPr>
                  <p:cNvPr id="126" name="Прямая соединительная линия 42"/>
                  <p:cNvSpPr/>
                  <p:nvPr/>
                </p:nvSpPr>
                <p:spPr>
                  <a:xfrm>
                    <a:off x="539640" y="5652720"/>
                    <a:ext cx="4535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Прямая соединительная линия 43"/>
                  <p:cNvSpPr/>
                  <p:nvPr/>
                </p:nvSpPr>
                <p:spPr>
                  <a:xfrm>
                    <a:off x="539640" y="5517720"/>
                    <a:ext cx="0" cy="35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рямая соединительная линия 44"/>
                  <p:cNvSpPr/>
                  <p:nvPr/>
                </p:nvSpPr>
                <p:spPr>
                  <a:xfrm>
                    <a:off x="5075280" y="5517720"/>
                    <a:ext cx="0" cy="29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29" name="Прямая со стрелкой 49"/>
                <p:cNvCxnSpPr/>
                <p:nvPr/>
              </p:nvCxnSpPr>
              <p:spPr>
                <a:xfrm flipH="1">
                  <a:off x="3850920" y="5445000"/>
                  <a:ext cx="115272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130" name="Группа 57"/>
              <p:cNvGrpSpPr/>
              <p:nvPr/>
            </p:nvGrpSpPr>
            <p:grpSpPr>
              <a:xfrm>
                <a:off x="539640" y="4941720"/>
                <a:ext cx="4956120" cy="1181160"/>
                <a:chOff x="539640" y="4941720"/>
                <a:chExt cx="4956120" cy="1181160"/>
              </a:xfrm>
            </p:grpSpPr>
            <p:grpSp>
              <p:nvGrpSpPr>
                <p:cNvPr id="131" name="Группа 56"/>
                <p:cNvGrpSpPr/>
                <p:nvPr/>
              </p:nvGrpSpPr>
              <p:grpSpPr>
                <a:xfrm>
                  <a:off x="539640" y="5135040"/>
                  <a:ext cx="4304520" cy="987840"/>
                  <a:chOff x="539640" y="5135040"/>
                  <a:chExt cx="4304520" cy="987840"/>
                </a:xfrm>
              </p:grpSpPr>
              <p:grpSp>
                <p:nvGrpSpPr>
                  <p:cNvPr id="132" name="Группа 55"/>
                  <p:cNvGrpSpPr/>
                  <p:nvPr/>
                </p:nvGrpSpPr>
                <p:grpSpPr>
                  <a:xfrm>
                    <a:off x="710280" y="5706360"/>
                    <a:ext cx="4133880" cy="416520"/>
                    <a:chOff x="710280" y="5706360"/>
                    <a:chExt cx="4133880" cy="416520"/>
                  </a:xfrm>
                </p:grpSpPr>
                <p:pic>
                  <p:nvPicPr>
                    <p:cNvPr id="133" name="Прямоугольник 2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0160" y="5706360"/>
                      <a:ext cx="641520" cy="41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cxnSp>
                  <p:nvCxnSpPr>
                    <p:cNvPr id="134" name="Прямая со стрелкой 45"/>
                    <p:cNvCxnSpPr/>
                    <p:nvPr/>
                  </p:nvCxnSpPr>
                  <p:spPr>
                    <a:xfrm>
                      <a:off x="710280" y="5873040"/>
                      <a:ext cx="4134240" cy="1080"/>
                    </a:xfrm>
                    <a:prstGeom prst="straightConnector1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</p:cxnSp>
              </p:grpSp>
              <p:pic>
                <p:nvPicPr>
                  <p:cNvPr id="135" name="Прямоугольник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135040"/>
                    <a:ext cx="903960" cy="4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6" name="Прямоугольник 5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842920" y="4941720"/>
                  <a:ext cx="2652840" cy="45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48"/>
          <p:cNvGrpSpPr/>
          <p:nvPr/>
        </p:nvGrpSpPr>
        <p:grpSpPr>
          <a:xfrm>
            <a:off x="324000" y="1197000"/>
            <a:ext cx="6530760" cy="1440000"/>
            <a:chOff x="324000" y="1197000"/>
            <a:chExt cx="6530760" cy="1440000"/>
          </a:xfrm>
        </p:grpSpPr>
        <p:cxnSp>
          <p:nvCxnSpPr>
            <p:cNvPr id="138" name="Прямая со стрелкой 4"/>
            <p:cNvCxnSpPr/>
            <p:nvPr/>
          </p:nvCxnSpPr>
          <p:spPr>
            <a:xfrm>
              <a:off x="395280" y="2133360"/>
              <a:ext cx="6193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grpSp>
          <p:nvGrpSpPr>
            <p:cNvPr id="139" name="Группа 47"/>
            <p:cNvGrpSpPr/>
            <p:nvPr/>
          </p:nvGrpSpPr>
          <p:grpSpPr>
            <a:xfrm>
              <a:off x="324000" y="1197000"/>
              <a:ext cx="6530760" cy="1440000"/>
              <a:chOff x="324000" y="1197000"/>
              <a:chExt cx="6530760" cy="1440000"/>
            </a:xfrm>
          </p:grpSpPr>
          <p:grpSp>
            <p:nvGrpSpPr>
              <p:cNvPr id="140" name="Группа 37"/>
              <p:cNvGrpSpPr/>
              <p:nvPr/>
            </p:nvGrpSpPr>
            <p:grpSpPr>
              <a:xfrm>
                <a:off x="324000" y="1893240"/>
                <a:ext cx="6530760" cy="182160"/>
                <a:chOff x="324000" y="1893240"/>
                <a:chExt cx="6530760" cy="182160"/>
              </a:xfrm>
            </p:grpSpPr>
            <p:grpSp>
              <p:nvGrpSpPr>
                <p:cNvPr id="141" name="Группа 35"/>
                <p:cNvGrpSpPr/>
                <p:nvPr/>
              </p:nvGrpSpPr>
              <p:grpSpPr>
                <a:xfrm>
                  <a:off x="324000" y="1960560"/>
                  <a:ext cx="6530760" cy="114120"/>
                  <a:chOff x="324000" y="1960560"/>
                  <a:chExt cx="6530760" cy="114120"/>
                </a:xfrm>
              </p:grpSpPr>
              <p:sp>
                <p:nvSpPr>
                  <p:cNvPr id="142" name="Прямая соединительная линия 13"/>
                  <p:cNvSpPr/>
                  <p:nvPr/>
                </p:nvSpPr>
                <p:spPr>
                  <a:xfrm>
                    <a:off x="324000" y="2027160"/>
                    <a:ext cx="6480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Овал 14"/>
                  <p:cNvSpPr/>
                  <p:nvPr/>
                </p:nvSpPr>
                <p:spPr>
                  <a:xfrm>
                    <a:off x="324000" y="1960560"/>
                    <a:ext cx="12204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Овал 15"/>
                  <p:cNvSpPr/>
                  <p:nvPr/>
                </p:nvSpPr>
                <p:spPr>
                  <a:xfrm>
                    <a:off x="6732720" y="1960560"/>
                    <a:ext cx="12204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" name="Овал 12"/>
                <p:cNvSpPr/>
                <p:nvPr/>
              </p:nvSpPr>
              <p:spPr>
                <a:xfrm>
                  <a:off x="2987640" y="1893240"/>
                  <a:ext cx="195120" cy="1821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46" name="Прямая со стрелкой 7"/>
              <p:cNvCxnSpPr/>
              <p:nvPr/>
            </p:nvCxnSpPr>
            <p:spPr>
              <a:xfrm>
                <a:off x="611280" y="1622880"/>
                <a:ext cx="12974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7" name="Прямая со стрелкой 8"/>
              <p:cNvCxnSpPr/>
              <p:nvPr/>
            </p:nvCxnSpPr>
            <p:spPr>
              <a:xfrm flipH="1">
                <a:off x="5508000" y="1622880"/>
                <a:ext cx="1224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48" name="Прямоугольник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414160" y="1197000"/>
                <a:ext cx="15055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Скругленный прямоугольник 10"/>
              <p:cNvSpPr/>
              <p:nvPr/>
            </p:nvSpPr>
            <p:spPr>
              <a:xfrm>
                <a:off x="2627280" y="2434320"/>
                <a:ext cx="1225440" cy="20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Прямоугольник 16"/>
          <p:cNvSpPr/>
          <p:nvPr/>
        </p:nvSpPr>
        <p:spPr>
          <a:xfrm>
            <a:off x="107640" y="333360"/>
            <a:ext cx="45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оставь задачу по схеме, по рису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2"/>
          <a:stretch/>
        </p:blipFill>
        <p:spPr>
          <a:xfrm>
            <a:off x="752400" y="2781360"/>
            <a:ext cx="4395960" cy="169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одержимое 2"/>
          <p:cNvSpPr/>
          <p:nvPr/>
        </p:nvSpPr>
        <p:spPr>
          <a:xfrm>
            <a:off x="468360" y="3573360"/>
            <a:ext cx="806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179280" y="3284640"/>
            <a:ext cx="41054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оотнеси предложения и схемы. Расставь пропущенные знаки препинания. Придумайте сво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23"/>
          <p:cNvGrpSpPr/>
          <p:nvPr/>
        </p:nvGrpSpPr>
        <p:grpSpPr>
          <a:xfrm>
            <a:off x="179280" y="4724280"/>
            <a:ext cx="3435480" cy="797760"/>
            <a:chOff x="179280" y="4724280"/>
            <a:chExt cx="3435480" cy="797760"/>
          </a:xfrm>
        </p:grpSpPr>
        <p:grpSp>
          <p:nvGrpSpPr>
            <p:cNvPr id="155" name="Группа 12"/>
            <p:cNvGrpSpPr/>
            <p:nvPr/>
          </p:nvGrpSpPr>
          <p:grpSpPr>
            <a:xfrm>
              <a:off x="179280" y="4724280"/>
              <a:ext cx="554400" cy="555120"/>
              <a:chOff x="179280" y="4724280"/>
              <a:chExt cx="554400" cy="555120"/>
            </a:xfrm>
          </p:grpSpPr>
          <p:sp>
            <p:nvSpPr>
              <p:cNvPr id="156" name="Овал 4"/>
              <p:cNvSpPr/>
              <p:nvPr/>
            </p:nvSpPr>
            <p:spPr>
              <a:xfrm>
                <a:off x="179280" y="4724280"/>
                <a:ext cx="554400" cy="555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Овал 5"/>
              <p:cNvSpPr/>
              <p:nvPr/>
            </p:nvSpPr>
            <p:spPr>
              <a:xfrm>
                <a:off x="395280" y="4939920"/>
                <a:ext cx="193680" cy="1951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Овал 8"/>
            <p:cNvSpPr/>
            <p:nvPr/>
          </p:nvSpPr>
          <p:spPr>
            <a:xfrm>
              <a:off x="111600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9"/>
            <p:cNvSpPr/>
            <p:nvPr/>
          </p:nvSpPr>
          <p:spPr>
            <a:xfrm>
              <a:off x="176364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10"/>
            <p:cNvSpPr/>
            <p:nvPr/>
          </p:nvSpPr>
          <p:spPr>
            <a:xfrm>
              <a:off x="2411280" y="4795560"/>
              <a:ext cx="55548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Овал 11"/>
            <p:cNvSpPr/>
            <p:nvPr/>
          </p:nvSpPr>
          <p:spPr>
            <a:xfrm>
              <a:off x="306072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Овал 13"/>
            <p:cNvSpPr/>
            <p:nvPr/>
          </p:nvSpPr>
          <p:spPr>
            <a:xfrm>
              <a:off x="900000" y="4868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Овал 14"/>
            <p:cNvSpPr/>
            <p:nvPr/>
          </p:nvSpPr>
          <p:spPr>
            <a:xfrm flipH="1">
              <a:off x="899280" y="5084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15"/>
            <p:cNvSpPr/>
            <p:nvPr/>
          </p:nvSpPr>
          <p:spPr>
            <a:xfrm>
              <a:off x="1547640" y="494064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16"/>
            <p:cNvSpPr/>
            <p:nvPr/>
          </p:nvSpPr>
          <p:spPr>
            <a:xfrm>
              <a:off x="2198160" y="494064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оугольник 17"/>
            <p:cNvSpPr/>
            <p:nvPr/>
          </p:nvSpPr>
          <p:spPr>
            <a:xfrm>
              <a:off x="2846520" y="494064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30"/>
          <p:cNvGrpSpPr/>
          <p:nvPr/>
        </p:nvGrpSpPr>
        <p:grpSpPr>
          <a:xfrm>
            <a:off x="179280" y="5732640"/>
            <a:ext cx="3362400" cy="690840"/>
            <a:chOff x="179280" y="5732640"/>
            <a:chExt cx="3362400" cy="690840"/>
          </a:xfrm>
        </p:grpSpPr>
        <p:sp>
          <p:nvSpPr>
            <p:cNvPr id="168" name="Прямоугольник 18"/>
            <p:cNvSpPr/>
            <p:nvPr/>
          </p:nvSpPr>
          <p:spPr>
            <a:xfrm>
              <a:off x="1185480" y="5842080"/>
              <a:ext cx="27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Группа 19"/>
            <p:cNvGrpSpPr/>
            <p:nvPr/>
          </p:nvGrpSpPr>
          <p:grpSpPr>
            <a:xfrm>
              <a:off x="3003480" y="5774400"/>
              <a:ext cx="538200" cy="519120"/>
              <a:chOff x="3003480" y="5774400"/>
              <a:chExt cx="538200" cy="519120"/>
            </a:xfrm>
          </p:grpSpPr>
          <p:sp>
            <p:nvSpPr>
              <p:cNvPr id="170" name="Овал 20"/>
              <p:cNvSpPr/>
              <p:nvPr/>
            </p:nvSpPr>
            <p:spPr>
              <a:xfrm>
                <a:off x="3003480" y="5774400"/>
                <a:ext cx="538200" cy="51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Овал 21"/>
              <p:cNvSpPr/>
              <p:nvPr/>
            </p:nvSpPr>
            <p:spPr>
              <a:xfrm>
                <a:off x="3213000" y="5976720"/>
                <a:ext cx="187920" cy="181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Овал 22"/>
            <p:cNvSpPr/>
            <p:nvPr/>
          </p:nvSpPr>
          <p:spPr>
            <a:xfrm>
              <a:off x="1955520" y="5841360"/>
              <a:ext cx="537840" cy="52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Прямоугольник 24" descr=""/>
            <p:cNvPicPr/>
            <p:nvPr/>
          </p:nvPicPr>
          <p:blipFill>
            <a:blip r:embed="rId1"/>
            <a:stretch/>
          </p:blipFill>
          <p:spPr>
            <a:xfrm>
              <a:off x="179280" y="5732640"/>
              <a:ext cx="7279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25" descr=""/>
            <p:cNvPicPr/>
            <p:nvPr/>
          </p:nvPicPr>
          <p:blipFill>
            <a:blip r:embed="rId2"/>
            <a:stretch/>
          </p:blipFill>
          <p:spPr>
            <a:xfrm>
              <a:off x="1298160" y="5732640"/>
              <a:ext cx="72792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Овал 27"/>
            <p:cNvSpPr/>
            <p:nvPr/>
          </p:nvSpPr>
          <p:spPr>
            <a:xfrm>
              <a:off x="765000" y="5774400"/>
              <a:ext cx="539280" cy="51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29"/>
            <p:cNvSpPr/>
            <p:nvPr/>
          </p:nvSpPr>
          <p:spPr>
            <a:xfrm>
              <a:off x="2584440" y="6045120"/>
              <a:ext cx="3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Содержимое 3"/>
          <p:cNvSpPr/>
          <p:nvPr/>
        </p:nvSpPr>
        <p:spPr>
          <a:xfrm>
            <a:off x="4067280" y="3645000"/>
            <a:ext cx="4932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 ягод ни грибов ничего не попадалось сегодня зай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 подпола полетели всякие овощи морковка картошка петрушка све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3"/>
          <p:cNvSpPr/>
          <p:nvPr/>
        </p:nvSpPr>
        <p:spPr>
          <a:xfrm>
            <a:off x="4427640" y="260280"/>
            <a:ext cx="4176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3"/>
          <p:cNvSpPr/>
          <p:nvPr/>
        </p:nvSpPr>
        <p:spPr>
          <a:xfrm>
            <a:off x="250920" y="333360"/>
            <a:ext cx="417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Соотнеси слова со схемой. Придумай свои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одсне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л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Группа 78"/>
          <p:cNvGrpSpPr/>
          <p:nvPr/>
        </p:nvGrpSpPr>
        <p:grpSpPr>
          <a:xfrm>
            <a:off x="5076720" y="260280"/>
            <a:ext cx="2303640" cy="720720"/>
            <a:chOff x="5076720" y="260280"/>
            <a:chExt cx="2303640" cy="720720"/>
          </a:xfrm>
        </p:grpSpPr>
        <p:sp>
          <p:nvSpPr>
            <p:cNvPr id="181" name="Прямоугольник 48"/>
            <p:cNvSpPr/>
            <p:nvPr/>
          </p:nvSpPr>
          <p:spPr>
            <a:xfrm>
              <a:off x="7023600" y="371160"/>
              <a:ext cx="356760" cy="33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Дуга 62"/>
            <p:cNvSpPr/>
            <p:nvPr/>
          </p:nvSpPr>
          <p:spPr>
            <a:xfrm>
              <a:off x="6097680" y="439920"/>
              <a:ext cx="641160" cy="541080"/>
            </a:xfrm>
            <a:custGeom>
              <a:avLst/>
              <a:gdLst>
                <a:gd name="textAreaLeft" fmla="*/ 1080 w 641160"/>
                <a:gd name="textAreaRight" fmla="*/ 641520 w 641160"/>
                <a:gd name="textAreaTop" fmla="*/ 0 h 541080"/>
                <a:gd name="textAreaBottom" fmla="*/ 270720 h 541080"/>
              </a:gdLst>
              <a:ahLst/>
              <a:rect l="textAreaLeft" t="textAreaTop" r="textAreaRight" b="textAreaBottom"/>
              <a:pathLst>
                <a:path stroke="0" w="647923" h="575746">
                  <a:moveTo>
                    <a:pt x="1256" y="262551"/>
                  </a:moveTo>
                  <a:lnTo>
                    <a:pt x="1256" y="262551"/>
                  </a:lnTo>
                  <a:arcTo wR="323962" hR="287873" stAng="-10530799" swAng="10530810"/>
                  <a:lnTo>
                    <a:pt x="323962" y="287873"/>
                  </a:lnTo>
                  <a:close/>
                </a:path>
                <a:path fill="none" w="647923" h="575746">
                  <a:moveTo>
                    <a:pt x="1256" y="262551"/>
                  </a:moveTo>
                  <a:lnTo>
                    <a:pt x="1256" y="262551"/>
                  </a:lnTo>
                  <a:arcTo wR="323962" hR="287873" stAng="-10530799" swAng="10530810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Прямоугольник 73" descr=""/>
            <p:cNvPicPr/>
            <p:nvPr/>
          </p:nvPicPr>
          <p:blipFill>
            <a:blip r:embed="rId3"/>
            <a:stretch/>
          </p:blipFill>
          <p:spPr>
            <a:xfrm>
              <a:off x="5076720" y="260280"/>
              <a:ext cx="54324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81"/>
          <p:cNvGrpSpPr/>
          <p:nvPr/>
        </p:nvGrpSpPr>
        <p:grpSpPr>
          <a:xfrm>
            <a:off x="5148360" y="1557360"/>
            <a:ext cx="1368360" cy="719280"/>
            <a:chOff x="5148360" y="1557360"/>
            <a:chExt cx="1368360" cy="719280"/>
          </a:xfrm>
        </p:grpSpPr>
        <p:sp>
          <p:nvSpPr>
            <p:cNvPr id="185" name="Дуга 64"/>
            <p:cNvSpPr/>
            <p:nvPr/>
          </p:nvSpPr>
          <p:spPr>
            <a:xfrm>
              <a:off x="5910840" y="1735920"/>
              <a:ext cx="605880" cy="540720"/>
            </a:xfrm>
            <a:custGeom>
              <a:avLst/>
              <a:gdLst>
                <a:gd name="textAreaLeft" fmla="*/ 1080 w 605880"/>
                <a:gd name="textAreaRight" fmla="*/ 606240 w 605880"/>
                <a:gd name="textAreaTop" fmla="*/ 0 h 540720"/>
                <a:gd name="textAreaBottom" fmla="*/ 270360 h 540720"/>
              </a:gdLst>
              <a:ahLst/>
              <a:rect l="textAreaLeft" t="textAreaTop" r="textAreaRight" b="textAreaBottom"/>
              <a:pathLst>
                <a:path stroke="0" w="647571" h="575429">
                  <a:moveTo>
                    <a:pt x="1255" y="262406"/>
                  </a:moveTo>
                  <a:lnTo>
                    <a:pt x="1255" y="262406"/>
                  </a:lnTo>
                  <a:arcTo wR="323786" hR="287715" stAng="-10530792" swAng="10530792"/>
                  <a:lnTo>
                    <a:pt x="323786" y="287715"/>
                  </a:lnTo>
                  <a:close/>
                </a:path>
                <a:path fill="none" w="647571" h="575429">
                  <a:moveTo>
                    <a:pt x="1255" y="262406"/>
                  </a:moveTo>
                  <a:lnTo>
                    <a:pt x="1255" y="262406"/>
                  </a:lnTo>
                  <a:arcTo wR="323786" hR="287715" stAng="-10530792" swAng="10530792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Прямоугольник 74" descr=""/>
            <p:cNvPicPr/>
            <p:nvPr/>
          </p:nvPicPr>
          <p:blipFill>
            <a:blip r:embed="rId4"/>
            <a:stretch/>
          </p:blipFill>
          <p:spPr>
            <a:xfrm>
              <a:off x="5148360" y="1557360"/>
              <a:ext cx="51300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Группа 80"/>
          <p:cNvGrpSpPr/>
          <p:nvPr/>
        </p:nvGrpSpPr>
        <p:grpSpPr>
          <a:xfrm>
            <a:off x="5148360" y="981000"/>
            <a:ext cx="2663640" cy="647640"/>
            <a:chOff x="5148360" y="981000"/>
            <a:chExt cx="2663640" cy="647640"/>
          </a:xfrm>
        </p:grpSpPr>
        <p:sp>
          <p:nvSpPr>
            <p:cNvPr id="188" name="Прямоугольник 63"/>
            <p:cNvSpPr/>
            <p:nvPr/>
          </p:nvSpPr>
          <p:spPr>
            <a:xfrm>
              <a:off x="7451640" y="1125360"/>
              <a:ext cx="360360" cy="35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Группа 79"/>
            <p:cNvGrpSpPr/>
            <p:nvPr/>
          </p:nvGrpSpPr>
          <p:grpSpPr>
            <a:xfrm>
              <a:off x="5148360" y="981000"/>
              <a:ext cx="2189520" cy="647640"/>
              <a:chOff x="5148360" y="981000"/>
              <a:chExt cx="2189520" cy="647640"/>
            </a:xfrm>
          </p:grpSpPr>
          <p:sp>
            <p:nvSpPr>
              <p:cNvPr id="190" name="Дуга 47"/>
              <p:cNvSpPr/>
              <p:nvPr/>
            </p:nvSpPr>
            <p:spPr>
              <a:xfrm>
                <a:off x="6232680" y="1092240"/>
                <a:ext cx="622440" cy="536400"/>
              </a:xfrm>
              <a:custGeom>
                <a:avLst/>
                <a:gdLst>
                  <a:gd name="textAreaLeft" fmla="*/ 1080 w 622440"/>
                  <a:gd name="textAreaRight" fmla="*/ 622800 w 622440"/>
                  <a:gd name="textAreaTop" fmla="*/ 0 h 536400"/>
                  <a:gd name="textAreaBottom" fmla="*/ 268200 h 536400"/>
                </a:gdLst>
                <a:ahLst/>
                <a:rect l="textAreaLeft" t="textAreaTop" r="textAreaRight" b="textAreaBottom"/>
                <a:pathLst>
                  <a:path stroke="0" w="649403" h="576593">
                    <a:moveTo>
                      <a:pt x="1261" y="262917"/>
                    </a:moveTo>
                    <a:lnTo>
                      <a:pt x="1261" y="262917"/>
                    </a:lnTo>
                    <a:arcTo wR="324702" hR="288297" stAng="-10530796" swAng="10530807"/>
                    <a:lnTo>
                      <a:pt x="324702" y="288297"/>
                    </a:lnTo>
                    <a:close/>
                  </a:path>
                  <a:path fill="none" w="649403" h="576593">
                    <a:moveTo>
                      <a:pt x="1261" y="262917"/>
                    </a:moveTo>
                    <a:lnTo>
                      <a:pt x="1261" y="262917"/>
                    </a:lnTo>
                    <a:arcTo wR="324702" hR="288297" stAng="-10530796" swAng="1053080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Группа 56"/>
              <p:cNvGrpSpPr/>
              <p:nvPr/>
            </p:nvGrpSpPr>
            <p:grpSpPr>
              <a:xfrm>
                <a:off x="5681520" y="1159920"/>
                <a:ext cx="414000" cy="200880"/>
                <a:chOff x="5681520" y="1159920"/>
                <a:chExt cx="414000" cy="200880"/>
              </a:xfrm>
            </p:grpSpPr>
            <p:sp>
              <p:nvSpPr>
                <p:cNvPr id="192" name="Прямая соединительная линия 50"/>
                <p:cNvSpPr/>
                <p:nvPr/>
              </p:nvSpPr>
              <p:spPr>
                <a:xfrm>
                  <a:off x="5681520" y="1159920"/>
                  <a:ext cx="41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Прямая соединительная линия 54"/>
                <p:cNvSpPr/>
                <p:nvPr/>
              </p:nvSpPr>
              <p:spPr>
                <a:xfrm>
                  <a:off x="6095520" y="1159920"/>
                  <a:ext cx="0" cy="20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Группа 61"/>
              <p:cNvGrpSpPr/>
              <p:nvPr/>
            </p:nvGrpSpPr>
            <p:grpSpPr>
              <a:xfrm>
                <a:off x="6923520" y="1092960"/>
                <a:ext cx="414360" cy="334800"/>
                <a:chOff x="6923520" y="1092960"/>
                <a:chExt cx="414360" cy="334800"/>
              </a:xfrm>
            </p:grpSpPr>
            <p:sp>
              <p:nvSpPr>
                <p:cNvPr id="195" name="Прямая соединительная линия 58"/>
                <p:cNvSpPr/>
                <p:nvPr/>
              </p:nvSpPr>
              <p:spPr>
                <a:xfrm flipH="1">
                  <a:off x="6923520" y="1092960"/>
                  <a:ext cx="207000" cy="33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Прямая соединительная линия 60"/>
                <p:cNvSpPr/>
                <p:nvPr/>
              </p:nvSpPr>
              <p:spPr>
                <a:xfrm>
                  <a:off x="7130880" y="1092960"/>
                  <a:ext cx="207000" cy="33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Прямоугольник 75" descr=""/>
              <p:cNvPicPr/>
              <p:nvPr/>
            </p:nvPicPr>
            <p:blipFill>
              <a:blip r:embed="rId5"/>
              <a:stretch/>
            </p:blipFill>
            <p:spPr>
              <a:xfrm>
                <a:off x="5148360" y="981000"/>
                <a:ext cx="525960" cy="48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Группа 83"/>
          <p:cNvGrpSpPr/>
          <p:nvPr/>
        </p:nvGrpSpPr>
        <p:grpSpPr>
          <a:xfrm>
            <a:off x="5148360" y="2708280"/>
            <a:ext cx="2448000" cy="720720"/>
            <a:chOff x="5148360" y="2708280"/>
            <a:chExt cx="2448000" cy="720720"/>
          </a:xfrm>
        </p:grpSpPr>
        <p:grpSp>
          <p:nvGrpSpPr>
            <p:cNvPr id="199" name="Группа 68"/>
            <p:cNvGrpSpPr/>
            <p:nvPr/>
          </p:nvGrpSpPr>
          <p:grpSpPr>
            <a:xfrm>
              <a:off x="5655240" y="2953800"/>
              <a:ext cx="415800" cy="203760"/>
              <a:chOff x="5655240" y="2953800"/>
              <a:chExt cx="415800" cy="203760"/>
            </a:xfrm>
          </p:grpSpPr>
          <p:sp>
            <p:nvSpPr>
              <p:cNvPr id="200" name="Прямая соединительная линия 69"/>
              <p:cNvSpPr/>
              <p:nvPr/>
            </p:nvSpPr>
            <p:spPr>
              <a:xfrm>
                <a:off x="5655240" y="2953800"/>
                <a:ext cx="41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ая соединительная линия 70"/>
              <p:cNvSpPr/>
              <p:nvPr/>
            </p:nvSpPr>
            <p:spPr>
              <a:xfrm>
                <a:off x="6071040" y="2953800"/>
                <a:ext cx="0" cy="20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Дуга 71"/>
            <p:cNvSpPr/>
            <p:nvPr/>
          </p:nvSpPr>
          <p:spPr>
            <a:xfrm>
              <a:off x="6349320" y="2886120"/>
              <a:ext cx="623520" cy="542880"/>
            </a:xfrm>
            <a:custGeom>
              <a:avLst/>
              <a:gdLst>
                <a:gd name="textAreaLeft" fmla="*/ 1080 w 623520"/>
                <a:gd name="textAreaRight" fmla="*/ 623880 w 623520"/>
                <a:gd name="textAreaTop" fmla="*/ 0 h 542880"/>
                <a:gd name="textAreaBottom" fmla="*/ 271440 h 542880"/>
              </a:gdLst>
              <a:ahLst/>
              <a:rect l="textAreaLeft" t="textAreaTop" r="textAreaRight" b="textAreaBottom"/>
              <a:pathLst>
                <a:path stroke="0" w="647792" h="575746">
                  <a:moveTo>
                    <a:pt x="1255" y="262556"/>
                  </a:moveTo>
                  <a:lnTo>
                    <a:pt x="1255" y="262556"/>
                  </a:lnTo>
                  <a:arcTo wR="323896" hR="287873" stAng="-10530798" swAng="10530809"/>
                  <a:lnTo>
                    <a:pt x="323896" y="287873"/>
                  </a:lnTo>
                  <a:close/>
                </a:path>
                <a:path fill="none" w="647792" h="575746">
                  <a:moveTo>
                    <a:pt x="1255" y="262556"/>
                  </a:moveTo>
                  <a:lnTo>
                    <a:pt x="1255" y="262556"/>
                  </a:lnTo>
                  <a:arcTo wR="323896" hR="287873" stAng="-10530798" swAng="10530809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72"/>
            <p:cNvSpPr/>
            <p:nvPr/>
          </p:nvSpPr>
          <p:spPr>
            <a:xfrm>
              <a:off x="7249680" y="2817360"/>
              <a:ext cx="346680" cy="33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Прямоугольник 76" descr=""/>
            <p:cNvPicPr/>
            <p:nvPr/>
          </p:nvPicPr>
          <p:blipFill>
            <a:blip r:embed="rId6"/>
            <a:stretch/>
          </p:blipFill>
          <p:spPr>
            <a:xfrm>
              <a:off x="5148360" y="2708280"/>
              <a:ext cx="528120" cy="48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Группа 82"/>
          <p:cNvGrpSpPr/>
          <p:nvPr/>
        </p:nvGrpSpPr>
        <p:grpSpPr>
          <a:xfrm>
            <a:off x="5148360" y="1844640"/>
            <a:ext cx="2592360" cy="936720"/>
            <a:chOff x="5148360" y="1844640"/>
            <a:chExt cx="2592360" cy="936720"/>
          </a:xfrm>
        </p:grpSpPr>
        <p:sp>
          <p:nvSpPr>
            <p:cNvPr id="206" name="Дуга 65"/>
            <p:cNvSpPr/>
            <p:nvPr/>
          </p:nvSpPr>
          <p:spPr>
            <a:xfrm>
              <a:off x="5934960" y="2299320"/>
              <a:ext cx="624600" cy="468360"/>
            </a:xfrm>
            <a:custGeom>
              <a:avLst/>
              <a:gdLst>
                <a:gd name="textAreaLeft" fmla="*/ 1080 w 624600"/>
                <a:gd name="textAreaRight" fmla="*/ 624960 w 624600"/>
                <a:gd name="textAreaTop" fmla="*/ 0 h 468360"/>
                <a:gd name="textAreaBottom" fmla="*/ 234360 h 468360"/>
              </a:gdLst>
              <a:ahLst/>
              <a:rect l="textAreaLeft" t="textAreaTop" r="textAreaRight" b="textAreaBottom"/>
              <a:pathLst>
                <a:path stroke="0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  <a:lnTo>
                    <a:pt x="323838" y="287971"/>
                  </a:lnTo>
                  <a:close/>
                </a:path>
                <a:path fill="none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Дуга 66"/>
            <p:cNvSpPr/>
            <p:nvPr/>
          </p:nvSpPr>
          <p:spPr>
            <a:xfrm>
              <a:off x="7116120" y="2299320"/>
              <a:ext cx="624600" cy="468360"/>
            </a:xfrm>
            <a:custGeom>
              <a:avLst/>
              <a:gdLst>
                <a:gd name="textAreaLeft" fmla="*/ 1080 w 624600"/>
                <a:gd name="textAreaRight" fmla="*/ 624960 w 624600"/>
                <a:gd name="textAreaTop" fmla="*/ 0 h 468360"/>
                <a:gd name="textAreaBottom" fmla="*/ 234360 h 468360"/>
              </a:gdLst>
              <a:ahLst/>
              <a:rect l="textAreaLeft" t="textAreaTop" r="textAreaRight" b="textAreaBottom"/>
              <a:pathLst>
                <a:path stroke="0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  <a:lnTo>
                    <a:pt x="323838" y="287971"/>
                  </a:lnTo>
                  <a:close/>
                </a:path>
                <a:path fill="none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Прямоугольник 67" descr=""/>
            <p:cNvPicPr/>
            <p:nvPr/>
          </p:nvPicPr>
          <p:blipFill>
            <a:blip r:embed="rId7"/>
            <a:stretch/>
          </p:blipFill>
          <p:spPr>
            <a:xfrm>
              <a:off x="6189120" y="1844640"/>
              <a:ext cx="13172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Прямоугольник 77" descr=""/>
            <p:cNvPicPr/>
            <p:nvPr/>
          </p:nvPicPr>
          <p:blipFill>
            <a:blip r:embed="rId8"/>
            <a:stretch/>
          </p:blipFill>
          <p:spPr>
            <a:xfrm>
              <a:off x="5148360" y="2147040"/>
              <a:ext cx="529200" cy="4212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10" name="Прямая со стрелкой 85"/>
          <p:cNvCxnSpPr/>
          <p:nvPr/>
        </p:nvCxnSpPr>
        <p:spPr>
          <a:xfrm>
            <a:off x="1979280" y="1267920"/>
            <a:ext cx="3097800" cy="10818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11" name="Прямая со стрелкой 87"/>
          <p:cNvCxnSpPr/>
          <p:nvPr/>
        </p:nvCxnSpPr>
        <p:spPr>
          <a:xfrm>
            <a:off x="1692000" y="1699920"/>
            <a:ext cx="3385080" cy="1297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12" name="Прямая со стрелкой 89"/>
          <p:cNvCxnSpPr/>
          <p:nvPr/>
        </p:nvCxnSpPr>
        <p:spPr>
          <a:xfrm flipV="1">
            <a:off x="2484000" y="1267560"/>
            <a:ext cx="2592720" cy="793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13" name="Прямая со стрелкой 91"/>
          <p:cNvCxnSpPr/>
          <p:nvPr/>
        </p:nvCxnSpPr>
        <p:spPr>
          <a:xfrm flipV="1">
            <a:off x="1476360" y="1843920"/>
            <a:ext cx="3456720" cy="577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triangle" w="med"/>
          </a:ln>
        </p:spPr>
      </p:cxnSp>
      <p:cxnSp>
        <p:nvCxnSpPr>
          <p:cNvPr id="214" name="Прямая со стрелкой 93"/>
          <p:cNvCxnSpPr/>
          <p:nvPr/>
        </p:nvCxnSpPr>
        <p:spPr>
          <a:xfrm flipV="1">
            <a:off x="2123640" y="691560"/>
            <a:ext cx="2809080" cy="20898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593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4503600" y="189000"/>
            <a:ext cx="4389480" cy="6119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6255"/>
                </a:solidFill>
                <a:latin typeface="Calibri"/>
              </a:rPr>
              <a:t>Мыслительные операции</a:t>
            </a:r>
            <a:br>
              <a:rPr sz="3200"/>
            </a:br>
            <a:r>
              <a:rPr b="0" i="1" lang="ru-RU" sz="2500" spc="-1" strike="noStrike">
                <a:solidFill>
                  <a:srgbClr val="002060"/>
                </a:solidFill>
                <a:latin typeface="Calibri"/>
              </a:rPr>
              <a:t>Подумай, как можно разделить слова. Выполни группировку, раздели слова на два столб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14480"/>
            <a:ext cx="4662360" cy="67644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5" descr=""/>
          <p:cNvPicPr/>
          <p:nvPr/>
        </p:nvPicPr>
        <p:blipFill>
          <a:blip r:embed="rId2"/>
          <a:stretch/>
        </p:blipFill>
        <p:spPr>
          <a:xfrm>
            <a:off x="6035760" y="1841400"/>
            <a:ext cx="2260440" cy="6764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6" descr=""/>
          <p:cNvPicPr/>
          <p:nvPr/>
        </p:nvPicPr>
        <p:blipFill>
          <a:blip r:embed="rId3"/>
          <a:stretch/>
        </p:blipFill>
        <p:spPr>
          <a:xfrm>
            <a:off x="633240" y="2597040"/>
            <a:ext cx="1519560" cy="5112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" descr=""/>
          <p:cNvPicPr/>
          <p:nvPr/>
        </p:nvPicPr>
        <p:blipFill>
          <a:blip r:embed="rId4"/>
          <a:stretch/>
        </p:blipFill>
        <p:spPr>
          <a:xfrm>
            <a:off x="2176560" y="2597040"/>
            <a:ext cx="1700280" cy="5112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8" descr=""/>
          <p:cNvPicPr/>
          <p:nvPr/>
        </p:nvPicPr>
        <p:blipFill>
          <a:blip r:embed="rId5"/>
          <a:stretch/>
        </p:blipFill>
        <p:spPr>
          <a:xfrm>
            <a:off x="3614760" y="2597040"/>
            <a:ext cx="1816200" cy="5112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9" descr=""/>
          <p:cNvPicPr/>
          <p:nvPr/>
        </p:nvPicPr>
        <p:blipFill>
          <a:blip r:embed="rId6"/>
          <a:stretch/>
        </p:blipFill>
        <p:spPr>
          <a:xfrm>
            <a:off x="5151600" y="2597040"/>
            <a:ext cx="1742760" cy="5112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10" descr=""/>
          <p:cNvPicPr/>
          <p:nvPr/>
        </p:nvPicPr>
        <p:blipFill>
          <a:blip r:embed="rId7"/>
          <a:stretch/>
        </p:blipFill>
        <p:spPr>
          <a:xfrm>
            <a:off x="6778800" y="2597040"/>
            <a:ext cx="2084040" cy="5112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1" descr=""/>
          <p:cNvPicPr/>
          <p:nvPr/>
        </p:nvPicPr>
        <p:blipFill>
          <a:blip r:embed="rId8"/>
          <a:stretch/>
        </p:blipFill>
        <p:spPr>
          <a:xfrm>
            <a:off x="615960" y="3097080"/>
            <a:ext cx="1749240" cy="5112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12" descr=""/>
          <p:cNvPicPr/>
          <p:nvPr/>
        </p:nvPicPr>
        <p:blipFill>
          <a:blip r:embed="rId9"/>
          <a:stretch/>
        </p:blipFill>
        <p:spPr>
          <a:xfrm>
            <a:off x="2200320" y="3097080"/>
            <a:ext cx="1517760" cy="5112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13" descr=""/>
          <p:cNvPicPr/>
          <p:nvPr/>
        </p:nvPicPr>
        <p:blipFill>
          <a:blip r:embed="rId10"/>
          <a:stretch/>
        </p:blipFill>
        <p:spPr>
          <a:xfrm>
            <a:off x="3676680" y="3097080"/>
            <a:ext cx="1913040" cy="5112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4" descr=""/>
          <p:cNvPicPr/>
          <p:nvPr/>
        </p:nvPicPr>
        <p:blipFill>
          <a:blip r:embed="rId11"/>
          <a:stretch/>
        </p:blipFill>
        <p:spPr>
          <a:xfrm>
            <a:off x="5425920" y="3097080"/>
            <a:ext cx="1846440" cy="5112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15" descr=""/>
          <p:cNvPicPr/>
          <p:nvPr/>
        </p:nvPicPr>
        <p:blipFill>
          <a:blip r:embed="rId12"/>
          <a:stretch/>
        </p:blipFill>
        <p:spPr>
          <a:xfrm>
            <a:off x="7139160" y="3097080"/>
            <a:ext cx="1650960" cy="511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0.48299 0.08102 E">
                                      <p:cBhvr>
                                        <p:cTn id="17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-0.33455 0.14398 E">
                                      <p:cBhvr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18559 0.14166 E">
                                      <p:cBhvr>
                                        <p:cTn id="18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8646 0.14467 E">
                                      <p:cBhvr>
                                        <p:cTn id="18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36233 0.14467 E">
                                      <p:cBhvr>
                                        <p:cTn id="18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17327 0.22037 E">
                                      <p:cBhvr>
                                        <p:cTn id="18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-0.72535 0.21805 E">
                                      <p:cBhvr>
                                        <p:cTn id="18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Юля\Рабочий стол\Школа\фон для презентаций\69_My_new_fon_3\My_new_fon_3\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857268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ли выполнена классификация?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записаны по свойству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я существительное ж.р., м.р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шипящим звуком на конц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2785680"/>
            <a:ext cx="4038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285840" y="3714840"/>
            <a:ext cx="40384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ро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л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4"/>
          <p:cNvSpPr/>
          <p:nvPr/>
        </p:nvSpPr>
        <p:spPr>
          <a:xfrm>
            <a:off x="4643280" y="3857760"/>
            <a:ext cx="4038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Клю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Ле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Юля\Рабочий стол\Школа\фон для презентаций\69_My_new_fon_3\My_new_fon_3\1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на проверку результатов классификации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i="1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1, 10, 100, 2, 20, 200, 3, 30, 300 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войство: «Быть однозначным числом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бери правильный ответ.</a:t>
            </a:r>
            <a:br>
              <a:rPr sz="2500"/>
            </a:br>
            <a:br>
              <a:rPr sz="29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3786120"/>
            <a:ext cx="403884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2,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10, 2,20, 3,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2,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одержимое 6"/>
          <p:cNvSpPr/>
          <p:nvPr/>
        </p:nvSpPr>
        <p:spPr>
          <a:xfrm>
            <a:off x="42876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6"/>
          <p:cNvSpPr/>
          <p:nvPr/>
        </p:nvSpPr>
        <p:spPr>
          <a:xfrm>
            <a:off x="0" y="1928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6"/>
          <p:cNvSpPr/>
          <p:nvPr/>
        </p:nvSpPr>
        <p:spPr>
          <a:xfrm>
            <a:off x="428760" y="2786040"/>
            <a:ext cx="40384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6"/>
          <p:cNvSpPr/>
          <p:nvPr/>
        </p:nvSpPr>
        <p:spPr>
          <a:xfrm>
            <a:off x="3786120" y="3786120"/>
            <a:ext cx="507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, 100,20, 200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0, 200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, 100, 20, 200, 30,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446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446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071720" y="192888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основание выбора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Актуальность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ыявлен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остановка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остановка цел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Этапы проект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йди закономерность и продолжи ряд. Назови групп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Содержимое 2" descr=""/>
          <p:cNvPicPr/>
          <p:nvPr/>
        </p:nvPicPr>
        <p:blipFill>
          <a:blip r:embed="rId1"/>
          <a:stretch/>
        </p:blipFill>
        <p:spPr>
          <a:xfrm>
            <a:off x="189000" y="1468440"/>
            <a:ext cx="850428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6" descr="35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33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0"/>
          <p:cNvPicPr/>
          <p:nvPr/>
        </p:nvPicPr>
        <p:blipFill>
          <a:blip r:embed="rId3"/>
          <a:stretch/>
        </p:blipFill>
        <p:spPr>
          <a:xfrm>
            <a:off x="971640" y="2565360"/>
            <a:ext cx="1477800" cy="2016000"/>
          </a:xfrm>
          <a:prstGeom prst="rect">
            <a:avLst/>
          </a:prstGeom>
          <a:ln w="0">
            <a:noFill/>
          </a:ln>
        </p:spPr>
      </p:pic>
      <p:sp>
        <p:nvSpPr>
          <p:cNvPr id="248" name="Oval 5"/>
          <p:cNvSpPr/>
          <p:nvPr/>
        </p:nvSpPr>
        <p:spPr>
          <a:xfrm>
            <a:off x="53964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327492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601200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9"/>
          <p:cNvPicPr/>
          <p:nvPr/>
        </p:nvPicPr>
        <p:blipFill>
          <a:blip r:embed="rId4"/>
          <a:stretch/>
        </p:blipFill>
        <p:spPr>
          <a:xfrm>
            <a:off x="900000" y="47260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15"/>
          <p:cNvPicPr/>
          <p:nvPr/>
        </p:nvPicPr>
        <p:blipFill>
          <a:blip r:embed="rId5"/>
          <a:stretch/>
        </p:blipFill>
        <p:spPr>
          <a:xfrm>
            <a:off x="3708360" y="2708280"/>
            <a:ext cx="1836720" cy="1712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19"/>
          <p:cNvPicPr/>
          <p:nvPr/>
        </p:nvPicPr>
        <p:blipFill>
          <a:blip r:embed="rId6"/>
          <a:stretch/>
        </p:blipFill>
        <p:spPr>
          <a:xfrm>
            <a:off x="3564000" y="4508640"/>
            <a:ext cx="1787400" cy="1807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21"/>
          <p:cNvPicPr/>
          <p:nvPr/>
        </p:nvPicPr>
        <p:blipFill>
          <a:blip r:embed="rId7"/>
          <a:stretch/>
        </p:blipFill>
        <p:spPr>
          <a:xfrm>
            <a:off x="6732720" y="2708280"/>
            <a:ext cx="1028520" cy="1832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11"/>
          <p:cNvPicPr/>
          <p:nvPr/>
        </p:nvPicPr>
        <p:blipFill>
          <a:blip r:embed="rId8"/>
          <a:stretch/>
        </p:blipFill>
        <p:spPr>
          <a:xfrm>
            <a:off x="6527880" y="4437000"/>
            <a:ext cx="1284120" cy="1927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332000" y="4046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На какие группы мо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зделить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се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entury Schoolbook"/>
              </a:rPr>
              <a:t>Извлечение информации из текстов и табл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540a"/>
                </a:solidFill>
                <a:latin typeface="Century Schoolbook"/>
              </a:rPr>
              <a:t>Что связывают союзы в предложе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Туман пропадает в прозрачном воздухе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 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открывает прозрачную гладь 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Солнце уже взошло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на цветах блестела ро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Только мы с мамой спрятались под дерево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солнечный дождик уже кончил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Мои друзья увлекаются не футболом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плавань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540a"/>
                </a:solidFill>
                <a:latin typeface="Monotype Corsiva"/>
              </a:rPr>
              <a:t>Вывод: союзы </a:t>
            </a:r>
            <a:r>
              <a:rPr b="1" lang="ru-RU" sz="2400" spc="-1" strike="noStrike">
                <a:solidFill>
                  <a:srgbClr val="85540a"/>
                </a:solidFill>
                <a:latin typeface="Monotype Corsiva"/>
              </a:rPr>
              <a:t>и, или, а, но </a:t>
            </a:r>
            <a:r>
              <a:rPr b="0" lang="ru-RU" sz="2400" spc="-1" strike="noStrike">
                <a:solidFill>
                  <a:srgbClr val="85540a"/>
                </a:solidFill>
                <a:latin typeface="Monotype Corsiva"/>
              </a:rPr>
              <a:t>могут связывать не только однородные члены предложения, но и части сложноподчиненного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ожные количественные числительные пишутся сли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оставные количественные числительные пишутся разд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ожные и составные порядковые числительные пишутся так же , как и соответствующие им количественные числи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3643200"/>
          <a:ext cx="8929800" cy="147348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  <a:gridCol w="2232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ое по соста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дес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дцать четы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деся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дцать четвер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4292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Сделай вывод о написании букв </a:t>
            </a:r>
            <a:r>
              <a:rPr b="1" i="1" lang="ru-RU" sz="2800" spc="-1" strike="noStrike">
                <a:solidFill>
                  <a:srgbClr val="660066"/>
                </a:solidFill>
                <a:latin typeface="Century Schoolbook"/>
              </a:rPr>
              <a:t>о</a:t>
            </a: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 – </a:t>
            </a:r>
            <a:r>
              <a:rPr b="1" i="1" lang="ru-RU" sz="2800" spc="-1" strike="noStrike">
                <a:solidFill>
                  <a:srgbClr val="660066"/>
                </a:solidFill>
                <a:latin typeface="Century Schoolbook"/>
              </a:rPr>
              <a:t>ё</a:t>
            </a: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 после шипящих в корн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Прочитай слова. Сделай вывод о том, как пишутся наречия, оканчивающиеся на шипящ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Вскачь, навзничь, наотмашь, сплошь, наст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Вывод:</a:t>
            </a:r>
            <a:r>
              <a:rPr b="0" lang="ru-RU" sz="2800" spc="-1" strike="noStrike">
                <a:solidFill>
                  <a:srgbClr val="695008"/>
                </a:solidFill>
                <a:latin typeface="Comic Sans MS"/>
              </a:rPr>
              <a:t> после шипящих на конце наречий пишется мягкий знак. Исключения: уж, замуж, невтерпеж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4200" y="1397160"/>
          <a:ext cx="8643960" cy="1828800"/>
        </p:xfrm>
        <a:graphic>
          <a:graphicData uri="http://schemas.openxmlformats.org/drawingml/2006/table">
            <a:tbl>
              <a:tblPr/>
              <a:tblGrid>
                <a:gridCol w="4322880"/>
                <a:gridCol w="432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лк - ше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пот - шеп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ый -  черн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жо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 - желт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олк и Заяц собрали данные об увлечениях четвероклассников своей школы. Результаты они записали в таблицу. Объясни как Волк и Заяц составили таблицу, полученные данные представь в виде диаграмм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600200"/>
          <a:ext cx="3900600" cy="4471920"/>
        </p:xfrm>
        <a:graphic>
          <a:graphicData uri="http://schemas.openxmlformats.org/drawingml/2006/table">
            <a:tbl>
              <a:tblPr/>
              <a:tblGrid>
                <a:gridCol w="1905120"/>
                <a:gridCol w="1103040"/>
                <a:gridCol w="892440"/>
              </a:tblGrid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263" name="Содержимое 8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78080" cy="4627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Делать выводы, представлять информацию в виде схем, таб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От чего зависит написание букв </a:t>
            </a:r>
            <a:r>
              <a:rPr b="1" i="1" lang="ru-RU" sz="2400" spc="-1" strike="noStrike">
                <a:solidFill>
                  <a:srgbClr val="cc0000"/>
                </a:solidFill>
                <a:latin typeface="Century Schoolbook"/>
              </a:rPr>
              <a:t>о</a:t>
            </a: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 и </a:t>
            </a:r>
            <a:r>
              <a:rPr b="1" i="1" lang="ru-RU" sz="2400" spc="-1" strike="noStrike">
                <a:solidFill>
                  <a:srgbClr val="cc0000"/>
                </a:solidFill>
                <a:latin typeface="Century Schoolbook"/>
              </a:rPr>
              <a:t>а </a:t>
            </a: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на конце нареч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слева                                  в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справа                              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изредка                             начер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досыта                               засвет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дочиста                              запро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4200" y="4572000"/>
          <a:ext cx="8572680" cy="974880"/>
        </p:xfrm>
        <a:graphic>
          <a:graphicData uri="http://schemas.openxmlformats.org/drawingml/2006/table">
            <a:tbl>
              <a:tblPr/>
              <a:tblGrid>
                <a:gridCol w="4286520"/>
                <a:gridCol w="428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-           за-               в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 (ис-)                 до-            с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grpSp>
        <p:nvGrpSpPr>
          <p:cNvPr id="267" name="Группа 9"/>
          <p:cNvGrpSpPr/>
          <p:nvPr/>
        </p:nvGrpSpPr>
        <p:grpSpPr>
          <a:xfrm>
            <a:off x="2143080" y="4571640"/>
            <a:ext cx="428040" cy="214560"/>
            <a:chOff x="2143080" y="4571640"/>
            <a:chExt cx="428040" cy="214560"/>
          </a:xfrm>
        </p:grpSpPr>
        <p:sp>
          <p:nvSpPr>
            <p:cNvPr id="268" name="Прямая соединительная линия 5"/>
            <p:cNvSpPr/>
            <p:nvPr/>
          </p:nvSpPr>
          <p:spPr>
            <a:xfrm flipV="1">
              <a:off x="2143080" y="4571640"/>
              <a:ext cx="21456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7"/>
            <p:cNvSpPr/>
            <p:nvPr/>
          </p:nvSpPr>
          <p:spPr>
            <a:xfrm>
              <a:off x="2356920" y="4572000"/>
              <a:ext cx="21420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Группа 10"/>
          <p:cNvGrpSpPr/>
          <p:nvPr/>
        </p:nvGrpSpPr>
        <p:grpSpPr>
          <a:xfrm>
            <a:off x="6429240" y="4571640"/>
            <a:ext cx="428040" cy="214560"/>
            <a:chOff x="6429240" y="4571640"/>
            <a:chExt cx="428040" cy="214560"/>
          </a:xfrm>
        </p:grpSpPr>
        <p:sp>
          <p:nvSpPr>
            <p:cNvPr id="271" name="Прямая соединительная линия 11"/>
            <p:cNvSpPr/>
            <p:nvPr/>
          </p:nvSpPr>
          <p:spPr>
            <a:xfrm flipV="1">
              <a:off x="6429240" y="4571640"/>
              <a:ext cx="21456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ая соединительная линия 12"/>
            <p:cNvSpPr/>
            <p:nvPr/>
          </p:nvSpPr>
          <p:spPr>
            <a:xfrm>
              <a:off x="6643080" y="4572000"/>
              <a:ext cx="21420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Группа 21"/>
          <p:cNvGrpSpPr/>
          <p:nvPr/>
        </p:nvGrpSpPr>
        <p:grpSpPr>
          <a:xfrm>
            <a:off x="214200" y="5214960"/>
            <a:ext cx="500040" cy="142920"/>
            <a:chOff x="214200" y="5214960"/>
            <a:chExt cx="500040" cy="142920"/>
          </a:xfrm>
        </p:grpSpPr>
        <p:sp>
          <p:nvSpPr>
            <p:cNvPr id="274" name="Прямая соединительная линия 14"/>
            <p:cNvSpPr/>
            <p:nvPr/>
          </p:nvSpPr>
          <p:spPr>
            <a:xfrm>
              <a:off x="21420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20"/>
            <p:cNvSpPr/>
            <p:nvPr/>
          </p:nvSpPr>
          <p:spPr>
            <a:xfrm flipH="1">
              <a:off x="71280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22"/>
          <p:cNvGrpSpPr/>
          <p:nvPr/>
        </p:nvGrpSpPr>
        <p:grpSpPr>
          <a:xfrm>
            <a:off x="1285920" y="5214960"/>
            <a:ext cx="500040" cy="142920"/>
            <a:chOff x="1285920" y="5214960"/>
            <a:chExt cx="500040" cy="142920"/>
          </a:xfrm>
        </p:grpSpPr>
        <p:sp>
          <p:nvSpPr>
            <p:cNvPr id="277" name="Прямая соединительная линия 23"/>
            <p:cNvSpPr/>
            <p:nvPr/>
          </p:nvSpPr>
          <p:spPr>
            <a:xfrm>
              <a:off x="12859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4"/>
            <p:cNvSpPr/>
            <p:nvPr/>
          </p:nvSpPr>
          <p:spPr>
            <a:xfrm flipH="1">
              <a:off x="17845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руппа 25"/>
          <p:cNvGrpSpPr/>
          <p:nvPr/>
        </p:nvGrpSpPr>
        <p:grpSpPr>
          <a:xfrm>
            <a:off x="2643120" y="5214960"/>
            <a:ext cx="500040" cy="142920"/>
            <a:chOff x="2643120" y="5214960"/>
            <a:chExt cx="500040" cy="142920"/>
          </a:xfrm>
        </p:grpSpPr>
        <p:sp>
          <p:nvSpPr>
            <p:cNvPr id="280" name="Прямая соединительная линия 26"/>
            <p:cNvSpPr/>
            <p:nvPr/>
          </p:nvSpPr>
          <p:spPr>
            <a:xfrm>
              <a:off x="26431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27"/>
            <p:cNvSpPr/>
            <p:nvPr/>
          </p:nvSpPr>
          <p:spPr>
            <a:xfrm flipH="1">
              <a:off x="31417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8"/>
          <p:cNvGrpSpPr/>
          <p:nvPr/>
        </p:nvGrpSpPr>
        <p:grpSpPr>
          <a:xfrm>
            <a:off x="4500720" y="5214960"/>
            <a:ext cx="500040" cy="142920"/>
            <a:chOff x="4500720" y="5214960"/>
            <a:chExt cx="500040" cy="142920"/>
          </a:xfrm>
        </p:grpSpPr>
        <p:sp>
          <p:nvSpPr>
            <p:cNvPr id="283" name="Прямая соединительная линия 29"/>
            <p:cNvSpPr/>
            <p:nvPr/>
          </p:nvSpPr>
          <p:spPr>
            <a:xfrm>
              <a:off x="45007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30"/>
            <p:cNvSpPr/>
            <p:nvPr/>
          </p:nvSpPr>
          <p:spPr>
            <a:xfrm flipH="1">
              <a:off x="49993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31"/>
          <p:cNvGrpSpPr/>
          <p:nvPr/>
        </p:nvGrpSpPr>
        <p:grpSpPr>
          <a:xfrm>
            <a:off x="5072040" y="5214960"/>
            <a:ext cx="500040" cy="142920"/>
            <a:chOff x="5072040" y="5214960"/>
            <a:chExt cx="500040" cy="142920"/>
          </a:xfrm>
        </p:grpSpPr>
        <p:sp>
          <p:nvSpPr>
            <p:cNvPr id="286" name="Прямая соединительная линия 32"/>
            <p:cNvSpPr/>
            <p:nvPr/>
          </p:nvSpPr>
          <p:spPr>
            <a:xfrm>
              <a:off x="507204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33"/>
            <p:cNvSpPr/>
            <p:nvPr/>
          </p:nvSpPr>
          <p:spPr>
            <a:xfrm flipH="1">
              <a:off x="557064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34"/>
          <p:cNvGrpSpPr/>
          <p:nvPr/>
        </p:nvGrpSpPr>
        <p:grpSpPr>
          <a:xfrm>
            <a:off x="6715080" y="5214960"/>
            <a:ext cx="500040" cy="142920"/>
            <a:chOff x="6715080" y="5214960"/>
            <a:chExt cx="500040" cy="142920"/>
          </a:xfrm>
        </p:grpSpPr>
        <p:sp>
          <p:nvSpPr>
            <p:cNvPr id="289" name="Прямая соединительная линия 35"/>
            <p:cNvSpPr/>
            <p:nvPr/>
          </p:nvSpPr>
          <p:spPr>
            <a:xfrm>
              <a:off x="671508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36"/>
            <p:cNvSpPr/>
            <p:nvPr/>
          </p:nvSpPr>
          <p:spPr>
            <a:xfrm flipH="1">
              <a:off x="721368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37"/>
          <p:cNvGrpSpPr/>
          <p:nvPr/>
        </p:nvGrpSpPr>
        <p:grpSpPr>
          <a:xfrm>
            <a:off x="7858080" y="5214960"/>
            <a:ext cx="500040" cy="142920"/>
            <a:chOff x="7858080" y="5214960"/>
            <a:chExt cx="500040" cy="142920"/>
          </a:xfrm>
        </p:grpSpPr>
        <p:sp>
          <p:nvSpPr>
            <p:cNvPr id="292" name="Прямая соединительная линия 38"/>
            <p:cNvSpPr/>
            <p:nvPr/>
          </p:nvSpPr>
          <p:spPr>
            <a:xfrm>
              <a:off x="785808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39"/>
            <p:cNvSpPr/>
            <p:nvPr/>
          </p:nvSpPr>
          <p:spPr>
            <a:xfrm flipH="1">
              <a:off x="835668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7"/>
          <p:cNvSpPr/>
          <p:nvPr/>
        </p:nvSpPr>
        <p:spPr>
          <a:xfrm>
            <a:off x="3286080" y="3071880"/>
            <a:ext cx="2428920" cy="14288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азови жанры устного народного творчества. Заполни сх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Прямоугольник 8" descr=""/>
          <p:cNvPicPr/>
          <p:nvPr/>
        </p:nvPicPr>
        <p:blipFill>
          <a:blip r:embed="rId1"/>
          <a:stretch/>
        </p:blipFill>
        <p:spPr>
          <a:xfrm>
            <a:off x="3170160" y="3413160"/>
            <a:ext cx="2627280" cy="68256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9"/>
          <p:cNvSpPr/>
          <p:nvPr/>
        </p:nvSpPr>
        <p:spPr>
          <a:xfrm>
            <a:off x="214200" y="157176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3357720" y="1571760"/>
            <a:ext cx="24285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6215040" y="157176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6215040" y="321480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285840" y="321480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4"/>
          <p:cNvSpPr/>
          <p:nvPr/>
        </p:nvSpPr>
        <p:spPr>
          <a:xfrm>
            <a:off x="28584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5"/>
          <p:cNvSpPr/>
          <p:nvPr/>
        </p:nvSpPr>
        <p:spPr>
          <a:xfrm>
            <a:off x="321480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6"/>
          <p:cNvSpPr/>
          <p:nvPr/>
        </p:nvSpPr>
        <p:spPr>
          <a:xfrm>
            <a:off x="614376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17" descr=""/>
          <p:cNvPicPr/>
          <p:nvPr/>
        </p:nvPicPr>
        <p:blipFill>
          <a:blip r:embed="rId2"/>
          <a:stretch/>
        </p:blipFill>
        <p:spPr>
          <a:xfrm>
            <a:off x="201600" y="1590840"/>
            <a:ext cx="252900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8" descr=""/>
          <p:cNvPicPr/>
          <p:nvPr/>
        </p:nvPicPr>
        <p:blipFill>
          <a:blip r:embed="rId3"/>
          <a:stretch/>
        </p:blipFill>
        <p:spPr>
          <a:xfrm>
            <a:off x="3187800" y="1712880"/>
            <a:ext cx="2938320" cy="62244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0" descr=""/>
          <p:cNvPicPr/>
          <p:nvPr/>
        </p:nvPicPr>
        <p:blipFill>
          <a:blip r:embed="rId4"/>
          <a:stretch/>
        </p:blipFill>
        <p:spPr>
          <a:xfrm>
            <a:off x="6553080" y="1695600"/>
            <a:ext cx="1925640" cy="6998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1" descr=""/>
          <p:cNvPicPr/>
          <p:nvPr/>
        </p:nvPicPr>
        <p:blipFill>
          <a:blip r:embed="rId5"/>
          <a:stretch/>
        </p:blipFill>
        <p:spPr>
          <a:xfrm>
            <a:off x="212760" y="3340080"/>
            <a:ext cx="2268360" cy="69552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2" descr=""/>
          <p:cNvPicPr/>
          <p:nvPr/>
        </p:nvPicPr>
        <p:blipFill>
          <a:blip r:embed="rId6"/>
          <a:stretch/>
        </p:blipFill>
        <p:spPr>
          <a:xfrm>
            <a:off x="6126120" y="3340080"/>
            <a:ext cx="2182680" cy="69552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3" descr=""/>
          <p:cNvPicPr/>
          <p:nvPr/>
        </p:nvPicPr>
        <p:blipFill>
          <a:blip r:embed="rId7"/>
          <a:stretch/>
        </p:blipFill>
        <p:spPr>
          <a:xfrm>
            <a:off x="268200" y="5413320"/>
            <a:ext cx="2200320" cy="69552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4" descr=""/>
          <p:cNvPicPr/>
          <p:nvPr/>
        </p:nvPicPr>
        <p:blipFill>
          <a:blip r:embed="rId8"/>
          <a:stretch/>
        </p:blipFill>
        <p:spPr>
          <a:xfrm>
            <a:off x="3060720" y="5413320"/>
            <a:ext cx="2809800" cy="69552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5" descr=""/>
          <p:cNvPicPr/>
          <p:nvPr/>
        </p:nvPicPr>
        <p:blipFill>
          <a:blip r:embed="rId9"/>
          <a:stretch/>
        </p:blipFill>
        <p:spPr>
          <a:xfrm>
            <a:off x="6334200" y="5340240"/>
            <a:ext cx="2133360" cy="700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бирать источники информации, необходимые для решения зад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14200" y="78552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Ты хочешь найти рецепт приготовления блинов. Укажи  список книг, в которых ты можешь найти нужные сведен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Толстой А. «Золотой клю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Блюда русской кух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Хозяйке на зам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Поваренная кни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История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Дать пояснение значений незнакомых слов и выраж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Саж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Взд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Пл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Набивает ц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2"/>
          <p:cNvSpPr txBox="1"/>
          <p:nvPr/>
        </p:nvSpPr>
        <p:spPr>
          <a:xfrm>
            <a:off x="900000" y="990720"/>
            <a:ext cx="446400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4720" y="22766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5508720" y="692280"/>
            <a:ext cx="25192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5435640" y="256536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5435640" y="4724280"/>
            <a:ext cx="273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1979640" y="3789360"/>
            <a:ext cx="2808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843280" y="5661000"/>
            <a:ext cx="2376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179280" y="5661000"/>
            <a:ext cx="2160720" cy="936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560" y="333000"/>
            <a:ext cx="9001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Целевая установка к чтению. Рубрика «Обрати вним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Былина – это произведение русского фольклора о подвигах героев, которые жили в далеком прошлом. Они боролись со злыми силами, врагами русской зем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Герои былин- богатыри- наделены необычной силой, добротой, умом, бесстрашием, волшебным оружием. Но у каждого богатыря особый характер, поступки, по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Ты прочитаешь былины и узнаешь, какие были на Руси богатыри, какие подвиги они совершали, как к своим героям относился на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Это  ты уже знае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Что ты уже знаешь о басне? Какие басни тебе уже извест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Басни возникли в Древней Греции. Их сочинял мудрый раб Эзоп. Его басни - это краткие рассказы со скрытым смыс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Русские писатели часто использовали в своих произведениях истории и героев басен Эзоп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Ты прочитаешь басни Эзопа и Крылова. Подумай, чем они похожи, а чем различаются, как их нужно чит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основание выбора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785880"/>
            <a:ext cx="8820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 обществе всегда присутствуют представления об</a:t>
            </a:r>
            <a:r>
              <a:rPr b="0" i="1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деальном типе личности,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торые отражают набор ценностных нормативных характеристик, прилагаемых к человеку обществом в определенную историческую эпоху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ейшей задачей современной системы образования является формирование совокупности УУД, обеспечивающих</a:t>
            </a:r>
            <a:r>
              <a:rPr b="0" i="1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мение учиться,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ость личности к саморазвитию и самосовершенствованию путем сознательного и активного присвоения  нового социального опыта, а не только освоение учащимися конкретных предметных знаний и навыков в рамках отдельных дисциплин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 в качестве нового образовательного результата предлагает совокупность личностных, метапредметных и предметных результатов освоения основной образователь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79280" y="764640"/>
            <a:ext cx="850752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равопис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Рубрика «Давай подумаем» (материал для наблю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Меж грибами мухом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расотой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орд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Нечего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ордиться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Для супа не год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заметили в стихотвор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у будем учиться на уро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ак устроен наш язы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13840" y="1285560"/>
            <a:ext cx="4357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а: «Глагол как часть реч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0" y="856800"/>
            <a:ext cx="4572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Что можно сказать о группах с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(имена существительные различаются по родам, изменяются по числам и падеж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(имена прилагательные изменяются по родам, числам и падеж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О чем будем говорить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Могут ли глаголы изменяться по 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Прямоугольник 3" descr=""/>
          <p:cNvPicPr/>
          <p:nvPr/>
        </p:nvPicPr>
        <p:blipFill>
          <a:blip r:embed="rId1"/>
          <a:stretch/>
        </p:blipFill>
        <p:spPr>
          <a:xfrm>
            <a:off x="1432080" y="2182680"/>
            <a:ext cx="1341360" cy="43812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" descr=""/>
          <p:cNvPicPr/>
          <p:nvPr/>
        </p:nvPicPr>
        <p:blipFill>
          <a:blip r:embed="rId2"/>
          <a:stretch/>
        </p:blipFill>
        <p:spPr>
          <a:xfrm>
            <a:off x="219240" y="2182680"/>
            <a:ext cx="1139760" cy="43812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5" descr=""/>
          <p:cNvPicPr/>
          <p:nvPr/>
        </p:nvPicPr>
        <p:blipFill>
          <a:blip r:embed="rId3"/>
          <a:stretch/>
        </p:blipFill>
        <p:spPr>
          <a:xfrm>
            <a:off x="152280" y="2755800"/>
            <a:ext cx="132876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8" descr=""/>
          <p:cNvPicPr/>
          <p:nvPr/>
        </p:nvPicPr>
        <p:blipFill>
          <a:blip r:embed="rId4"/>
          <a:stretch/>
        </p:blipFill>
        <p:spPr>
          <a:xfrm>
            <a:off x="2865600" y="2182680"/>
            <a:ext cx="1541160" cy="43812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9" descr=""/>
          <p:cNvPicPr/>
          <p:nvPr/>
        </p:nvPicPr>
        <p:blipFill>
          <a:blip r:embed="rId5"/>
          <a:stretch/>
        </p:blipFill>
        <p:spPr>
          <a:xfrm>
            <a:off x="152280" y="3322800"/>
            <a:ext cx="1335240" cy="4381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10" descr=""/>
          <p:cNvPicPr/>
          <p:nvPr/>
        </p:nvPicPr>
        <p:blipFill>
          <a:blip r:embed="rId6"/>
          <a:stretch/>
        </p:blipFill>
        <p:spPr>
          <a:xfrm>
            <a:off x="1438200" y="2755800"/>
            <a:ext cx="1494000" cy="4381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11" descr=""/>
          <p:cNvPicPr/>
          <p:nvPr/>
        </p:nvPicPr>
        <p:blipFill>
          <a:blip r:embed="rId7"/>
          <a:stretch/>
        </p:blipFill>
        <p:spPr>
          <a:xfrm>
            <a:off x="2803680" y="2755800"/>
            <a:ext cx="1798560" cy="4381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2" descr=""/>
          <p:cNvPicPr/>
          <p:nvPr/>
        </p:nvPicPr>
        <p:blipFill>
          <a:blip r:embed="rId8"/>
          <a:stretch/>
        </p:blipFill>
        <p:spPr>
          <a:xfrm>
            <a:off x="2651040" y="3322800"/>
            <a:ext cx="1725840" cy="43812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3" descr=""/>
          <p:cNvPicPr/>
          <p:nvPr/>
        </p:nvPicPr>
        <p:blipFill>
          <a:blip r:embed="rId9"/>
          <a:stretch/>
        </p:blipFill>
        <p:spPr>
          <a:xfrm>
            <a:off x="1365120" y="3322800"/>
            <a:ext cx="1322640" cy="4381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14" descr=""/>
          <p:cNvPicPr/>
          <p:nvPr/>
        </p:nvPicPr>
        <p:blipFill>
          <a:blip r:embed="rId10"/>
          <a:stretch/>
        </p:blipFill>
        <p:spPr>
          <a:xfrm>
            <a:off x="298440" y="3895560"/>
            <a:ext cx="2054160" cy="4384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5" descr=""/>
          <p:cNvPicPr/>
          <p:nvPr/>
        </p:nvPicPr>
        <p:blipFill>
          <a:blip r:embed="rId11"/>
          <a:stretch/>
        </p:blipFill>
        <p:spPr>
          <a:xfrm>
            <a:off x="152280" y="4322880"/>
            <a:ext cx="1981440" cy="4381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20" descr=""/>
          <p:cNvPicPr/>
          <p:nvPr/>
        </p:nvPicPr>
        <p:blipFill>
          <a:blip r:embed="rId12"/>
          <a:stretch/>
        </p:blipFill>
        <p:spPr>
          <a:xfrm>
            <a:off x="2298600" y="3895560"/>
            <a:ext cx="1955880" cy="4384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21" descr=""/>
          <p:cNvPicPr/>
          <p:nvPr/>
        </p:nvPicPr>
        <p:blipFill>
          <a:blip r:embed="rId13"/>
          <a:stretch/>
        </p:blipFill>
        <p:spPr>
          <a:xfrm>
            <a:off x="2152800" y="4322880"/>
            <a:ext cx="2028600" cy="4381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22" descr=""/>
          <p:cNvPicPr/>
          <p:nvPr/>
        </p:nvPicPr>
        <p:blipFill>
          <a:blip r:embed="rId14"/>
          <a:stretch/>
        </p:blipFill>
        <p:spPr>
          <a:xfrm>
            <a:off x="225360" y="4821120"/>
            <a:ext cx="2041560" cy="4460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0" y="8571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entury Schoolbook"/>
              </a:rPr>
              <a:t>Составлять план действий, действовать по плану. Найди в плане ошибки, расставь по поряд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Century Schoolbook"/>
              </a:rPr>
              <a:t>А.С.Пушкин «Сказка о царе Салтан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Прямоугольник 3" descr=""/>
          <p:cNvPicPr/>
          <p:nvPr/>
        </p:nvPicPr>
        <p:blipFill>
          <a:blip r:embed="rId1"/>
          <a:stretch/>
        </p:blipFill>
        <p:spPr>
          <a:xfrm>
            <a:off x="341280" y="4449600"/>
            <a:ext cx="2871720" cy="7621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5" descr=""/>
          <p:cNvPicPr/>
          <p:nvPr/>
        </p:nvPicPr>
        <p:blipFill>
          <a:blip r:embed="rId2"/>
          <a:stretch/>
        </p:blipFill>
        <p:spPr>
          <a:xfrm>
            <a:off x="115920" y="5857920"/>
            <a:ext cx="2335320" cy="78732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6" descr=""/>
          <p:cNvPicPr/>
          <p:nvPr/>
        </p:nvPicPr>
        <p:blipFill>
          <a:blip r:embed="rId3"/>
          <a:stretch/>
        </p:blipFill>
        <p:spPr>
          <a:xfrm>
            <a:off x="244440" y="5230800"/>
            <a:ext cx="2700360" cy="78588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7" descr=""/>
          <p:cNvPicPr/>
          <p:nvPr/>
        </p:nvPicPr>
        <p:blipFill>
          <a:blip r:embed="rId4"/>
          <a:stretch/>
        </p:blipFill>
        <p:spPr>
          <a:xfrm>
            <a:off x="669960" y="3230640"/>
            <a:ext cx="2049480" cy="4824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8" descr=""/>
          <p:cNvPicPr/>
          <p:nvPr/>
        </p:nvPicPr>
        <p:blipFill>
          <a:blip r:embed="rId5"/>
          <a:stretch/>
        </p:blipFill>
        <p:spPr>
          <a:xfrm>
            <a:off x="244440" y="2444760"/>
            <a:ext cx="2711520" cy="78588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22" descr=""/>
          <p:cNvPicPr/>
          <p:nvPr/>
        </p:nvPicPr>
        <p:blipFill>
          <a:blip r:embed="rId6"/>
          <a:stretch/>
        </p:blipFill>
        <p:spPr>
          <a:xfrm>
            <a:off x="171360" y="3657600"/>
            <a:ext cx="3248280" cy="785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49532 -0.53009 E">
                                      <p:cBhvr>
                                        <p:cTn id="60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0.44306 -0.07223 E">
                                      <p:cBhvr>
                                        <p:cTn id="60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43941 0.10718 E">
                                      <p:cBhvr>
                                        <p:cTn id="60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45486 -0.00833 E">
                                      <p:cBhvr>
                                        <p:cTn id="60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6 L 0.47326 0.00301 E">
                                      <p:cBhvr>
                                        <p:cTn id="60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46545 0.51436 E">
                                      <p:cBhvr>
                                        <p:cTn id="61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03b14"/>
                </a:solidFill>
                <a:latin typeface="Comic Sans MS"/>
              </a:rPr>
              <a:t>Составлять план действий, действовать по пла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1966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Начертить отрез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м план. Как будем решать учебную зада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чего начн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м будет первый ша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будем действовать да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78588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"/>
          <p:cNvSpPr/>
          <p:nvPr/>
        </p:nvSpPr>
        <p:spPr>
          <a:xfrm>
            <a:off x="250020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Группа 15"/>
          <p:cNvGrpSpPr/>
          <p:nvPr/>
        </p:nvGrpSpPr>
        <p:grpSpPr>
          <a:xfrm>
            <a:off x="1969200" y="3857760"/>
            <a:ext cx="1552320" cy="1461960"/>
            <a:chOff x="1969200" y="3857760"/>
            <a:chExt cx="1552320" cy="1461960"/>
          </a:xfrm>
        </p:grpSpPr>
        <p:sp>
          <p:nvSpPr>
            <p:cNvPr id="354" name="Прямоугольник 6"/>
            <p:cNvSpPr/>
            <p:nvPr/>
          </p:nvSpPr>
          <p:spPr>
            <a:xfrm rot="18745200">
              <a:off x="2566800" y="3700080"/>
              <a:ext cx="357120" cy="177660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Группа 14"/>
            <p:cNvGrpSpPr/>
            <p:nvPr/>
          </p:nvGrpSpPr>
          <p:grpSpPr>
            <a:xfrm>
              <a:off x="2112120" y="4071960"/>
              <a:ext cx="1213920" cy="928800"/>
              <a:chOff x="2112120" y="4071960"/>
              <a:chExt cx="1213920" cy="928800"/>
            </a:xfrm>
          </p:grpSpPr>
          <p:sp>
            <p:nvSpPr>
              <p:cNvPr id="356" name="Прямая соединительная линия 8"/>
              <p:cNvSpPr/>
              <p:nvPr/>
            </p:nvSpPr>
            <p:spPr>
              <a:xfrm flipH="1">
                <a:off x="2326320" y="407196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10"/>
              <p:cNvSpPr/>
              <p:nvPr/>
            </p:nvSpPr>
            <p:spPr>
              <a:xfrm flipH="1">
                <a:off x="2612520" y="4357800"/>
                <a:ext cx="14148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Прямая соединительная линия 11"/>
              <p:cNvSpPr/>
              <p:nvPr/>
            </p:nvSpPr>
            <p:spPr>
              <a:xfrm flipH="1">
                <a:off x="2896920" y="46436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Прямая соединительная линия 12"/>
              <p:cNvSpPr/>
              <p:nvPr/>
            </p:nvSpPr>
            <p:spPr>
              <a:xfrm flipH="1">
                <a:off x="3183120" y="48578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Овал 13"/>
              <p:cNvSpPr/>
              <p:nvPr/>
            </p:nvSpPr>
            <p:spPr>
              <a:xfrm>
                <a:off x="2112120" y="4071960"/>
                <a:ext cx="142920" cy="214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Овал 16"/>
          <p:cNvSpPr/>
          <p:nvPr/>
        </p:nvSpPr>
        <p:spPr>
          <a:xfrm>
            <a:off x="414324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17"/>
          <p:cNvSpPr/>
          <p:nvPr/>
        </p:nvSpPr>
        <p:spPr>
          <a:xfrm>
            <a:off x="5072040" y="4643280"/>
            <a:ext cx="28584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Группа 18"/>
          <p:cNvGrpSpPr/>
          <p:nvPr/>
        </p:nvGrpSpPr>
        <p:grpSpPr>
          <a:xfrm>
            <a:off x="7388640" y="3587760"/>
            <a:ext cx="1225080" cy="1706760"/>
            <a:chOff x="7388640" y="3587760"/>
            <a:chExt cx="1225080" cy="1706760"/>
          </a:xfrm>
        </p:grpSpPr>
        <p:sp>
          <p:nvSpPr>
            <p:cNvPr id="364" name="Прямоугольник 19"/>
            <p:cNvSpPr/>
            <p:nvPr/>
          </p:nvSpPr>
          <p:spPr>
            <a:xfrm rot="19732800">
              <a:off x="7822440" y="3551760"/>
              <a:ext cx="357120" cy="177804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Группа 20"/>
            <p:cNvGrpSpPr/>
            <p:nvPr/>
          </p:nvGrpSpPr>
          <p:grpSpPr>
            <a:xfrm>
              <a:off x="7543800" y="3773160"/>
              <a:ext cx="1004040" cy="1192320"/>
              <a:chOff x="7543800" y="3773160"/>
              <a:chExt cx="1004040" cy="1192320"/>
            </a:xfrm>
          </p:grpSpPr>
          <p:sp>
            <p:nvSpPr>
              <p:cNvPr id="366" name="Прямая соединительная линия 21"/>
              <p:cNvSpPr/>
              <p:nvPr/>
            </p:nvSpPr>
            <p:spPr>
              <a:xfrm flipH="1">
                <a:off x="7772760" y="3873240"/>
                <a:ext cx="179280" cy="9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Прямая соединительная линия 22"/>
              <p:cNvSpPr/>
              <p:nvPr/>
            </p:nvSpPr>
            <p:spPr>
              <a:xfrm flipH="1">
                <a:off x="7964640" y="4227840"/>
                <a:ext cx="17316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Прямая соединительная линия 23"/>
              <p:cNvSpPr/>
              <p:nvPr/>
            </p:nvSpPr>
            <p:spPr>
              <a:xfrm flipH="1">
                <a:off x="8159040" y="4580640"/>
                <a:ext cx="17748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Прямая соединительная линия 24"/>
              <p:cNvSpPr/>
              <p:nvPr/>
            </p:nvSpPr>
            <p:spPr>
              <a:xfrm flipH="1">
                <a:off x="8370360" y="4869720"/>
                <a:ext cx="17748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Овал 25"/>
              <p:cNvSpPr/>
              <p:nvPr/>
            </p:nvSpPr>
            <p:spPr>
              <a:xfrm rot="987000">
                <a:off x="7571160" y="3788640"/>
                <a:ext cx="141840" cy="21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Овал 26"/>
          <p:cNvSpPr/>
          <p:nvPr/>
        </p:nvSpPr>
        <p:spPr>
          <a:xfrm>
            <a:off x="592920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7"/>
          <p:cNvSpPr/>
          <p:nvPr/>
        </p:nvSpPr>
        <p:spPr>
          <a:xfrm>
            <a:off x="6858000" y="457200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28"/>
          <p:cNvSpPr/>
          <p:nvPr/>
        </p:nvSpPr>
        <p:spPr>
          <a:xfrm>
            <a:off x="8001000" y="392904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29"/>
          <p:cNvSpPr/>
          <p:nvPr/>
        </p:nvSpPr>
        <p:spPr>
          <a:xfrm>
            <a:off x="8501040" y="4786200"/>
            <a:ext cx="28584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Прямоугольник 30" descr=""/>
          <p:cNvPicPr/>
          <p:nvPr/>
        </p:nvPicPr>
        <p:blipFill>
          <a:blip r:embed="rId1"/>
          <a:stretch/>
        </p:blipFill>
        <p:spPr>
          <a:xfrm>
            <a:off x="-2491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1" descr=""/>
          <p:cNvPicPr/>
          <p:nvPr/>
        </p:nvPicPr>
        <p:blipFill>
          <a:blip r:embed="rId2"/>
          <a:stretch/>
        </p:blipFill>
        <p:spPr>
          <a:xfrm>
            <a:off x="9637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2" descr=""/>
          <p:cNvPicPr/>
          <p:nvPr/>
        </p:nvPicPr>
        <p:blipFill>
          <a:blip r:embed="rId3"/>
          <a:stretch/>
        </p:blipFill>
        <p:spPr>
          <a:xfrm>
            <a:off x="274968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3" descr=""/>
          <p:cNvPicPr/>
          <p:nvPr/>
        </p:nvPicPr>
        <p:blipFill>
          <a:blip r:embed="rId4"/>
          <a:stretch/>
        </p:blipFill>
        <p:spPr>
          <a:xfrm>
            <a:off x="48895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34" descr=""/>
          <p:cNvPicPr/>
          <p:nvPr/>
        </p:nvPicPr>
        <p:blipFill>
          <a:blip r:embed="rId5"/>
          <a:stretch/>
        </p:blipFill>
        <p:spPr>
          <a:xfrm>
            <a:off x="6321600" y="3176640"/>
            <a:ext cx="13111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80" name="Группа 35"/>
          <p:cNvGrpSpPr/>
          <p:nvPr/>
        </p:nvGrpSpPr>
        <p:grpSpPr>
          <a:xfrm>
            <a:off x="3683880" y="3857760"/>
            <a:ext cx="1552320" cy="1461600"/>
            <a:chOff x="3683880" y="3857760"/>
            <a:chExt cx="1552320" cy="1461600"/>
          </a:xfrm>
        </p:grpSpPr>
        <p:sp>
          <p:nvSpPr>
            <p:cNvPr id="381" name="Прямоугольник 36"/>
            <p:cNvSpPr/>
            <p:nvPr/>
          </p:nvSpPr>
          <p:spPr>
            <a:xfrm rot="18745200">
              <a:off x="4281120" y="3700080"/>
              <a:ext cx="357120" cy="177624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Группа 37"/>
            <p:cNvGrpSpPr/>
            <p:nvPr/>
          </p:nvGrpSpPr>
          <p:grpSpPr>
            <a:xfrm>
              <a:off x="3826800" y="4071960"/>
              <a:ext cx="1213560" cy="928800"/>
              <a:chOff x="3826800" y="4071960"/>
              <a:chExt cx="1213560" cy="928800"/>
            </a:xfrm>
          </p:grpSpPr>
          <p:sp>
            <p:nvSpPr>
              <p:cNvPr id="383" name="Прямая соединительная линия 38"/>
              <p:cNvSpPr/>
              <p:nvPr/>
            </p:nvSpPr>
            <p:spPr>
              <a:xfrm flipH="1">
                <a:off x="4041000" y="407196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39"/>
              <p:cNvSpPr/>
              <p:nvPr/>
            </p:nvSpPr>
            <p:spPr>
              <a:xfrm flipH="1">
                <a:off x="4327200" y="4357800"/>
                <a:ext cx="141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Прямая соединительная линия 40"/>
              <p:cNvSpPr/>
              <p:nvPr/>
            </p:nvSpPr>
            <p:spPr>
              <a:xfrm flipH="1">
                <a:off x="4611240" y="46436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Прямая соединительная линия 41"/>
              <p:cNvSpPr/>
              <p:nvPr/>
            </p:nvSpPr>
            <p:spPr>
              <a:xfrm flipH="1">
                <a:off x="4897440" y="48578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Овал 42"/>
              <p:cNvSpPr/>
              <p:nvPr/>
            </p:nvSpPr>
            <p:spPr>
              <a:xfrm>
                <a:off x="3826800" y="4071960"/>
                <a:ext cx="142920" cy="214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6426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buClr>
                <a:srgbClr val="66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На первом этапе обучения учитель предлагает для наблюдения план, раскрывающий последовательность рассмотрения объ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айди дерево, рассмотри ствол, определи его цвет, форму, сосчитай сколько крупных ветвей отходит от ств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-найди среди растений кустарники, чем они отличаются от деревьев, назовите особенности внешнего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-найди среди растений травы, сравни их с деревьями и кустарниками: чем они похожи и чем отлич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omic Sans MS"/>
              </a:rPr>
              <a:t>В 3-4 классе инициатива передается детям. Школьники учатся самостоятельно составлять план, выстраивать последовательность своих действий. Обязательными становятся практические работы, построенные на самонаблюдении и взаимонаблюден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Рассмотрим цвет глаз друг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Определим пуль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Измерим рост и в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Выбери необходимые действия для нахождения периметра многоугольника и установи их последова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071440"/>
            <a:ext cx="5329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 число сторон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йди сумму двух сторон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ножить длину сторон многоугольника на числ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рить длину стороны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214680" y="2500200"/>
            <a:ext cx="261468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Шестиугольник 7"/>
          <p:cNvGrpSpPr/>
          <p:nvPr/>
        </p:nvGrpSpPr>
        <p:grpSpPr>
          <a:xfrm>
            <a:off x="6437160" y="3176640"/>
            <a:ext cx="2189160" cy="1895400"/>
            <a:chOff x="6437160" y="3176640"/>
            <a:chExt cx="2189160" cy="1895400"/>
          </a:xfrm>
        </p:grpSpPr>
        <p:pic>
          <p:nvPicPr>
            <p:cNvPr id="393" name="Шестиугольник 7" descr=""/>
            <p:cNvPicPr/>
            <p:nvPr/>
          </p:nvPicPr>
          <p:blipFill>
            <a:blip r:embed="rId1"/>
            <a:stretch/>
          </p:blipFill>
          <p:spPr>
            <a:xfrm>
              <a:off x="6437160" y="3176640"/>
              <a:ext cx="21891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823080" y="3492360"/>
              <a:ext cx="14288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-360" y="476280"/>
            <a:ext cx="90010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А.П.Чехов «Степь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Перечитай, рассмотри внимательно план. Найди ошибку в пл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274680" y="3432240"/>
            <a:ext cx="2444760" cy="53640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4" descr=""/>
          <p:cNvPicPr/>
          <p:nvPr/>
        </p:nvPicPr>
        <p:blipFill>
          <a:blip r:embed="rId2"/>
          <a:stretch/>
        </p:blipFill>
        <p:spPr>
          <a:xfrm>
            <a:off x="2639880" y="3432240"/>
            <a:ext cx="129240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" descr=""/>
          <p:cNvPicPr/>
          <p:nvPr/>
        </p:nvPicPr>
        <p:blipFill>
          <a:blip r:embed="rId3"/>
          <a:stretch/>
        </p:blipFill>
        <p:spPr>
          <a:xfrm>
            <a:off x="4011480" y="3359160"/>
            <a:ext cx="1608120" cy="53640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6" descr=""/>
          <p:cNvPicPr/>
          <p:nvPr/>
        </p:nvPicPr>
        <p:blipFill>
          <a:blip r:embed="rId4"/>
          <a:stretch/>
        </p:blipFill>
        <p:spPr>
          <a:xfrm>
            <a:off x="5516640" y="3359160"/>
            <a:ext cx="1401840" cy="53640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7" descr=""/>
          <p:cNvPicPr/>
          <p:nvPr/>
        </p:nvPicPr>
        <p:blipFill>
          <a:blip r:embed="rId5"/>
          <a:stretch/>
        </p:blipFill>
        <p:spPr>
          <a:xfrm>
            <a:off x="7388280" y="3359160"/>
            <a:ext cx="1189080" cy="536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20209 0.0007 E">
                                      <p:cBhvr>
                                        <p:cTn id="72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69 L -0.17466 0.00139 E">
                                      <p:cBhvr>
                                        <p:cTn id="724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16701 0.00069 E">
                                      <p:cBhvr>
                                        <p:cTn id="72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6 0.00069 L -0.16475 0.00139 E">
                                      <p:cBhvr>
                                        <p:cTn id="728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онтроль, корре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03b14"/>
                </a:solidFill>
                <a:latin typeface="Calibri"/>
              </a:rPr>
              <a:t>Рубрика «Проверь себ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03b14"/>
                </a:solidFill>
                <a:latin typeface="Calibri"/>
              </a:rPr>
              <a:t>-обучает контролировать и оценивать свои з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Calibri"/>
              </a:rPr>
              <a:t>Устное народ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Вспомни в каких сказках есть присказки и как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В каких сказках есть загадки? Загадай эти загадки своим друзь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Какие бывают сказ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Какие произведения фольклора ты еще знаеш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Проверь себя: сколько ты знаешь послови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Подготовься к конкурсу «Знатоки загадок, пословиц и погово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амооценка детьми своей работы: «Я доволен своей работой», «Я допустил ошибку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роверять и  результаты своей работы. Давать самооц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043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 разность чисел. Если твои результаты не соответствуют данным в рамке, проверь свои вычисления и постарайся найти оши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6760" y="3071880"/>
            <a:ext cx="4038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-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0-5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00-2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00-298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20000-32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0000-53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Содержимое 3"/>
          <p:cNvSpPr/>
          <p:nvPr/>
        </p:nvSpPr>
        <p:spPr>
          <a:xfrm>
            <a:off x="4643280" y="3643200"/>
            <a:ext cx="4038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одержимое 3"/>
          <p:cNvSpPr/>
          <p:nvPr/>
        </p:nvSpPr>
        <p:spPr>
          <a:xfrm>
            <a:off x="4572000" y="3214800"/>
            <a:ext cx="4038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2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8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84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3419640" y="2276640"/>
            <a:ext cx="2087280" cy="1800000"/>
          </a:xfrm>
          <a:prstGeom prst="rect">
            <a:avLst/>
          </a:prstGeom>
          <a:ln w="0">
            <a:noFill/>
          </a:ln>
        </p:spPr>
      </p:pic>
      <p:sp>
        <p:nvSpPr>
          <p:cNvPr id="410" name="Oval 4"/>
          <p:cNvSpPr/>
          <p:nvPr/>
        </p:nvSpPr>
        <p:spPr>
          <a:xfrm>
            <a:off x="468360" y="1484280"/>
            <a:ext cx="2663640" cy="14400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6372360" y="1484280"/>
            <a:ext cx="2232000" cy="12970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95280" y="5084640"/>
            <a:ext cx="2521080" cy="12970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каз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6084720" y="5013360"/>
            <a:ext cx="2735280" cy="12747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дерств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й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тн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794880" y="2637360"/>
            <a:ext cx="2913480" cy="1534320"/>
            <a:chOff x="794880" y="2637360"/>
            <a:chExt cx="2913480" cy="1534320"/>
          </a:xfrm>
        </p:grpSpPr>
        <p:sp>
          <p:nvSpPr>
            <p:cNvPr id="415" name="Freeform 9"/>
            <p:cNvSpPr/>
            <p:nvPr/>
          </p:nvSpPr>
          <p:spPr>
            <a:xfrm rot="390600">
              <a:off x="868680" y="2730240"/>
              <a:ext cx="1625040" cy="804240"/>
            </a:xfrm>
            <a:custGeom>
              <a:avLst/>
              <a:gdLst>
                <a:gd name="textAreaLeft" fmla="*/ 0 w 1625040"/>
                <a:gd name="textAreaRight" fmla="*/ 1625400 w 162504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 rot="390600">
              <a:off x="2763000" y="3551040"/>
              <a:ext cx="841320" cy="5745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 rot="390600">
              <a:off x="1747800" y="3660840"/>
              <a:ext cx="1005480" cy="3578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 rot="390600">
              <a:off x="847440" y="2792880"/>
              <a:ext cx="2808000" cy="1090080"/>
            </a:xfrm>
            <a:custGeom>
              <a:avLst/>
              <a:gdLst>
                <a:gd name="textAreaLeft" fmla="*/ 0 w 2808000"/>
                <a:gd name="textAreaRight" fmla="*/ 2808360 w 280800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3"/>
          <p:cNvGrpSpPr/>
          <p:nvPr/>
        </p:nvGrpSpPr>
        <p:grpSpPr>
          <a:xfrm>
            <a:off x="5412960" y="2504880"/>
            <a:ext cx="2032920" cy="1737000"/>
            <a:chOff x="5412960" y="2504880"/>
            <a:chExt cx="2032920" cy="1737000"/>
          </a:xfrm>
        </p:grpSpPr>
        <p:sp>
          <p:nvSpPr>
            <p:cNvPr id="420" name="Freeform 14"/>
            <p:cNvSpPr/>
            <p:nvPr/>
          </p:nvSpPr>
          <p:spPr>
            <a:xfrm rot="4821600">
              <a:off x="6235920" y="2396520"/>
              <a:ext cx="832320" cy="125028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 rot="4821600">
              <a:off x="5758560" y="3507840"/>
              <a:ext cx="430920" cy="893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 rot="4821600">
              <a:off x="5472720" y="3235680"/>
              <a:ext cx="514800" cy="55620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 rot="4821600">
              <a:off x="5770440" y="2508120"/>
              <a:ext cx="1438200" cy="1695240"/>
            </a:xfrm>
            <a:custGeom>
              <a:avLst/>
              <a:gdLst>
                <a:gd name="textAreaLeft" fmla="*/ 0 w 1438200"/>
                <a:gd name="textAreaRight" fmla="*/ 1438200 w 1438200"/>
                <a:gd name="textAreaTop" fmla="*/ 0 h 1695240"/>
                <a:gd name="textAreaBottom" fmla="*/ 1695600 h 1695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722760" y="3902040"/>
            <a:ext cx="2771640" cy="2185560"/>
            <a:chOff x="3722760" y="3902040"/>
            <a:chExt cx="2771640" cy="2185560"/>
          </a:xfrm>
        </p:grpSpPr>
        <p:sp>
          <p:nvSpPr>
            <p:cNvPr id="425" name="Freeform 19"/>
            <p:cNvSpPr/>
            <p:nvPr/>
          </p:nvSpPr>
          <p:spPr>
            <a:xfrm rot="9519000">
              <a:off x="4986000" y="4458240"/>
              <a:ext cx="1359720" cy="1053360"/>
            </a:xfrm>
            <a:custGeom>
              <a:avLst/>
              <a:gdLst>
                <a:gd name="textAreaLeft" fmla="*/ 0 w 1359720"/>
                <a:gd name="textAreaRight" fmla="*/ 1360080 w 1359720"/>
                <a:gd name="textAreaTop" fmla="*/ 0 h 1053360"/>
                <a:gd name="textAreaBottom" fmla="*/ 1053720 h 10533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 rot="9519000">
              <a:off x="3835440" y="4440240"/>
              <a:ext cx="704160" cy="752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 rot="9519000">
              <a:off x="4437720" y="4169520"/>
              <a:ext cx="841320" cy="4687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 rot="9519000">
              <a:off x="3965040" y="4280760"/>
              <a:ext cx="2349720" cy="1428120"/>
            </a:xfrm>
            <a:custGeom>
              <a:avLst/>
              <a:gdLst>
                <a:gd name="textAreaLeft" fmla="*/ 0 w 2349720"/>
                <a:gd name="textAreaRight" fmla="*/ 2350080 w 234972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4"/>
          <p:cNvGrpSpPr/>
          <p:nvPr/>
        </p:nvGrpSpPr>
        <p:grpSpPr>
          <a:xfrm>
            <a:off x="1665000" y="3904920"/>
            <a:ext cx="2216160" cy="1492560"/>
            <a:chOff x="1665000" y="3904920"/>
            <a:chExt cx="2216160" cy="1492560"/>
          </a:xfrm>
        </p:grpSpPr>
        <p:sp>
          <p:nvSpPr>
            <p:cNvPr id="430" name="Freeform 25"/>
            <p:cNvSpPr/>
            <p:nvPr/>
          </p:nvSpPr>
          <p:spPr>
            <a:xfrm rot="15354000">
              <a:off x="2229840" y="4246200"/>
              <a:ext cx="582120" cy="13935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 rot="15354000">
              <a:off x="3124800" y="3674520"/>
              <a:ext cx="301320" cy="9957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 rot="15354000">
              <a:off x="3356280" y="4138920"/>
              <a:ext cx="360360" cy="619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 rot="15354000">
              <a:off x="2200320" y="3734640"/>
              <a:ext cx="1006200" cy="188928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889280"/>
                <a:gd name="textAreaBottom" fmla="*/ 1889640 h 1889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ременное общество стремительно развивается. Изменения происходят во всех сферах жизни: политической, экономической, социальной, культурной. Всё более значимым становится развивающий потенциал обучения, обеспечивающий существование и развитие системы образования в условиях быстро меняющейся среды. Современные социальные запросы направлены на общекультурное, личностное и познавательное развитие учащихся, обеспечивающие умение учиться. Для того чтобы выпускник школы соответствовал требованиям, предъявляемым к нему обществом, изменения необходимы и в системе образования. Эта необходимость нашла отражение в развитии универсальных учебны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Comic Sans MS"/>
              </a:rPr>
              <a:t>Участие в диалог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реальных лиц(мама и дочка, дедушка и внук – спрашивают о здоровье, поздравляют с праздни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животных и растений: «Лесное собрание осенью», «О подготовке к зиме зверей и птиц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неодушевленных предметов: «В ночь под Новый год игрушки рассказали…», «Ночью в цветочном магазине цветы рассказывают, где прошло их детство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бота над  монологической  формой реч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Истолковывать текст через творчески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Н.Г.Гарин-Михайловский «Лягушка-путешественниц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ескажи от имени лягушки один из эпизодов сказ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Выбороч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00"/>
                </a:solidFill>
                <a:latin typeface="Calibri"/>
              </a:rPr>
              <a:t>Древнегреческий миф «Дедал и Икар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Подготовь рассказ о жизни Дед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Кратк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Сказка-быль А.П. Платонова «Неизвестный цвето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одготовь кратки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Подроб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00"/>
                </a:solidFill>
                <a:latin typeface="Calibri"/>
              </a:rPr>
              <a:t>Древнегреческий миф «Арион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дготовь подробны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Создание отзывов, аннотац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-К.Д.Бальмонт «Россия». Отзы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Какое это стихотворение, обоснуй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Напиши отзыв о своей любимой книге о детя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Творческие задания на словесное иллюстрир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9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С.Я.Маршак «Ледяной остров». Проба пе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вы представляете остров, напиш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42560" y="357120"/>
            <a:ext cx="9001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Виды творческих рассказ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4b38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Сюжетный рассказ на основе непосредственного восприятия природы, труда людей («Птичья столовая», «Как мы дежурил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Сюжетный и описательный рассказ на основе обобщения знаний, полученных в результате бесед, чтения книг («Как звери живут зимой», «Кто такие насекомы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писательный рассказ, построенный на сравнении разных явлений природы и социальной жизни («Лес и луг», «Всегда ли были школ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Рассказ-этюд – небольшое яркое образное описание предмета, основанное на непосредственном восприятии или чувственных обр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Рассказ-сочинение («Кого мы встретили на Луне», «Зачем людям природа», «Должен ли человек беречь сам себ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ланирование учебного сотрудничества, согласование действий с партнером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980640"/>
            <a:ext cx="4248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икторина по басням И.А.Кры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икторина «Юмористические произведения Н.Н.Но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Страничка книгочея» Обобщение по изученным разделам Творческая работа:  «Мой любимый писате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курс чтецов с книжной выстав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Проверь себя». Беседа по прочитанн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рок-утренник «В мире сказ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.Я.Маршак «Сказка про козла». Разыгрывание спектак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курс знатоков загадок и послов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D:\школа\фото видео\школа\праздник осени\S8000831.JPG"/>
          <p:cNvPicPr/>
          <p:nvPr/>
        </p:nvPicPr>
        <p:blipFill>
          <a:blip r:embed="rId1"/>
          <a:stretch/>
        </p:blipFill>
        <p:spPr>
          <a:xfrm>
            <a:off x="4284720" y="4762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D:\школа\фото видео\школа\викторина по сказкам\S8000791.JPG"/>
          <p:cNvPicPr/>
          <p:nvPr/>
        </p:nvPicPr>
        <p:blipFill>
          <a:blip r:embed="rId2"/>
          <a:stretch/>
        </p:blipFill>
        <p:spPr>
          <a:xfrm>
            <a:off x="4356000" y="36450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учение общению в устной и письменной форме, в том числе пониманию мысли собеседника и стремлению предельно понятно донести св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292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Создание текстов определённых жанров:  поздравлений, писем, этюдов, загадок, текст – рассуждение, текст – повествование, текст – опис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Ситуации для общения  детей с персонажами учеб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Наташа говорит, что между частями любого сложного предложения можно поставить точку и получиться несколько простых предложений. Женя считает, что в сложноподчиненном предложении это сделать нельзя, так как части такого предложения не могут существовать самостоятельно. С кем из ребят ты согласишься? Прове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Century Schoolbook"/>
              </a:rPr>
              <a:t>Мы дышали на снежинки, и они превращались в капли. Мы дышали на снежинки, чтобы они превращались в кап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entury Schoolbook"/>
              </a:rPr>
              <a:t>Части сложноподчиненного предложения неравноправны: одна часть - главная, другая – зависимая. От главной к зависимой можно задать вопр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404280"/>
            <a:ext cx="91440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вовать в диалоге; слушать и понимать других. Оформлять свои мысли в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a2003"/>
                </a:solidFill>
                <a:latin typeface="Calibri"/>
              </a:rPr>
              <a:t>Используя способ поразрядного вычитания, объясни, как каждый их учеников вычислил разность многозначных чи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a2003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539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3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10                 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7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6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5</a:t>
            </a:r>
            <a:r>
              <a:rPr b="1" lang="ru-RU" sz="2400" spc="-1" strike="noStrike" baseline="82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2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4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-302 6                        -5 9   4  6  1                   - 8 7 6  5 4  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2367                          1 7   0  6  3                         2 3  4 5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Картинка 32 из 37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141720"/>
            <a:ext cx="1357200" cy="117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http://im6-tub.yandex.net/i?id=26249564-10-72"/>
          <p:cNvPicPr/>
          <p:nvPr/>
        </p:nvPicPr>
        <p:blipFill>
          <a:blip r:embed="rId3"/>
          <a:stretch/>
        </p:blipFill>
        <p:spPr>
          <a:xfrm>
            <a:off x="3708360" y="335772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http://im7-tub.yandex.net/i?id=177690780-34-72"/>
          <p:cNvPicPr/>
          <p:nvPr/>
        </p:nvPicPr>
        <p:blipFill>
          <a:blip r:embed="rId4"/>
          <a:stretch/>
        </p:blipFill>
        <p:spPr>
          <a:xfrm>
            <a:off x="6659640" y="3141720"/>
            <a:ext cx="1285920" cy="11574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ая соединительная линия 9"/>
          <p:cNvSpPr/>
          <p:nvPr/>
        </p:nvSpPr>
        <p:spPr>
          <a:xfrm>
            <a:off x="1042920" y="5589720"/>
            <a:ext cx="85716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1"/>
          <p:cNvSpPr/>
          <p:nvPr/>
        </p:nvSpPr>
        <p:spPr>
          <a:xfrm>
            <a:off x="3419640" y="5589720"/>
            <a:ext cx="1428480" cy="144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3"/>
          <p:cNvSpPr/>
          <p:nvPr/>
        </p:nvSpPr>
        <p:spPr>
          <a:xfrm>
            <a:off x="6227640" y="5589720"/>
            <a:ext cx="1714680" cy="144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24139"/>
                </a:solidFill>
                <a:latin typeface="Century Schoolbook"/>
              </a:rPr>
              <a:t>Выполняя различные роли в группе, сотрудничать в совместном решении проблемы. Отстаивать свою точку з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159984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Рубрика «Обсудим вмес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Как ученики выполнили умножение суммы на числ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90х4=360               25х4=100                360+100=4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Группа 5"/>
          <p:cNvGrpSpPr/>
          <p:nvPr/>
        </p:nvGrpSpPr>
        <p:grpSpPr>
          <a:xfrm>
            <a:off x="1785960" y="3000240"/>
            <a:ext cx="4286160" cy="914400"/>
            <a:chOff x="1785960" y="3000240"/>
            <a:chExt cx="4286160" cy="914400"/>
          </a:xfrm>
        </p:grpSpPr>
        <p:sp>
          <p:nvSpPr>
            <p:cNvPr id="453" name="Прямоугольник 4"/>
            <p:cNvSpPr/>
            <p:nvPr/>
          </p:nvSpPr>
          <p:spPr>
            <a:xfrm>
              <a:off x="2076840" y="3000240"/>
              <a:ext cx="3847320" cy="91440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6200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3047760"/>
              <a:ext cx="428616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5" name="Picture 4" descr="Картинка 32 из 37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3929040"/>
            <a:ext cx="1357200" cy="1177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http://im6-tub.yandex.net/i?id=26249564-10-72"/>
          <p:cNvPicPr/>
          <p:nvPr/>
        </p:nvPicPr>
        <p:blipFill>
          <a:blip r:embed="rId4"/>
          <a:stretch/>
        </p:blipFill>
        <p:spPr>
          <a:xfrm>
            <a:off x="3714840" y="407196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http://im7-tub.yandex.net/i?id=177690780-34-72"/>
          <p:cNvPicPr/>
          <p:nvPr/>
        </p:nvPicPr>
        <p:blipFill>
          <a:blip r:embed="rId5"/>
          <a:stretch/>
        </p:blipFill>
        <p:spPr>
          <a:xfrm>
            <a:off x="6929280" y="385776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9" descr=""/>
          <p:cNvPicPr/>
          <p:nvPr/>
        </p:nvPicPr>
        <p:blipFill>
          <a:blip r:embed="rId6"/>
          <a:stretch/>
        </p:blipFill>
        <p:spPr>
          <a:xfrm>
            <a:off x="-115920" y="5662440"/>
            <a:ext cx="9266400" cy="168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-360" y="1000080"/>
            <a:ext cx="8929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Рубрика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«Вспомни» способствует использованию при построении рассуждений. Дети должны рассуждать, строить предположения, высказывать свою точку зрения, сравнивать ее с мнением одноклассников, находить общее ре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Calibri"/>
              </a:rPr>
              <a:t>Тема «Солнечная систе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ела входят в Солнечную сист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расскажут о Солнце люди разных профессий: астроном, земледелец, худож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а ли жизнь на Земле без солнечного света и теп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0" y="1985400"/>
            <a:ext cx="2843280" cy="1191600"/>
          </a:xfrm>
          <a:prstGeom prst="wedgeRectCallout">
            <a:avLst>
              <a:gd name="adj1" fmla="val 50379"/>
              <a:gd name="adj2" fmla="val 37435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ысл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"/>
          <p:cNvSpPr/>
          <p:nvPr/>
        </p:nvSpPr>
        <p:spPr>
          <a:xfrm flipV="1" rot="967800">
            <a:off x="888840" y="3148560"/>
            <a:ext cx="1617840" cy="2287440"/>
          </a:xfrm>
          <a:custGeom>
            <a:avLst/>
            <a:gdLst>
              <a:gd name="textAreaLeft" fmla="*/ 0 w 1617840"/>
              <a:gd name="textAreaRight" fmla="*/ 1618200 w 1617840"/>
              <a:gd name="textAreaTop" fmla="*/ 360 h 2287440"/>
              <a:gd name="textAreaBottom" fmla="*/ 2288160 h 2287440"/>
            </a:gdLst>
            <a:ahLst/>
            <a:rect l="textAreaLeft" t="textAreaTop" r="textAreaRight" b="textAreaBottom"/>
            <a:pathLst>
              <a:path w="885" h="1637">
                <a:moveTo>
                  <a:pt x="885" y="0"/>
                </a:moveTo>
                <a:lnTo>
                  <a:pt x="866" y="3"/>
                </a:lnTo>
                <a:lnTo>
                  <a:pt x="847" y="6"/>
                </a:lnTo>
                <a:lnTo>
                  <a:pt x="821" y="12"/>
                </a:lnTo>
                <a:lnTo>
                  <a:pt x="802" y="16"/>
                </a:lnTo>
                <a:lnTo>
                  <a:pt x="782" y="22"/>
                </a:lnTo>
                <a:lnTo>
                  <a:pt x="763" y="28"/>
                </a:lnTo>
                <a:lnTo>
                  <a:pt x="743" y="33"/>
                </a:lnTo>
                <a:lnTo>
                  <a:pt x="724" y="39"/>
                </a:lnTo>
                <a:lnTo>
                  <a:pt x="704" y="47"/>
                </a:lnTo>
                <a:lnTo>
                  <a:pt x="680" y="56"/>
                </a:lnTo>
                <a:lnTo>
                  <a:pt x="660" y="65"/>
                </a:lnTo>
                <a:lnTo>
                  <a:pt x="639" y="74"/>
                </a:lnTo>
                <a:lnTo>
                  <a:pt x="617" y="84"/>
                </a:lnTo>
                <a:lnTo>
                  <a:pt x="595" y="95"/>
                </a:lnTo>
                <a:lnTo>
                  <a:pt x="575" y="105"/>
                </a:lnTo>
                <a:lnTo>
                  <a:pt x="556" y="117"/>
                </a:lnTo>
                <a:lnTo>
                  <a:pt x="539" y="127"/>
                </a:lnTo>
                <a:lnTo>
                  <a:pt x="522" y="139"/>
                </a:lnTo>
                <a:lnTo>
                  <a:pt x="503" y="150"/>
                </a:lnTo>
                <a:lnTo>
                  <a:pt x="482" y="164"/>
                </a:lnTo>
                <a:lnTo>
                  <a:pt x="463" y="179"/>
                </a:lnTo>
                <a:lnTo>
                  <a:pt x="445" y="193"/>
                </a:lnTo>
                <a:lnTo>
                  <a:pt x="428" y="205"/>
                </a:lnTo>
                <a:lnTo>
                  <a:pt x="400" y="228"/>
                </a:lnTo>
                <a:lnTo>
                  <a:pt x="372" y="255"/>
                </a:lnTo>
                <a:lnTo>
                  <a:pt x="350" y="275"/>
                </a:lnTo>
                <a:lnTo>
                  <a:pt x="324" y="304"/>
                </a:lnTo>
                <a:lnTo>
                  <a:pt x="306" y="325"/>
                </a:lnTo>
                <a:lnTo>
                  <a:pt x="286" y="349"/>
                </a:lnTo>
                <a:lnTo>
                  <a:pt x="264" y="376"/>
                </a:lnTo>
                <a:lnTo>
                  <a:pt x="246" y="401"/>
                </a:lnTo>
                <a:lnTo>
                  <a:pt x="228" y="430"/>
                </a:lnTo>
                <a:lnTo>
                  <a:pt x="210" y="458"/>
                </a:lnTo>
                <a:lnTo>
                  <a:pt x="192" y="488"/>
                </a:lnTo>
                <a:lnTo>
                  <a:pt x="177" y="514"/>
                </a:lnTo>
                <a:lnTo>
                  <a:pt x="163" y="546"/>
                </a:lnTo>
                <a:lnTo>
                  <a:pt x="149" y="577"/>
                </a:lnTo>
                <a:lnTo>
                  <a:pt x="137" y="609"/>
                </a:lnTo>
                <a:lnTo>
                  <a:pt x="125" y="644"/>
                </a:lnTo>
                <a:lnTo>
                  <a:pt x="110" y="687"/>
                </a:lnTo>
                <a:lnTo>
                  <a:pt x="100" y="727"/>
                </a:lnTo>
                <a:lnTo>
                  <a:pt x="90" y="768"/>
                </a:lnTo>
                <a:lnTo>
                  <a:pt x="85" y="808"/>
                </a:lnTo>
                <a:lnTo>
                  <a:pt x="78" y="855"/>
                </a:lnTo>
                <a:lnTo>
                  <a:pt x="73" y="913"/>
                </a:lnTo>
                <a:lnTo>
                  <a:pt x="72" y="959"/>
                </a:lnTo>
                <a:lnTo>
                  <a:pt x="73" y="1004"/>
                </a:lnTo>
                <a:lnTo>
                  <a:pt x="77" y="1047"/>
                </a:lnTo>
                <a:lnTo>
                  <a:pt x="82" y="1087"/>
                </a:lnTo>
                <a:lnTo>
                  <a:pt x="87" y="1129"/>
                </a:lnTo>
                <a:lnTo>
                  <a:pt x="96" y="1172"/>
                </a:lnTo>
                <a:lnTo>
                  <a:pt x="108" y="1218"/>
                </a:lnTo>
                <a:lnTo>
                  <a:pt x="123" y="1265"/>
                </a:lnTo>
                <a:lnTo>
                  <a:pt x="138" y="1309"/>
                </a:lnTo>
                <a:lnTo>
                  <a:pt x="155" y="1352"/>
                </a:lnTo>
                <a:lnTo>
                  <a:pt x="175" y="1394"/>
                </a:lnTo>
                <a:lnTo>
                  <a:pt x="199" y="1434"/>
                </a:lnTo>
                <a:lnTo>
                  <a:pt x="0" y="1547"/>
                </a:lnTo>
                <a:lnTo>
                  <a:pt x="607" y="1637"/>
                </a:lnTo>
                <a:lnTo>
                  <a:pt x="830" y="1079"/>
                </a:lnTo>
                <a:lnTo>
                  <a:pt x="597" y="1204"/>
                </a:lnTo>
                <a:lnTo>
                  <a:pt x="574" y="1168"/>
                </a:lnTo>
                <a:lnTo>
                  <a:pt x="560" y="1136"/>
                </a:lnTo>
                <a:lnTo>
                  <a:pt x="547" y="1103"/>
                </a:lnTo>
                <a:lnTo>
                  <a:pt x="538" y="1070"/>
                </a:lnTo>
                <a:lnTo>
                  <a:pt x="532" y="1038"/>
                </a:lnTo>
                <a:lnTo>
                  <a:pt x="530" y="1007"/>
                </a:lnTo>
                <a:lnTo>
                  <a:pt x="527" y="976"/>
                </a:lnTo>
                <a:lnTo>
                  <a:pt x="527" y="945"/>
                </a:lnTo>
                <a:lnTo>
                  <a:pt x="529" y="908"/>
                </a:lnTo>
                <a:lnTo>
                  <a:pt x="533" y="872"/>
                </a:lnTo>
                <a:lnTo>
                  <a:pt x="541" y="832"/>
                </a:lnTo>
                <a:lnTo>
                  <a:pt x="550" y="800"/>
                </a:lnTo>
                <a:lnTo>
                  <a:pt x="564" y="764"/>
                </a:lnTo>
                <a:lnTo>
                  <a:pt x="576" y="733"/>
                </a:lnTo>
                <a:lnTo>
                  <a:pt x="593" y="703"/>
                </a:lnTo>
                <a:lnTo>
                  <a:pt x="607" y="680"/>
                </a:lnTo>
                <a:lnTo>
                  <a:pt x="621" y="661"/>
                </a:lnTo>
                <a:lnTo>
                  <a:pt x="635" y="642"/>
                </a:lnTo>
                <a:lnTo>
                  <a:pt x="651" y="623"/>
                </a:lnTo>
                <a:lnTo>
                  <a:pt x="668" y="603"/>
                </a:lnTo>
                <a:lnTo>
                  <a:pt x="683" y="589"/>
                </a:lnTo>
                <a:lnTo>
                  <a:pt x="700" y="571"/>
                </a:lnTo>
                <a:lnTo>
                  <a:pt x="717" y="557"/>
                </a:lnTo>
                <a:lnTo>
                  <a:pt x="737" y="542"/>
                </a:lnTo>
                <a:lnTo>
                  <a:pt x="761" y="526"/>
                </a:lnTo>
                <a:lnTo>
                  <a:pt x="781" y="513"/>
                </a:lnTo>
                <a:lnTo>
                  <a:pt x="798" y="503"/>
                </a:lnTo>
                <a:lnTo>
                  <a:pt x="823" y="489"/>
                </a:lnTo>
                <a:lnTo>
                  <a:pt x="847" y="479"/>
                </a:lnTo>
                <a:lnTo>
                  <a:pt x="885" y="468"/>
                </a:lnTo>
                <a:lnTo>
                  <a:pt x="885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2340000" y="5373720"/>
            <a:ext cx="4103640" cy="914400"/>
          </a:xfrm>
          <a:prstGeom prst="wedgeRectCallout">
            <a:avLst>
              <a:gd name="adj1" fmla="val -36652"/>
              <a:gd name="adj2" fmla="val -61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ственно-этиче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"/>
          <p:cNvSpPr/>
          <p:nvPr/>
        </p:nvSpPr>
        <p:spPr>
          <a:xfrm flipV="1" rot="19231200">
            <a:off x="6178680" y="2931480"/>
            <a:ext cx="2311200" cy="2731680"/>
          </a:xfrm>
          <a:custGeom>
            <a:avLst/>
            <a:gdLst>
              <a:gd name="textAreaLeft" fmla="*/ 0 w 2311200"/>
              <a:gd name="textAreaRight" fmla="*/ 2311560 w 2311200"/>
              <a:gd name="textAreaTop" fmla="*/ 360 h 2731680"/>
              <a:gd name="textAreaBottom" fmla="*/ 2732400 h 2731680"/>
            </a:gdLst>
            <a:ahLst/>
            <a:rect l="textAreaLeft" t="textAreaTop" r="textAreaRight" b="textAreaBottom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2916360" y="1125360"/>
            <a:ext cx="3504960" cy="365760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834840 h 3657600"/>
              <a:gd name="textAreaBottom" fmla="*/ 2822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5ff95"/>
              </a:gs>
              <a:gs pos="100000">
                <a:srgbClr val="ff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6446880" y="1963080"/>
            <a:ext cx="2517840" cy="642600"/>
          </a:xfrm>
          <a:prstGeom prst="wedgeRectCallout">
            <a:avLst>
              <a:gd name="adj1" fmla="val -67583"/>
              <a:gd name="adj2" fmla="val 18921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alibri"/>
              </a:rPr>
              <a:t>Литературное чтение – осмысленная, творческая  духовная деятельность. Обеспечивает формирование следующих универсальных учебных действий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23640" y="1988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смыслообразования через прослеживание «судьбы героя»  и ориентацию учащегося в системе личностных смыс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самоопределения и самопознания на основе сравнения   «Я» с героями литературных произвед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формирования основ гражданской идентичности путем знакомства и героическим историческим прошлым России и переживания гордости и  эмоциональной сопричастности подвигам и достижениям ее гражда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0175"/>
          <p:cNvPicPr/>
          <p:nvPr/>
        </p:nvPicPr>
        <p:blipFill>
          <a:blip r:embed="rId1"/>
          <a:stretch/>
        </p:blipFill>
        <p:spPr>
          <a:xfrm>
            <a:off x="7164360" y="476280"/>
            <a:ext cx="762120" cy="64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-360" y="259920"/>
            <a:ext cx="8929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высказываний Асмолова А.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бенок учится лучше и научится большем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изучает то, что соответствует 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интересам и потребностя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изучает то, что соответствует 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возможностя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в процессе обучения он может использовать, имеющийся у н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личный опы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может реализовать свои знания и опы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в активной деятельности</a:t>
            </a:r>
            <a:r>
              <a:rPr b="0" lang="ru-RU" sz="2800" spc="-1" strike="noStrike">
                <a:solidFill>
                  <a:srgbClr val="534b3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УД обеспечивают высокую эффективность в развитии личности младшего 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Calibri"/>
              </a:rPr>
              <a:t>Формирование основ российской гражданской идентичности, чувства гордости за свою Родину, российский народ и историю России</a:t>
            </a: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8000" y="1125360"/>
            <a:ext cx="8856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200" spc="-1" strike="noStrike">
                <a:solidFill>
                  <a:srgbClr val="000099"/>
                </a:solidFill>
                <a:latin typeface="Comic Sans MS"/>
              </a:rPr>
              <a:t>Устное народное творчество», «Русские писатели», «Родина». Например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Былина «Волх Всеславович». «Алеша Попович и Тугарин Змеевич», «Первый бой Ильи Муромц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Книги А.Г.Паустовского «Теплый хлеб», «Стальное колечко», Книги писателей-натуралистов  М.Пришвин «Лисичкин хлеб», «Кладовая солнца» Г.Скребицкий «Заботливая мамаша», В. Бианки «Кто чем поет?» А. Гайдар «Тимур и его команда». «Горячий камень», Н.А.Некрасов «Мужичок с ногото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С.Я.Маршак «Урок родного языка», С. Есенин «Я покинул родимый дом», «Березы», «Нивы сжаты», И.С.Никитин «Рус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ероическая песня «Кузьма Минин и Дмитрий Пожарский», «Легенда о покорении Сибири Ермаком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omic Sans MS"/>
              </a:rPr>
              <a:t>Почему о подвиге Ермака Тимофеевича сложили легенду? Сравните героев, их подвиги? Какими качествам наделяет их народ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оложительная мотивация к обучению и к чт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8568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Произведения Л.Пантелеева о детях «Честно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Выразительное чтение диалогов «Автор-мальчик», «Мальчик-май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К.Г.Паустовский «Стальное колеч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браз девочки В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тношение автора к дев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Стихи С.А.Есенина «Бабушкины сказки»,  «Я покинул родимый дом», И.З.Суриков «Дет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Н.Г.Гарин-Михайловский «Детство Тем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entury Schoolbook"/>
              </a:rPr>
              <a:t>Прочитай эпизод «Спасения Жучки». Какие чувства испытывал Тема?. Как вы относитесь к поступку Темы? Каким вы представляете Т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С.В.Михалков «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В каких словах слышится любовь поэта к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Кем стали друзья поэ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мыслообразование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амоопределение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амопозн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052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Книги Древней 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-Похвала книг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Поучение Владимира Мономаха дет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Очерк Ю.Я.Яковлев «Право на жизн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-Какие права имеет ребенок, найди ответ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В.Ю.Драгунский «Тайное становится явны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С.В.Михалков «Шко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ормирование уважительного отношения к иному мнению, истории и культуре других нар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Сказка М.Ю. Лермонтова «Ашик-Кериб» знакомит учащихся с культурой мусульманских народов, их обычаями, традициями, общечеловеческими ценност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ша Родина в разные историческ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дной край – частица Род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тешествие по старинным русски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род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ии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тория родной страны (как развивалась экономика, культура, просвещ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м богата и знаменита наша ст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Темы творческих рассказ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Родина- это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Наша древняя сто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улка по родному город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иглашаем к столу – русская трапе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значит любить свою ст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жет ли человек жить оди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нужно относиться к другим люд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entury Schoolbook"/>
              </a:rPr>
              <a:t>Личностные универсальные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зволяют сделать учение осмысленным, обеспечивают ученику значимость решения учебных задач, увязывая их с реальными жизненными целями и ситуац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правлены на осознание, исследование и принятие жизненных ценностей и смыслов, позволяют сориентироваться в нравственных нормах, правилах, оценках, выработать свою жизненную позицию в отношении мира, людей, самого себя и своего буду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1773360"/>
            <a:ext cx="889308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Формирование универсальных учебных действий в образовательном процессе осуществляется в контексте усвоения разных предметных дисциплин. Требования к формированию универсальных учебных действий находят отражение в планируемых результатах освоения программ учебных предметов «Русский язык», «Литературное чтение», «Математика», «Окружающий мир», «Технолог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Каждый учебный предмет в зависимости от предметного содержания и  способов организации учебной деятельности учащихся раскрывает определенные  возможности для формирования УУ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79280" y="76464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бакумова И.В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Обучение и смысл: смыслообразование в учебном процессе (психолого-дидактический подход). Ростов- н/Д.: Изд-во Рост. ун-та, 200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смолов А.Г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Культурно-историческая психология и конструирование миров. М.: МПСИ; Воронеж: МОДЭК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смолов А.Г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сихология личности. Культурно-историческое понимание развития человека  М.: Смысл,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.Давыдов В.В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Теория развивающего обучения. М.: ИНТЕРО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Леонтьев А.Н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Деятельность. Сознание. Личность. М.: Политиздат, 197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Цукерман Г.А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Виды общения в обучении. Томск: Пеленг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Через формы к мыслям: О новой университетской образовательной модели / Под ред. Ю.М. Афанасьева. М.: Изд-во ГТГУ.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Асмолов А.Г.,Бурменская Г.В. и др. Культурно-историческая системно - деятельностная парадигма проектирования стандартов 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явлен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250920" y="116676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 время все чаще приходится говорить о том, что традиционный подход к обучению не оправдывает себя, что учащиеся способны в основном только к воспроизведению знаний, переданных им учителем, а реализовать их в практической жизни они не в состоянии, ученик как бы усваивает знания, заучивает основные правила но, сталкиваясь с реальными жизненными ситуациями, он не может применить эти знания, так как в школе он не участвует в деятельности, которая показывала бы применение полученных в ходе обучения знаний на практике. Ведь именно в начальной школе начинает формироваться личность ученика, его мировоззрение, желание учиться.  А целью современного образования становится общекультурное, личностное и познавательное развитие учащихся, обеспечивающее такую ключевую компетенцию, как умение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 проекта — раскрыть содержание универсальных учебных действий, которые могут быть сформированы на начальной степени обучения применительно к особенностям УМК «Начальная школа 21 ве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В основе разработки современных  стандартов школьного образования познакомиться с ценностными ориентирами нача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знакомиться с  понятиями «универсальные учебные  действия», их видами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знать роль универсальных учебных действий в структуре образовательной программы начальной школы и их связь с учебными предм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На основе УМК «Начальная школа 21 век» определить насколько эффективно используется потенциал учеб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" y="293760"/>
            <a:ext cx="7893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557360"/>
            <a:ext cx="91440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entury Schoolbook"/>
              </a:rPr>
              <a:t>В широком значении термин «универсальные учебные действия» означает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entury Schoolbook"/>
              </a:rPr>
              <a:t>В более узком этот термин можно определить как совокупность действий учащегося, обеспечивающих социальную компетентность, способность к самостоятельному усвоению новых знаний и умений, включая организацию этого процесса, культурную идентичность и толерант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Century Schoolbook"/>
              </a:rPr>
              <a:t>Виды универсальных учебных действ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628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Познав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Регуля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Коммуника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Личност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8:06:32Z</dcterms:created>
  <dc:creator>Юля</dc:creator>
  <dc:description/>
  <dc:language>en-US</dc:language>
  <cp:lastModifiedBy>Windows 7</cp:lastModifiedBy>
  <dcterms:modified xsi:type="dcterms:W3CDTF">2011-12-15T17:39:20Z</dcterms:modified>
  <cp:revision>408</cp:revision>
  <dc:subject/>
  <dc:title>Тема: диагностика метапредметных и личностных результатов начального образования</dc:title>
</cp:coreProperties>
</file>