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E1C-B064-437F-92F1-21869EC4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390-9CAA-4494-AE97-E3B3EEED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3DD-58A2-4742-B19F-49BC36A0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8F6-552A-4F9F-A668-F7D7E341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D31-29B3-4FD1-97BC-DF98163C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DA4-76FF-4AA0-B1F4-F50EB027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D36-10D6-4B85-B931-3EEFFCB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C46-31A6-4330-9D2E-EC7D5F08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5BE-A040-411D-B9E4-68E224D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73D-29A7-4AB7-AB37-BC3FA99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080-2662-47EE-B13C-4B955712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65C-4B0C-4A26-9EC0-CC634644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6BB-F909-4712-9D53-09B0DDD3C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rivna_1"/>
          <p:cNvPicPr/>
          <p:nvPr/>
        </p:nvPicPr>
        <p:blipFill>
          <a:blip r:embed="rId2"/>
          <a:stretch/>
        </p:blipFill>
        <p:spPr>
          <a:xfrm>
            <a:off x="755640" y="1495440"/>
            <a:ext cx="2521080" cy="2379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Grivna"/>
          <p:cNvPicPr/>
          <p:nvPr/>
        </p:nvPicPr>
        <p:blipFill>
          <a:blip r:embed="rId3"/>
          <a:stretch/>
        </p:blipFill>
        <p:spPr>
          <a:xfrm>
            <a:off x="4932360" y="1484280"/>
            <a:ext cx="3887640" cy="236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ривны Древней Руси и Российской имп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grivennik1704m"/>
          <p:cNvPicPr/>
          <p:nvPr/>
        </p:nvPicPr>
        <p:blipFill>
          <a:blip r:embed="rId4"/>
          <a:stretch/>
        </p:blipFill>
        <p:spPr>
          <a:xfrm>
            <a:off x="2843280" y="4451400"/>
            <a:ext cx="3666960" cy="1909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615960" y="387504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вна Киевско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582880" y="387504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городская гр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971520" y="63961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в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ривны 1918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_10__1~1"/>
          <p:cNvPicPr/>
          <p:nvPr/>
        </p:nvPicPr>
        <p:blipFill>
          <a:blip r:embed="rId2"/>
          <a:stretch/>
        </p:blipFill>
        <p:spPr>
          <a:xfrm>
            <a:off x="108000" y="1197000"/>
            <a:ext cx="4962600" cy="32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_10__1~2"/>
          <p:cNvPicPr/>
          <p:nvPr/>
        </p:nvPicPr>
        <p:blipFill>
          <a:blip r:embed="rId3"/>
          <a:stretch/>
        </p:blipFill>
        <p:spPr>
          <a:xfrm>
            <a:off x="3995640" y="3500280"/>
            <a:ext cx="49910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временные грив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00_hryvnia_2005_b"/>
          <p:cNvPicPr/>
          <p:nvPr/>
        </p:nvPicPr>
        <p:blipFill>
          <a:blip r:embed="rId2"/>
          <a:stretch/>
        </p:blipFill>
        <p:spPr>
          <a:xfrm>
            <a:off x="971640" y="1273320"/>
            <a:ext cx="3240000" cy="169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00_hryvnia_2005_f"/>
          <p:cNvPicPr/>
          <p:nvPr/>
        </p:nvPicPr>
        <p:blipFill>
          <a:blip r:embed="rId3"/>
          <a:stretch/>
        </p:blipFill>
        <p:spPr>
          <a:xfrm>
            <a:off x="4645080" y="1268280"/>
            <a:ext cx="3240000" cy="169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500-Hryvnia-Skovoroda-front"/>
          <p:cNvPicPr/>
          <p:nvPr/>
        </p:nvPicPr>
        <p:blipFill>
          <a:blip r:embed="rId4"/>
          <a:stretch/>
        </p:blipFill>
        <p:spPr>
          <a:xfrm>
            <a:off x="611280" y="3068640"/>
            <a:ext cx="3600360" cy="17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500_Hryvnia_2006_back"/>
          <p:cNvPicPr/>
          <p:nvPr/>
        </p:nvPicPr>
        <p:blipFill>
          <a:blip r:embed="rId5"/>
          <a:stretch/>
        </p:blipFill>
        <p:spPr>
          <a:xfrm>
            <a:off x="4670280" y="3068640"/>
            <a:ext cx="3573720" cy="169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500px-Hryvnia_symbol_svg"/>
          <p:cNvPicPr/>
          <p:nvPr/>
        </p:nvPicPr>
        <p:blipFill>
          <a:blip r:embed="rId6"/>
          <a:stretch/>
        </p:blipFill>
        <p:spPr>
          <a:xfrm>
            <a:off x="3068640" y="4797360"/>
            <a:ext cx="1222200" cy="194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4202280" y="55371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имвол гр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8:52:38Z</dcterms:created>
  <dc:creator>localhost</dc:creator>
  <dc:description/>
  <dc:language>en-US</dc:language>
  <cp:lastModifiedBy>Дом</cp:lastModifiedBy>
  <dcterms:modified xsi:type="dcterms:W3CDTF">2011-12-15T19:27:46Z</dcterms:modified>
  <cp:revision>5</cp:revision>
  <dc:subject/>
  <dc:title>ГРИВНА</dc:title>
</cp:coreProperties>
</file>