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890-7614-488A-9DBE-D8C511DE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515-0850-47A1-9FE3-FBFAB1B3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5B5-6595-4C74-8605-EEA94C24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2A5-7DD7-4750-8E0E-7706DE9C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808-AB10-4B83-86B2-DE029C5A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B56-E9E7-45E5-AC9A-1D14CF7D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3DA-7154-495A-B8F5-83029A38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D66-994D-4B74-B4F3-E4CE87EA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CB3-571D-4CDA-892A-2AAAC404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2F2-7CC3-4A3A-8DB6-7976DD1D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816-6AF9-48EC-B175-B051EBBF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FC7-AAC8-4AAA-8728-15152192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8F86-E5D5-4A3F-8F11-1E1E86437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rivna_1"/>
          <p:cNvPicPr/>
          <p:nvPr/>
        </p:nvPicPr>
        <p:blipFill>
          <a:blip r:embed="rId2"/>
          <a:stretch/>
        </p:blipFill>
        <p:spPr>
          <a:xfrm>
            <a:off x="755640" y="1495440"/>
            <a:ext cx="2521080" cy="2379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Grivna"/>
          <p:cNvPicPr/>
          <p:nvPr/>
        </p:nvPicPr>
        <p:blipFill>
          <a:blip r:embed="rId3"/>
          <a:stretch/>
        </p:blipFill>
        <p:spPr>
          <a:xfrm>
            <a:off x="4932360" y="1484280"/>
            <a:ext cx="3887640" cy="2360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ривны Древней Руси и Российской импе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grivennik1704m"/>
          <p:cNvPicPr/>
          <p:nvPr/>
        </p:nvPicPr>
        <p:blipFill>
          <a:blip r:embed="rId4"/>
          <a:stretch/>
        </p:blipFill>
        <p:spPr>
          <a:xfrm>
            <a:off x="2843280" y="4451400"/>
            <a:ext cx="3666960" cy="1909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615960" y="387504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ивна Киевской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582880" y="387504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городская гри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3971520" y="63961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иве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ривны 1918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_10__1~1"/>
          <p:cNvPicPr/>
          <p:nvPr/>
        </p:nvPicPr>
        <p:blipFill>
          <a:blip r:embed="rId2"/>
          <a:stretch/>
        </p:blipFill>
        <p:spPr>
          <a:xfrm>
            <a:off x="108000" y="1197000"/>
            <a:ext cx="4962600" cy="324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_10__1~2"/>
          <p:cNvPicPr/>
          <p:nvPr/>
        </p:nvPicPr>
        <p:blipFill>
          <a:blip r:embed="rId3"/>
          <a:stretch/>
        </p:blipFill>
        <p:spPr>
          <a:xfrm>
            <a:off x="3995640" y="3500280"/>
            <a:ext cx="49910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временные грив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00_hryvnia_2005_b"/>
          <p:cNvPicPr/>
          <p:nvPr/>
        </p:nvPicPr>
        <p:blipFill>
          <a:blip r:embed="rId2"/>
          <a:stretch/>
        </p:blipFill>
        <p:spPr>
          <a:xfrm>
            <a:off x="971640" y="1273320"/>
            <a:ext cx="3240000" cy="169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100_hryvnia_2005_f"/>
          <p:cNvPicPr/>
          <p:nvPr/>
        </p:nvPicPr>
        <p:blipFill>
          <a:blip r:embed="rId3"/>
          <a:stretch/>
        </p:blipFill>
        <p:spPr>
          <a:xfrm>
            <a:off x="4645080" y="1268280"/>
            <a:ext cx="3240000" cy="169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500-Hryvnia-Skovoroda-front"/>
          <p:cNvPicPr/>
          <p:nvPr/>
        </p:nvPicPr>
        <p:blipFill>
          <a:blip r:embed="rId4"/>
          <a:stretch/>
        </p:blipFill>
        <p:spPr>
          <a:xfrm>
            <a:off x="611280" y="3068640"/>
            <a:ext cx="3600360" cy="171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500_Hryvnia_2006_back"/>
          <p:cNvPicPr/>
          <p:nvPr/>
        </p:nvPicPr>
        <p:blipFill>
          <a:blip r:embed="rId5"/>
          <a:stretch/>
        </p:blipFill>
        <p:spPr>
          <a:xfrm>
            <a:off x="4670280" y="3068640"/>
            <a:ext cx="3573720" cy="169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500px-Hryvnia_symbol_svg"/>
          <p:cNvPicPr/>
          <p:nvPr/>
        </p:nvPicPr>
        <p:blipFill>
          <a:blip r:embed="rId6"/>
          <a:stretch/>
        </p:blipFill>
        <p:spPr>
          <a:xfrm>
            <a:off x="3068640" y="4797360"/>
            <a:ext cx="1222200" cy="194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4202280" y="553716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имвол гр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8:52:38Z</dcterms:created>
  <dc:creator>localhost</dc:creator>
  <dc:description/>
  <dc:language>en-US</dc:language>
  <cp:lastModifiedBy>Дом</cp:lastModifiedBy>
  <dcterms:modified xsi:type="dcterms:W3CDTF">2011-12-15T19:27:46Z</dcterms:modified>
  <cp:revision>5</cp:revision>
  <dc:subject/>
  <dc:title>ГРИВНА</dc:title>
</cp:coreProperties>
</file>