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A35-343D-4C29-B4F1-F46A61F3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078-6CD3-4F77-84AE-218318D4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DB5-F03F-4350-9569-AD4CDBB9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F7B0-769A-43F4-A7C0-E1F7D16A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C64-1BAB-44DF-9304-CB5150CE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81AA-74BA-4BCA-B94E-1995AEC9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6936-DCA4-4184-93E1-66DD3B31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EE5-8863-4B5E-AA7A-3AB37C27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8CB2-2D7C-4F36-8D56-2E578BFB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185-D550-4C53-9677-F2DAA717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5F1-74D2-4B94-BFA5-F864E40A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651F-08A1-4B05-9512-BB5CB59F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505D-C87C-40C9-81F3-0228E66E7C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i="1" lang="ru-RU" sz="5400" spc="-1" strike="noStrike">
                <a:solidFill>
                  <a:srgbClr val="000099"/>
                </a:solidFill>
                <a:latin typeface="Arial"/>
              </a:rPr>
              <a:t>«М.Ю.Лермонтов. Слово о поэте . «Бородино». Историческая основа создания стихотворени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819640" y="6021000"/>
            <a:ext cx="730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250920" y="115920"/>
            <a:ext cx="8642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dventure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Adventure"/>
              </a:rPr>
              <a:t>Первый в России памятник М. Ю. Лермонтову расположен в Пятигорске. Открыт 16 августа 1889 года за счёт народных пожертвований. Бронзовая статуя отлита в Санкт-Петербурге, а гранит для постамента завезён из Кры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635280" y="2349360"/>
            <a:ext cx="5256360" cy="43084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468360" y="3716280"/>
            <a:ext cx="280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mpir Deco"/>
              </a:rPr>
              <a:t>Сооружён по проекту скульп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mpir Deco"/>
              </a:rPr>
              <a:t>А. М. Опекушина, автора знаменитого памятн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mpir Deco"/>
              </a:rPr>
              <a:t>А. С. Пушкину в Моск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546200" y="1268280"/>
            <a:ext cx="3370320" cy="4321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2730600" cy="43214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179280" y="189000"/>
            <a:ext cx="884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dventure"/>
              </a:rPr>
              <a:t>Фамильная часовня Арсеньевых, где похоронен М.Ю. Лермо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042920" y="566100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mpir Deco"/>
              </a:rPr>
              <a:t>   </a:t>
            </a:r>
            <a:r>
              <a:rPr b="1" lang="ru-RU" sz="2000" spc="-1" strike="noStrike">
                <a:solidFill>
                  <a:srgbClr val="990033"/>
                </a:solidFill>
                <a:latin typeface="Ampir Deco"/>
              </a:rPr>
              <a:t>Над могилой поэта воздвигнут памятник из черного мрамора, на нем золотыми буквами высечено: "Михайло Юрьевич Лермонтов. 1814-1841"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тес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Когда было написано стихотвор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в ходе сра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сразу после битв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через 10 лет после сра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через 25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Какую форму повествования использует М.Ю Лермонтов в стихотворен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повеств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диа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моно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авторское рассу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292720" y="260280"/>
            <a:ext cx="3706920" cy="5112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4427640" y="5516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mpir Deco"/>
              </a:rPr>
              <a:t>Заболотский П.Е. Портрет поэта М. Ю. Лермонтова. 183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mpir Deco"/>
              </a:rPr>
              <a:t>Из коллекции Третьяковской галере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50920" y="1413000"/>
            <a:ext cx="48956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mpir Deco"/>
              </a:rPr>
              <a:t>Михаил Юрьеви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mpir Deco"/>
              </a:rPr>
              <a:t>Лермо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mpir Deco"/>
              </a:rPr>
              <a:t>1814 - 18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rcRect l="0" t="0" r="0" b="4166"/>
          <a:stretch/>
        </p:blipFill>
        <p:spPr>
          <a:xfrm>
            <a:off x="4859280" y="189000"/>
            <a:ext cx="3971880" cy="4968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4462560" y="5157720"/>
            <a:ext cx="45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mpir Deco"/>
              </a:rPr>
              <a:t>Мария Михайловна Лермонтова, мать поэ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mpir Deco"/>
              </a:rPr>
              <a:t>Неизвестный художник. 1810-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79280" y="189000"/>
            <a:ext cx="4464000" cy="69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dventure"/>
              </a:rPr>
              <a:t>По материнской лин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dventure"/>
              </a:rPr>
              <a:t>М. Лермонтов происходил из известного в России и богатого дворянского рода</a:t>
            </a:r>
            <a:r>
              <a:rPr b="1" lang="ru-RU" sz="4400" spc="-1" strike="noStrike">
                <a:solidFill>
                  <a:srgbClr val="0000ff"/>
                </a:solidFill>
                <a:latin typeface="Adventure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dventure"/>
              </a:rPr>
              <a:t>Столыпиных.</a:t>
            </a:r>
            <a:r>
              <a:rPr b="1" lang="ru-RU" sz="4400" spc="-1" strike="noStrike">
                <a:solidFill>
                  <a:srgbClr val="0000ff"/>
                </a:solidFill>
                <a:latin typeface="Adventur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rcRect l="0" t="0" r="0" b="2495"/>
          <a:stretch/>
        </p:blipFill>
        <p:spPr>
          <a:xfrm>
            <a:off x="179280" y="115920"/>
            <a:ext cx="3746520" cy="4897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324000" y="5229360"/>
            <a:ext cx="38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mpir Deco"/>
              </a:rPr>
              <a:t>Юрий Петрович Лермонтов, отец поэта. Неизвестный художник. 1810-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788000" y="5516640"/>
            <a:ext cx="41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067280" y="692280"/>
            <a:ext cx="48974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ff"/>
                </a:solidFill>
                <a:latin typeface="Adventure"/>
              </a:rPr>
              <a:t>По мужской линии род Лермонтовых (отец поэта — Юрий Петрович Лермонтов, капитан в отставке из небогатых помещиков Тульской губ.) ведет свое начало от Георга Лермонта (Шотландия). Находясь на службе у польского короля, в 1613 г. Лермонт перешел на сторону русских, сражался в чине офицера в отряде Д. Пожарского и в 1621 г. за хорошую службу царю получил грамоту на владение землей в Галическом у. Костромской губ. От него и пошли Лермонтовы, уже во втором колене принявшие</a:t>
            </a:r>
            <a:r>
              <a:rPr b="1" lang="ru-RU" sz="2400" spc="-1" strike="noStrike">
                <a:solidFill>
                  <a:srgbClr val="0000ff"/>
                </a:solidFill>
                <a:latin typeface="Adventure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dventure"/>
              </a:rPr>
              <a:t>Православи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rcRect l="0" t="0" r="0" b="3039"/>
          <a:stretch/>
        </p:blipFill>
        <p:spPr>
          <a:xfrm>
            <a:off x="395280" y="115920"/>
            <a:ext cx="4008600" cy="5473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179280" y="5661000"/>
            <a:ext cx="48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mpir Deco"/>
              </a:rPr>
              <a:t>Елизавета Алексеевна Арсеньева, бабушка поэта. Неизвестный художник. Начало XIX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788000" y="333360"/>
            <a:ext cx="4176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dventure"/>
              </a:rPr>
              <a:t>Бабушка поэта Елизавета Алексеевна (по мужу Арсеньева) — родная сест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dventure"/>
              </a:rPr>
              <a:t>Д. А. Столыпина, внук которого - Председатель кабинета министр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dventure"/>
              </a:rPr>
              <a:t>П. А. Столыпин -приходился троюродным братом Михаилу Юрьевичу Лермонто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264360" cy="3554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755640" y="189000"/>
            <a:ext cx="77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dventure"/>
              </a:rPr>
              <a:t>Детские годы будущего поэта с марта 1815 г. прошли в с. Тарханы Чембарского уезда Пензенской губернии в имении баб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187280" y="5516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mpir Deco"/>
              </a:rPr>
              <a:t>Тарханы. Усадьб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mpir Deco"/>
              </a:rPr>
              <a:t>Ныне - Государственный музей-заповедник М.Ю.Лермон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684360" y="401760"/>
            <a:ext cx="792000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611280" y="530388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dventure"/>
              </a:rPr>
              <a:t>В Тарханах Лермонтов получил домашнее образование. Для занятий была отведена отдельная комната - класс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18900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dventure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Adventure"/>
              </a:rPr>
              <a:t>Слава к Лермонтову приходит в одночасье со стихотворением </a:t>
            </a:r>
            <a:r>
              <a:rPr b="1" lang="ru-RU" sz="2800" spc="-1" strike="noStrike">
                <a:solidFill>
                  <a:srgbClr val="990033"/>
                </a:solidFill>
                <a:latin typeface="Adventure"/>
              </a:rPr>
              <a:t>"Смерть поэта" (19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47840" y="2513160"/>
            <a:ext cx="570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463840" y="2728800"/>
            <a:ext cx="57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324000" y="1341360"/>
            <a:ext cx="86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Adventure"/>
              </a:rPr>
              <a:t>Заключительные строки стихотворения с резкими выпадами против высшей аристократии вызвали гнев Николая 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4500720" y="2924280"/>
            <a:ext cx="4465440" cy="3770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0"/>
          <p:cNvSpPr/>
          <p:nvPr/>
        </p:nvSpPr>
        <p:spPr>
          <a:xfrm>
            <a:off x="324000" y="2867040"/>
            <a:ext cx="3963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dventure"/>
              </a:rPr>
              <a:t>   </a:t>
            </a:r>
            <a:r>
              <a:rPr b="1" lang="ru-RU" sz="3200" spc="-1" strike="noStrike">
                <a:solidFill>
                  <a:srgbClr val="990033"/>
                </a:solidFill>
                <a:latin typeface="Adventure"/>
              </a:rPr>
              <a:t>18 февра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dventure"/>
              </a:rPr>
              <a:t>М. Ю. Лермонтов был арестован и вскоре переведен прапорщиком в Нижегородский драгунский полк на Кав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3276720" y="115920"/>
            <a:ext cx="4968720" cy="4471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 flipV="1" rot="10800000">
            <a:off x="395280" y="4629600"/>
            <a:ext cx="850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dventure"/>
              </a:rPr>
              <a:t>Дуэль состоялась 15 июля 1841 года между шестью и семью часами вечера. Ввиду стремительно наступавших из-за гор грозовых туч секунданты поторопились избрать местом поединка небольшую поляну у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03120" y="496800"/>
            <a:ext cx="290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mpir Deco"/>
              </a:rPr>
              <a:t>Памятник на месте дуэли Лермон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50920" y="234936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mpir Deco"/>
              </a:rPr>
              <a:t>Автор - скульп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mpir Deco"/>
              </a:rPr>
              <a:t>Б. М. Микеш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8:13:47Z</dcterms:created>
  <dc:creator>Крейнович Зоя Юрьевна</dc:creator>
  <dc:description/>
  <dc:language>en-US</dc:language>
  <cp:lastModifiedBy>дом</cp:lastModifiedBy>
  <dcterms:modified xsi:type="dcterms:W3CDTF">2011-12-15T16:31:47Z</dcterms:modified>
  <cp:revision>16</cp:revision>
  <dc:subject/>
  <dc:title>Слайд 1</dc:title>
</cp:coreProperties>
</file>