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E24-16E1-4A8D-90E2-17D04F22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F2C-FA0B-4FE5-9651-CA3946A8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500-D675-4D5F-AC9C-BD5D6420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1E6-E207-4BA9-B5EB-70109B87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ABE-CA84-4FBF-9A81-46D11FCA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A28-48E7-4E3A-833B-BF2D823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827-564C-45BA-82CF-F7B464B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B20-B59D-4BE9-BB7D-2BD9D105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ACE-4A87-4353-A2A1-510E7300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7A1-9229-45DD-9180-A66EFCA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E8C-3ADC-4C70-9610-4C5E96E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70B-421F-4257-94D0-528C966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EF5-B801-42B4-80CC-D7E839DC2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i="1" lang="ru-RU" sz="5400" spc="-1" strike="noStrike">
                <a:solidFill>
                  <a:srgbClr val="000099"/>
                </a:solidFill>
                <a:latin typeface="Arial"/>
              </a:rPr>
              <a:t>«М.Ю.Лермонтов. Слово о поэте . «Бородино». Историческая основа создания стихотвор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19640" y="602100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50920" y="11592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Первый в России памятник М. Ю. Лермонтову расположен в Пятигорске. Открыт 16 августа 1889 года за счёт народных пожертвований. Бронзовая статуя отлита в Санкт-Петербурге, а гранит для постамента завезён из Кры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5256360" cy="4308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68360" y="371628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Сооружён по проекту скульп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А. М. Опекушина, автора знаменитого памят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А. С. Пушкину в Моск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46200" y="1268280"/>
            <a:ext cx="3370320" cy="432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2730600" cy="4321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79280" y="18900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Фамильная часовня Арсеньевых, где похоронен М.Ю. Лермо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42920" y="566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Над могилой поэта воздвигнут памятник из черного мрамора, на нем золотыми буквами высечено: "Михайло Юрьевич Лермонтов. 1814-1841"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те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Когда было написано стихотвор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в ходе сра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разу после бит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через 10 лет после сра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ерез 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Какую форму повествования использует М.Ю Лермонтов в стихотворен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повеств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моно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авторское рассу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706920" cy="511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42764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mpir Deco"/>
              </a:rPr>
              <a:t>Заболотский П.Е. Портрет поэта М. Ю. Лермонтова. 183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mpir Deco"/>
              </a:rPr>
              <a:t>Из коллекции Третьяковской галер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0920" y="1413000"/>
            <a:ext cx="4895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mpir Deco"/>
              </a:rPr>
              <a:t>Михаил Юрьеви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mpir Deco"/>
              </a:rPr>
              <a:t>Лермо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mpir Deco"/>
              </a:rPr>
              <a:t>1814 - 18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0" b="4166"/>
          <a:stretch/>
        </p:blipFill>
        <p:spPr>
          <a:xfrm>
            <a:off x="4859280" y="189000"/>
            <a:ext cx="397188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462560" y="5157720"/>
            <a:ext cx="45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Мария Михайловна Лермонтова, мать поэ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Неизвестный художник. 1810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79280" y="189000"/>
            <a:ext cx="44640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По материнской ли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М. Лермонтов происходил из известного в России и богатого дворянского рода</a:t>
            </a:r>
            <a:r>
              <a:rPr b="1" lang="ru-RU" sz="4400" spc="-1" strike="noStrike">
                <a:solidFill>
                  <a:srgbClr val="0000ff"/>
                </a:solidFill>
                <a:latin typeface="Adventure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dventure"/>
              </a:rPr>
              <a:t>Столыпиных.</a:t>
            </a:r>
            <a:r>
              <a:rPr b="1" lang="ru-RU" sz="4400" spc="-1" strike="noStrike">
                <a:solidFill>
                  <a:srgbClr val="0000ff"/>
                </a:solidFill>
                <a:latin typeface="Adventur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0" b="2495"/>
          <a:stretch/>
        </p:blipFill>
        <p:spPr>
          <a:xfrm>
            <a:off x="179280" y="115920"/>
            <a:ext cx="3746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24000" y="5229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Юрий Петрович Лермонтов, отец поэта. Неизвестный художник. 1810-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788000" y="5516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067280" y="692280"/>
            <a:ext cx="4897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ff"/>
                </a:solidFill>
                <a:latin typeface="Adventure"/>
              </a:rPr>
              <a:t>По мужской линии род Лермонтовых (отец поэта — Юрий Петрович Лермонтов, капитан в отставке из небогатых помещиков Тульской губ.) ведет свое начало от Георга Лермонта (Шотландия). Находясь на службе у польского короля, в 1613 г. Лермонт перешел на сторону русских, сражался в чине офицера в отряде Д. Пожарского и в 1621 г. за хорошую службу царю получил грамоту на владение землей в Галическом у. Костромской губ. От него и пошли Лермонтовы, уже во втором колене принявшие</a:t>
            </a:r>
            <a:r>
              <a:rPr b="1" lang="ru-RU" sz="2400" spc="-1" strike="noStrike">
                <a:solidFill>
                  <a:srgbClr val="0000ff"/>
                </a:solidFill>
                <a:latin typeface="Adventure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dventure"/>
              </a:rPr>
              <a:t>Православи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0" t="0" r="0" b="3039"/>
          <a:stretch/>
        </p:blipFill>
        <p:spPr>
          <a:xfrm>
            <a:off x="395280" y="115920"/>
            <a:ext cx="4008600" cy="5473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79280" y="5661000"/>
            <a:ext cx="48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mpir Deco"/>
              </a:rPr>
              <a:t>Елизавета Алексеевна Арсеньева, бабушка поэта. Неизвестный художник. Начало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788000" y="333360"/>
            <a:ext cx="417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Бабушка поэта Елизавета Алексеевна (по мужу Арсеньева) — родная сес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Д. А. Столыпина, внук которого - Председатель кабинета минист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П. А. Столыпин -приходился троюродным братом Михаилу Юрьевичу Лермонт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264360" cy="3554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755640" y="189000"/>
            <a:ext cx="77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Детские годы будущего поэта с марта 1815 г. прошли в с. Тарханы Чембарского уезда Пензенской губернии в имении баб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187280" y="5516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Тарханы. Усадь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Ныне - Государственный музей-заповедник М.Ю.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401760"/>
            <a:ext cx="792000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611280" y="53038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В Тарханах Лермонтов получил домашнее образование. Для занятий была отведена отдельная комната - класс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dventure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dventure"/>
              </a:rPr>
              <a:t>Слава к Лермонтову приходит в одночасье со стихотворением </a:t>
            </a:r>
            <a:r>
              <a:rPr b="1" lang="ru-RU" sz="2800" spc="-1" strike="noStrike">
                <a:solidFill>
                  <a:srgbClr val="990033"/>
                </a:solidFill>
                <a:latin typeface="Adventure"/>
              </a:rPr>
              <a:t>"Смерть поэта"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47840" y="2513160"/>
            <a:ext cx="57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463840" y="2728800"/>
            <a:ext cx="57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24000" y="1341360"/>
            <a:ext cx="86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dventure"/>
              </a:rPr>
              <a:t>Заключительные строки стихотворения с резкими выпадами против высшей аристократии вызвали гнев Николая 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465440" cy="3770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0"/>
          <p:cNvSpPr/>
          <p:nvPr/>
        </p:nvSpPr>
        <p:spPr>
          <a:xfrm>
            <a:off x="324000" y="2867040"/>
            <a:ext cx="396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dventure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dventure"/>
              </a:rPr>
              <a:t>18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dventure"/>
              </a:rPr>
              <a:t>М. Ю. Лермонтов был арестован и вскоре переведен прапорщиком в Нижегородский драгунский полк на Кав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3276720" y="115920"/>
            <a:ext cx="4968720" cy="4471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 flipV="1" rot="10800000">
            <a:off x="395280" y="4629600"/>
            <a:ext cx="850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dventure"/>
              </a:rPr>
              <a:t>Дуэль состоялась 15 июля 1841 года между шестью и семью часами вечера. Ввиду стремительно наступавших из-за гор грозовых туч секунданты поторопились избрать местом поединка небольшую поляну у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03120" y="496800"/>
            <a:ext cx="29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mpir Deco"/>
              </a:rPr>
              <a:t>Памятник на месте дуэли Лермон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50920" y="2349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Автор - скульп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mpir Deco"/>
              </a:rPr>
              <a:t>Б. М. Мике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13:47Z</dcterms:created>
  <dc:creator>Крейнович Зоя Юрьевна</dc:creator>
  <dc:description/>
  <dc:language>en-US</dc:language>
  <cp:lastModifiedBy>дом</cp:lastModifiedBy>
  <dcterms:modified xsi:type="dcterms:W3CDTF">2011-12-15T16:31:47Z</dcterms:modified>
  <cp:revision>16</cp:revision>
  <dc:subject/>
  <dc:title>Слайд 1</dc:title>
</cp:coreProperties>
</file>