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879F41-5805-4BD4-8CC1-555E7919493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делия народных умель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еселая ярмар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ллюстрации детск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BD0-7E5C-4840-A160-036192A7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960-627E-4242-A109-C7734F0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98C-30A5-421B-884A-9B9393AA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10B-0C2F-4F52-8A2A-B30E360E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6644-71DB-4906-A3B1-6FAEED94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D39-DCF2-4E1C-A991-FA2AD37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6C68-2E65-4400-BE12-7DEF7A8E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39DA-1B8B-4694-A743-FF8D27E6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D6AA-475D-4AD4-A5F0-FFF98B3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20C0-B103-488B-AFF6-CBDCD123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2D46-B555-4046-AD6A-3B85039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9EB-3B6E-4040-B318-C56E9329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1A46-4602-499E-9FD0-DEBAC24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79C-4BE1-4CB8-8B72-F77C9A6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ED64-3515-44FC-B9DD-71571BD9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E77D-0497-4D0C-825C-235E509A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11F5-25D9-47E6-A446-528C51C0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3E9-0402-45AF-B1FA-837D6D0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F83-DC7E-469D-ACC0-1132D956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537-01C8-4D1E-BEBB-C19979F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0A3-01CB-498C-8356-41CDEB7F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E58-796E-4460-AA86-DDFB8FA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B16-B572-4B96-9274-0529185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96B-410D-4F01-834C-0B5E2B8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81A4-8410-4D78-8CE4-8413A09F7B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A143-EC7D-44EA-8393-C13D287854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Государственное дошкольное образовательное учреждение </a:t>
            </a:r>
            <a:br>
              <a:rPr sz="1600"/>
            </a:b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детский сад комбинированного вида № 55</a:t>
            </a:r>
            <a:br>
              <a:rPr sz="1600"/>
            </a:b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 Колпинского района Санкт-Петербурга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Место изобразительного искусства в содержании работы по художественно-эстетическому воспитанию детей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Воспитатель высшей квалификационной категории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Куликова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СПб, март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1239120"/>
            <a:ext cx="7696080" cy="4533480"/>
            <a:chOff x="685800" y="1239120"/>
            <a:chExt cx="7696080" cy="4533480"/>
          </a:xfrm>
        </p:grpSpPr>
        <p:sp>
          <p:nvSpPr>
            <p:cNvPr id="170" name="_s32783"/>
            <p:cNvSpPr/>
            <p:nvPr/>
          </p:nvSpPr>
          <p:spPr>
            <a:xfrm flipH="1">
              <a:off x="3429000" y="3540600"/>
              <a:ext cx="380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2782"/>
            <p:cNvSpPr/>
            <p:nvPr/>
          </p:nvSpPr>
          <p:spPr>
            <a:xfrm>
              <a:off x="685800" y="2717280"/>
              <a:ext cx="2800440" cy="135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художествен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кус через восприят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расоты изделий традиционн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ародных промысл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2780"/>
            <p:cNvSpPr/>
            <p:nvPr/>
          </p:nvSpPr>
          <p:spPr>
            <a:xfrm>
              <a:off x="4572000" y="4072680"/>
              <a:ext cx="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2779"/>
            <p:cNvSpPr/>
            <p:nvPr/>
          </p:nvSpPr>
          <p:spPr>
            <a:xfrm>
              <a:off x="3048120" y="4639320"/>
              <a:ext cx="304776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казать глубоки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равственный смысл сказок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х поэтичность, отра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 них национального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характер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2778"/>
            <p:cNvSpPr/>
            <p:nvPr/>
          </p:nvSpPr>
          <p:spPr>
            <a:xfrm>
              <a:off x="5257800" y="3540600"/>
              <a:ext cx="457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2777"/>
            <p:cNvSpPr/>
            <p:nvPr/>
          </p:nvSpPr>
          <p:spPr>
            <a:xfrm>
              <a:off x="5657760" y="2717280"/>
              <a:ext cx="2724120" cy="135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скрывать яркость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бразность, меткость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разительных малы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льклорных жанр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32776"/>
            <p:cNvSpPr/>
            <p:nvPr/>
          </p:nvSpPr>
          <p:spPr>
            <a:xfrm flipV="1">
              <a:off x="4572000" y="237204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32775"/>
            <p:cNvSpPr/>
            <p:nvPr/>
          </p:nvSpPr>
          <p:spPr>
            <a:xfrm>
              <a:off x="3048120" y="1239120"/>
              <a:ext cx="297180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рмировать чувств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ричастности к истор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одины, родному народ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32774"/>
            <p:cNvSpPr/>
            <p:nvPr/>
          </p:nvSpPr>
          <p:spPr>
            <a:xfrm>
              <a:off x="3809880" y="2939400"/>
              <a:ext cx="1447920" cy="1133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Народ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культур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ародная культура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095880" y="152388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505320" y="2286000"/>
            <a:ext cx="1485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65720" y="3505320"/>
            <a:ext cx="207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Быт и трад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ус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362320" cy="177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56680" y="10666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У сам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720" y="1600200"/>
            <a:ext cx="2428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Изделия наро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ум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Documents and Settings\user\Мои документы\Мои рисунки\арт\20090214122651.jpg"/>
          <p:cNvPicPr/>
          <p:nvPr/>
        </p:nvPicPr>
        <p:blipFill>
          <a:blip r:embed="rId6"/>
          <a:stretch/>
        </p:blipFill>
        <p:spPr>
          <a:xfrm>
            <a:off x="4343400" y="4038480"/>
            <a:ext cx="1403280" cy="183852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1143000"/>
            <a:ext cx="8002080" cy="4543560"/>
            <a:chOff x="609480" y="1143000"/>
            <a:chExt cx="8002080" cy="4543560"/>
          </a:xfrm>
        </p:grpSpPr>
        <p:sp>
          <p:nvSpPr>
            <p:cNvPr id="193" name="_s35859"/>
            <p:cNvSpPr/>
            <p:nvPr/>
          </p:nvSpPr>
          <p:spPr>
            <a:xfrm flipH="1" flipV="1">
              <a:off x="3675600" y="2885760"/>
              <a:ext cx="149760" cy="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35858"/>
            <p:cNvSpPr/>
            <p:nvPr/>
          </p:nvSpPr>
          <p:spPr>
            <a:xfrm>
              <a:off x="684360" y="2072160"/>
              <a:ext cx="2991240" cy="1321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пражнять в выразительном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эмоциональном чтен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рассказывани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7"/>
            <p:cNvSpPr/>
            <p:nvPr/>
          </p:nvSpPr>
          <p:spPr>
            <a:xfrm flipH="1">
              <a:off x="3600720" y="397512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5856"/>
            <p:cNvSpPr/>
            <p:nvPr/>
          </p:nvSpPr>
          <p:spPr>
            <a:xfrm>
              <a:off x="609480" y="3684600"/>
              <a:ext cx="3187800" cy="124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Обучать работать с кукл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би-ба-бо на ширм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6633"/>
                  </a:solidFill>
                  <a:latin typeface="Arial"/>
                </a:rPr>
                <a:t>И куклами марионетк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5"/>
            <p:cNvSpPr/>
            <p:nvPr/>
          </p:nvSpPr>
          <p:spPr>
            <a:xfrm>
              <a:off x="4647960" y="4273200"/>
              <a:ext cx="108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5854"/>
            <p:cNvSpPr/>
            <p:nvPr/>
          </p:nvSpPr>
          <p:spPr>
            <a:xfrm>
              <a:off x="3353400" y="4571640"/>
              <a:ext cx="2617200" cy="111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совместной рабо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над спектакле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2"/>
            <p:cNvSpPr/>
            <p:nvPr/>
          </p:nvSpPr>
          <p:spPr>
            <a:xfrm>
              <a:off x="5470560" y="390312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5851"/>
            <p:cNvSpPr/>
            <p:nvPr/>
          </p:nvSpPr>
          <p:spPr>
            <a:xfrm>
              <a:off x="5498640" y="3745080"/>
              <a:ext cx="2963160" cy="123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передавать характер геро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его переживания мимикой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голосом, движение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0"/>
            <p:cNvSpPr/>
            <p:nvPr/>
          </p:nvSpPr>
          <p:spPr>
            <a:xfrm flipV="1">
              <a:off x="5396040" y="2885400"/>
              <a:ext cx="22428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35849"/>
            <p:cNvSpPr/>
            <p:nvPr/>
          </p:nvSpPr>
          <p:spPr>
            <a:xfrm>
              <a:off x="5620320" y="2073960"/>
              <a:ext cx="2991240" cy="1338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желание участв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 драматизации сказо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литературных произведен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5848"/>
            <p:cNvSpPr/>
            <p:nvPr/>
          </p:nvSpPr>
          <p:spPr>
            <a:xfrm flipV="1">
              <a:off x="4647960" y="2352600"/>
              <a:ext cx="1080" cy="27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5847"/>
            <p:cNvSpPr/>
            <p:nvPr/>
          </p:nvSpPr>
          <p:spPr>
            <a:xfrm>
              <a:off x="3226680" y="1143000"/>
              <a:ext cx="2767320" cy="12096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знакомить с искусство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театра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 театральным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рофессия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35846"/>
            <p:cNvSpPr/>
            <p:nvPr/>
          </p:nvSpPr>
          <p:spPr>
            <a:xfrm>
              <a:off x="3675600" y="2708280"/>
              <a:ext cx="1869840" cy="156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Театрализованна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Театрализованная деятельно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таричок-лесовичо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20698200">
            <a:off x="793800" y="138924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20676000">
            <a:off x="385560" y="403812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«Старичок-лесови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391400">
            <a:off x="5715000" y="3580920"/>
            <a:ext cx="3091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усская народная сказ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«Волк и 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31520" y="327672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«Веселая ярма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user\Мои документы\Мои рисунки\арт\0_12890_cddec2c5_XL.jpg"/>
          <p:cNvPicPr/>
          <p:nvPr/>
        </p:nvPicPr>
        <p:blipFill>
          <a:blip r:embed="rId2"/>
          <a:stretch/>
        </p:blipFill>
        <p:spPr>
          <a:xfrm>
            <a:off x="3657600" y="1447920"/>
            <a:ext cx="1752480" cy="1271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 rot="1512000">
            <a:off x="6095520" y="1371600"/>
            <a:ext cx="2428920" cy="199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539360"/>
            <a:ext cx="7484040" cy="3920040"/>
            <a:chOff x="914400" y="1539360"/>
            <a:chExt cx="7484040" cy="3920040"/>
          </a:xfrm>
        </p:grpSpPr>
        <p:sp>
          <p:nvSpPr>
            <p:cNvPr id="217" name="_s38924"/>
            <p:cNvSpPr/>
            <p:nvPr/>
          </p:nvSpPr>
          <p:spPr>
            <a:xfrm flipH="1">
              <a:off x="3361320" y="4097160"/>
              <a:ext cx="442080" cy="27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38923"/>
            <p:cNvSpPr/>
            <p:nvPr/>
          </p:nvSpPr>
          <p:spPr>
            <a:xfrm>
              <a:off x="914400" y="3870000"/>
              <a:ext cx="2518560" cy="1589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 любов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 родному город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 его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остопримечательностя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38922"/>
            <p:cNvSpPr/>
            <p:nvPr/>
          </p:nvSpPr>
          <p:spPr>
            <a:xfrm>
              <a:off x="5448240" y="4097160"/>
              <a:ext cx="587520" cy="34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38921"/>
            <p:cNvSpPr/>
            <p:nvPr/>
          </p:nvSpPr>
          <p:spPr>
            <a:xfrm>
              <a:off x="6023880" y="3945600"/>
              <a:ext cx="2374560" cy="1513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Закреплять навык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бщественного поведе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8920"/>
            <p:cNvSpPr/>
            <p:nvPr/>
          </p:nvSpPr>
          <p:spPr>
            <a:xfrm flipV="1">
              <a:off x="4800600" y="2617920"/>
              <a:ext cx="0" cy="53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8919"/>
            <p:cNvSpPr/>
            <p:nvPr/>
          </p:nvSpPr>
          <p:spPr>
            <a:xfrm>
              <a:off x="3001320" y="1539360"/>
              <a:ext cx="3454200" cy="1078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 сознательно-правиль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отношение к природ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8918"/>
            <p:cNvSpPr/>
            <p:nvPr/>
          </p:nvSpPr>
          <p:spPr>
            <a:xfrm>
              <a:off x="3792960" y="3063960"/>
              <a:ext cx="1798920" cy="15879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Природа и гор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рода и город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819160" cy="1878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19520" y="2438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Вывод: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Таким образом, изобразительное искусство имеет огромное значение в содержании всей работы по художественно-эстетическому воспитанию, что связано с особенностью самой изобразительной деятельности, а также создания у ребёнка целостной картины мира, где все находится в нерасторжимом единстве, необходимостью наиболее полно задействовать оба полушария головного мозга, обеспечивающее полноценное развитие личности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Основные задачи художественно-эстетического развития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Формирование духовно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ребёнка путем приоб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к различным видам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робуждение эмоционально-творческого начала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Воспитание эстетического отношения к окружающему через ознакомление с предметным миром, природой в процессе трудовой деятельности и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Воспитание эстетического отношения к окружающему средствами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916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Методы, способствующие формированию у детей эстетических чувств, отношений, суждений, оценок, практических действий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038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убе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обуждения к сопережива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риучения, упражнений в практических действ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Метод проблем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91600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29019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29920" y="1282680"/>
            <a:ext cx="8074440" cy="4592520"/>
            <a:chOff x="529920" y="1282680"/>
            <a:chExt cx="8074440" cy="4592520"/>
          </a:xfrm>
        </p:grpSpPr>
        <p:sp>
          <p:nvSpPr>
            <p:cNvPr id="105" name="_s13358"/>
            <p:cNvSpPr/>
            <p:nvPr/>
          </p:nvSpPr>
          <p:spPr>
            <a:xfrm flipH="1" flipV="1">
              <a:off x="2746800" y="2307240"/>
              <a:ext cx="1215360" cy="89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3357"/>
            <p:cNvSpPr/>
            <p:nvPr/>
          </p:nvSpPr>
          <p:spPr>
            <a:xfrm>
              <a:off x="888120" y="1282680"/>
              <a:ext cx="2622240" cy="12798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использ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редства художествен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разительности на занятия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по изобразительному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скусств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3356"/>
            <p:cNvSpPr/>
            <p:nvPr/>
          </p:nvSpPr>
          <p:spPr>
            <a:xfrm flipH="1" flipV="1">
              <a:off x="2676240" y="3331080"/>
              <a:ext cx="99468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3355"/>
            <p:cNvSpPr/>
            <p:nvPr/>
          </p:nvSpPr>
          <p:spPr>
            <a:xfrm>
              <a:off x="529920" y="2755800"/>
              <a:ext cx="2492280" cy="1023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чить использо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лич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Художествен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редств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3354"/>
            <p:cNvSpPr/>
            <p:nvPr/>
          </p:nvSpPr>
          <p:spPr>
            <a:xfrm flipH="1">
              <a:off x="2604240" y="3883320"/>
              <a:ext cx="1175760" cy="53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3353"/>
            <p:cNvSpPr/>
            <p:nvPr/>
          </p:nvSpPr>
          <p:spPr>
            <a:xfrm>
              <a:off x="529920" y="3970800"/>
              <a:ext cx="2228400" cy="12801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спиты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жела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Занимать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изобразительн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3352"/>
            <p:cNvSpPr/>
            <p:nvPr/>
          </p:nvSpPr>
          <p:spPr>
            <a:xfrm flipH="1">
              <a:off x="3810960" y="4116960"/>
              <a:ext cx="448200" cy="72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3351"/>
            <p:cNvSpPr/>
            <p:nvPr/>
          </p:nvSpPr>
          <p:spPr>
            <a:xfrm>
              <a:off x="2576880" y="480780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антазию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творческ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оображ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50"/>
            <p:cNvSpPr/>
            <p:nvPr/>
          </p:nvSpPr>
          <p:spPr>
            <a:xfrm>
              <a:off x="4887360" y="4116960"/>
              <a:ext cx="45432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49"/>
            <p:cNvSpPr/>
            <p:nvPr/>
          </p:nvSpPr>
          <p:spPr>
            <a:xfrm>
              <a:off x="4738680" y="480636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Разви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мыслительную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48"/>
            <p:cNvSpPr/>
            <p:nvPr/>
          </p:nvSpPr>
          <p:spPr>
            <a:xfrm>
              <a:off x="5366520" y="3883320"/>
              <a:ext cx="81540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47"/>
            <p:cNvSpPr/>
            <p:nvPr/>
          </p:nvSpPr>
          <p:spPr>
            <a:xfrm>
              <a:off x="6039720" y="3970800"/>
              <a:ext cx="2431080" cy="108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Формиро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ум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высказыват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свое отнош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33"/>
                  </a:solidFill>
                  <a:latin typeface="Arial"/>
                </a:rPr>
                <a:t>к изображенном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46"/>
            <p:cNvSpPr/>
            <p:nvPr/>
          </p:nvSpPr>
          <p:spPr>
            <a:xfrm flipV="1">
              <a:off x="5475960" y="3390480"/>
              <a:ext cx="13035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45"/>
            <p:cNvSpPr/>
            <p:nvPr/>
          </p:nvSpPr>
          <p:spPr>
            <a:xfrm>
              <a:off x="6764400" y="2764800"/>
              <a:ext cx="183996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Учить понима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язык изобразитель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344"/>
            <p:cNvSpPr/>
            <p:nvPr/>
          </p:nvSpPr>
          <p:spPr>
            <a:xfrm flipV="1">
              <a:off x="5160240" y="2436120"/>
              <a:ext cx="123696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343"/>
            <p:cNvSpPr/>
            <p:nvPr/>
          </p:nvSpPr>
          <p:spPr>
            <a:xfrm>
              <a:off x="5896800" y="1282680"/>
              <a:ext cx="2574360" cy="12182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Познакоми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с разны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ид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зобразитель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342"/>
            <p:cNvSpPr/>
            <p:nvPr/>
          </p:nvSpPr>
          <p:spPr>
            <a:xfrm flipV="1">
              <a:off x="4536000" y="2627640"/>
              <a:ext cx="720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341"/>
            <p:cNvSpPr/>
            <p:nvPr/>
          </p:nvSpPr>
          <p:spPr>
            <a:xfrm>
              <a:off x="3677760" y="1410840"/>
              <a:ext cx="2028240" cy="1216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эмоциональ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отзывчив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на произвед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зобразите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скус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340"/>
            <p:cNvSpPr/>
            <p:nvPr/>
          </p:nvSpPr>
          <p:spPr>
            <a:xfrm>
              <a:off x="3652920" y="3086640"/>
              <a:ext cx="1840680" cy="1067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зобразитель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скус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зобразительное искусств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553080" y="350532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2895480"/>
            <a:ext cx="22100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Иллюстрации детской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b812f"/>
                </a:solidFill>
                <a:latin typeface="Arial"/>
              </a:rPr>
              <a:t>Народная игрушка «Ды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Documents and Settings\user\Мои документы\Мои рисунки\МО\seward-mother-and-child.jpg"/>
          <p:cNvPicPr/>
          <p:nvPr/>
        </p:nvPicPr>
        <p:blipFill>
          <a:blip r:embed="rId2"/>
          <a:stretch/>
        </p:blipFill>
        <p:spPr>
          <a:xfrm>
            <a:off x="3276720" y="1600200"/>
            <a:ext cx="1528560" cy="1752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71800" y="12193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Художники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5" descr="C:\Documents and Settings\user\Мои документы\Мои рисунки\МО\955a7f2a0f50.jpg"/>
          <p:cNvPicPr/>
          <p:nvPr/>
        </p:nvPicPr>
        <p:blipFill>
          <a:blip r:embed="rId3"/>
          <a:stretch/>
        </p:blipFill>
        <p:spPr>
          <a:xfrm>
            <a:off x="457200" y="1219320"/>
            <a:ext cx="1641600" cy="1641240"/>
          </a:xfrm>
          <a:prstGeom prst="rect">
            <a:avLst/>
          </a:prstGeom>
          <a:ln w="9360">
            <a:solidFill>
              <a:srgbClr val="a379bb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791320" y="990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1226880"/>
            <a:ext cx="7543800" cy="4471560"/>
            <a:chOff x="838080" y="1226880"/>
            <a:chExt cx="7543800" cy="4471560"/>
          </a:xfrm>
        </p:grpSpPr>
        <p:sp>
          <p:nvSpPr>
            <p:cNvPr id="135" name="_s19473"/>
            <p:cNvSpPr/>
            <p:nvPr/>
          </p:nvSpPr>
          <p:spPr>
            <a:xfrm flipH="1" flipV="1">
              <a:off x="3047760" y="3074400"/>
              <a:ext cx="533160" cy="16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9472"/>
            <p:cNvSpPr/>
            <p:nvPr/>
          </p:nvSpPr>
          <p:spPr>
            <a:xfrm>
              <a:off x="838080" y="2514600"/>
              <a:ext cx="228600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твор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отношение к музы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9471"/>
            <p:cNvSpPr/>
            <p:nvPr/>
          </p:nvSpPr>
          <p:spPr>
            <a:xfrm flipH="1">
              <a:off x="3935520" y="4120560"/>
              <a:ext cx="31752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9470"/>
            <p:cNvSpPr/>
            <p:nvPr/>
          </p:nvSpPr>
          <p:spPr>
            <a:xfrm>
              <a:off x="1600200" y="4502160"/>
              <a:ext cx="263376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Развивать общую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музыкальность де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468"/>
            <p:cNvSpPr/>
            <p:nvPr/>
          </p:nvSpPr>
          <p:spPr>
            <a:xfrm>
              <a:off x="4890960" y="4120560"/>
              <a:ext cx="319320" cy="4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9467"/>
            <p:cNvSpPr/>
            <p:nvPr/>
          </p:nvSpPr>
          <p:spPr>
            <a:xfrm>
              <a:off x="4986360" y="4489560"/>
              <a:ext cx="248112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Приобщать к различны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идам музыка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9466"/>
            <p:cNvSpPr/>
            <p:nvPr/>
          </p:nvSpPr>
          <p:spPr>
            <a:xfrm flipV="1">
              <a:off x="5087880" y="3158280"/>
              <a:ext cx="85572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465"/>
            <p:cNvSpPr/>
            <p:nvPr/>
          </p:nvSpPr>
          <p:spPr>
            <a:xfrm>
              <a:off x="5943600" y="2482920"/>
              <a:ext cx="243828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Знакомить с различны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Музыкаль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нструмент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9464"/>
            <p:cNvSpPr/>
            <p:nvPr/>
          </p:nvSpPr>
          <p:spPr>
            <a:xfrm flipV="1">
              <a:off x="4572000" y="2440800"/>
              <a:ext cx="0" cy="59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463"/>
            <p:cNvSpPr/>
            <p:nvPr/>
          </p:nvSpPr>
          <p:spPr>
            <a:xfrm>
              <a:off x="3505320" y="1226880"/>
              <a:ext cx="2286000" cy="1196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Воспитывать любов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6633"/>
                  </a:solidFill>
                  <a:latin typeface="Arial"/>
                </a:rPr>
                <a:t>и интерес к музы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9462"/>
            <p:cNvSpPr/>
            <p:nvPr/>
          </p:nvSpPr>
          <p:spPr>
            <a:xfrm>
              <a:off x="3581280" y="2822760"/>
              <a:ext cx="1828800" cy="15951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Музыкально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33"/>
                  </a:solidFill>
                  <a:latin typeface="Arial"/>
                </a:rPr>
                <a:t>воспит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узыкальное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оспита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Содержимое 8" descr="DSC00218.JPG"/>
          <p:cNvPicPr/>
          <p:nvPr/>
        </p:nvPicPr>
        <p:blipFill>
          <a:blip r:embed="rId1"/>
          <a:stretch/>
        </p:blipFill>
        <p:spPr>
          <a:xfrm rot="21066000">
            <a:off x="685800" y="1828440"/>
            <a:ext cx="342900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5" descr="DSC00249.JPG"/>
          <p:cNvPicPr/>
          <p:nvPr/>
        </p:nvPicPr>
        <p:blipFill>
          <a:blip r:embed="rId2"/>
          <a:stretch/>
        </p:blipFill>
        <p:spPr>
          <a:xfrm rot="838800">
            <a:off x="4495320" y="3504960"/>
            <a:ext cx="3660840" cy="2439720"/>
          </a:xfrm>
          <a:prstGeom prst="rect">
            <a:avLst/>
          </a:prstGeom>
          <a:ln w="0">
            <a:noFill/>
          </a:ln>
        </p:spPr>
      </p:pic>
      <p:pic>
        <p:nvPicPr>
          <p:cNvPr id="149" name="Содержимое 4" descr="Рисунок2.jpg"/>
          <p:cNvPicPr/>
          <p:nvPr/>
        </p:nvPicPr>
        <p:blipFill>
          <a:blip r:embed="rId3"/>
          <a:stretch/>
        </p:blipFill>
        <p:spPr>
          <a:xfrm rot="20430600">
            <a:off x="5638680" y="1142640"/>
            <a:ext cx="3048120" cy="2187720"/>
          </a:xfrm>
          <a:prstGeom prst="rect">
            <a:avLst/>
          </a:prstGeom>
          <a:ln w="9360">
            <a:solidFill>
              <a:srgbClr val="a34b73"/>
            </a:solidFill>
            <a:miter/>
          </a:ln>
        </p:spPr>
      </p:pic>
      <p:pic>
        <p:nvPicPr>
          <p:cNvPr id="150" name="Picture 9" descr="Image-89"/>
          <p:cNvPicPr/>
          <p:nvPr/>
        </p:nvPicPr>
        <p:blipFill>
          <a:blip r:embed="rId4"/>
          <a:stretch/>
        </p:blipFill>
        <p:spPr>
          <a:xfrm>
            <a:off x="1447920" y="4670280"/>
            <a:ext cx="1941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Содержание работы по художественно-эстетическому воспитанию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3520" y="1142640"/>
            <a:ext cx="8076960" cy="4702320"/>
            <a:chOff x="533520" y="1142640"/>
            <a:chExt cx="8076960" cy="4702320"/>
          </a:xfrm>
        </p:grpSpPr>
        <p:sp>
          <p:nvSpPr>
            <p:cNvPr id="153" name="_s29713"/>
            <p:cNvSpPr/>
            <p:nvPr/>
          </p:nvSpPr>
          <p:spPr>
            <a:xfrm flipH="1" flipV="1">
              <a:off x="2514240" y="2866680"/>
              <a:ext cx="1219320" cy="60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9712"/>
            <p:cNvSpPr/>
            <p:nvPr/>
          </p:nvSpPr>
          <p:spPr>
            <a:xfrm>
              <a:off x="533520" y="1816200"/>
              <a:ext cx="2133360" cy="13096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Поддерживать интере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и любовь к книг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9711"/>
            <p:cNvSpPr/>
            <p:nvPr/>
          </p:nvSpPr>
          <p:spPr>
            <a:xfrm flipH="1">
              <a:off x="2971800" y="4292640"/>
              <a:ext cx="838080" cy="52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9710"/>
            <p:cNvSpPr/>
            <p:nvPr/>
          </p:nvSpPr>
          <p:spPr>
            <a:xfrm>
              <a:off x="609480" y="4366800"/>
              <a:ext cx="2514600" cy="1474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Учить поним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красоту поэзи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её своеобраз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тличие от про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9708"/>
            <p:cNvSpPr/>
            <p:nvPr/>
          </p:nvSpPr>
          <p:spPr>
            <a:xfrm>
              <a:off x="5791320" y="4292640"/>
              <a:ext cx="609480" cy="3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9707"/>
            <p:cNvSpPr/>
            <p:nvPr/>
          </p:nvSpPr>
          <p:spPr>
            <a:xfrm>
              <a:off x="6324480" y="4292640"/>
              <a:ext cx="2133720" cy="15523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Развивать вообра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и мыш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9706"/>
            <p:cNvSpPr/>
            <p:nvPr/>
          </p:nvSpPr>
          <p:spPr>
            <a:xfrm flipV="1">
              <a:off x="5791320" y="2844360"/>
              <a:ext cx="914400" cy="64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9705"/>
            <p:cNvSpPr/>
            <p:nvPr/>
          </p:nvSpPr>
          <p:spPr>
            <a:xfrm>
              <a:off x="6629400" y="1713240"/>
              <a:ext cx="1981080" cy="15354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бращать вним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на средств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художеств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вырази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29704"/>
            <p:cNvSpPr/>
            <p:nvPr/>
          </p:nvSpPr>
          <p:spPr>
            <a:xfrm flipV="1">
              <a:off x="4800600" y="2602080"/>
              <a:ext cx="144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9703"/>
            <p:cNvSpPr/>
            <p:nvPr/>
          </p:nvSpPr>
          <p:spPr>
            <a:xfrm>
              <a:off x="3200400" y="1142640"/>
              <a:ext cx="3200400" cy="15184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Обогаща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эмоционально-чувственн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Восприятие через знаком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3b812f"/>
                  </a:solidFill>
                  <a:latin typeface="Arial"/>
                </a:rPr>
                <a:t>с художественной литера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9702"/>
            <p:cNvSpPr/>
            <p:nvPr/>
          </p:nvSpPr>
          <p:spPr>
            <a:xfrm>
              <a:off x="3581280" y="3166200"/>
              <a:ext cx="2438640" cy="1454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Развитие реч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и ознаком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с художественн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33"/>
                  </a:solidFill>
                  <a:latin typeface="Arial"/>
                </a:rPr>
                <a:t>литератур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азвитие речи и ознакомление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с художественной литературой</a:t>
            </a:r>
            <a:br>
              <a:rPr sz="36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0656200">
            <a:off x="838080" y="19807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1465800">
            <a:off x="5257440" y="2057040"/>
            <a:ext cx="3060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08:2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