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11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20F7643-22C4-4D90-9193-21A3920EDA60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зделия народных умель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еселая ярмар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ллюстрации детск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4424-A64F-4A65-9A18-41E1A217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E03-5B43-47D5-BE74-E5BB9247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6E0-57D2-42C4-BC19-9593B210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599-3EFA-4AFA-BB61-34D7D210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1D5D-557B-46D9-99CC-EC5EC949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D603-4CE3-4B85-B193-AEDF3287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52AE-EF19-4207-9856-3FAAF949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95E2-15E2-4A19-8860-09375BEA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6DFF-C1C3-48AC-89ED-617F1357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6426-B036-43A0-96D7-EFD60323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B397-69FA-44E3-89D6-FB6ABB05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524-2D38-4812-9EA0-E77B08AF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8339-65F6-49C1-9D0B-B13B6110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8B22-43E5-43AC-90A8-B991C012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2F63-5860-4361-983D-C5AAB337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D6B6-BC8A-4CE6-90E9-CC393966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89FA-FF8D-418D-A682-1EE30343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041-B07B-410C-965C-CA62C0F1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B7F-3059-4CC4-8F11-09746424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383D-9C4A-494A-B51B-9A5EBA58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A3C-8C89-4B28-99D9-95B1EC05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9313-807A-4E9F-ACE8-B4E86AA2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162-93EA-4A20-8AED-9E068E3F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7D21-7833-4BEB-828A-3B950EAB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DD1A-C240-46EC-B4FA-218760F7987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7AEE-ACE6-450E-B5FB-5BBE2317F98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Garamond"/>
              </a:rPr>
              <a:t>Государственное дошкольное образовательное учреждение </a:t>
            </a:r>
            <a:br>
              <a:rPr sz="1600"/>
            </a:br>
            <a:r>
              <a:rPr b="1" lang="en-US" sz="1600" spc="-1" strike="noStrike">
                <a:solidFill>
                  <a:srgbClr val="006633"/>
                </a:solidFill>
                <a:latin typeface="Garamond"/>
              </a:rPr>
              <a:t>детский сад комбинированного вида № 55</a:t>
            </a:r>
            <a:br>
              <a:rPr sz="1600"/>
            </a:br>
            <a:r>
              <a:rPr b="1" lang="en-US" sz="1600" spc="-1" strike="noStrike">
                <a:solidFill>
                  <a:srgbClr val="006633"/>
                </a:solidFill>
                <a:latin typeface="Garamond"/>
              </a:rPr>
              <a:t> Колпинского района Санкт-Петербурга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«Место изобразительного искусства в содержании работы по художественно-эстетическому воспитанию детей дошкольного возрас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Воспитатель высшей квалификационной категории</a:t>
            </a:r>
            <a:r>
              <a:rPr b="1" lang="ru-RU" sz="18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b812f"/>
                </a:solidFill>
                <a:latin typeface="Arial"/>
              </a:rPr>
              <a:t>Куликова Еле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                                           </a:t>
            </a:r>
            <a:r>
              <a:rPr b="1" lang="ru-RU" sz="1800" spc="-1" strike="noStrike">
                <a:solidFill>
                  <a:srgbClr val="3b812f"/>
                </a:solidFill>
                <a:latin typeface="Arial"/>
              </a:rPr>
              <a:t>СПб, март </a:t>
            </a: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b812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Содержание работы по художественно-эстетическому воспитанию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85800" y="1239120"/>
            <a:ext cx="7696080" cy="4533480"/>
            <a:chOff x="685800" y="1239120"/>
            <a:chExt cx="7696080" cy="4533480"/>
          </a:xfrm>
        </p:grpSpPr>
        <p:sp>
          <p:nvSpPr>
            <p:cNvPr id="170" name="_s32783"/>
            <p:cNvSpPr/>
            <p:nvPr/>
          </p:nvSpPr>
          <p:spPr>
            <a:xfrm flipH="1">
              <a:off x="3429000" y="3540600"/>
              <a:ext cx="3808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32782"/>
            <p:cNvSpPr/>
            <p:nvPr/>
          </p:nvSpPr>
          <p:spPr>
            <a:xfrm>
              <a:off x="685800" y="2717280"/>
              <a:ext cx="2800440" cy="13554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Развивать художествен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вкус через восприят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красоты изделий традиционных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народных промысл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32780"/>
            <p:cNvSpPr/>
            <p:nvPr/>
          </p:nvSpPr>
          <p:spPr>
            <a:xfrm>
              <a:off x="4572000" y="4072680"/>
              <a:ext cx="0" cy="56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32779"/>
            <p:cNvSpPr/>
            <p:nvPr/>
          </p:nvSpPr>
          <p:spPr>
            <a:xfrm>
              <a:off x="3048120" y="4639320"/>
              <a:ext cx="3047760" cy="1133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Показать глубокий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нравственный смысл сказок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их поэтичность, отраж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в них национального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характер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32778"/>
            <p:cNvSpPr/>
            <p:nvPr/>
          </p:nvSpPr>
          <p:spPr>
            <a:xfrm>
              <a:off x="5257800" y="3540600"/>
              <a:ext cx="457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32777"/>
            <p:cNvSpPr/>
            <p:nvPr/>
          </p:nvSpPr>
          <p:spPr>
            <a:xfrm>
              <a:off x="5657760" y="2717280"/>
              <a:ext cx="2724120" cy="13554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Раскрывать яркость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образность, меткость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выразительных малых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фольклорных жанр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32776"/>
            <p:cNvSpPr/>
            <p:nvPr/>
          </p:nvSpPr>
          <p:spPr>
            <a:xfrm flipV="1">
              <a:off x="4572000" y="2372040"/>
              <a:ext cx="0" cy="56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32775"/>
            <p:cNvSpPr/>
            <p:nvPr/>
          </p:nvSpPr>
          <p:spPr>
            <a:xfrm>
              <a:off x="3048120" y="1239120"/>
              <a:ext cx="2971800" cy="1133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Формировать чувство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причастности к истори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Родины, родному народу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32774"/>
            <p:cNvSpPr/>
            <p:nvPr/>
          </p:nvSpPr>
          <p:spPr>
            <a:xfrm>
              <a:off x="3809880" y="2939400"/>
              <a:ext cx="1447920" cy="1133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33"/>
                  </a:solidFill>
                  <a:latin typeface="Arial"/>
                </a:rPr>
                <a:t>Народн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6633"/>
                  </a:solidFill>
                  <a:latin typeface="Arial"/>
                </a:rPr>
                <a:t>культур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Народная культура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095880" y="1523880"/>
            <a:ext cx="2435400" cy="1827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505320" y="2286000"/>
            <a:ext cx="148572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65720" y="3505320"/>
            <a:ext cx="2070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Быт и трад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русского на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3581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Народные промыс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6324480" y="4267080"/>
            <a:ext cx="2362320" cy="1773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556680" y="10666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У самов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29720" y="1600200"/>
            <a:ext cx="24285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Изделия наро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умель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C:\Documents and Settings\user\Мои документы\Мои рисунки\арт\20090214122651.jpg"/>
          <p:cNvPicPr/>
          <p:nvPr/>
        </p:nvPicPr>
        <p:blipFill>
          <a:blip r:embed="rId6"/>
          <a:stretch/>
        </p:blipFill>
        <p:spPr>
          <a:xfrm>
            <a:off x="4343400" y="4038480"/>
            <a:ext cx="1403280" cy="183852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Содержание работы по художественно-эстетическому воспитанию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09480" y="1143000"/>
            <a:ext cx="8002080" cy="4543560"/>
            <a:chOff x="609480" y="1143000"/>
            <a:chExt cx="8002080" cy="4543560"/>
          </a:xfrm>
        </p:grpSpPr>
        <p:sp>
          <p:nvSpPr>
            <p:cNvPr id="193" name="_s35859"/>
            <p:cNvSpPr/>
            <p:nvPr/>
          </p:nvSpPr>
          <p:spPr>
            <a:xfrm flipH="1" flipV="1">
              <a:off x="3675600" y="2885760"/>
              <a:ext cx="149760" cy="7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35858"/>
            <p:cNvSpPr/>
            <p:nvPr/>
          </p:nvSpPr>
          <p:spPr>
            <a:xfrm>
              <a:off x="684360" y="2072160"/>
              <a:ext cx="2991240" cy="13219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Упражнять в выразительном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эмоциональном чтени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и рассказывани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35857"/>
            <p:cNvSpPr/>
            <p:nvPr/>
          </p:nvSpPr>
          <p:spPr>
            <a:xfrm flipH="1">
              <a:off x="3600720" y="3975120"/>
              <a:ext cx="224280" cy="14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35856"/>
            <p:cNvSpPr/>
            <p:nvPr/>
          </p:nvSpPr>
          <p:spPr>
            <a:xfrm>
              <a:off x="609480" y="3684600"/>
              <a:ext cx="3187800" cy="12474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6633"/>
                  </a:solidFill>
                  <a:latin typeface="Arial"/>
                </a:rPr>
                <a:t>Обучать работать с кукл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6633"/>
                  </a:solidFill>
                  <a:latin typeface="Arial"/>
                </a:rPr>
                <a:t>би-ба-бо на ширм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6633"/>
                  </a:solidFill>
                  <a:latin typeface="Arial"/>
                </a:rPr>
                <a:t>И куклами марионетк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35855"/>
            <p:cNvSpPr/>
            <p:nvPr/>
          </p:nvSpPr>
          <p:spPr>
            <a:xfrm>
              <a:off x="4647960" y="4273200"/>
              <a:ext cx="1080" cy="30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35854"/>
            <p:cNvSpPr/>
            <p:nvPr/>
          </p:nvSpPr>
          <p:spPr>
            <a:xfrm>
              <a:off x="3353400" y="4571640"/>
              <a:ext cx="2617200" cy="11149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Учить совместной работ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над спектакле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35852"/>
            <p:cNvSpPr/>
            <p:nvPr/>
          </p:nvSpPr>
          <p:spPr>
            <a:xfrm>
              <a:off x="5470560" y="3903120"/>
              <a:ext cx="224280" cy="14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5851"/>
            <p:cNvSpPr/>
            <p:nvPr/>
          </p:nvSpPr>
          <p:spPr>
            <a:xfrm>
              <a:off x="5498640" y="3745080"/>
              <a:ext cx="2963160" cy="1232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Учить передавать характер геро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и его переживания мимикой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голосом, движение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5850"/>
            <p:cNvSpPr/>
            <p:nvPr/>
          </p:nvSpPr>
          <p:spPr>
            <a:xfrm flipV="1">
              <a:off x="5396040" y="2885400"/>
              <a:ext cx="224280" cy="14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35849"/>
            <p:cNvSpPr/>
            <p:nvPr/>
          </p:nvSpPr>
          <p:spPr>
            <a:xfrm>
              <a:off x="5620320" y="2073960"/>
              <a:ext cx="2991240" cy="13384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Развивать желание участвова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в драматизации сказо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и литературных произведени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35848"/>
            <p:cNvSpPr/>
            <p:nvPr/>
          </p:nvSpPr>
          <p:spPr>
            <a:xfrm flipV="1">
              <a:off x="4647960" y="2352600"/>
              <a:ext cx="1080" cy="27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35847"/>
            <p:cNvSpPr/>
            <p:nvPr/>
          </p:nvSpPr>
          <p:spPr>
            <a:xfrm>
              <a:off x="3226680" y="1143000"/>
              <a:ext cx="2767320" cy="12096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Познакомить с искусством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театра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с театральным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профессия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35846"/>
            <p:cNvSpPr/>
            <p:nvPr/>
          </p:nvSpPr>
          <p:spPr>
            <a:xfrm>
              <a:off x="3675600" y="2708280"/>
              <a:ext cx="1869840" cy="15649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33"/>
                  </a:solidFill>
                  <a:latin typeface="Arial"/>
                </a:rPr>
                <a:t>Театрализованна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33"/>
                  </a:solidFill>
                  <a:latin typeface="Arial"/>
                </a:rPr>
                <a:t>деятельнос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Театрализованная деятельность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таричок-лесовичо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 rot="20698200">
            <a:off x="793800" y="1389240"/>
            <a:ext cx="1828800" cy="2438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20676000">
            <a:off x="385560" y="403812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b812f"/>
                </a:solidFill>
                <a:latin typeface="Arial"/>
              </a:rPr>
              <a:t>«Старичок-лесович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391400">
            <a:off x="5715000" y="3580920"/>
            <a:ext cx="30916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Русская народная сказ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«Волк и лис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31520" y="327672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«Веселая ярмар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user\Мои документы\Мои рисунки\арт\0_12890_cddec2c5_XL.jpg"/>
          <p:cNvPicPr/>
          <p:nvPr/>
        </p:nvPicPr>
        <p:blipFill>
          <a:blip r:embed="rId2"/>
          <a:stretch/>
        </p:blipFill>
        <p:spPr>
          <a:xfrm>
            <a:off x="3657600" y="1447920"/>
            <a:ext cx="1752480" cy="1271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 rot="1512000">
            <a:off x="6095520" y="1371600"/>
            <a:ext cx="2428920" cy="1992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3581280" y="3733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Содержание работы по художественно-эстетическому воспитанию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14400" y="1539360"/>
            <a:ext cx="7484040" cy="3920040"/>
            <a:chOff x="914400" y="1539360"/>
            <a:chExt cx="7484040" cy="3920040"/>
          </a:xfrm>
        </p:grpSpPr>
        <p:sp>
          <p:nvSpPr>
            <p:cNvPr id="217" name="_s38924"/>
            <p:cNvSpPr/>
            <p:nvPr/>
          </p:nvSpPr>
          <p:spPr>
            <a:xfrm flipH="1">
              <a:off x="3361320" y="4097160"/>
              <a:ext cx="442080" cy="27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38923"/>
            <p:cNvSpPr/>
            <p:nvPr/>
          </p:nvSpPr>
          <p:spPr>
            <a:xfrm>
              <a:off x="914400" y="3870000"/>
              <a:ext cx="2518560" cy="15894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Воспитывать любов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к родному городу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и его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достопримечательностя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38922"/>
            <p:cNvSpPr/>
            <p:nvPr/>
          </p:nvSpPr>
          <p:spPr>
            <a:xfrm>
              <a:off x="5448240" y="4097160"/>
              <a:ext cx="587520" cy="34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38921"/>
            <p:cNvSpPr/>
            <p:nvPr/>
          </p:nvSpPr>
          <p:spPr>
            <a:xfrm>
              <a:off x="6023880" y="3945600"/>
              <a:ext cx="2374560" cy="15138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Закреплять навык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общественного поведен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38920"/>
            <p:cNvSpPr/>
            <p:nvPr/>
          </p:nvSpPr>
          <p:spPr>
            <a:xfrm flipV="1">
              <a:off x="4800600" y="2617920"/>
              <a:ext cx="0" cy="53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38919"/>
            <p:cNvSpPr/>
            <p:nvPr/>
          </p:nvSpPr>
          <p:spPr>
            <a:xfrm>
              <a:off x="3001320" y="1539360"/>
              <a:ext cx="3454200" cy="1078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Воспитывать сознательно-правильно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отношение к природ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38918"/>
            <p:cNvSpPr/>
            <p:nvPr/>
          </p:nvSpPr>
          <p:spPr>
            <a:xfrm>
              <a:off x="3792960" y="3063960"/>
              <a:ext cx="1798920" cy="15879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33"/>
                  </a:solidFill>
                  <a:latin typeface="Arial"/>
                </a:rPr>
                <a:t>Природа и гор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рирода и город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2819160" cy="1878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410080" y="7621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819520" y="24382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5715000" y="40384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304920" y="388620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Вывод: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4114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Таким образом, изобразительное искусство имеет огромное значение в содержании всей работы по художественно-эстетическому воспитанию, что связано с особенностью самой изобразительной деятельности, а также создания у ребёнка целостной картины мира, где все находится в нерасторжимом единстве, необходимостью наиболее полно задействовать оба полушария головного мозга, обеспечивающее полноценное развитие личности ребё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3394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Основные задачи художественно-эстетического развития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Формирование духовного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ребёнка путем приобщ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к различным видам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Пробуждение эмоционально-творческого начала воспитан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Воспитание эстетического отношения к окружающему через ознакомление с предметным миром, природой в процессе трудовой деятельности и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Воспитание эстетического отношения к окружающему средствами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2819520" cy="205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29163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Методы, способствующие формированию у детей эстетических чувств, отношений, суждений, оценок, практических действий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0384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b812f"/>
                </a:solidFill>
                <a:latin typeface="Arial"/>
              </a:rPr>
              <a:t>Метод убежд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b812f"/>
                </a:solidFill>
                <a:latin typeface="Arial"/>
              </a:rPr>
              <a:t>Метод побуждения к сопереживан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b812f"/>
                </a:solidFill>
                <a:latin typeface="Arial"/>
              </a:rPr>
              <a:t>Метод приучения, упражнений в практических действи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b812f"/>
                </a:solidFill>
                <a:latin typeface="Arial"/>
              </a:rPr>
              <a:t>Метод проблемных ситу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2916000" cy="2189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29019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Содержание работы по художественно-эстетическому воспитанию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29920" y="1282680"/>
            <a:ext cx="8074440" cy="4592520"/>
            <a:chOff x="529920" y="1282680"/>
            <a:chExt cx="8074440" cy="4592520"/>
          </a:xfrm>
        </p:grpSpPr>
        <p:sp>
          <p:nvSpPr>
            <p:cNvPr id="105" name="_s13358"/>
            <p:cNvSpPr/>
            <p:nvPr/>
          </p:nvSpPr>
          <p:spPr>
            <a:xfrm flipH="1" flipV="1">
              <a:off x="2746800" y="2307240"/>
              <a:ext cx="1215360" cy="89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3357"/>
            <p:cNvSpPr/>
            <p:nvPr/>
          </p:nvSpPr>
          <p:spPr>
            <a:xfrm>
              <a:off x="888120" y="1282680"/>
              <a:ext cx="2622240" cy="12798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Учить использова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средства художественн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выразительности на занятиях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по изобразительному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искусству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3356"/>
            <p:cNvSpPr/>
            <p:nvPr/>
          </p:nvSpPr>
          <p:spPr>
            <a:xfrm flipH="1" flipV="1">
              <a:off x="2676240" y="3331080"/>
              <a:ext cx="994680" cy="19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3355"/>
            <p:cNvSpPr/>
            <p:nvPr/>
          </p:nvSpPr>
          <p:spPr>
            <a:xfrm>
              <a:off x="529920" y="2755800"/>
              <a:ext cx="2492280" cy="10234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Учить использова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различ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Художествен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средств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3354"/>
            <p:cNvSpPr/>
            <p:nvPr/>
          </p:nvSpPr>
          <p:spPr>
            <a:xfrm flipH="1">
              <a:off x="2604240" y="3883320"/>
              <a:ext cx="1175760" cy="53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3353"/>
            <p:cNvSpPr/>
            <p:nvPr/>
          </p:nvSpPr>
          <p:spPr>
            <a:xfrm>
              <a:off x="529920" y="3970800"/>
              <a:ext cx="2228400" cy="12801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Воспитыва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жела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Заниматьс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изобразительной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деятельностью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3352"/>
            <p:cNvSpPr/>
            <p:nvPr/>
          </p:nvSpPr>
          <p:spPr>
            <a:xfrm flipH="1">
              <a:off x="3810960" y="4116960"/>
              <a:ext cx="448200" cy="72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3351"/>
            <p:cNvSpPr/>
            <p:nvPr/>
          </p:nvSpPr>
          <p:spPr>
            <a:xfrm>
              <a:off x="2576880" y="4807800"/>
              <a:ext cx="1840680" cy="10674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Развива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фантазию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творческо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воображ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350"/>
            <p:cNvSpPr/>
            <p:nvPr/>
          </p:nvSpPr>
          <p:spPr>
            <a:xfrm>
              <a:off x="4887360" y="4116960"/>
              <a:ext cx="45432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349"/>
            <p:cNvSpPr/>
            <p:nvPr/>
          </p:nvSpPr>
          <p:spPr>
            <a:xfrm>
              <a:off x="4738680" y="4806360"/>
              <a:ext cx="1840680" cy="10674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Развиват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мыслительную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деятельнос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348"/>
            <p:cNvSpPr/>
            <p:nvPr/>
          </p:nvSpPr>
          <p:spPr>
            <a:xfrm>
              <a:off x="5366520" y="3883320"/>
              <a:ext cx="815400" cy="27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347"/>
            <p:cNvSpPr/>
            <p:nvPr/>
          </p:nvSpPr>
          <p:spPr>
            <a:xfrm>
              <a:off x="6039720" y="3970800"/>
              <a:ext cx="2431080" cy="1088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Формироват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уме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высказыват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свое отноше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к изображенному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3346"/>
            <p:cNvSpPr/>
            <p:nvPr/>
          </p:nvSpPr>
          <p:spPr>
            <a:xfrm flipV="1">
              <a:off x="5475960" y="3390480"/>
              <a:ext cx="1303560" cy="1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3345"/>
            <p:cNvSpPr/>
            <p:nvPr/>
          </p:nvSpPr>
          <p:spPr>
            <a:xfrm>
              <a:off x="6764400" y="2764800"/>
              <a:ext cx="1839960" cy="10674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Учить понима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язык изобразительно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искус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3344"/>
            <p:cNvSpPr/>
            <p:nvPr/>
          </p:nvSpPr>
          <p:spPr>
            <a:xfrm flipV="1">
              <a:off x="5160240" y="2436120"/>
              <a:ext cx="1236960" cy="77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3343"/>
            <p:cNvSpPr/>
            <p:nvPr/>
          </p:nvSpPr>
          <p:spPr>
            <a:xfrm>
              <a:off x="5896800" y="1282680"/>
              <a:ext cx="2574360" cy="12182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Познакоми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с разны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вида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изобразительно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искус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3342"/>
            <p:cNvSpPr/>
            <p:nvPr/>
          </p:nvSpPr>
          <p:spPr>
            <a:xfrm flipV="1">
              <a:off x="4536000" y="2627640"/>
              <a:ext cx="72000" cy="45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3341"/>
            <p:cNvSpPr/>
            <p:nvPr/>
          </p:nvSpPr>
          <p:spPr>
            <a:xfrm>
              <a:off x="3677760" y="1410840"/>
              <a:ext cx="2028240" cy="12164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Развива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эмоциональн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отзывчивос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на произвед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Изобразительн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искус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3340"/>
            <p:cNvSpPr/>
            <p:nvPr/>
          </p:nvSpPr>
          <p:spPr>
            <a:xfrm>
              <a:off x="3652920" y="3086640"/>
              <a:ext cx="1840680" cy="10674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33"/>
                  </a:solidFill>
                  <a:latin typeface="Arial"/>
                </a:rPr>
                <a:t>Изобразительно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33"/>
                  </a:solidFill>
                  <a:latin typeface="Arial"/>
                </a:rPr>
                <a:t>искус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Изобразительное искусство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553080" y="3505320"/>
            <a:ext cx="1886040" cy="2514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80880" y="2895480"/>
            <a:ext cx="221004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Иллюстрации детской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b812f"/>
                </a:solidFill>
                <a:latin typeface="Arial"/>
              </a:rPr>
              <a:t>Народная игрушка «Дым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Documents and Settings\user\Мои документы\Мои рисунки\МО\seward-mother-and-child.jpg"/>
          <p:cNvPicPr/>
          <p:nvPr/>
        </p:nvPicPr>
        <p:blipFill>
          <a:blip r:embed="rId2"/>
          <a:stretch/>
        </p:blipFill>
        <p:spPr>
          <a:xfrm>
            <a:off x="3276720" y="1600200"/>
            <a:ext cx="1528560" cy="1752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71800" y="121932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Художники де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5" descr="C:\Documents and Settings\user\Мои документы\Мои рисунки\МО\955a7f2a0f50.jpg"/>
          <p:cNvPicPr/>
          <p:nvPr/>
        </p:nvPicPr>
        <p:blipFill>
          <a:blip r:embed="rId3"/>
          <a:stretch/>
        </p:blipFill>
        <p:spPr>
          <a:xfrm>
            <a:off x="457200" y="1219320"/>
            <a:ext cx="1641600" cy="1641240"/>
          </a:xfrm>
          <a:prstGeom prst="rect">
            <a:avLst/>
          </a:prstGeom>
          <a:ln w="9360">
            <a:solidFill>
              <a:srgbClr val="a379bb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791320" y="990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Содержание работы по художественно-эстетическому воспитанию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38080" y="1226880"/>
            <a:ext cx="7543800" cy="4471560"/>
            <a:chOff x="838080" y="1226880"/>
            <a:chExt cx="7543800" cy="4471560"/>
          </a:xfrm>
        </p:grpSpPr>
        <p:sp>
          <p:nvSpPr>
            <p:cNvPr id="135" name="_s19473"/>
            <p:cNvSpPr/>
            <p:nvPr/>
          </p:nvSpPr>
          <p:spPr>
            <a:xfrm flipH="1" flipV="1">
              <a:off x="3047760" y="3074400"/>
              <a:ext cx="533160" cy="16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9472"/>
            <p:cNvSpPr/>
            <p:nvPr/>
          </p:nvSpPr>
          <p:spPr>
            <a:xfrm>
              <a:off x="838080" y="2514600"/>
              <a:ext cx="2286000" cy="1196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Развивать творческ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отношение к музык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9471"/>
            <p:cNvSpPr/>
            <p:nvPr/>
          </p:nvSpPr>
          <p:spPr>
            <a:xfrm flipH="1">
              <a:off x="3935520" y="4120560"/>
              <a:ext cx="317520" cy="48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9470"/>
            <p:cNvSpPr/>
            <p:nvPr/>
          </p:nvSpPr>
          <p:spPr>
            <a:xfrm>
              <a:off x="1600200" y="4502160"/>
              <a:ext cx="2633760" cy="1196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Развивать общую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музыкальность дет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9468"/>
            <p:cNvSpPr/>
            <p:nvPr/>
          </p:nvSpPr>
          <p:spPr>
            <a:xfrm>
              <a:off x="4890960" y="4120560"/>
              <a:ext cx="319320" cy="48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9467"/>
            <p:cNvSpPr/>
            <p:nvPr/>
          </p:nvSpPr>
          <p:spPr>
            <a:xfrm>
              <a:off x="4986360" y="4489560"/>
              <a:ext cx="2481120" cy="1196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Приобщать к различны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видам музыкально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деятель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9466"/>
            <p:cNvSpPr/>
            <p:nvPr/>
          </p:nvSpPr>
          <p:spPr>
            <a:xfrm flipV="1">
              <a:off x="5087880" y="3158280"/>
              <a:ext cx="855720" cy="2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9465"/>
            <p:cNvSpPr/>
            <p:nvPr/>
          </p:nvSpPr>
          <p:spPr>
            <a:xfrm>
              <a:off x="5943600" y="2482920"/>
              <a:ext cx="2438280" cy="1196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Знакомить с различны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Музыкальны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инструмент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9464"/>
            <p:cNvSpPr/>
            <p:nvPr/>
          </p:nvSpPr>
          <p:spPr>
            <a:xfrm flipV="1">
              <a:off x="4572000" y="2440800"/>
              <a:ext cx="0" cy="59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9463"/>
            <p:cNvSpPr/>
            <p:nvPr/>
          </p:nvSpPr>
          <p:spPr>
            <a:xfrm>
              <a:off x="3505320" y="1226880"/>
              <a:ext cx="2286000" cy="1196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Воспитывать любов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и интерес к музык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9462"/>
            <p:cNvSpPr/>
            <p:nvPr/>
          </p:nvSpPr>
          <p:spPr>
            <a:xfrm>
              <a:off x="3581280" y="2822760"/>
              <a:ext cx="1828800" cy="15951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33"/>
                  </a:solidFill>
                  <a:latin typeface="Arial"/>
                </a:rPr>
                <a:t>Музыкально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33"/>
                  </a:solidFill>
                  <a:latin typeface="Arial"/>
                </a:rPr>
                <a:t>воспита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Музыкальное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воспитани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Содержимое 8" descr="DSC00218.JPG"/>
          <p:cNvPicPr/>
          <p:nvPr/>
        </p:nvPicPr>
        <p:blipFill>
          <a:blip r:embed="rId1"/>
          <a:stretch/>
        </p:blipFill>
        <p:spPr>
          <a:xfrm rot="21066000">
            <a:off x="685800" y="1828440"/>
            <a:ext cx="3429000" cy="279396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5" descr="DSC00249.JPG"/>
          <p:cNvPicPr/>
          <p:nvPr/>
        </p:nvPicPr>
        <p:blipFill>
          <a:blip r:embed="rId2"/>
          <a:stretch/>
        </p:blipFill>
        <p:spPr>
          <a:xfrm rot="838800">
            <a:off x="4495320" y="3504960"/>
            <a:ext cx="3660840" cy="2439720"/>
          </a:xfrm>
          <a:prstGeom prst="rect">
            <a:avLst/>
          </a:prstGeom>
          <a:ln w="0">
            <a:noFill/>
          </a:ln>
        </p:spPr>
      </p:pic>
      <p:pic>
        <p:nvPicPr>
          <p:cNvPr id="149" name="Содержимое 4" descr="Рисунок2.jpg"/>
          <p:cNvPicPr/>
          <p:nvPr/>
        </p:nvPicPr>
        <p:blipFill>
          <a:blip r:embed="rId3"/>
          <a:stretch/>
        </p:blipFill>
        <p:spPr>
          <a:xfrm rot="20430600">
            <a:off x="5638680" y="1142640"/>
            <a:ext cx="3048120" cy="2187720"/>
          </a:xfrm>
          <a:prstGeom prst="rect">
            <a:avLst/>
          </a:prstGeom>
          <a:ln w="9360">
            <a:solidFill>
              <a:srgbClr val="a34b73"/>
            </a:solidFill>
            <a:miter/>
          </a:ln>
        </p:spPr>
      </p:pic>
      <p:pic>
        <p:nvPicPr>
          <p:cNvPr id="150" name="Picture 9" descr="Image-89"/>
          <p:cNvPicPr/>
          <p:nvPr/>
        </p:nvPicPr>
        <p:blipFill>
          <a:blip r:embed="rId4"/>
          <a:stretch/>
        </p:blipFill>
        <p:spPr>
          <a:xfrm>
            <a:off x="1447920" y="4670280"/>
            <a:ext cx="1941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Содержание работы по художественно-эстетическому воспитанию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33520" y="1142640"/>
            <a:ext cx="8076960" cy="4702320"/>
            <a:chOff x="533520" y="1142640"/>
            <a:chExt cx="8076960" cy="4702320"/>
          </a:xfrm>
        </p:grpSpPr>
        <p:sp>
          <p:nvSpPr>
            <p:cNvPr id="153" name="_s29713"/>
            <p:cNvSpPr/>
            <p:nvPr/>
          </p:nvSpPr>
          <p:spPr>
            <a:xfrm flipH="1" flipV="1">
              <a:off x="2514240" y="2866680"/>
              <a:ext cx="1219320" cy="60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29712"/>
            <p:cNvSpPr/>
            <p:nvPr/>
          </p:nvSpPr>
          <p:spPr>
            <a:xfrm>
              <a:off x="533520" y="1816200"/>
              <a:ext cx="2133360" cy="13096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Поддерживать интере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и любовь к книг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29711"/>
            <p:cNvSpPr/>
            <p:nvPr/>
          </p:nvSpPr>
          <p:spPr>
            <a:xfrm flipH="1">
              <a:off x="2971800" y="4292640"/>
              <a:ext cx="838080" cy="52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29710"/>
            <p:cNvSpPr/>
            <p:nvPr/>
          </p:nvSpPr>
          <p:spPr>
            <a:xfrm>
              <a:off x="609480" y="4366800"/>
              <a:ext cx="2514600" cy="14749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Учить понима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красоту поэзии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её своеобрази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отличие от проз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29708"/>
            <p:cNvSpPr/>
            <p:nvPr/>
          </p:nvSpPr>
          <p:spPr>
            <a:xfrm>
              <a:off x="5791320" y="4292640"/>
              <a:ext cx="609480" cy="37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29707"/>
            <p:cNvSpPr/>
            <p:nvPr/>
          </p:nvSpPr>
          <p:spPr>
            <a:xfrm>
              <a:off x="6324480" y="4292640"/>
              <a:ext cx="2133720" cy="15523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Развивать воображ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и мышл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29706"/>
            <p:cNvSpPr/>
            <p:nvPr/>
          </p:nvSpPr>
          <p:spPr>
            <a:xfrm flipV="1">
              <a:off x="5791320" y="2844360"/>
              <a:ext cx="914400" cy="64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29705"/>
            <p:cNvSpPr/>
            <p:nvPr/>
          </p:nvSpPr>
          <p:spPr>
            <a:xfrm>
              <a:off x="6629400" y="1713240"/>
              <a:ext cx="1981080" cy="15354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Обращать вним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на средств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художествен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выразитель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29704"/>
            <p:cNvSpPr/>
            <p:nvPr/>
          </p:nvSpPr>
          <p:spPr>
            <a:xfrm flipV="1">
              <a:off x="4800600" y="2602080"/>
              <a:ext cx="144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29703"/>
            <p:cNvSpPr/>
            <p:nvPr/>
          </p:nvSpPr>
          <p:spPr>
            <a:xfrm>
              <a:off x="3200400" y="1142640"/>
              <a:ext cx="3200400" cy="15184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Обогаща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эмоционально-чувственно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Восприятие через знаком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с художественной литератур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29702"/>
            <p:cNvSpPr/>
            <p:nvPr/>
          </p:nvSpPr>
          <p:spPr>
            <a:xfrm>
              <a:off x="3581280" y="3166200"/>
              <a:ext cx="2438640" cy="1454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33"/>
                  </a:solidFill>
                  <a:latin typeface="Arial"/>
                </a:rPr>
                <a:t>Развитие реч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6633"/>
                  </a:solidFill>
                  <a:latin typeface="Arial"/>
                </a:rPr>
                <a:t>и ознакомл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33"/>
                  </a:solidFill>
                  <a:latin typeface="Arial"/>
                </a:rPr>
                <a:t>с художественн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33"/>
                  </a:solidFill>
                  <a:latin typeface="Arial"/>
                </a:rPr>
                <a:t>литератур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Развитие речи и ознакомление 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с художественной литературой</a:t>
            </a:r>
            <a:br>
              <a:rPr sz="36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 rot="20656200">
            <a:off x="838080" y="19807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971800" y="35812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 rot="1465800">
            <a:off x="5257440" y="2057040"/>
            <a:ext cx="30607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сения</cp:lastModifiedBy>
  <dcterms:modified xsi:type="dcterms:W3CDTF">2011-12-14T08:08:2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