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4467-6DD9-483C-8AD9-DC4EBB28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047-CB3D-440D-9714-0654D894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6F1-AA3D-4E1E-A8C0-92D1E059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BBA-0E43-4276-9288-847756A6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3172-CE24-4769-B236-DCF76327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CF38-E89A-426E-BFBE-B28314B4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DEA4-FDC3-4474-BC26-BF01DF9A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52F2-AC37-455F-90D7-49D6863B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CB05-C1B6-4F21-97A5-DEA05D02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9199-73D9-429B-8CC3-7520C554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4969-6CD1-4E62-B91B-7AAEF85B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4A8-C385-4E35-80F5-22092B60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1CE9-F8B1-46C4-B6C7-E75AC6F9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388B-4C24-4BEB-89FB-5510FD32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F3FF-145F-4494-99D5-845E0348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FCE1-2BF8-46A6-9B37-53BD1B8D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66E9-BB1E-47BA-87CF-A11F2C6D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ED0-91DC-455F-9D56-75497906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3A0-AAE5-45A1-ADA1-E8A9C89F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F8F-9C7D-4041-9725-873AE8E5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429-7382-41E2-B4E2-875E1EC3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083-6E1C-4E2B-9FD8-D64B798F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85E-36CC-4DC4-8A06-418518EC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442-807E-4E6D-8F20-C04F8C4F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FD7C-875E-45E8-BF40-F5CCD6E84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F3D4-8176-4067-A291-34D891D41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Мониторинг успеваемости</a:t>
            </a:r>
            <a:br>
              <a:rPr sz="4100"/>
            </a:b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ащихся 1 -4 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У СОШ №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.Прикумско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Белимова С.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007 – 2011 г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русский язык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(итоги четвертных оценок)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309680" y="2058840"/>
          <a:ext cx="6805800" cy="38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2058840"/>
                    <a:ext cx="680580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083200" y="2128680"/>
          <a:ext cx="2755800" cy="19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83200" y="2128680"/>
                    <a:ext cx="27558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186520" y="4038480"/>
          <a:ext cx="4044960" cy="200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6520" y="4038480"/>
                    <a:ext cx="404496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русский язык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(итоговые контрольные работы)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81280" y="1917720"/>
          <a:ext cx="5694120" cy="39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1917720"/>
                    <a:ext cx="5694120" cy="39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 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Темп чт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76480" y="1954080"/>
          <a:ext cx="6686280" cy="39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6480" y="1954080"/>
                    <a:ext cx="6686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Математика</a:t>
            </a:r>
            <a:br>
              <a:rPr sz="4100"/>
            </a:b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(итоговые контр. работы)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835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47640" y="1413000"/>
          <a:ext cx="60962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413000"/>
                    <a:ext cx="60962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    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Математика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(итоги четвертных оценок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62200" y="1925640"/>
          <a:ext cx="5695920" cy="39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1925640"/>
                    <a:ext cx="569592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итоги успеваемост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62200" y="1925640"/>
          <a:ext cx="5695920" cy="39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1925640"/>
                    <a:ext cx="569592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Мониторинг успеваемост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2120" y="1905120"/>
            <a:ext cx="7695720" cy="4037400"/>
            <a:chOff x="762120" y="1905120"/>
            <a:chExt cx="7695720" cy="4037400"/>
          </a:xfrm>
        </p:grpSpPr>
        <p:cxnSp>
          <p:nvCxnSpPr>
            <p:cNvPr id="115" name="_s193548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552280" y="2576160"/>
              <a:ext cx="808200" cy="2694240"/>
            </a:xfrm>
            <a:prstGeom prst="bentConnector3">
              <a:avLst>
                <a:gd name="adj1" fmla="val 209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93547"/>
            <p:cNvCxnSpPr>
              <a:stCxn id="119" idx="0"/>
              <a:endCxn id="117" idx="2"/>
            </p:cNvCxnSpPr>
            <p:nvPr/>
          </p:nvCxnSpPr>
          <p:spPr>
            <a:xfrm flipV="1">
              <a:off x="4609800" y="3519360"/>
              <a:ext cx="2880" cy="80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93546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2859120" y="2576520"/>
              <a:ext cx="808200" cy="2694240"/>
            </a:xfrm>
            <a:prstGeom prst="bentConnector3">
              <a:avLst>
                <a:gd name="adj1" fmla="val 209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93542"/>
            <p:cNvSpPr/>
            <p:nvPr/>
          </p:nvSpPr>
          <p:spPr>
            <a:xfrm>
              <a:off x="3455640" y="1905120"/>
              <a:ext cx="230868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Всего в класс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1кл.   2кл.    3кл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18 чел.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18 чел.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20 чел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93543"/>
            <p:cNvSpPr/>
            <p:nvPr/>
          </p:nvSpPr>
          <p:spPr>
            <a:xfrm>
              <a:off x="762120" y="4327560"/>
              <a:ext cx="230868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Отличник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0% 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 0%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/ 0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93544"/>
            <p:cNvSpPr/>
            <p:nvPr/>
          </p:nvSpPr>
          <p:spPr>
            <a:xfrm>
              <a:off x="3455640" y="4327560"/>
              <a:ext cx="230868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Хорошист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55% 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5%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55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93545"/>
            <p:cNvSpPr/>
            <p:nvPr/>
          </p:nvSpPr>
          <p:spPr>
            <a:xfrm>
              <a:off x="6149160" y="4327560"/>
              <a:ext cx="230868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С тройкам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45% 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45%</a:t>
              </a: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45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7:36:44Z</dcterms:created>
  <dc:creator>User</dc:creator>
  <dc:description/>
  <dc:language>en-US</dc:language>
  <cp:lastModifiedBy>Admin</cp:lastModifiedBy>
  <dcterms:modified xsi:type="dcterms:W3CDTF">2011-09-08T17:50:38Z</dcterms:modified>
  <cp:revision>21</cp:revision>
  <dc:subject/>
  <dc:title>Мониторинг успеваемости </dc:title>
</cp:coreProperties>
</file>