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889-6B9B-4387-9984-5AEA567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C29-1713-4AAD-89AB-96AD890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A73-6622-49C0-A992-6CC492C8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B15-1A29-48A1-9FA9-F35B7761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2BA-713E-447A-99B2-CC25D02A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A07-C920-4597-8BAA-1B3FF892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3FD3-9D22-4697-B7EE-366B434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84E6-2FE0-4AAA-968B-6B3BF78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E56-2D31-463C-A8AC-A519EAB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808-2430-493E-8065-922E9BA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8A7F-21BB-4CAA-ABA3-463A19A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570-966B-499B-9B4D-2C9ABFD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6F9-05CC-4CDF-B1F1-58C38A90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810-6B49-4519-BEC6-0A6314F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3C9D-0466-40C6-914B-1392201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E312-C754-400E-ABF0-4117BA1E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C246-5342-4930-8BE0-511D9EFD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896-0089-4E33-9ABF-5977E21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59E-E47A-407F-A88E-1A5EAA55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67B-7C41-455E-945B-9CED6EE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47A-4FB3-4411-ACA2-3A712AC6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0FB-241D-46DC-BEF3-03366C4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7AB-30CD-474A-AD60-8AC9903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D75-E50D-470E-AE24-7BA02C4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681-D05F-4A5C-B48A-435E4697A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643C-D0F9-4C2C-8BEA-CC6797050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Мониторинг успеваемости</a:t>
            </a:r>
            <a:br>
              <a:rPr sz="4100"/>
            </a:b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щихся 1 -4 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.Прикумск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Белимова С.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007 – 2011 г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русский язык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итоги четвертных оценок)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09680" y="2058840"/>
          <a:ext cx="68058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2058840"/>
                    <a:ext cx="68058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083200" y="2128680"/>
          <a:ext cx="275580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3200" y="2128680"/>
                    <a:ext cx="2755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4038480"/>
          <a:ext cx="4044960" cy="200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6520" y="4038480"/>
                    <a:ext cx="404496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русский язык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(итоговые контрольные работы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81280" y="1917720"/>
          <a:ext cx="5694120" cy="39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917720"/>
                    <a:ext cx="569412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Темп чт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76480" y="1954080"/>
          <a:ext cx="6686280" cy="39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1954080"/>
                    <a:ext cx="6686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Математика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(итоговые контр. работы)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35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тематика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(итоги четвертных оценок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62200" y="1925640"/>
          <a:ext cx="569592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925640"/>
                    <a:ext cx="56959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тоги успеваем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62200" y="1925640"/>
          <a:ext cx="569592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925640"/>
                    <a:ext cx="56959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ониторинг успеваем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1905120"/>
            <a:ext cx="7695720" cy="4037400"/>
            <a:chOff x="762120" y="1905120"/>
            <a:chExt cx="7695720" cy="4037400"/>
          </a:xfrm>
        </p:grpSpPr>
        <p:cxnSp>
          <p:nvCxnSpPr>
            <p:cNvPr id="115" name="_s19354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52280" y="2576160"/>
              <a:ext cx="808200" cy="269424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93547"/>
            <p:cNvCxnSpPr>
              <a:stCxn id="119" idx="0"/>
              <a:endCxn id="117" idx="2"/>
            </p:cNvCxnSpPr>
            <p:nvPr/>
          </p:nvCxnSpPr>
          <p:spPr>
            <a:xfrm flipV="1">
              <a:off x="4609800" y="3519360"/>
              <a:ext cx="288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9354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859120" y="2576520"/>
              <a:ext cx="808200" cy="269424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93542"/>
            <p:cNvSpPr/>
            <p:nvPr/>
          </p:nvSpPr>
          <p:spPr>
            <a:xfrm>
              <a:off x="3455640" y="190512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Всего в класс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кл.   2кл.    3кл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8 чел.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8 чел.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20 чел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93543"/>
            <p:cNvSpPr/>
            <p:nvPr/>
          </p:nvSpPr>
          <p:spPr>
            <a:xfrm>
              <a:off x="76212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Отличник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0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0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 0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93544"/>
            <p:cNvSpPr/>
            <p:nvPr/>
          </p:nvSpPr>
          <p:spPr>
            <a:xfrm>
              <a:off x="345564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Хорошис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5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5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93545"/>
            <p:cNvSpPr/>
            <p:nvPr/>
          </p:nvSpPr>
          <p:spPr>
            <a:xfrm>
              <a:off x="614916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С тройкам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36:44Z</dcterms:created>
  <dc:creator>User</dc:creator>
  <dc:description/>
  <dc:language>en-US</dc:language>
  <cp:lastModifiedBy>Admin</cp:lastModifiedBy>
  <dcterms:modified xsi:type="dcterms:W3CDTF">2011-09-08T17:50:38Z</dcterms:modified>
  <cp:revision>21</cp:revision>
  <dc:subject/>
  <dc:title>Мониторинг успеваемости </dc:title>
</cp:coreProperties>
</file>